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7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4.png" ContentType="image/png"/>
  <Override PartName="/ppt/media/image3.jpeg" ContentType="image/jpeg"/>
  <Override PartName="/ppt/media/image2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2.wmf" ContentType="image/x-wmf"/>
  <Override PartName="/ppt/media/image23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8EDFC-AF12-4CDA-A88A-F931D533F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C1B01-8AE3-4518-B080-2D670D2E2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C6C1E-F927-4A8C-9D9C-5FC663404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360BE-E4C4-49BC-95B7-7212E13AA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DA069-1FB7-446B-AB38-0CF661F58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F7D29-39EF-4D49-B162-305987047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6ADBD-E9BE-4D0F-B8EB-FB6BA327C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0274B-C14B-4958-B08D-74D166B62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87A22-FC24-4FB2-9E15-935C9B342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05933-5BA0-4F44-A056-F7B9CAA25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C47B2-8567-4E4C-AD28-614E554E0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98A94-B8CB-4D4C-AAA9-C3A7426F6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5ED87-7E1A-4B87-9256-8CB6A544E7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125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ыдающийся бурятский улигерши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47640" y="3141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айсан Алсые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1879 - 196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j0099183" descr=""/>
          <p:cNvPicPr/>
          <p:nvPr/>
        </p:nvPicPr>
        <p:blipFill>
          <a:blip r:embed="rId2"/>
          <a:stretch/>
        </p:blipFill>
        <p:spPr>
          <a:xfrm>
            <a:off x="7846920" y="0"/>
            <a:ext cx="1297080" cy="1492200"/>
          </a:xfrm>
          <a:prstGeom prst="rect">
            <a:avLst/>
          </a:prstGeom>
          <a:ln w="0">
            <a:noFill/>
          </a:ln>
        </p:spPr>
      </p:pic>
      <p:pic>
        <p:nvPicPr>
          <p:cNvPr id="44" name="j0099183" descr=""/>
          <p:cNvPicPr/>
          <p:nvPr/>
        </p:nvPicPr>
        <p:blipFill>
          <a:blip r:embed="rId3"/>
          <a:stretch/>
        </p:blipFill>
        <p:spPr>
          <a:xfrm>
            <a:off x="0" y="0"/>
            <a:ext cx="1297080" cy="1492200"/>
          </a:xfrm>
          <a:prstGeom prst="rect">
            <a:avLst/>
          </a:prstGeom>
          <a:ln w="0">
            <a:noFill/>
          </a:ln>
        </p:spPr>
      </p:pic>
      <p:pic>
        <p:nvPicPr>
          <p:cNvPr id="45" name="j0099183" descr=""/>
          <p:cNvPicPr/>
          <p:nvPr/>
        </p:nvPicPr>
        <p:blipFill>
          <a:blip r:embed="rId4"/>
          <a:stretch/>
        </p:blipFill>
        <p:spPr>
          <a:xfrm>
            <a:off x="0" y="5365800"/>
            <a:ext cx="1297080" cy="1492200"/>
          </a:xfrm>
          <a:prstGeom prst="rect">
            <a:avLst/>
          </a:prstGeom>
          <a:ln w="0">
            <a:noFill/>
          </a:ln>
        </p:spPr>
      </p:pic>
      <p:pic>
        <p:nvPicPr>
          <p:cNvPr id="46" name="j0099183" descr=""/>
          <p:cNvPicPr/>
          <p:nvPr/>
        </p:nvPicPr>
        <p:blipFill>
          <a:blip r:embed="rId5"/>
          <a:stretch/>
        </p:blipFill>
        <p:spPr>
          <a:xfrm>
            <a:off x="7846920" y="5365800"/>
            <a:ext cx="1297080" cy="149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332000" y="1197000"/>
            <a:ext cx="6624720" cy="44179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755640" y="5877000"/>
            <a:ext cx="77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лева направо: Е.И. Сороковиков-Магай, М.А. Алсыев, А.В. Гуревич. 1939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обиратели бурятского фольклора в гостях у улигерши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есня о героях Великой Отечественной войн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539640" y="1484280"/>
            <a:ext cx="3122640" cy="42022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5364000" y="1484280"/>
            <a:ext cx="3076560" cy="42498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395280" y="5877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ыренов С.С. И Таханов Б.Х. – наши земляки, летчики-истребите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ffffff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итературно – фольклорный праздник,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вященный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115 – летию со дня рождения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йсана Алсыева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116000" y="1700280"/>
            <a:ext cx="6840720" cy="429264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971640" y="6165720"/>
            <a:ext cx="712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.Н. Ябжанов – член Союза писателей ССС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ffffff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332000" y="692280"/>
            <a:ext cx="6551640" cy="426564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1619280" y="5300640"/>
            <a:ext cx="59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.Л. Ангархаев – народный писатель РБ, доктор исторических наук, кандидат филологических нау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539640" y="692280"/>
            <a:ext cx="8209080" cy="418752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1476360" y="5229360"/>
            <a:ext cx="633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.Д. Романов – наш земляк, член Союза писателей Р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333399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611280" y="692280"/>
            <a:ext cx="7920000" cy="480348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1763640" y="57340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емляки Майсана Алсые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971640" y="907920"/>
            <a:ext cx="6842160" cy="460404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755640" y="5805360"/>
            <a:ext cx="76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бедительница конкурса улигершинов – ученица ОШСОШ Ошорова Мар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итературно – фольклорный праздник,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вященный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115 – летию со дня рождения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йсана Алсыева в г. Улан-Удэ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900000" y="1484280"/>
            <a:ext cx="7704360" cy="50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003640" y="3573360"/>
            <a:ext cx="3340440" cy="250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684360" y="3573360"/>
            <a:ext cx="3382920" cy="25354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5435640" y="333360"/>
            <a:ext cx="3211560" cy="24066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179280" y="620640"/>
            <a:ext cx="489744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Arial"/>
              </a:rPr>
              <a:t>Улигеры, песни, предания, сказки которые пел и рассказывал наш Майсан-таабай звенят и поныне, вдохновляя и радуя нас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j0099183" descr=""/>
          <p:cNvPicPr/>
          <p:nvPr/>
        </p:nvPicPr>
        <p:blipFill>
          <a:blip r:embed="rId1"/>
          <a:stretch/>
        </p:blipFill>
        <p:spPr>
          <a:xfrm>
            <a:off x="0" y="5365800"/>
            <a:ext cx="1297080" cy="1492200"/>
          </a:xfrm>
          <a:prstGeom prst="rect">
            <a:avLst/>
          </a:prstGeom>
          <a:ln w="0">
            <a:noFill/>
          </a:ln>
        </p:spPr>
      </p:pic>
      <p:pic>
        <p:nvPicPr>
          <p:cNvPr id="89" name="j0099183" descr=""/>
          <p:cNvPicPr/>
          <p:nvPr/>
        </p:nvPicPr>
        <p:blipFill>
          <a:blip r:embed="rId2"/>
          <a:stretch/>
        </p:blipFill>
        <p:spPr>
          <a:xfrm>
            <a:off x="7846920" y="5365800"/>
            <a:ext cx="1297080" cy="1492200"/>
          </a:xfrm>
          <a:prstGeom prst="rect">
            <a:avLst/>
          </a:prstGeom>
          <a:ln w="0">
            <a:noFill/>
          </a:ln>
        </p:spPr>
      </p:pic>
      <p:pic>
        <p:nvPicPr>
          <p:cNvPr id="90" name="j0099183" descr=""/>
          <p:cNvPicPr/>
          <p:nvPr/>
        </p:nvPicPr>
        <p:blipFill>
          <a:blip r:embed="rId3"/>
          <a:stretch/>
        </p:blipFill>
        <p:spPr>
          <a:xfrm>
            <a:off x="7846920" y="0"/>
            <a:ext cx="1297080" cy="1341360"/>
          </a:xfrm>
          <a:prstGeom prst="rect">
            <a:avLst/>
          </a:prstGeom>
          <a:ln w="0">
            <a:noFill/>
          </a:ln>
        </p:spPr>
      </p:pic>
      <p:pic>
        <p:nvPicPr>
          <p:cNvPr id="91" name="j0099183" descr=""/>
          <p:cNvPicPr/>
          <p:nvPr/>
        </p:nvPicPr>
        <p:blipFill>
          <a:blip r:embed="rId4"/>
          <a:stretch/>
        </p:blipFill>
        <p:spPr>
          <a:xfrm>
            <a:off x="0" y="0"/>
            <a:ext cx="1297080" cy="149220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17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971640" y="1628640"/>
            <a:ext cx="6480000" cy="273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пасибо за внимание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-252360" y="-468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258920" y="260280"/>
            <a:ext cx="6985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Край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в котором родился сказитель - Тун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34908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-1620720" y="-3240"/>
            <a:ext cx="12601440" cy="686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ffffff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Год рождения 1879 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Родился в семье Ардана Алсыева, бурята хонгодорского р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84360" y="692280"/>
            <a:ext cx="3454200" cy="511164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472000" cy="68403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5724360" y="1341360"/>
            <a:ext cx="3240360" cy="31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76400" indent="-1076400"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Жить без корней не может кедр высоки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076400" indent="-1076400"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ключена в истоках жизнь ре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076400" indent="-1076400"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 наших песен далеки истоки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076400" indent="-1076400"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 наших песен корни глубоки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076400" indent="-1076400" algn="r"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иколай Дамдин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-1620720" y="0"/>
            <a:ext cx="10980720" cy="68389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50920" y="3860640"/>
            <a:ext cx="4321080" cy="27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3300"/>
                </a:solidFill>
                <a:latin typeface="Arial"/>
              </a:rPr>
              <a:t>Д</a:t>
            </a:r>
            <a:r>
              <a:rPr b="1" i="1" lang="ru-RU" sz="2000" spc="-1" strike="noStrike">
                <a:solidFill>
                  <a:srgbClr val="ff3300"/>
                </a:solidFill>
                <a:latin typeface="Symbol"/>
                <a:ea typeface="Symbol"/>
              </a:rPr>
              <a:t></a:t>
            </a:r>
            <a:r>
              <a:rPr b="1" i="1" lang="ru-RU" sz="2000" spc="-1" strike="noStrike">
                <a:solidFill>
                  <a:srgbClr val="ff3300"/>
                </a:solidFill>
                <a:latin typeface="Arial"/>
              </a:rPr>
              <a:t>рбэн </a:t>
            </a:r>
            <a:r>
              <a:rPr b="1" i="1" lang="en-US" sz="2000" spc="-1" strike="noStrike">
                <a:solidFill>
                  <a:srgbClr val="ff3300"/>
                </a:solidFill>
                <a:latin typeface="Arial"/>
              </a:rPr>
              <a:t>h</a:t>
            </a:r>
            <a:r>
              <a:rPr b="1" i="1" lang="ru-RU" sz="2000" spc="-1" strike="noStrike">
                <a:solidFill>
                  <a:srgbClr val="ff3300"/>
                </a:solidFill>
                <a:latin typeface="Arial"/>
              </a:rPr>
              <a:t>айхан туруутай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3300"/>
                </a:solidFill>
                <a:latin typeface="Arial"/>
              </a:rPr>
              <a:t>Д</a:t>
            </a:r>
            <a:r>
              <a:rPr b="1" i="1" lang="ru-RU" sz="2000" spc="-1" strike="noStrike">
                <a:solidFill>
                  <a:srgbClr val="ff3300"/>
                </a:solidFill>
                <a:latin typeface="Symbol"/>
                <a:ea typeface="Symbol"/>
              </a:rPr>
              <a:t></a:t>
            </a:r>
            <a:r>
              <a:rPr b="1" i="1" lang="ru-RU" sz="2000" spc="-1" strike="noStrike">
                <a:solidFill>
                  <a:srgbClr val="ff3300"/>
                </a:solidFill>
                <a:latin typeface="Arial"/>
              </a:rPr>
              <a:t>гнэгэр </a:t>
            </a:r>
            <a:r>
              <a:rPr b="1" i="1" lang="en-US" sz="2000" spc="-1" strike="noStrike">
                <a:solidFill>
                  <a:srgbClr val="ff3300"/>
                </a:solidFill>
                <a:latin typeface="Arial"/>
              </a:rPr>
              <a:t>h</a:t>
            </a:r>
            <a:r>
              <a:rPr b="1" i="1" lang="ru-RU" sz="2000" spc="-1" strike="noStrike">
                <a:solidFill>
                  <a:srgbClr val="ff3300"/>
                </a:solidFill>
                <a:latin typeface="Arial"/>
              </a:rPr>
              <a:t>айхан дуяатай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3300"/>
                </a:solidFill>
                <a:latin typeface="Arial"/>
              </a:rPr>
              <a:t>Хурса </a:t>
            </a:r>
            <a:r>
              <a:rPr b="1" i="1" lang="en-US" sz="2000" spc="-1" strike="noStrike">
                <a:solidFill>
                  <a:srgbClr val="ff3300"/>
                </a:solidFill>
                <a:latin typeface="Arial"/>
              </a:rPr>
              <a:t>h</a:t>
            </a:r>
            <a:r>
              <a:rPr b="1" i="1" lang="ru-RU" sz="2000" spc="-1" strike="noStrike">
                <a:solidFill>
                  <a:srgbClr val="ff3300"/>
                </a:solidFill>
                <a:latin typeface="Arial"/>
              </a:rPr>
              <a:t>айхан туруутай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3300"/>
                </a:solidFill>
                <a:latin typeface="Arial"/>
              </a:rPr>
              <a:t>Хурдан </a:t>
            </a:r>
            <a:r>
              <a:rPr b="1" i="1" lang="en-US" sz="2000" spc="-1" strike="noStrike">
                <a:solidFill>
                  <a:srgbClr val="ff3300"/>
                </a:solidFill>
                <a:latin typeface="Arial"/>
              </a:rPr>
              <a:t>h</a:t>
            </a:r>
            <a:r>
              <a:rPr b="1" i="1" lang="ru-RU" sz="2000" spc="-1" strike="noStrike">
                <a:solidFill>
                  <a:srgbClr val="ff3300"/>
                </a:solidFill>
                <a:latin typeface="Arial"/>
              </a:rPr>
              <a:t>айхан х</a:t>
            </a:r>
            <a:r>
              <a:rPr b="1" i="1" lang="ru-RU" sz="2000" spc="-1" strike="noStrike">
                <a:solidFill>
                  <a:srgbClr val="ff3300"/>
                </a:solidFill>
                <a:latin typeface="Symbol"/>
                <a:ea typeface="Symbol"/>
              </a:rPr>
              <a:t></a:t>
            </a:r>
            <a:r>
              <a:rPr b="1" i="1" lang="ru-RU" sz="2000" spc="-1" strike="noStrike">
                <a:solidFill>
                  <a:srgbClr val="ff3300"/>
                </a:solidFill>
                <a:latin typeface="Arial"/>
              </a:rPr>
              <a:t>лтэй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3300"/>
                </a:solidFill>
                <a:latin typeface="Arial"/>
              </a:rPr>
              <a:t>Хоёр хурса шэхэтэй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3300"/>
                </a:solidFill>
                <a:latin typeface="Arial"/>
              </a:rPr>
              <a:t>Хэнэй сэбэр моринб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5267160" cy="4194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971640" y="4419720"/>
            <a:ext cx="4486320" cy="24382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6012000" y="836640"/>
            <a:ext cx="2633400" cy="27194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5724360" y="4005360"/>
            <a:ext cx="324036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айсан Алсыев интересно передавал легенды и предания о руководителях восстания монголов – Шудармане и Амурса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5T06:39:58Z</dcterms:created>
  <dc:creator>User</dc:creator>
  <dc:description/>
  <dc:language>en-US</dc:language>
  <cp:lastModifiedBy>OEM</cp:lastModifiedBy>
  <dcterms:modified xsi:type="dcterms:W3CDTF">2007-06-06T01:05:54Z</dcterms:modified>
  <cp:revision>6</cp:revision>
  <dc:subject/>
  <dc:title>Выдающийся бурятский улигершин</dc:title>
</cp:coreProperties>
</file>