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5BF-1A5D-4AA4-AE40-A8D21246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E9D-BD1E-4942-BBD9-1ED5489E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E73-781E-4D64-AF29-0C8154DF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72F-39D1-4AF4-A67F-A34E2062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431-1995-4DF2-9586-55AC1BE1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3B5-9D37-4BC3-8671-6A0B5F8C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86E-1FDF-4CF0-9F9B-C8CF12EA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2E8-11C7-4A97-8A33-1555519B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4FA-6903-48B4-BAFC-06E11F88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1D5-DBCD-49BE-AC40-74F4E45E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E81-AE5F-40C9-8F3C-F6EF4E9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698-2AF8-4F10-808D-45461D0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33AB-AE01-4147-8637-17F3EFFAA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дающийся бурятский улигер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йсан Алсы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79 - 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j0099183" descr="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4" name="j0099183" descr=""/>
          <p:cNvPicPr/>
          <p:nvPr/>
        </p:nvPicPr>
        <p:blipFill>
          <a:blip r:embed="rId3"/>
          <a:stretch/>
        </p:blipFill>
        <p:spPr>
          <a:xfrm>
            <a:off x="0" y="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5" name="j0099183" descr=""/>
          <p:cNvPicPr/>
          <p:nvPr/>
        </p:nvPicPr>
        <p:blipFill>
          <a:blip r:embed="rId4"/>
          <a:stretch/>
        </p:blipFill>
        <p:spPr>
          <a:xfrm>
            <a:off x="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6" name="j0099183" descr=""/>
          <p:cNvPicPr/>
          <p:nvPr/>
        </p:nvPicPr>
        <p:blipFill>
          <a:blip r:embed="rId5"/>
          <a:stretch/>
        </p:blipFill>
        <p:spPr>
          <a:xfrm>
            <a:off x="7846920" y="5365800"/>
            <a:ext cx="129708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441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5877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 направо: Е.И. Сороковиков-Магай, М.А. Алсыев, А.В. Гуревич. 193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иратели бурятского фольклора в гостях у улигерш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ня о героях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122640" cy="420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07656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5877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енов С.С. И Таханов Б.Х. – наши земляки, летчики-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 – фольклорный праздн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вящен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15 – летию со дня р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сана Алсыев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840720" cy="4292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1640" y="61657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Н. Ябжанов – член Союза писателей ССС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551640" cy="426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19280" y="5300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Л. Ангархаев – народный писатель РБ, доктор исторических наук, кандидат филологиче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4187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76360" y="5229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Д. Романов – наш земляк, член Союза писателей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20000" cy="480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63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ки Майсана Алсы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6842160" cy="4604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5564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ница конкурса улигершинов – ученица ОШСОШ Ошорова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 – фольклорный праздн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вящен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15 – летию со дня р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сана Алсыева в г. Улан-Удэ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0436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340440" cy="250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3382920" cy="2535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35640" y="333360"/>
            <a:ext cx="3211560" cy="2406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620640"/>
            <a:ext cx="489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лигеры, песни, предания, сказки которые пел и рассказывал наш Майсан-таабай звенят и поныне, вдохновляя и радуя на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j0099183" descr=""/>
          <p:cNvPicPr/>
          <p:nvPr/>
        </p:nvPicPr>
        <p:blipFill>
          <a:blip r:embed="rId1"/>
          <a:stretch/>
        </p:blipFill>
        <p:spPr>
          <a:xfrm>
            <a:off x="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89" name="j0099183" descr=""/>
          <p:cNvPicPr/>
          <p:nvPr/>
        </p:nvPicPr>
        <p:blipFill>
          <a:blip r:embed="rId2"/>
          <a:stretch/>
        </p:blipFill>
        <p:spPr>
          <a:xfrm>
            <a:off x="784692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90" name="j0099183" descr=""/>
          <p:cNvPicPr/>
          <p:nvPr/>
        </p:nvPicPr>
        <p:blipFill>
          <a:blip r:embed="rId3"/>
          <a:stretch/>
        </p:blipFill>
        <p:spPr>
          <a:xfrm>
            <a:off x="7846920" y="0"/>
            <a:ext cx="1297080" cy="1341360"/>
          </a:xfrm>
          <a:prstGeom prst="rect">
            <a:avLst/>
          </a:prstGeom>
          <a:ln w="0">
            <a:noFill/>
          </a:ln>
        </p:spPr>
      </p:pic>
      <p:pic>
        <p:nvPicPr>
          <p:cNvPr id="91" name="j0099183" descr=""/>
          <p:cNvPicPr/>
          <p:nvPr/>
        </p:nvPicPr>
        <p:blipFill>
          <a:blip r:embed="rId4"/>
          <a:stretch/>
        </p:blipFill>
        <p:spPr>
          <a:xfrm>
            <a:off x="0" y="0"/>
            <a:ext cx="1297080" cy="149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640" y="1628640"/>
            <a:ext cx="6480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5236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Кра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котором родился сказитель - Т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3490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620720" y="-3240"/>
            <a:ext cx="126014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д рождения 187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ился в семье Ардана Алсыева, бурята хонгодорского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45420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72000" cy="68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24360" y="1341360"/>
            <a:ext cx="3240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ь без корней не может кедр высо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а в истоках жизнь р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наших песен далеки исто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наших песен корни глубок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 algn="r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й Дамд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620720" y="0"/>
            <a:ext cx="10980720" cy="683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3860640"/>
            <a:ext cx="432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бэн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туруу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гнэгэр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дуяа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урса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туруу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урдан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х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лтэ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оёр хурса шэхэтэ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энэй сэбэр моринб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267160" cy="419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71640" y="4419720"/>
            <a:ext cx="4486320" cy="24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12000" y="836640"/>
            <a:ext cx="2633400" cy="271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24360" y="4005360"/>
            <a:ext cx="324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йсан Алсыев интересно передавал легенды и предания о руководителях восстания монголов – Шудармане и Амурс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6:39:58Z</dcterms:created>
  <dc:creator>User</dc:creator>
  <dc:description/>
  <dc:language>en-US</dc:language>
  <cp:lastModifiedBy>OEM</cp:lastModifiedBy>
  <dcterms:modified xsi:type="dcterms:W3CDTF">2007-06-06T01:05:54Z</dcterms:modified>
  <cp:revision>6</cp:revision>
  <dc:subject/>
  <dc:title>Выдающийся бурятский улигершин</dc:title>
</cp:coreProperties>
</file>