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FFA-81A8-4FE2-809E-41285EC6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0D6-4A7F-4EFA-96F0-8454C0DA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E6C-EB80-40BA-858A-538F79F3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47F-9459-4A51-895C-C170BE73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7DF-159C-40EA-846A-121043F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DB2-662A-45D4-B4A5-0A43F8BF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24A-2BA0-42C0-B191-B29FE8FB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C5F-1C97-4C41-90CE-4F819F56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ABF-CB0E-48A1-9F90-1B44EB4E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686-083D-4D2F-9011-E3A3ABA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5B9-EAA5-4295-8FB0-F3F320C2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FEA-E887-402E-82EC-9A3C9CE4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A041-8F3D-4E08-9025-97CBBFF9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дающийся бурятский улигер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йсан Алсы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79 - 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j0099183" descr="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4" name="j0099183" descr=""/>
          <p:cNvPicPr/>
          <p:nvPr/>
        </p:nvPicPr>
        <p:blipFill>
          <a:blip r:embed="rId3"/>
          <a:stretch/>
        </p:blipFill>
        <p:spPr>
          <a:xfrm>
            <a:off x="0" y="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5" name="j0099183" descr=""/>
          <p:cNvPicPr/>
          <p:nvPr/>
        </p:nvPicPr>
        <p:blipFill>
          <a:blip r:embed="rId4"/>
          <a:stretch/>
        </p:blipFill>
        <p:spPr>
          <a:xfrm>
            <a:off x="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46" name="j0099183" descr=""/>
          <p:cNvPicPr/>
          <p:nvPr/>
        </p:nvPicPr>
        <p:blipFill>
          <a:blip r:embed="rId5"/>
          <a:stretch/>
        </p:blipFill>
        <p:spPr>
          <a:xfrm>
            <a:off x="7846920" y="5365800"/>
            <a:ext cx="129708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441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5877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 направо: Е.И. Сороковиков-Магай, М.А. Алсыев, А.В. Гуревич. 193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иратели бурятского фольклора в гостях у улигерш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ня о героях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122640" cy="420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07656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5877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енов С.С. И Таханов Б.Х. – наши земляки, летчики-истреб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 – фольклорный праздн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вящен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15 – летию со дня р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сана Алсыев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840720" cy="4292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71640" y="61657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Н. Ябжанов – член Союза писателей ССС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551640" cy="426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19280" y="5300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Л. Ангархаев – народный писатель РБ, доктор исторических наук, кандидат филологиче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4187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76360" y="5229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Д. Романов – наш земляк, член Союза писателей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20000" cy="480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63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ки Майсана Алсы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6842160" cy="4604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5564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ница конкурса улигершинов – ученица ОШСОШ Ошорова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 – фольклорный праздн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вящен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15 – летию со дня рожд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сана Алсыева в г. Улан-Удэ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0436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340440" cy="250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3382920" cy="2535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35640" y="333360"/>
            <a:ext cx="3211560" cy="2406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620640"/>
            <a:ext cx="489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лигеры, песни, предания, сказки которые пел и рассказывал наш Майсан-таабай звенят и поныне, вдохновляя и радуя на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j0099183" descr=""/>
          <p:cNvPicPr/>
          <p:nvPr/>
        </p:nvPicPr>
        <p:blipFill>
          <a:blip r:embed="rId1"/>
          <a:stretch/>
        </p:blipFill>
        <p:spPr>
          <a:xfrm>
            <a:off x="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89" name="j0099183" descr=""/>
          <p:cNvPicPr/>
          <p:nvPr/>
        </p:nvPicPr>
        <p:blipFill>
          <a:blip r:embed="rId2"/>
          <a:stretch/>
        </p:blipFill>
        <p:spPr>
          <a:xfrm>
            <a:off x="7846920" y="5365800"/>
            <a:ext cx="1297080" cy="1492200"/>
          </a:xfrm>
          <a:prstGeom prst="rect">
            <a:avLst/>
          </a:prstGeom>
          <a:ln w="0">
            <a:noFill/>
          </a:ln>
        </p:spPr>
      </p:pic>
      <p:pic>
        <p:nvPicPr>
          <p:cNvPr id="90" name="j0099183" descr=""/>
          <p:cNvPicPr/>
          <p:nvPr/>
        </p:nvPicPr>
        <p:blipFill>
          <a:blip r:embed="rId3"/>
          <a:stretch/>
        </p:blipFill>
        <p:spPr>
          <a:xfrm>
            <a:off x="7846920" y="0"/>
            <a:ext cx="1297080" cy="1341360"/>
          </a:xfrm>
          <a:prstGeom prst="rect">
            <a:avLst/>
          </a:prstGeom>
          <a:ln w="0">
            <a:noFill/>
          </a:ln>
        </p:spPr>
      </p:pic>
      <p:pic>
        <p:nvPicPr>
          <p:cNvPr id="91" name="j0099183" descr=""/>
          <p:cNvPicPr/>
          <p:nvPr/>
        </p:nvPicPr>
        <p:blipFill>
          <a:blip r:embed="rId4"/>
          <a:stretch/>
        </p:blipFill>
        <p:spPr>
          <a:xfrm>
            <a:off x="0" y="0"/>
            <a:ext cx="1297080" cy="149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640" y="1628640"/>
            <a:ext cx="6480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5236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Кра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котором родился сказитель - Т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3490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620720" y="-3240"/>
            <a:ext cx="126014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д рождения 187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ился в семье Ардана Алсыева, бурята хонгодорского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45420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72000" cy="68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24360" y="1341360"/>
            <a:ext cx="3240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ь без корней не может кедр высо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а в истоках жизнь р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наших песен далеки исто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наших песен корни глубок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1076400" algn="r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й Дамд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620720" y="0"/>
            <a:ext cx="10980720" cy="683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3860640"/>
            <a:ext cx="432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бэн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туруу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гнэгэр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дуяа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урса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туруут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урдан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йхан х</a:t>
            </a:r>
            <a:r>
              <a:rPr b="1" i="1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лтэ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оёр хурса шэхэтэ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Хэнэй сэбэр моринб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267160" cy="419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71640" y="4419720"/>
            <a:ext cx="4486320" cy="24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12000" y="836640"/>
            <a:ext cx="2633400" cy="271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24360" y="4005360"/>
            <a:ext cx="324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йсан Алсыев интересно передавал легенды и предания о руководителях восстания монголов – Шудармане и Амурс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6:39:58Z</dcterms:created>
  <dc:creator>User</dc:creator>
  <dc:description/>
  <dc:language>en-US</dc:language>
  <cp:lastModifiedBy>OEM</cp:lastModifiedBy>
  <dcterms:modified xsi:type="dcterms:W3CDTF">2007-06-06T01:05:54Z</dcterms:modified>
  <cp:revision>6</cp:revision>
  <dc:subject/>
  <dc:title>Выдающийся бурятский улигершин</dc:title>
</cp:coreProperties>
</file>