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B29-ACFE-4FA0-8757-F6F1D3EC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5EB-DA1D-4107-95F7-9E868AEA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C95-706B-4627-8EE7-331FA97E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28D3-1C24-4DE8-8D10-76B90DF5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F5615-F629-40BC-8D0B-45E9144E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5290C-EE73-4453-87BC-291FB2A4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521D8-A67D-4665-8B78-9D71CB44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5F9F3-B088-45C7-939F-858B2A92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40D64-A0F9-42D6-97C5-ADFB9038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CECA0-186D-4D61-B122-F8CA73BE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8ABD5-5031-4642-B89A-4352E136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4F1-C57F-483E-BF36-0BB8BCF6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58FD3-1FA4-4A7F-ABB6-EE070AD1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6DA8E-C6AA-4EA3-8B60-B9A70940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CF5FC-9F3B-42C6-A85F-3CD81EB6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DF2E3-31A8-43D3-8546-7ADB2428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EBB17-03A7-479E-8336-E333DEFC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F56-CE7E-42C3-B4E2-5E37DFC1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914-6CC2-4D13-B156-0493F82D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CFE-C76F-4EA4-ACD1-ADBF711B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5DC-AD0D-4F39-8AC1-780BE7C9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B38-FCBA-405E-BFF6-A8977F79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53E-D314-4FD7-8884-2BB48F7F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C82-A77E-45E1-ACD8-1FC6A9DB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C70B-1C70-4EFC-B7C1-9D72FBE854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1C72-BEF0-46FB-92A1-7BCCB3BEF6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468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Arial"/>
              </a:rPr>
              <a:t>Гэрэй  даабари  шалгалта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Хада  уулын  хажуугаар  хатуу  хүнгэрэг   тогтоб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гаан  боро  моритой  хүн сэргэдэ  ерээд  буужа  бай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2" marL="937080" indent="0">
              <a:spcBef>
                <a:spcPts val="22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cc33"/>
                </a:solidFill>
                <a:latin typeface="Arial"/>
              </a:rPr>
              <a:t>Мэдүүлэлэй            нэгэ  түрэл                      гэшүүд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"/>
              </a:rPr>
              <a:t>Хэшээлэй зорилго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ru-RU" sz="4000" spc="-1" strike="noStrike">
                <a:solidFill>
                  <a:srgbClr val="33cccc"/>
                </a:solidFill>
                <a:latin typeface="Arial"/>
                <a:ea typeface="Arial"/>
              </a:rPr>
              <a:t>Һургалгын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Нэгэ  т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рэл  гэш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γγ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дые  илгаруулжа  ба  з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өөр  бэш</a:t>
            </a:r>
            <a:r>
              <a:rPr b="0" lang="el-G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γγ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жэ һургах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</a:t>
            </a:r>
            <a:r>
              <a:rPr b="0" lang="ru-RU" sz="40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Хүгжөөлгын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Һурагшадай   аман  ба  бэшэмэл  хэлэ хүгжөөхэ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3)Хүмүүжүүлгын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үрэл  буряад  хэлэеэ һайн  шудалх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Хэшээлэй  хэрэгсэлнүүд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Ном, карточканууд, тест, компьютер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молёт бүхэнэй  урда  лётчигуудай, механигуудай, радистнуудай,пулемётчигуудай,бомбардирнуудай  команданууд  жагсанха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най  эндэ  ургадаг  элдэб  жэмэсүүд: гүлзөөргэнэ, хүхэ  нэр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һэн, үхэр нюдэн,  алирһан,   нохойн  хоншоор,  мойһон, долоогоно,үли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33"/>
                </a:solidFill>
                <a:latin typeface="Arial"/>
              </a:rPr>
              <a:t>Физ.минут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эшээбди, бэшээбди эсээбди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Һэжэрээбди,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һэгсэрээбд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эгэ  бага  амараабди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хин ажалдаа  орообди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БШОЛО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ДАХИН УУЛЗАТАРАА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БАЯРТАЙ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4:25:44Z</dcterms:created>
  <dc:creator>Customer</dc:creator>
  <dc:description/>
  <dc:language>en-US</dc:language>
  <cp:lastModifiedBy>Альбина</cp:lastModifiedBy>
  <dcterms:modified xsi:type="dcterms:W3CDTF">2019-04-03T14:15:32Z</dcterms:modified>
  <cp:revision>6</cp:revision>
  <dc:subject/>
  <dc:title>Мэдγγлэлэй нэгэ  тγрэл  гэшγγд!</dc:title>
</cp:coreProperties>
</file>