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12A-35FA-41C0-9267-DBDC242A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E2D-ED19-427F-9A56-8DE1010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2BC-AB59-47EF-AE30-6B102B6F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C10-074F-4E39-9CB6-1F578F9B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904A-D5D5-460A-8B77-52A4247C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B2FD-03E7-498C-A36D-69967507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9B9AF-3BCE-4EC6-983B-95141E4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8671E-2B2A-4E31-BC9E-91319A5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8E842-1E64-4A4A-93B9-3BFDD505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A955D-C54D-4730-94F0-76D4A0B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DD02A-8F26-41C5-A04C-A0C81067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954-56F3-4A4F-9DD1-880428D4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FA7D8-1618-42DD-9A0C-5D59B9B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E2150-5640-4813-9CE4-9C18014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6DAB6-998F-4035-97C1-B7A11C1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88229-603A-4BAF-B194-1C9521B6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F1BCC-995D-49AF-9217-864C0817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FB1-5765-42D7-BD0A-BF90087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3EB-3FA5-4C0B-A0F4-B047FFB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0D5-7ECF-4053-B27D-8B5FA68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804-4A6B-4CD2-BE60-D776A034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C73-F24D-465E-A8BB-82AC4D1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8D3-E50C-479A-99B6-BB62568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2BA-825B-4598-A44B-CB1F700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B54D-B4E3-4A5C-84A8-C506B1D26F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7B82-8A23-4A55-B0B6-D743FD5B06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468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Гэрэй  даабари  шалгалта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Хада  уулын  хажуугаар  хатуу  хүнгэрэг   тогтоб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гаан  боро  моритой  хүн сэргэдэ  ерээд  буужа  бай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937080" indent="0">
              <a:spcBef>
                <a:spcPts val="22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Мэдүүлэлэй            нэгэ  түрэл                      гэшүүд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Хэшээлэй зорилг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33cccc"/>
                </a:solidFill>
                <a:latin typeface="Arial"/>
                <a:ea typeface="Arial"/>
              </a:rPr>
              <a:t>Һургалгын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Нэгэ  т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эл  гэш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дые  илгаруулжа  ба  з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өр  бэш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жэ һурга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ru-RU" sz="4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Хүгжөөлгын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урагшадай   аман  ба  бэшэмэл  хэлэ хүгжөөхэ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3)Хүмүүжүүлгын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үрэл  буряад  хэлэеэ һайн  шудалх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Хэшээлэй  хэрэгсэлнүүд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ом, карточканууд, тест, компьюте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олёт бүхэнэй  урда  лётчигуудай, механигуудай, радистнуудай,пулемётчигуудай,бомбардирнуудай  команданууд  жагсанха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най  эндэ  ургадаг  элдэб  жэмэсүүд: гүлзөөргэнэ, хүхэ  нэр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эн, үхэр нюдэн,  алирһан,   нохойн  хоншоор,  мойһон, долоогоно,үли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Arial"/>
              </a:rPr>
              <a:t>Физ.минут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эшээбди, бэшээбди эсээбд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Һэжэрээбди,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эгсэрээбд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эгэ  бага  амараабд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хин ажалдаа  орообд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БШОЛО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ДАХИН УУЛЗАТАРА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БАЯРТАЙ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4:25:44Z</dcterms:created>
  <dc:creator>Customer</dc:creator>
  <dc:description/>
  <dc:language>en-US</dc:language>
  <cp:lastModifiedBy>Альбина</cp:lastModifiedBy>
  <dcterms:modified xsi:type="dcterms:W3CDTF">2019-04-03T14:15:32Z</dcterms:modified>
  <cp:revision>6</cp:revision>
  <dc:subject/>
  <dc:title>Мэдγγлэлэй нэгэ  тγрэл  гэшγγд!</dc:title>
</cp:coreProperties>
</file>