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270-783C-48B6-9F3A-BB21B5BD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23F-EC1F-4784-9C9A-3B865AB2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C88-6AC9-4394-A5B9-4818DC67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44E-B535-441C-B9CC-15869D56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B3D9F-9FD1-4502-B322-640E36B9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42577-A7AF-4DE7-882B-A392590C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0829C-5D28-4096-BB8C-DC3FC707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3AEEA-BEAD-43BE-9B9E-70876BEA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2668C-FFD6-44B3-9932-E6CD3D7F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41D51-C499-4E49-9383-D40955DD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E8958-7F30-43CF-B24F-0D85E381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8701-16A5-4902-9C89-DCAC0263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A3FAE-6AE3-4C0F-BEED-C19A2DAE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37C95-3CFE-4F3A-9164-39598C9E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F7A91-F632-4210-8CEE-954EFB52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2B3B2-3F08-46F4-A427-5D058E18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49DF2-210E-4DC5-B6F2-52FB9D8E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1B9-B472-43D4-964F-30BCC2AC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B4D-8289-40FF-ADBE-BF009FA1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A2A-FA7B-41EA-A387-839F485D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1C3-B11E-4BD0-9B80-1DA8D00B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AB5F-2061-4746-A1FF-7E27F8A6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6D9-7C6F-4F1C-BA7A-72B8D3C3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012A-DF78-46E9-9F09-5289DE11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782C-18A2-41CC-A626-215D20FF56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4ABD-4C56-4590-A958-0BBAED42239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468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99"/>
                </a:solidFill>
                <a:latin typeface="Arial"/>
              </a:rPr>
              <a:t>Гэрэй  даабари  шалгалта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Хада  уулын  хажуугаар  хатуу  хүнгэрэг   тогтоб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гаан  боро  моритой  хүн сэргэдэ  ерээд  буужа  бай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2" marL="937080" indent="0">
              <a:spcBef>
                <a:spcPts val="22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3cc33"/>
                </a:solidFill>
                <a:latin typeface="Arial"/>
              </a:rPr>
              <a:t>Мэдүүлэлэй            нэгэ  түрэл                      гэшүүд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Arial"/>
              </a:rPr>
              <a:t>Хэшээлэй зорилго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ru-RU" sz="4000" spc="-1" strike="noStrike">
                <a:solidFill>
                  <a:srgbClr val="33cccc"/>
                </a:solidFill>
                <a:latin typeface="Arial"/>
                <a:ea typeface="Arial"/>
              </a:rPr>
              <a:t>Һургалгын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Нэгэ  т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рэл  гэш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γγ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дые  илгаруулжа  ба  з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өөр  бэш</a:t>
            </a:r>
            <a:r>
              <a:rPr b="0" lang="el-G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γγ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жэ һургах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</a:t>
            </a:r>
            <a:r>
              <a:rPr b="0" lang="ru-RU" sz="40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Хүгжөөлгын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Һурагшадай   аман  ба  бэшэмэл  хэлэ хүгжөөхэ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3)Хүмүүжүүлгын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үрэл  буряад  хэлэеэ һайн  шудалх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Хэшээлэй  хэрэгсэлнүүд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Ном, карточканууд, тест, компьютер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молёт бүхэнэй  урда  лётчигуудай, механигуудай, радистнуудай,пулемётчигуудай,бомбардирнуудай  команданууд  жагсанха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най  эндэ  ургадаг  элдэб  жэмэсүүд: гүлзөөргэнэ, хүхэ  нэр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һэн, үхэр нюдэн,  алирһан,   нохойн  хоншоор,  мойһон, долоогоно,үли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cc33"/>
                </a:solidFill>
                <a:latin typeface="Arial"/>
              </a:rPr>
              <a:t>Физ.минут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Бэшээбди, бэшээбди эсээбди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Һэжэрээбди,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һэгсэрээбд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эгэ  бага  амараабди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хин ажалдаа  орообди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БШОЛОЛ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ДАХИН УУЛЗАТАРАА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БАЯРТАЙ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4:25:44Z</dcterms:created>
  <dc:creator>Customer</dc:creator>
  <dc:description/>
  <dc:language>en-US</dc:language>
  <cp:lastModifiedBy>Альбина</cp:lastModifiedBy>
  <dcterms:modified xsi:type="dcterms:W3CDTF">2019-04-03T14:15:32Z</dcterms:modified>
  <cp:revision>6</cp:revision>
  <dc:subject/>
  <dc:title>Мэдγγлэлэй нэгэ  тγрэл  гэшγγд!</dc:title>
</cp:coreProperties>
</file>