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A1FE-D0C8-48BC-BDF3-EEA270B2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ACED-2351-4965-A651-65C4008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B2A7-C41F-4760-A8EE-E081BAF7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0CA9-F504-4D79-A577-7958156B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4596-049B-4E38-A26F-3EC63E18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D363-45DA-43C4-AF6D-EBF3A63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8B7-0DE4-46BD-8698-B3C15A57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8FF-B9B2-470A-B2F5-213CD99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D52-0E2E-4CAE-A0EB-8C72836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7F23-ED39-449E-8AE9-74CA90A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6783-8E54-4A03-9A6E-37D06CE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03BE-D424-4E5C-9714-CA912BA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037-BF70-4CA3-A985-070289A8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0C84-AB6D-42D4-B544-8BE4443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8306-E322-4CF9-A82D-23AEFA82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8FB3-8E6E-4559-894C-6E6FBB9F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B4B-21FF-423C-81BC-2C63617F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3289-1CFF-4D6C-84ED-2FBFBC0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FEFA-A0DC-4B2C-9493-3B543C7E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B704-D32B-496E-9558-6D129534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C684-EAC9-457A-8DF2-1924D5C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3605-6E64-48CC-908D-41D32B1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CD64-3B77-41D8-8D86-8143E33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ABE8-C00E-4D3E-85DF-88AA2D7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8673-CE8A-45B9-8F97-3896E3534D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A06-F51F-49F0-9C10-461ED1D3D0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Тул</a:t>
            </a:r>
            <a:r>
              <a:rPr b="0" lang="mn-Cyrl-MN" sz="4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нэй нэрэ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Нэгэдэхи нюур.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28880" y="2274480"/>
            <a:ext cx="6756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м уншаха 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но хараха дуратай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ун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 театр  ошохо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эгэлдэр музей ошоо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ид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р наадаха дуратайб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Хоёрдохи нюур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са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жорхо дуратай 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зээ намда минии ном асарх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ямар уларилда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урбадахи нюур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solidFill>
            <a:srgbClr val="0000cc"/>
          </a:solidFill>
          <a:ln w="936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йна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да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уу дуула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тарх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эрхэ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б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арай сагта дурат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Тэр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инии д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асаг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ffff"/>
                </a:solidFill>
                <a:latin typeface="Arial"/>
              </a:rPr>
              <a:t>Хөөрэлдөөн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дуратай 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и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ндэ ехэ дуратайб. Манай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амтатай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мэ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э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нии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шэн эжы 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Сагаалганда юу бэлдэдэг бэ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инии эжы амтатай бообо шарадаг, бууза шанадаг, ээзгэй, з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эй табидаг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Ши дэлг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 ошоод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энгэ, х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mn-Cyrl-MN" sz="25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 абаад ерэ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й , би ошоод ерэхэ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суудалнуудта харюусаг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н гэжэ нэрэ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Ши ямар 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жэлтэ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аанахи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яма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гуули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хэдыдэхи класс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на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Ши юу хэхэ дуратайбш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эрэй даабар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5600" y="1981080"/>
            <a:ext cx="6991200" cy="4111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3 мэд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лэл зохеог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Эдэ тул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нэй нэрэн</a:t>
            </a:r>
            <a:r>
              <a:rPr b="0" lang="mn-Cyrl-MN" sz="2800" spc="-1" strike="noStrike">
                <a:solidFill>
                  <a:srgbClr val="cc33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ые хэрэглэ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АМТАЙ,БИДЭ,ШАМАЙЕ,ШИ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Ши бэрхэш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 бэрхэб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идэ бэрхэбди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10"/>
          <p:cNvSpPr txBox="1"/>
          <p:nvPr/>
        </p:nvSpPr>
        <p:spPr>
          <a:xfrm>
            <a:off x="1476360" y="2276640"/>
            <a:ext cx="39337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аяртай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ь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он угэ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б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гансаара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идэ гэ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н хамтаара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Шэнэ угэнууд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ансаараа-оди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Хамтаараа-вмест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иалог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эндэ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агаалганаар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и таниие Сага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ар золгоно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тнай булшантай, даагантнай далантай 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уун булшантай, дааган даланта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эрээрээ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г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 да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й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 би               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.п. минии          ши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.п. намда           шам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п. намайе         шамай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б.п.намаар        шам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.п.намтай        шам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п. н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      ш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5880" y="474840"/>
            <a:ext cx="68803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Тулоонэй нэрын зохилдо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лоной то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            таа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эй       таанар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дэ        таан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У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иие       таана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Зб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ээр      таанара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Arial"/>
              </a:rPr>
              <a:t>Хм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нтэй      таанар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Г.п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идэ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э        таан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n-Cyrl-MN" sz="3900" spc="-1" strike="noStrike" u="sng">
                <a:solidFill>
                  <a:srgbClr val="ff0000"/>
                </a:solidFill>
                <a:uFillTx/>
                <a:latin typeface="Arial"/>
              </a:rPr>
              <a:t>Даабари</a:t>
            </a: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Arial"/>
              </a:rPr>
              <a:t> 1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шам… сэсэг бэлэглэхэб. Аюша нам… дэбтэр абаа. Саяна нам… театр ошохо. Мин… эжы багшаар х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лдэг. Арсалан нам… омогорходог. Баярма нам… 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 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эрт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ряа.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элд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наар урилдаануудые  унгэр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ди. … нэгэдэ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 эзэлээб. …бэлэг шан 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Хоердох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урида Дамба гараа. …б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шанда х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т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өө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ккей наадаж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а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эшээлэ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mn-Cyrl-MN" sz="24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ээр … ходо наададагб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р Доржо- эрхим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гша ю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хэдынь … жэшээ абад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3900" spc="-1" strike="noStrike">
                <a:solidFill>
                  <a:srgbClr val="ff0000"/>
                </a:solidFill>
                <a:latin typeface="Arial"/>
              </a:rPr>
              <a:t>Даабари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</a:rPr>
              <a:t> 3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 кинодо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 хэшээлдээ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рэ дэлг</a:t>
            </a:r>
            <a:r>
              <a:rPr b="0" lang="mn-Cyrl-MN" sz="2800" spc="-1" strike="noStrike">
                <a:solidFill>
                  <a:srgbClr val="ffffff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дэ музей ошохо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анар ой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эдэ театр ошох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5:05:35Z</dcterms:created>
  <dc:creator>Неизвестный</dc:creator>
  <dc:description/>
  <dc:language>en-US</dc:language>
  <cp:lastModifiedBy>English</cp:lastModifiedBy>
  <dcterms:modified xsi:type="dcterms:W3CDTF">2015-02-10T12:29:29Z</dcterms:modified>
  <cp:revision>21</cp:revision>
  <dc:subject/>
  <dc:title>Тулоонэи нэрэ. </dc:title>
</cp:coreProperties>
</file>