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9904-8E3D-4B0E-BDDE-F3E5E4D8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6D09-1DBF-45C8-995D-69E4119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D84C-37B9-4AFB-AAB0-0A3E6E11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3900-9707-48FC-A3CF-B1EF89CD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F616-7800-43E5-87FC-4CD9CA9E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46E6-F411-470B-9906-2173BA4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8DBA-E0FB-4DDB-9B2F-CA167FF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245D-DBEF-4D61-95B7-76AD9F6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13C4-DF46-451B-92C7-871B1D28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E4C-BBD4-4A3E-9F64-6DA193D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3F1D-6C7E-4C46-9AB3-0BF0E75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B6D8-D33C-4574-87F4-2DAF0E3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FCD-FAB0-4239-B306-C0BFCA6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2420-5D89-41B0-B8C0-C798E3D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902-B58D-4BB3-8CAA-990803C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1AF7-CA88-4E5C-9462-3E6544A4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907-9117-4C5F-8019-B7021F8D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92AE-357E-4221-BE01-77660B8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7C4E-7EAE-47F2-8AA4-3BF56308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F975-A05A-43D1-93DC-589BE7F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1732-A7A9-4DC2-9C3A-01563A11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9BD2-BAB4-4825-9D3E-1256E43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D90D-0679-43BF-B895-8570864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85F7-7B7A-412F-8573-557B0F1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F86-2B2F-4912-9C02-00A1F39E93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DB0-1201-4117-9210-6EA61847AE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Тул</a:t>
            </a:r>
            <a:r>
              <a:rPr b="0" lang="mn-Cyrl-MN" sz="4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нэй нэрэ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Нэгэдэхи нюур.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28880" y="2274480"/>
            <a:ext cx="6756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м уншаха 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но хараха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ун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 театр  ошохо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эгэлдэр музей ошоо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р наадаха дуратай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Хоёрдохи нюур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са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жорхо дуратай 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зээ намда минии ном асарх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ямар уларилда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урбадахи нюур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solidFill>
            <a:srgbClr val="0000cc"/>
          </a:solidFill>
          <a:ln w="936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й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да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уу дуула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тар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эрхэ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б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арай сагт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инии д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ffff"/>
                </a:solidFill>
                <a:latin typeface="Arial"/>
              </a:rPr>
              <a:t>Хөөрэлдөөн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дуратай 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ехэ дуратайб. Манай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амтатай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э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нии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Сагаалганда юу бэлдэдэг бэ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инии эжы амтатай бообо шарадаг, бууза шанадаг, ээзгэй, з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эй табида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дэл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 ошоод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энгэ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 абаад ерэ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й , би ошоод ерэхэ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суудалнуудта харюусаг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н гэжэ нэрэ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Ши ямар 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жэл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аанахи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гуули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дэхи класс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эрэй даабар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5600" y="1981080"/>
            <a:ext cx="6991200" cy="4111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3 мэд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лэл зохеог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Эдэ тул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нэй нэрэн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ые хэрэглэ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АМТАЙ,БИДЭ,ШАМАЙЕ,ШИ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Ши бэрхэш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 бэрхэб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дэ бэрхэбди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10"/>
          <p:cNvSpPr txBox="1"/>
          <p:nvPr/>
        </p:nvSpPr>
        <p:spPr>
          <a:xfrm>
            <a:off x="1476360" y="2276640"/>
            <a:ext cx="39337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аяртай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ь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 угэ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б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гансаара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дэ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хамтаара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Шэнэ угэнууд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ансаараа-оди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Хамтаараа-вмест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иалог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лган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и таниие 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 золгоно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тнай булшантай, даагантнай далантай 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 булшантай, дааган даланта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эрээрээ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г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да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 би               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.п. минии          ши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.п. намда           шам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п. намайе         шамай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б.п.намаар        шам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.п.намтай        шам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п. н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      ш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5880" y="474840"/>
            <a:ext cx="68803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оной то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            таа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эй       таана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дэ        таан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У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иие       таана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б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ээр      таанар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м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тэй      таанар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Г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э        таан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n-Cyrl-MN" sz="3900" spc="-1" strike="noStrike" u="sng">
                <a:solidFill>
                  <a:srgbClr val="ff0000"/>
                </a:solidFill>
                <a:uFillTx/>
                <a:latin typeface="Arial"/>
              </a:rPr>
              <a:t>Даабари</a:t>
            </a: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Arial"/>
              </a:rPr>
              <a:t> 1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шам… сэсэг бэлэглэхэб. Аюша нам… дэбтэр абаа. Саяна нам… театр ошохо. Мин… эжы багшаар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лдэг. Арсалан нам… омогорходог. Баярма нам… 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ряа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элд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наар урилдаануудые  унгэр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ди. … нэгэдэ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 эзэлээб. …бэлэг шан 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Хоердо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да Дамба гараа. …б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шанда х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т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ккей наадаж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а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эшээлэ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ээр … ходо наададаг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р Доржо- эрхи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гша ю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дынь … жэшээ абад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3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кинодо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шээлдээ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рэ дэл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 музей ошохо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анар ой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дэ теат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5:05:35Z</dcterms:created>
  <dc:creator>Неизвестный</dc:creator>
  <dc:description/>
  <dc:language>en-US</dc:language>
  <cp:lastModifiedBy>English</cp:lastModifiedBy>
  <dcterms:modified xsi:type="dcterms:W3CDTF">2015-02-10T12:29:29Z</dcterms:modified>
  <cp:revision>21</cp:revision>
  <dc:subject/>
  <dc:title>Тулоонэи нэрэ. </dc:title>
</cp:coreProperties>
</file>