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FB10-635D-44AB-9879-257DD44B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7027-574F-4644-95B8-0C4F5FA3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32B4-7786-4943-9737-8AB697E4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375E-36C0-499D-99E1-4CA9FDE5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7A48-9C39-420A-AF78-566074AB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3951-A2D0-4BEF-8A15-A4247F6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D176-2894-419F-A818-1605834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D8A0-E2F7-48BE-BCF7-784FA112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06DB-E952-4F96-8ECC-C814268F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11AC-E1CC-45E4-BD76-FB68F11A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E64A-A89C-4CFC-A42F-EE45C54D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54D8-E716-4EF9-98BF-D1DD97D9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CB8C-E01B-4898-8901-74368E3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7507-46C5-4B06-A25B-4D0308B7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863-7D1D-418B-A68E-BEC91B0A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E95C-AAE2-4CF5-9D76-5C15914E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397D-933D-48A3-A6A6-E1AF27F7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4757-7FE3-405C-ACEE-299290F0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ED82-CEAC-4225-80BB-8874960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B460-5E64-47A9-9945-57336CDD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638B-C337-4D61-A09B-B6B8940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547C-E213-4C17-B1ED-D3DDD832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FC17-D10C-4411-B3CC-DBA3ED7B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2531-8E32-43B5-A4DA-B6765F7E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EC0A-915D-46F3-9B88-AEADB81688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604B-214D-4BBE-A2E6-F6D913F81D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Тул</a:t>
            </a:r>
            <a:r>
              <a:rPr b="0" lang="mn-Cyrl-MN" sz="4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нэй нэрэ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Arial"/>
              </a:rPr>
              <a:t>Нэгэдэхи нюур.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28880" y="2274480"/>
            <a:ext cx="6756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м уншаха  дуратай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но хараха дуратай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ун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р театр  ошохо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дэ 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эгэлдэр музей ошооб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д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р наадаха дуратайб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Хоёрдохи нюур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юу хэхэ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сана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жорхо дуратай г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хэзээ намда минии ном асарх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ямар уларилда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урбадахи нюур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solidFill>
            <a:srgbClr val="0000cc"/>
          </a:solidFill>
          <a:ln w="936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саг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йна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да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уу дуулах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тарх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эрхэ х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б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марай сагт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инии д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саг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ffff"/>
                </a:solidFill>
                <a:latin typeface="Arial"/>
              </a:rPr>
              <a:t>Хөөрэлдөөн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ндэ дуратай г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и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ндэ ехэ дуратайб. Манай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шэн эжы амтатай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эг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нии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шэн эжы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Сагаалганда юу бэлдэдэг бэ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инии эжы амтатай бообо шарадаг, бууза шанадаг, ээзгэй, з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хэй табидаг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 дэлг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 ошоод,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энгэ,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 абаад ерэ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й , би ошоод ерэхэ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суудалнуудта харюусагт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н гэжэ нэрэ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ды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Ши ямар 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ямар жэл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аанахи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ям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гуули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н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дыдэхи класс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н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юу хэхэ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эрэй даабар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5600" y="1981080"/>
            <a:ext cx="6991200" cy="4111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3 мэд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лэл зохеог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Эдэ тул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нэй нэрэн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ые хэрэглэ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НАМТАЙ,БИДЭ,ШАМАЙЕ,ШИ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Ши бэрхэш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и бэрхэб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идэ бэрхэбди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10"/>
          <p:cNvSpPr txBox="1"/>
          <p:nvPr/>
        </p:nvSpPr>
        <p:spPr>
          <a:xfrm>
            <a:off x="1476360" y="2276640"/>
            <a:ext cx="39337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аяртай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Онь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он угэ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иб гэ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н гансаара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идэ гэ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н хамтаара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Шэнэ угэнууд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Гансаараа-оди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Хамтаараа-вмест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иалог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эндэ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эндэ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ага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ар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агаалганаар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и таниие Сага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ар золгоно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уунтнай булшантай, даагантнай далантай 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уун булшантай, дааган даланта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эрээрээ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 гу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 да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улоонэй нэрын зохилдо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. би               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.п. минии          ши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.п. намда           шам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.п. намайе         шамай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б.п.намаар        шама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м.п.намтай        шам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п. н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         ш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85880" y="474840"/>
            <a:ext cx="688032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Тулоонэй нэрын зохилдо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лоной то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            таа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Х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эй       таанар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З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дэ        таан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У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иие       таана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Зб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ээр      таанара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Хм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тэй      таанар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Г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э        таан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n-Cyrl-MN" sz="3900" spc="-1" strike="noStrike" u="sng">
                <a:solidFill>
                  <a:srgbClr val="ff0000"/>
                </a:solidFill>
                <a:uFillTx/>
                <a:latin typeface="Arial"/>
              </a:rPr>
              <a:t>Даабари</a:t>
            </a: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Arial"/>
              </a:rPr>
              <a:t> 1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 шам… сэсэг бэлэглэхэб. Аюша нам… дэбтэр абаа. Саяна нам… театр ошохо. Мин… эжы багшаар х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лдэг. Арсалан нам… омогорходог. Баярма нам… т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 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рт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ряа.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0000"/>
                </a:solidFill>
                <a:latin typeface="Arial"/>
              </a:rPr>
              <a:t>Даабари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элд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наар урилдаануудые  унгэрг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ди. … нэгэдэх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ури эзэлээб. …бэлэг шан 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Хоердох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урида Дамба гараа. …б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шанда х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т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ккей наадаж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аб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эшээлэ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ээр … ходо наададагб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хэр Доржо- эрхи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гша ю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хэдынь … жэшээ абад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0000"/>
                </a:solidFill>
                <a:latin typeface="Arial"/>
              </a:rPr>
              <a:t>Даабари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 3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 кинодо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хэшээлдээ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эрэ дэлг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 музей ошохо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анар ой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эдэ театр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5:05:35Z</dcterms:created>
  <dc:creator>Неизвестный</dc:creator>
  <dc:description/>
  <dc:language>en-US</dc:language>
  <cp:lastModifiedBy>English</cp:lastModifiedBy>
  <dcterms:modified xsi:type="dcterms:W3CDTF">2015-02-10T12:29:29Z</dcterms:modified>
  <cp:revision>21</cp:revision>
  <dc:subject/>
  <dc:title>Тулоонэи нэрэ. </dc:title>
</cp:coreProperties>
</file>