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0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1.jpeg" ContentType="image/jpeg"/>
  <Override PartName="/ppt/media/image7.png" ContentType="image/png"/>
  <Override PartName="/ppt/media/image8.gif" ContentType="image/gif"/>
  <Override PartName="/ppt/media/image1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BB1F-4AE3-493B-B804-A29F29ECD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64E2-E61C-49FF-9033-27DD8FC2D90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0E92-F40D-45BC-81B2-BF570EB2198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771F-2A46-468F-88B7-2C60B07DD7B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9305-F4F9-4590-8BF0-8969AEA67A4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029C-1038-4739-B46A-BAF2161B38B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C28D-6065-46F3-BC78-C507535FEF6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AF90-353F-4957-8429-DF42527950D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E71-3637-48C9-8EC1-02F6538B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FF3-E5B9-48CD-A1DA-2943DDE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EC3-D6BF-4E27-82B4-B67ABB06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B08-39D0-4876-A603-D0E5FDC0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E9C-352B-436A-82F7-F5992B63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511F-9B42-4DDF-9D4B-827C4B59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7577-FD8C-4513-9451-27F2C017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9C01-B83D-4F5B-84BC-B1837BAB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3BEB-AB82-42E7-99FF-D7093F73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9659-82F1-4DC9-8503-084D0513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6D3E-AE3A-49A7-9C5F-C2EC931F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A3B-7B6A-4BA0-9546-A28F44D5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48F8-828A-420D-9F78-63FD6F36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0701-C7A5-43F7-9C8A-6B1E8A7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508B-D2C9-427B-B2FC-ACE82EEA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8BD7-6DB2-45CE-BBAD-337695CA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EF0A-1D18-456F-932C-6BF3C6C8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FD5D-3914-4016-AA22-807F9052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7C7E-411F-4D08-B236-DBC6237D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0E46-8CCD-4524-BE51-9A533ABD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C019-3D9E-4B24-B076-B831291A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00AB-4959-4385-9E37-1FA2F4CF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746-0982-4417-AE1C-3507E186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051D7-8124-44B9-9D12-9F25D01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FC1E-1D30-4124-89A5-686D9C0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D454E-9EA6-4007-B218-E6B6040C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6EA4-FFB8-467D-AF44-B89769E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D581-EAFA-4812-9B1E-60071358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0C8C-4486-4985-917E-24C81C2E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5AD66-CDB2-4FBA-B083-52EF00A4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0E02-6200-4F6D-834F-A53E6019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021E-94D4-4677-B739-C063CED9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B534-2424-4FAF-9B77-2CF55BF3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E20-6378-4861-8C19-C0B712E6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50A1F-4AE9-4EB7-AEE7-EB6C4D63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62EC-5FC6-42F0-9DC2-557ABFB7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3EED-3126-47A5-9BFC-94064BE5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F984-3A47-4DC7-9B0C-AED6FC60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44855-8CD6-40CE-8948-334068C1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A8BA-5B9B-43D4-928E-E553A09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C945-F85D-433A-9BC3-14D73CC6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948F1-D1FA-46A2-BDDA-2D354E8A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248F-0E73-423E-BAD1-83B89807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BB3-88FC-45A4-99F0-36993CE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277-43DC-4751-A156-B1608A52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4E6-E4E5-4A66-88C0-1BC14938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2BF-7B7A-4A76-8739-9BCD0631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47B-B396-4B63-9A29-C454FEB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2232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820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87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33A3-579C-42CC-9A6C-857D20C35C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1F6E-D536-46A4-BE64-6E2C8AB2B9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2232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820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87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062D-DE33-471F-8F99-9D8662A0A7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92232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820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87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3847-6DCA-420E-A196-851B7B7A577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7168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c3fa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 </a:t>
            </a: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Цэрэн</a:t>
            </a:r>
            <a:r>
              <a:rPr b="0" lang="mn-Cyrl-MN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Раднаевич </a:t>
            </a: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mn-Cyrl-MN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Галано</a:t>
            </a: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в</a:t>
            </a:r>
            <a:endParaRPr b="0" lang="en-US" sz="80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5400" spc="-1" strike="noStrike">
                <a:solidFill>
                  <a:srgbClr val="2c3fa0"/>
                </a:solidFill>
                <a:latin typeface="Arial"/>
              </a:rPr>
              <a:t>“</a:t>
            </a:r>
            <a:r>
              <a:rPr b="0" lang="mn-Cyrl-MN" sz="5400" spc="-1" strike="noStrike">
                <a:solidFill>
                  <a:srgbClr val="2c3fa0"/>
                </a:solidFill>
                <a:latin typeface="Arial"/>
              </a:rPr>
              <a:t>Хүгжэм”гэһэн </a:t>
            </a:r>
            <a:r>
              <a:rPr b="0" lang="ru-RU" sz="5400" spc="-1" strike="noStrike">
                <a:solidFill>
                  <a:srgbClr val="2c3fa0"/>
                </a:solidFill>
                <a:latin typeface="Arial"/>
              </a:rPr>
              <a:t>темэдэ</a:t>
            </a:r>
            <a:r>
              <a:rPr b="0" lang="mn-Cyrl-MN" sz="5400" spc="-1" strike="noStrike">
                <a:solidFill>
                  <a:srgbClr val="2c3fa0"/>
                </a:solidFill>
                <a:latin typeface="Arial"/>
              </a:rPr>
              <a:t> найруулга бэшэхэ.</a:t>
            </a:r>
            <a:endParaRPr b="0" lang="en-US" sz="54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БАЯРТАЙ!</a:t>
            </a:r>
            <a:endParaRPr b="0" lang="en-US" sz="9600" spc="-1" strike="noStrike">
              <a:solidFill>
                <a:srgbClr val="2c3fa0"/>
              </a:solidFill>
              <a:latin typeface="Arial"/>
            </a:endParaRPr>
          </a:p>
        </p:txBody>
      </p:sp>
      <p:pic>
        <p:nvPicPr>
          <p:cNvPr id="191" name="Picture 7" descr="74"/>
          <p:cNvPicPr/>
          <p:nvPr/>
        </p:nvPicPr>
        <p:blipFill>
          <a:blip r:embed="rId1"/>
          <a:stretch/>
        </p:blipFill>
        <p:spPr>
          <a:xfrm>
            <a:off x="8172360" y="561024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1476360" cy="2349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19"/>
          <p:cNvPicPr/>
          <p:nvPr/>
        </p:nvPicPr>
        <p:blipFill>
          <a:blip r:embed="rId3"/>
          <a:stretch/>
        </p:blipFill>
        <p:spPr>
          <a:xfrm>
            <a:off x="179280" y="4194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27"/>
          <p:cNvPicPr/>
          <p:nvPr/>
        </p:nvPicPr>
        <p:blipFill>
          <a:blip r:embed="rId4"/>
          <a:stretch/>
        </p:blipFill>
        <p:spPr>
          <a:xfrm>
            <a:off x="7631280" y="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30"/>
          <p:cNvPicPr/>
          <p:nvPr/>
        </p:nvPicPr>
        <p:blipFill>
          <a:blip r:embed="rId5"/>
          <a:stretch/>
        </p:blipFill>
        <p:spPr>
          <a:xfrm>
            <a:off x="1908000" y="2060640"/>
            <a:ext cx="5616720" cy="85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712880" y="549360"/>
            <a:ext cx="57182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817b"/>
                </a:solidFill>
                <a:latin typeface="Arial"/>
              </a:rPr>
              <a:t>Хэшээлэй зорилго</a:t>
            </a:r>
            <a:r>
              <a:rPr b="0" lang="ru-RU" sz="3200" spc="-1" strike="noStrike">
                <a:solidFill>
                  <a:srgbClr val="2c3fa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3f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c3fa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ургалгын: «Хүгжэм</a:t>
            </a:r>
            <a:r>
              <a:rPr b="0" lang="mn-Cyrl-MN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” гэһэн зохёолоор ажаллаха, гол удхыень элирүүлхэ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2)</a:t>
            </a:r>
            <a:r>
              <a:rPr b="0" lang="ru-RU" sz="3200" spc="-1" strike="noStrike">
                <a:solidFill>
                  <a:srgbClr val="cd817b"/>
                </a:solidFill>
                <a:latin typeface="Times New Roman"/>
                <a:ea typeface="Times New Roman"/>
              </a:rPr>
              <a:t>Хүгжөөлгын: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Һурагшадай   аман  ба  бэшэмэл  хэлэ хүгжөөхэ.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817b"/>
                </a:solidFill>
                <a:latin typeface="Times New Roman"/>
                <a:ea typeface="Times New Roman"/>
              </a:rPr>
              <a:t>3)Хүмүүжүүлгын: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Түрэл  буряад  хэлэеэ һайн  шудалха</a:t>
            </a:r>
            <a:r>
              <a:rPr b="0" lang="ru-RU" sz="36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2c3fa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2656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Хэшээлэй  хэрэгсэлнүүд:</a:t>
            </a:r>
            <a:endParaRPr b="0" lang="en-US" sz="6000" spc="-1" strike="noStrike">
              <a:solidFill>
                <a:srgbClr val="2c3fa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SzPct val="1028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Ном, карточкан</a:t>
            </a:r>
            <a:r>
              <a:rPr b="0" lang="mn-Cyrl-MN" sz="6000" spc="-1" strike="noStrike">
                <a:solidFill>
                  <a:srgbClr val="ff0000"/>
                </a:solidFill>
                <a:latin typeface="Arial"/>
              </a:rPr>
              <a:t>ууд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 тест, компьютер.</a:t>
            </a:r>
            <a:endParaRPr b="0" lang="en-US" sz="6000" spc="-1" strike="noStrike">
              <a:solidFill>
                <a:srgbClr val="2c3fa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smileface3"/>
          <p:cNvPicPr/>
          <p:nvPr/>
        </p:nvPicPr>
        <p:blipFill>
          <a:blip r:embed="rId1"/>
          <a:stretch/>
        </p:blipFill>
        <p:spPr>
          <a:xfrm>
            <a:off x="6858000" y="1071720"/>
            <a:ext cx="1981080" cy="158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smileface3"/>
          <p:cNvPicPr/>
          <p:nvPr/>
        </p:nvPicPr>
        <p:blipFill>
          <a:blip r:embed="rId2"/>
          <a:stretch/>
        </p:blipFill>
        <p:spPr>
          <a:xfrm>
            <a:off x="7010280" y="2643120"/>
            <a:ext cx="1981440" cy="18576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7"/>
          <p:cNvSpPr/>
          <p:nvPr/>
        </p:nvSpPr>
        <p:spPr>
          <a:xfrm>
            <a:off x="571680" y="1214280"/>
            <a:ext cx="6286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2f1311"/>
                </a:solidFill>
                <a:latin typeface="Arial"/>
              </a:rPr>
              <a:t>                                   </a:t>
            </a:r>
            <a:r>
              <a:rPr b="1" i="1" lang="mn-Cyrl-MN" sz="8000" spc="-1" strike="noStrike">
                <a:solidFill>
                  <a:srgbClr val="2f1311"/>
                </a:solidFill>
                <a:latin typeface="Arial"/>
              </a:rPr>
              <a:t>Хүгжэм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00040" y="571320"/>
            <a:ext cx="8072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fa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2f1311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Хүгжэм” – рассказ</a:t>
            </a:r>
            <a:endParaRPr b="0" lang="en-US" sz="2400" spc="-1" strike="noStrike">
              <a:solidFill>
                <a:srgbClr val="2c3fa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3180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4"/>
          <p:cNvSpPr/>
          <p:nvPr/>
        </p:nvSpPr>
        <p:spPr>
          <a:xfrm>
            <a:off x="1785960" y="357120"/>
            <a:ext cx="47862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юутэйгээр       амарая!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81" name="Picture 10" descr="3"/>
          <p:cNvPicPr/>
          <p:nvPr/>
        </p:nvPicPr>
        <p:blipFill>
          <a:blip r:embed="rId1"/>
          <a:stretch/>
        </p:blipFill>
        <p:spPr>
          <a:xfrm>
            <a:off x="4786200" y="3857760"/>
            <a:ext cx="2176560" cy="1765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1"/>
          <p:cNvPicPr/>
          <p:nvPr/>
        </p:nvPicPr>
        <p:blipFill>
          <a:blip r:embed="rId2"/>
          <a:stretch/>
        </p:blipFill>
        <p:spPr>
          <a:xfrm>
            <a:off x="3635280" y="1844640"/>
            <a:ext cx="1941480" cy="2503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1"/>
          <p:cNvPicPr/>
          <p:nvPr/>
        </p:nvPicPr>
        <p:blipFill>
          <a:blip r:embed="rId3"/>
          <a:stretch/>
        </p:blipFill>
        <p:spPr>
          <a:xfrm>
            <a:off x="1785960" y="4071960"/>
            <a:ext cx="1941480" cy="2003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1"/>
          <p:cNvPicPr/>
          <p:nvPr/>
        </p:nvPicPr>
        <p:blipFill>
          <a:blip r:embed="rId4"/>
          <a:stretch/>
        </p:blipFill>
        <p:spPr>
          <a:xfrm>
            <a:off x="6643800" y="2143080"/>
            <a:ext cx="1941480" cy="250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1"/>
          <p:cNvPicPr/>
          <p:nvPr/>
        </p:nvPicPr>
        <p:blipFill>
          <a:blip r:embed="rId5"/>
          <a:stretch/>
        </p:blipFill>
        <p:spPr>
          <a:xfrm>
            <a:off x="714240" y="1996920"/>
            <a:ext cx="2357640" cy="250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Наадаха дуратайшуул байна гү? Элүүр энхэ ябаха хэн дуратайб?  Бодогты, дээшээ харагты, тээ дээрэ Бэеын элүүр бидэниие хараад, энеэбхилжэ байна. Бария, бария!!1 (</a:t>
            </a:r>
            <a:r>
              <a:rPr b="0" lang="en-US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Y</a:t>
            </a: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льмы дээрээ үндын дээшээ бэеэ татаха).  Зай, Бэеын элүүрые бариба гүбди. Һайн даа, </a:t>
            </a:r>
            <a:r>
              <a:rPr b="0" lang="en-US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h</a:t>
            </a: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уугты.)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042920" y="83664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Гэрэй даабар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88" name="Picture 6" descr="536"/>
          <p:cNvPicPr/>
          <p:nvPr/>
        </p:nvPicPr>
        <p:blipFill>
          <a:blip r:embed="rId1"/>
          <a:stretch/>
        </p:blipFill>
        <p:spPr>
          <a:xfrm>
            <a:off x="928800" y="1714680"/>
            <a:ext cx="3673440" cy="479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33:49Z</dcterms:created>
  <dc:creator>OEM</dc:creator>
  <dc:description/>
  <dc:language>en-US</dc:language>
  <cp:lastModifiedBy>Альбина</cp:lastModifiedBy>
  <dcterms:modified xsi:type="dcterms:W3CDTF">2019-04-03T14:12:24Z</dcterms:modified>
  <cp:revision>34</cp:revision>
  <dc:subject/>
  <dc:title>Кукольный театр “Бамбаахай”</dc:title>
</cp:coreProperties>
</file>