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34E-6347-4444-AAD5-E86F23C60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3EB-96B5-418D-ABD9-38996FCBCC1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AF7-04FC-4464-BB7A-8F1AAB402D9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454F-899E-467B-9D54-1D7F04F4EE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7697-CB09-4905-A4C7-4AD7F9098CE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7F3-DEB6-4D21-A896-109F5B8CEC0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8C78-03EF-431A-BC08-113BC80137E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BFFB-9A73-474C-9C84-8B4DEA6C7A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249-F188-4A82-A050-055FE2D1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089-6C80-4B1F-ADC1-6BD28D7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CFD-8255-4734-8CD8-CB59D008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F1A-067B-455E-B340-733DE3B8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1A0-26F0-4113-B6A5-FDD15F55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ACE-22F3-41D0-9A32-746687D0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545-3167-4A86-AF99-A20E047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B209-44D6-4B7D-ABE0-65D899C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A87-41C7-4D7B-8366-093F004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5C4-1F9C-4AB2-BDA3-29A74397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7B4-3E4E-41A7-9890-AA5E3FD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3ED-6820-46EB-BAA9-745CD7D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D58-199E-47C4-8D45-CF524FC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B74A-D28B-4FC5-88C7-D3F3E74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C982-C985-4689-8FF6-3277B69E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1D7D-6009-41EA-A000-53EDC3C7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1912-A2EE-445E-884D-26AE99B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F824-69EB-4A40-AE0C-28D3294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E393-920E-449E-B267-975851B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57DE-E049-4835-BB5A-202D501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9833-796B-4799-8AB4-0905F617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D1CA-40D7-440C-A871-9B245E5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3F3-5131-4D74-A74F-BC4E4E7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12CD-8F6B-449C-ACED-D701BBE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C2AD-7142-4893-B1CD-67C2A6C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9920-457F-4C55-B7D3-6F583D7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EC5A-38C3-4938-832F-DD4839F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F2B2-4D13-4955-BE22-8D67936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9A94-6E89-4383-8B33-ACA9EB6C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B906-827B-4F1F-8DEB-E697CBF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729A-8042-40EE-8107-87A2115E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3571-A612-4377-99A1-910D6697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3561-BB70-452C-9D27-610D23B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750-E1A2-40C6-8E64-740E6B0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8099-29C8-448F-AFA8-5D15FE6A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E248-09A4-4905-81B1-DED5678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9D5F-141A-4956-A189-3C2F50D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C647-D662-4229-8D57-CB8D5771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F8C6-6A84-4006-81D9-3CFDD62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5D6C-DFFC-481A-975D-70886F8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567D-E717-4D69-BBE2-D282DB7A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7379-3F39-4C19-8DF1-4EB7643B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CA42-A39A-45DD-904B-13F2663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BB4-4FFC-42A3-9DB1-8A1DD30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418-0EA5-4C95-93B6-1AC21F03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3F1-00BC-409A-ACA4-B1CED8A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D23-FFC9-4563-B446-7D39088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1D0-897B-4C2C-9171-1876C366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07B-32C7-4D97-B5AC-51E6756A5A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7D3-C423-4B81-85E4-2DE273B0F4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CC7C-B63C-4779-AEA8-2CFF1A7DD1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7AD-F23F-4862-8F32-B311E889AB9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7168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Цэрэн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Раднаевич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Галано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в</a:t>
            </a: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“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Хүгжэм”гэһэн </a:t>
            </a:r>
            <a:r>
              <a:rPr b="0" lang="ru-RU" sz="5400" spc="-1" strike="noStrike">
                <a:solidFill>
                  <a:srgbClr val="2c3fa0"/>
                </a:solidFill>
                <a:latin typeface="Arial"/>
              </a:rPr>
              <a:t>темэдэ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 найруулга бэшэхэ.</a:t>
            </a:r>
            <a:endParaRPr b="0" lang="en-US" sz="54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91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12880" y="549360"/>
            <a:ext cx="5718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Arial"/>
              </a:rPr>
              <a:t>Хэшээлэй зорилго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ргалгын: «Хүгжэм</a:t>
            </a:r>
            <a:r>
              <a:rPr b="0" lang="mn-Cyrl-MN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” гэһэн зохёолоор ажаллаха, гол удхыень элирүүлхэ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36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656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ом, карточкан</a:t>
            </a:r>
            <a:r>
              <a:rPr b="0" lang="mn-Cyrl-MN" sz="6000" spc="-1" strike="noStrike">
                <a:solidFill>
                  <a:srgbClr val="ff0000"/>
                </a:solidFill>
                <a:latin typeface="Arial"/>
              </a:rPr>
              <a:t>ууд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тест, компьютер.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smileface3"/>
          <p:cNvPicPr/>
          <p:nvPr/>
        </p:nvPicPr>
        <p:blipFill>
          <a:blip r:embed="rId1"/>
          <a:stretch/>
        </p:blipFill>
        <p:spPr>
          <a:xfrm>
            <a:off x="6858000" y="1071720"/>
            <a:ext cx="1981080" cy="158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smileface3"/>
          <p:cNvPicPr/>
          <p:nvPr/>
        </p:nvPicPr>
        <p:blipFill>
          <a:blip r:embed="rId2"/>
          <a:stretch/>
        </p:blipFill>
        <p:spPr>
          <a:xfrm>
            <a:off x="7010280" y="2643120"/>
            <a:ext cx="1981440" cy="18576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71680" y="1214280"/>
            <a:ext cx="628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1" i="1" lang="mn-Cyrl-MN" sz="8000" spc="-1" strike="noStrike">
                <a:solidFill>
                  <a:srgbClr val="2f1311"/>
                </a:solidFill>
                <a:latin typeface="Arial"/>
              </a:rPr>
              <a:t>Хүгжэм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8072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2f1311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Хүгжэм” – рассказ</a:t>
            </a: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3180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4"/>
          <p:cNvSpPr/>
          <p:nvPr/>
        </p:nvSpPr>
        <p:spPr>
          <a:xfrm>
            <a:off x="1785960" y="357120"/>
            <a:ext cx="47862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      амарая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1" name="Picture 10" descr="3"/>
          <p:cNvPicPr/>
          <p:nvPr/>
        </p:nvPicPr>
        <p:blipFill>
          <a:blip r:embed="rId1"/>
          <a:stretch/>
        </p:blipFill>
        <p:spPr>
          <a:xfrm>
            <a:off x="4786200" y="3857760"/>
            <a:ext cx="2176560" cy="1765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"/>
          <p:cNvPicPr/>
          <p:nvPr/>
        </p:nvPicPr>
        <p:blipFill>
          <a:blip r:embed="rId2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1"/>
          <p:cNvPicPr/>
          <p:nvPr/>
        </p:nvPicPr>
        <p:blipFill>
          <a:blip r:embed="rId3"/>
          <a:stretch/>
        </p:blipFill>
        <p:spPr>
          <a:xfrm>
            <a:off x="1785960" y="4071960"/>
            <a:ext cx="1941480" cy="200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"/>
          <p:cNvPicPr/>
          <p:nvPr/>
        </p:nvPicPr>
        <p:blipFill>
          <a:blip r:embed="rId4"/>
          <a:stretch/>
        </p:blipFill>
        <p:spPr>
          <a:xfrm>
            <a:off x="6643800" y="214308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1"/>
          <p:cNvPicPr/>
          <p:nvPr/>
        </p:nvPicPr>
        <p:blipFill>
          <a:blip r:embed="rId5"/>
          <a:stretch/>
        </p:blipFill>
        <p:spPr>
          <a:xfrm>
            <a:off x="714240" y="1996920"/>
            <a:ext cx="2357640" cy="25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Наадаха дуратайшуул байна гү? Элүүр энхэ ябаха хэн дуратайб?  Бодогты, дээшээ харагты, тээ дээрэ Бэеын элүүр бидэниие хараад, энеэбхилжэ байна. Бария, бария!!1 (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Y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льмы дээрээ үндын дээшээ бэеэ татаха).  Зай, Бэеын элүүрые бариба гүбди. Һайн даа, 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угты.)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Гэрэй даабар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8" name="Picture 6" descr="536"/>
          <p:cNvPicPr/>
          <p:nvPr/>
        </p:nvPicPr>
        <p:blipFill>
          <a:blip r:embed="rId1"/>
          <a:stretch/>
        </p:blipFill>
        <p:spPr>
          <a:xfrm>
            <a:off x="928800" y="1714680"/>
            <a:ext cx="3673440" cy="47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33:49Z</dcterms:created>
  <dc:creator>OEM</dc:creator>
  <dc:description/>
  <dc:language>en-US</dc:language>
  <cp:lastModifiedBy>Альбина</cp:lastModifiedBy>
  <dcterms:modified xsi:type="dcterms:W3CDTF">2019-04-03T14:12:24Z</dcterms:modified>
  <cp:revision>34</cp:revision>
  <dc:subject/>
  <dc:title>Кукольный театр “Бамбаахай”</dc:title>
</cp:coreProperties>
</file>