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1.png" ContentType="image/png"/>
  <Override PartName="/ppt/media/image10.gif" ContentType="image/gif"/>
  <Override PartName="/ppt/media/image16.gif" ContentType="image/gif"/>
  <Override PartName="/ppt/media/image2.png" ContentType="image/png"/>
  <Override PartName="/ppt/media/image15.gif" ContentType="image/gif"/>
  <Override PartName="/ppt/media/image14.gif" ContentType="image/gif"/>
  <Override PartName="/ppt/media/image9.gif" ContentType="image/gif"/>
  <Override PartName="/ppt/media/image5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1.jpeg" ContentType="image/jpeg"/>
  <Override PartName="/ppt/media/image7.png" ContentType="image/png"/>
  <Override PartName="/ppt/media/image8.gif" ContentType="image/gif"/>
  <Override PartName="/ppt/media/image13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3fa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0670-D045-49DB-B50F-09A7563A9D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27A3-CA13-4CB8-B500-AF4AB4C309F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31C2-F4E9-4DB9-8546-A8FEDF157D5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4F1C-77DE-488B-8D7D-CA1B3631241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18B7-5A77-4430-81D1-7DA4D17AF07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58A1-30E9-4AC8-9492-6BDA21A9941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E22B-0EAA-4280-8463-18077504EE6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976D-8EC2-4CFA-9ED0-D1C03E7356C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9D60-459E-45C8-87E1-F61F28374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738684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83800" y="3947760"/>
            <a:ext cx="738684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77C8-6709-4D96-B178-0419B6D1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83800" y="3947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47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0AAB-FB74-4D1E-BCA7-26AD5226D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11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7880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8380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11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7880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892D-7374-45BA-B446-1A36226A7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0038-A918-4716-9655-15DE92674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83800" y="159876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2639-3F7C-4EF3-9E6D-559B98B9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2620-53A3-42C6-B03F-47418D6E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FB8F-ACEB-4BE9-8043-24FE65EF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4953-B005-4389-BF6E-70DA3FFC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9880" y="226800"/>
            <a:ext cx="7477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D024-DB64-48A8-A546-C18CBDD1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83800" y="3947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2128-93C4-4037-911E-9A7B1F09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83800" y="159876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0ED3-EEBB-4EF2-9B88-3067C235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200" y="3947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5546-328B-4E13-821E-7D355BE7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83800" y="3947760"/>
            <a:ext cx="738684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5336-59A9-4DCE-AD14-523C1386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738684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83800" y="3947760"/>
            <a:ext cx="738684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0792-6A14-464D-87A0-7EE992E5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83800" y="3947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200" y="3947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BCED-8E56-4094-8DAE-586FD0F8F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11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7880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8380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811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7880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116F-3824-4D83-A457-D9855381A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0743F-6CFD-476D-96F2-DEC403BA2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83800" y="159876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321EF-7D5B-44F9-8946-B1D577A3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06A70-E007-4CA4-85E6-F25F4F16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8F684-6FEE-4E5B-BE15-1EED256F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3ED9A-4085-43C3-9DC5-0D7051C6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6DD4-D02D-4929-AA40-5FF3F1C3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9880" y="226800"/>
            <a:ext cx="7477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A3386-D730-4842-A81B-12568BCB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83800" y="3947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74C7A-05CE-4435-994D-EC5F74EA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9200" y="3947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1FCC7-EAC7-488D-B4CB-5C4412B0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83800" y="3947760"/>
            <a:ext cx="738684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729ED-A33C-4377-83F3-CA389039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738684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83800" y="3947760"/>
            <a:ext cx="738684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F6509-4F0C-49A7-81CD-B9822908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83800" y="3947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9200" y="3947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B9AD1-8D1B-4FE0-9728-3C29811C0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811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87880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8380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811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87880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552A9-9916-4311-A862-622DB97EE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29398-16A9-4C0E-9EBD-EC471D7A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83800" y="159876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9B8EA-0BCA-485E-A2D1-345068D8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DDA1E-C117-4C63-AD22-93484CEF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42EA-6C99-44EE-B4AB-DF96BFC7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6187A-E7B6-4477-AD40-4649EC19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D7C7B-4934-429F-8436-64DBE10B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9880" y="226800"/>
            <a:ext cx="7477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45B85-D452-47D1-A106-DC989B69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83800" y="3947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24785-3A3D-4A82-A926-3D20D14E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9200" y="3947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65CAB-7545-4C78-A910-6C62C05D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83800" y="3947760"/>
            <a:ext cx="738684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D5A54-2CD7-4C0F-908A-8832FBC3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738684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83800" y="3947760"/>
            <a:ext cx="738684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99316-2FCA-40F3-8F13-8CDF1DF9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83800" y="3947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9200" y="3947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C42D9-F279-42BA-AEAB-B384677E7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811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87880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8380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811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87880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7AA15-049F-4C68-8511-72D6026BA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6A53-2FCC-4BCD-8B51-0274484A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9880" y="226800"/>
            <a:ext cx="7477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5EA9-07F8-4237-9D40-CC96F573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83800" y="3947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497E-33E0-442F-B0F7-BE4BFE81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47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77BA-1751-47F4-9343-E59EE0DE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838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36046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83800" y="3947760"/>
            <a:ext cx="738684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09AD-F838-4B46-8781-2C97CBBA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3fa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3800" y="159876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c3f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c3f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2232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820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87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3201-AC83-4FF2-94B3-F3C7DBA4828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3fa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83800" y="159876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c3f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c3f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EFF5-0709-4F1B-865F-21FFC9A8B36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3fa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83800" y="159876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c3f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c3f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92232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87820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87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8D0E-CD57-4B40-8702-870CC4E4D02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988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3fa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83800" y="159876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c3f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c3f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a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92232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87820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87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D735-4D7B-4277-B576-7CAE223129B7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71680" y="128592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c3fa0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  </a:t>
            </a:r>
            <a:r>
              <a:rPr b="0" lang="ru-RU" sz="80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Цэрэн</a:t>
            </a:r>
            <a:r>
              <a:rPr b="0" lang="mn-Cyrl-MN" sz="80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 Раднаевич </a:t>
            </a:r>
            <a:r>
              <a:rPr b="0" lang="ru-RU" sz="80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mn-Cyrl-MN" sz="80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Галано</a:t>
            </a:r>
            <a:r>
              <a:rPr b="0" lang="ru-RU" sz="80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в</a:t>
            </a:r>
            <a:endParaRPr b="0" lang="en-US" sz="8000" spc="-1" strike="noStrike">
              <a:solidFill>
                <a:srgbClr val="2c3fa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5400" spc="-1" strike="noStrike">
                <a:solidFill>
                  <a:srgbClr val="2c3fa0"/>
                </a:solidFill>
                <a:latin typeface="Arial"/>
              </a:rPr>
              <a:t>“</a:t>
            </a:r>
            <a:r>
              <a:rPr b="0" lang="mn-Cyrl-MN" sz="5400" spc="-1" strike="noStrike">
                <a:solidFill>
                  <a:srgbClr val="2c3fa0"/>
                </a:solidFill>
                <a:latin typeface="Arial"/>
              </a:rPr>
              <a:t>Хүгжэм”гэһэн </a:t>
            </a:r>
            <a:r>
              <a:rPr b="0" lang="ru-RU" sz="5400" spc="-1" strike="noStrike">
                <a:solidFill>
                  <a:srgbClr val="2c3fa0"/>
                </a:solidFill>
                <a:latin typeface="Arial"/>
              </a:rPr>
              <a:t>темэдэ</a:t>
            </a:r>
            <a:r>
              <a:rPr b="0" lang="mn-Cyrl-MN" sz="5400" spc="-1" strike="noStrike">
                <a:solidFill>
                  <a:srgbClr val="2c3fa0"/>
                </a:solidFill>
                <a:latin typeface="Arial"/>
              </a:rPr>
              <a:t> найруулга бэшэхэ.</a:t>
            </a:r>
            <a:endParaRPr b="0" lang="en-US" sz="5400" spc="-1" strike="noStrike">
              <a:solidFill>
                <a:srgbClr val="2c3fa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640" y="28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3300"/>
                </a:solidFill>
                <a:latin typeface="Monotype Corsiva"/>
              </a:rPr>
              <a:t>БАЯРТАЙ!</a:t>
            </a:r>
            <a:endParaRPr b="0" lang="en-US" sz="9600" spc="-1" strike="noStrike">
              <a:solidFill>
                <a:srgbClr val="2c3fa0"/>
              </a:solidFill>
              <a:latin typeface="Arial"/>
            </a:endParaRPr>
          </a:p>
        </p:txBody>
      </p:sp>
      <p:pic>
        <p:nvPicPr>
          <p:cNvPr id="191" name="Picture 7" descr="74"/>
          <p:cNvPicPr/>
          <p:nvPr/>
        </p:nvPicPr>
        <p:blipFill>
          <a:blip r:embed="rId1"/>
          <a:stretch/>
        </p:blipFill>
        <p:spPr>
          <a:xfrm>
            <a:off x="8172360" y="5610240"/>
            <a:ext cx="866880" cy="1247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1"/>
          <p:cNvPicPr/>
          <p:nvPr/>
        </p:nvPicPr>
        <p:blipFill>
          <a:blip r:embed="rId2"/>
          <a:stretch/>
        </p:blipFill>
        <p:spPr>
          <a:xfrm>
            <a:off x="0" y="0"/>
            <a:ext cx="1476360" cy="2349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1" descr="19"/>
          <p:cNvPicPr/>
          <p:nvPr/>
        </p:nvPicPr>
        <p:blipFill>
          <a:blip r:embed="rId3"/>
          <a:stretch/>
        </p:blipFill>
        <p:spPr>
          <a:xfrm>
            <a:off x="179280" y="4194000"/>
            <a:ext cx="2664000" cy="2664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27"/>
          <p:cNvPicPr/>
          <p:nvPr/>
        </p:nvPicPr>
        <p:blipFill>
          <a:blip r:embed="rId4"/>
          <a:stretch/>
        </p:blipFill>
        <p:spPr>
          <a:xfrm>
            <a:off x="7631280" y="0"/>
            <a:ext cx="1512720" cy="1655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5" descr="30"/>
          <p:cNvPicPr/>
          <p:nvPr/>
        </p:nvPicPr>
        <p:blipFill>
          <a:blip r:embed="rId5"/>
          <a:stretch/>
        </p:blipFill>
        <p:spPr>
          <a:xfrm>
            <a:off x="1908000" y="2060640"/>
            <a:ext cx="5616720" cy="855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1712880" y="549360"/>
            <a:ext cx="57182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3964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fa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d817b"/>
                </a:solidFill>
                <a:latin typeface="Arial"/>
              </a:rPr>
              <a:t>Хэшээлэй зорилго</a:t>
            </a:r>
            <a:r>
              <a:rPr b="0" lang="ru-RU" sz="3200" spc="-1" strike="noStrike">
                <a:solidFill>
                  <a:srgbClr val="2c3fa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3fa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c3fa0"/>
                </a:solidFill>
                <a:latin typeface="Arial"/>
              </a:rPr>
              <a:t>1)</a:t>
            </a:r>
            <a:r>
              <a:rPr b="0" lang="ru-RU" sz="32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h</a:t>
            </a:r>
            <a:r>
              <a:rPr b="0" lang="ru-RU" sz="32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ургалгын: «Хүгжэм</a:t>
            </a:r>
            <a:r>
              <a:rPr b="0" lang="mn-Cyrl-MN" sz="32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” гэһэн зохёолоор ажаллаха, гол удхыень элирүүлхэ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2)</a:t>
            </a:r>
            <a:r>
              <a:rPr b="0" lang="ru-RU" sz="3200" spc="-1" strike="noStrike">
                <a:solidFill>
                  <a:srgbClr val="cd817b"/>
                </a:solidFill>
                <a:latin typeface="Times New Roman"/>
                <a:ea typeface="Times New Roman"/>
              </a:rPr>
              <a:t>Хүгжөөлгын:</a:t>
            </a:r>
            <a:r>
              <a:rPr b="0" lang="ru-RU" sz="32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Һурагшадай   аман  ба  бэшэмэл  хэлэ хүгжөөхэ.</a:t>
            </a:r>
            <a:endParaRPr b="0" lang="en-US" sz="3200" spc="-1" strike="noStrike">
              <a:solidFill>
                <a:srgbClr val="2c3fa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d817b"/>
                </a:solidFill>
                <a:latin typeface="Times New Roman"/>
                <a:ea typeface="Times New Roman"/>
              </a:rPr>
              <a:t>3)Хүмүүжүүлгын:</a:t>
            </a:r>
            <a:r>
              <a:rPr b="0" lang="ru-RU" sz="32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 Түрэл  буряад  хэлэеэ һайн  шудалха</a:t>
            </a:r>
            <a:r>
              <a:rPr b="0" lang="ru-RU" sz="36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2c3fa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c3fa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26560" y="1125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500"/>
              </a:spcBef>
              <a:buSzPct val="1028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Хэшээлэй  хэрэгсэлнүүд:</a:t>
            </a:r>
            <a:endParaRPr b="0" lang="en-US" sz="6000" spc="-1" strike="noStrike">
              <a:solidFill>
                <a:srgbClr val="2c3fa0"/>
              </a:solidFill>
              <a:latin typeface="Arial"/>
            </a:endParaRPr>
          </a:p>
          <a:p>
            <a:pPr marL="329040" indent="-329040">
              <a:spcBef>
                <a:spcPts val="1500"/>
              </a:spcBef>
              <a:buSzPct val="10284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Ном, карточкан</a:t>
            </a:r>
            <a:r>
              <a:rPr b="0" lang="mn-Cyrl-MN" sz="6000" spc="-1" strike="noStrike">
                <a:solidFill>
                  <a:srgbClr val="ff0000"/>
                </a:solidFill>
                <a:latin typeface="Arial"/>
              </a:rPr>
              <a:t>ууд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, тест, компьютер.</a:t>
            </a:r>
            <a:endParaRPr b="0" lang="en-US" sz="6000" spc="-1" strike="noStrike">
              <a:solidFill>
                <a:srgbClr val="2c3fa0"/>
              </a:solidFill>
              <a:latin typeface="Arial"/>
            </a:endParaRPr>
          </a:p>
          <a:p>
            <a:pPr marL="329040" indent="-329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c3fa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7" descr="smileface3"/>
          <p:cNvPicPr/>
          <p:nvPr/>
        </p:nvPicPr>
        <p:blipFill>
          <a:blip r:embed="rId1"/>
          <a:stretch/>
        </p:blipFill>
        <p:spPr>
          <a:xfrm>
            <a:off x="6858000" y="1071720"/>
            <a:ext cx="1981080" cy="1584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smileface3"/>
          <p:cNvPicPr/>
          <p:nvPr/>
        </p:nvPicPr>
        <p:blipFill>
          <a:blip r:embed="rId2"/>
          <a:stretch/>
        </p:blipFill>
        <p:spPr>
          <a:xfrm>
            <a:off x="7010280" y="2643120"/>
            <a:ext cx="1981440" cy="185760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7"/>
          <p:cNvSpPr/>
          <p:nvPr/>
        </p:nvSpPr>
        <p:spPr>
          <a:xfrm>
            <a:off x="571680" y="1214280"/>
            <a:ext cx="6286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2f1311"/>
                </a:solidFill>
                <a:latin typeface="Arial"/>
              </a:rPr>
              <a:t>                                   </a:t>
            </a:r>
            <a:r>
              <a:rPr b="1" i="1" lang="mn-Cyrl-MN" sz="8000" spc="-1" strike="noStrike">
                <a:solidFill>
                  <a:srgbClr val="2f1311"/>
                </a:solidFill>
                <a:latin typeface="Arial"/>
              </a:rPr>
              <a:t>Хүгжэм</a:t>
            </a:r>
            <a:endParaRPr b="0" lang="en-US" sz="8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500040" y="571320"/>
            <a:ext cx="80726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fa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2f1311"/>
                </a:solidFill>
                <a:latin typeface="Times New Roman"/>
              </a:rPr>
              <a:t>                    </a:t>
            </a:r>
            <a:r>
              <a:rPr b="1" lang="ru-RU" sz="2400" spc="-1" strike="noStrike">
                <a:solidFill>
                  <a:srgbClr val="2f1311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2f1311"/>
                </a:solidFill>
                <a:latin typeface="Times New Roman"/>
              </a:rPr>
              <a:t>Хүгжэм” – рассказ</a:t>
            </a:r>
            <a:endParaRPr b="0" lang="en-US" sz="2400" spc="-1" strike="noStrike">
              <a:solidFill>
                <a:srgbClr val="2c3fa0"/>
              </a:solidFill>
              <a:latin typeface="Arial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631800" y="1557360"/>
            <a:ext cx="8353440" cy="4535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4"/>
          <p:cNvSpPr/>
          <p:nvPr/>
        </p:nvSpPr>
        <p:spPr>
          <a:xfrm>
            <a:off x="1785960" y="357120"/>
            <a:ext cx="47862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      </a:t>
            </a:r>
            <a:r>
              <a:rPr b="1" lang="ru-RU" sz="6000" spc="-1" strike="noStrike">
                <a:solidFill>
                  <a:srgbClr val="0000ff"/>
                </a:solidFill>
                <a:latin typeface="Monotype Corsiva"/>
              </a:rPr>
              <a:t>Х</a:t>
            </a:r>
            <a:r>
              <a:rPr b="1" lang="ru-RU" sz="60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1" lang="ru-RU" sz="6000" spc="-1" strike="noStrike">
                <a:solidFill>
                  <a:srgbClr val="0000ff"/>
                </a:solidFill>
                <a:latin typeface="Monotype Corsiva"/>
              </a:rPr>
              <a:t>хюутэйгээр       амарая!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81" name="Picture 10" descr="3"/>
          <p:cNvPicPr/>
          <p:nvPr/>
        </p:nvPicPr>
        <p:blipFill>
          <a:blip r:embed="rId1"/>
          <a:stretch/>
        </p:blipFill>
        <p:spPr>
          <a:xfrm>
            <a:off x="4786200" y="3857760"/>
            <a:ext cx="2176560" cy="1765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1"/>
          <p:cNvPicPr/>
          <p:nvPr/>
        </p:nvPicPr>
        <p:blipFill>
          <a:blip r:embed="rId2"/>
          <a:stretch/>
        </p:blipFill>
        <p:spPr>
          <a:xfrm>
            <a:off x="3635280" y="1844640"/>
            <a:ext cx="1941480" cy="2503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1"/>
          <p:cNvPicPr/>
          <p:nvPr/>
        </p:nvPicPr>
        <p:blipFill>
          <a:blip r:embed="rId3"/>
          <a:stretch/>
        </p:blipFill>
        <p:spPr>
          <a:xfrm>
            <a:off x="1785960" y="4071960"/>
            <a:ext cx="1941480" cy="2003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1"/>
          <p:cNvPicPr/>
          <p:nvPr/>
        </p:nvPicPr>
        <p:blipFill>
          <a:blip r:embed="rId4"/>
          <a:stretch/>
        </p:blipFill>
        <p:spPr>
          <a:xfrm>
            <a:off x="6643800" y="2143080"/>
            <a:ext cx="1941480" cy="2503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1"/>
          <p:cNvPicPr/>
          <p:nvPr/>
        </p:nvPicPr>
        <p:blipFill>
          <a:blip r:embed="rId5"/>
          <a:stretch/>
        </p:blipFill>
        <p:spPr>
          <a:xfrm>
            <a:off x="714240" y="1996920"/>
            <a:ext cx="2357640" cy="2503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9640" y="7858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Наадаха дуратайшуул байна гү? Элүүр энхэ ябаха хэн дуратайб?  Бодогты, дээшээ харагты, тээ дээрэ Бэеын элүүр бидэниие хараад, энеэбхилжэ байна. Бария, бария!!1 (</a:t>
            </a:r>
            <a:r>
              <a:rPr b="0" lang="en-US" sz="40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Y</a:t>
            </a:r>
            <a:r>
              <a:rPr b="0" lang="ru-RU" sz="40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льмы дээрээ үндын дээшээ бэеэ татаха).  Зай, Бэеын элүүрые бариба гүбди. Һайн даа, </a:t>
            </a:r>
            <a:r>
              <a:rPr b="0" lang="en-US" sz="40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h</a:t>
            </a:r>
            <a:r>
              <a:rPr b="0" lang="ru-RU" sz="4000" spc="-1" strike="noStrike">
                <a:solidFill>
                  <a:srgbClr val="2c3fa0"/>
                </a:solidFill>
                <a:latin typeface="Times New Roman"/>
                <a:ea typeface="Times New Roman"/>
              </a:rPr>
              <a:t>уугты.)</a:t>
            </a:r>
            <a:endParaRPr b="0" lang="en-US" sz="4000" spc="-1" strike="noStrike">
              <a:solidFill>
                <a:srgbClr val="2c3fa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4"/>
          <p:cNvSpPr/>
          <p:nvPr/>
        </p:nvSpPr>
        <p:spPr>
          <a:xfrm>
            <a:off x="1042920" y="83664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Гэрэй даабари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88" name="Picture 6" descr="536"/>
          <p:cNvPicPr/>
          <p:nvPr/>
        </p:nvPicPr>
        <p:blipFill>
          <a:blip r:embed="rId1"/>
          <a:stretch/>
        </p:blipFill>
        <p:spPr>
          <a:xfrm>
            <a:off x="928800" y="1714680"/>
            <a:ext cx="3673440" cy="4797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2:33:49Z</dcterms:created>
  <dc:creator>OEM</dc:creator>
  <dc:description/>
  <dc:language>en-US</dc:language>
  <cp:lastModifiedBy>Альбина</cp:lastModifiedBy>
  <dcterms:modified xsi:type="dcterms:W3CDTF">2019-04-03T14:12:24Z</dcterms:modified>
  <cp:revision>34</cp:revision>
  <dc:subject/>
  <dc:title>Кукольный театр “Бамбаахай”</dc:title>
</cp:coreProperties>
</file>