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2A53-AB5D-49D4-BDFC-86436129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3BA-CDB5-44D9-A44F-A123B697B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85DD-BED6-4C11-A93B-9D2558AC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957-4D99-4012-86EE-B34FD65D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5C1-0F2D-42F6-88C2-F4668B997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3E93-C523-4B20-AF36-36C95361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D90-107F-439B-ACCC-82C056BD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981-F3BC-4F6A-81BE-BF2A0B76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FF48-AEF0-4A33-929E-5F67F605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8DA4-A954-4749-9058-C4BB7CF4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14F8-2B1C-4D60-843B-73411BC7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A196-B09C-474A-8C01-B887DC79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C6CA-AB0D-404B-BF13-BCF86BD7AA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152280"/>
            <a:ext cx="5562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 – Поезжай, моя милая! Ты это заслужила! – воскликнула фея. – Но помни, ровно в полночь сила моих чар кончится: твое платье снова превратится в лохмотья, а карета – в обыкновенную тыкву. Девушка обещала волшебнице уехать из дворца до полуночи и, сияя от счастья, отправилась на ба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multbaby.ru/wp-content/uploads/2012/12/wpid-lNfGqrFZveA.jpg"/>
          <p:cNvPicPr/>
          <p:nvPr/>
        </p:nvPicPr>
        <p:blipFill>
          <a:blip r:embed="rId1"/>
          <a:stretch/>
        </p:blipFill>
        <p:spPr>
          <a:xfrm>
            <a:off x="5748480" y="1139760"/>
            <a:ext cx="3365280" cy="3565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6324480" y="495288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ora"/>
          <p:cNvPicPr/>
          <p:nvPr/>
        </p:nvPicPr>
        <p:blipFill>
          <a:blip r:embed="rId2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5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17" name="AutoShape 6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20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Box 11"/>
          <p:cNvSpPr/>
          <p:nvPr/>
        </p:nvSpPr>
        <p:spPr>
          <a:xfrm>
            <a:off x="5029200" y="380880"/>
            <a:ext cx="3809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ная стрелка от цифры до цифры проходит                            за 5 мину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8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5764c113633d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ora"/>
          <p:cNvPicPr/>
          <p:nvPr/>
        </p:nvPicPr>
        <p:blipFill>
          <a:blip r:embed="rId2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5"/>
          <p:cNvGrpSpPr/>
          <p:nvPr/>
        </p:nvGrpSpPr>
        <p:grpSpPr>
          <a:xfrm>
            <a:off x="1617120" y="2434680"/>
            <a:ext cx="1891080" cy="2224080"/>
            <a:chOff x="1617120" y="2434680"/>
            <a:chExt cx="1891080" cy="2224080"/>
          </a:xfrm>
        </p:grpSpPr>
        <p:sp>
          <p:nvSpPr>
            <p:cNvPr id="127" name="AutoShape 6"/>
            <p:cNvSpPr/>
            <p:nvPr/>
          </p:nvSpPr>
          <p:spPr>
            <a:xfrm rot="3217200">
              <a:off x="1574280" y="282132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7" descr=""/>
            <p:cNvPicPr/>
            <p:nvPr/>
          </p:nvPicPr>
          <p:blipFill>
            <a:blip r:embed="rId3"/>
            <a:stretch/>
          </p:blipFill>
          <p:spPr>
            <a:xfrm rot="14202000">
              <a:off x="2267280" y="367164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30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11"/>
          <p:cNvSpPr/>
          <p:nvPr/>
        </p:nvSpPr>
        <p:spPr>
          <a:xfrm>
            <a:off x="5029200" y="380880"/>
            <a:ext cx="380988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раза по 5 минут =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 мину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: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 минут шес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9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00000">
                                      <p:cBhvr>
                                        <p:cTn id="19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ora"/>
          <p:cNvPicPr/>
          <p:nvPr/>
        </p:nvPicPr>
        <p:blipFill>
          <a:blip r:embed="rId1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1658880" y="3582000"/>
            <a:ext cx="2846880" cy="736920"/>
            <a:chOff x="1658880" y="3582000"/>
            <a:chExt cx="2846880" cy="736920"/>
          </a:xfrm>
        </p:grpSpPr>
        <p:sp>
          <p:nvSpPr>
            <p:cNvPr id="137" name="AutoShape 6"/>
            <p:cNvSpPr/>
            <p:nvPr/>
          </p:nvSpPr>
          <p:spPr>
            <a:xfrm rot="21484200">
              <a:off x="1666080" y="38217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7" descr=""/>
            <p:cNvPicPr/>
            <p:nvPr/>
          </p:nvPicPr>
          <p:blipFill>
            <a:blip r:embed="rId2"/>
            <a:stretch/>
          </p:blipFill>
          <p:spPr>
            <a:xfrm rot="10869000">
              <a:off x="2959200" y="359748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8"/>
          <p:cNvGrpSpPr/>
          <p:nvPr/>
        </p:nvGrpSpPr>
        <p:grpSpPr>
          <a:xfrm>
            <a:off x="2067840" y="3355920"/>
            <a:ext cx="2207520" cy="925560"/>
            <a:chOff x="2067840" y="3355920"/>
            <a:chExt cx="2207520" cy="925560"/>
          </a:xfrm>
        </p:grpSpPr>
        <p:sp>
          <p:nvSpPr>
            <p:cNvPr id="140" name="AutoShape 9"/>
            <p:cNvSpPr/>
            <p:nvPr/>
          </p:nvSpPr>
          <p:spPr>
            <a:xfrm rot="11592000">
              <a:off x="3112920" y="3693240"/>
              <a:ext cx="1123920" cy="465840"/>
            </a:xfrm>
            <a:prstGeom prst="leftArrow">
              <a:avLst>
                <a:gd name="adj1" fmla="val 50000"/>
                <a:gd name="adj2" fmla="val 603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0" descr=""/>
            <p:cNvPicPr/>
            <p:nvPr/>
          </p:nvPicPr>
          <p:blipFill>
            <a:blip r:embed="rId3"/>
            <a:stretch/>
          </p:blipFill>
          <p:spPr>
            <a:xfrm rot="863400">
              <a:off x="2116800" y="3491640"/>
              <a:ext cx="1162800" cy="54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11" descr="5764c113633d"/>
          <p:cNvPicPr/>
          <p:nvPr/>
        </p:nvPicPr>
        <p:blipFill>
          <a:blip r:embed="rId4"/>
          <a:stretch/>
        </p:blipFill>
        <p:spPr>
          <a:xfrm>
            <a:off x="6248520" y="3352680"/>
            <a:ext cx="235260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12"/>
          <p:cNvGrpSpPr/>
          <p:nvPr/>
        </p:nvGrpSpPr>
        <p:grpSpPr>
          <a:xfrm>
            <a:off x="2078280" y="2756160"/>
            <a:ext cx="2028600" cy="2423520"/>
            <a:chOff x="2078280" y="2756160"/>
            <a:chExt cx="2028600" cy="2423520"/>
          </a:xfrm>
        </p:grpSpPr>
        <p:sp>
          <p:nvSpPr>
            <p:cNvPr id="144" name="AutoShape 13"/>
            <p:cNvSpPr/>
            <p:nvPr/>
          </p:nvSpPr>
          <p:spPr>
            <a:xfrm rot="3304200">
              <a:off x="1973880" y="3221640"/>
              <a:ext cx="1377720" cy="463680"/>
            </a:xfrm>
            <a:prstGeom prst="leftArrow">
              <a:avLst>
                <a:gd name="adj1" fmla="val 50000"/>
                <a:gd name="adj2" fmla="val 74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14" descr=""/>
            <p:cNvPicPr/>
            <p:nvPr/>
          </p:nvPicPr>
          <p:blipFill>
            <a:blip r:embed="rId5"/>
            <a:stretch/>
          </p:blipFill>
          <p:spPr>
            <a:xfrm rot="14289000">
              <a:off x="2769480" y="4158720"/>
              <a:ext cx="1458720" cy="52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5"/>
          <p:cNvGrpSpPr/>
          <p:nvPr/>
        </p:nvGrpSpPr>
        <p:grpSpPr>
          <a:xfrm>
            <a:off x="2842560" y="2847240"/>
            <a:ext cx="695880" cy="2150280"/>
            <a:chOff x="2842560" y="2847240"/>
            <a:chExt cx="695880" cy="2150280"/>
          </a:xfrm>
        </p:grpSpPr>
        <p:sp>
          <p:nvSpPr>
            <p:cNvPr id="147" name="AutoShape 16"/>
            <p:cNvSpPr/>
            <p:nvPr/>
          </p:nvSpPr>
          <p:spPr>
            <a:xfrm rot="16678200">
              <a:off x="2592360" y="4230360"/>
              <a:ext cx="1064880" cy="421200"/>
            </a:xfrm>
            <a:prstGeom prst="leftArrow">
              <a:avLst>
                <a:gd name="adj1" fmla="val 50000"/>
                <a:gd name="adj2" fmla="val 632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17" descr=""/>
            <p:cNvPicPr/>
            <p:nvPr/>
          </p:nvPicPr>
          <p:blipFill>
            <a:blip r:embed="rId6"/>
            <a:stretch/>
          </p:blipFill>
          <p:spPr>
            <a:xfrm rot="6063000">
              <a:off x="2632320" y="320760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21"/>
          <p:cNvGrpSpPr/>
          <p:nvPr/>
        </p:nvGrpSpPr>
        <p:grpSpPr>
          <a:xfrm>
            <a:off x="2597040" y="2816640"/>
            <a:ext cx="1272960" cy="2071440"/>
            <a:chOff x="2597040" y="2816640"/>
            <a:chExt cx="1272960" cy="2071440"/>
          </a:xfrm>
        </p:grpSpPr>
        <p:sp>
          <p:nvSpPr>
            <p:cNvPr id="150" name="AutoShape 22"/>
            <p:cNvSpPr/>
            <p:nvPr/>
          </p:nvSpPr>
          <p:spPr>
            <a:xfrm rot="14811000">
              <a:off x="2934720" y="4105080"/>
              <a:ext cx="1064520" cy="421200"/>
            </a:xfrm>
            <a:prstGeom prst="leftArrow">
              <a:avLst>
                <a:gd name="adj1" fmla="val 50000"/>
                <a:gd name="adj2" fmla="val 631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23" descr=""/>
            <p:cNvPicPr/>
            <p:nvPr/>
          </p:nvPicPr>
          <p:blipFill>
            <a:blip r:embed="rId7"/>
            <a:stretch/>
          </p:blipFill>
          <p:spPr>
            <a:xfrm rot="4195800">
              <a:off x="2450880" y="318924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24"/>
          <p:cNvGrpSpPr/>
          <p:nvPr/>
        </p:nvGrpSpPr>
        <p:grpSpPr>
          <a:xfrm>
            <a:off x="2693520" y="2419560"/>
            <a:ext cx="747720" cy="2844720"/>
            <a:chOff x="2693520" y="2419560"/>
            <a:chExt cx="747720" cy="2844720"/>
          </a:xfrm>
        </p:grpSpPr>
        <p:sp>
          <p:nvSpPr>
            <p:cNvPr id="153" name="AutoShape 25"/>
            <p:cNvSpPr/>
            <p:nvPr/>
          </p:nvSpPr>
          <p:spPr>
            <a:xfrm rot="5256600">
              <a:off x="2232360" y="29199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6" descr=""/>
            <p:cNvPicPr/>
            <p:nvPr/>
          </p:nvPicPr>
          <p:blipFill>
            <a:blip r:embed="rId8"/>
            <a:stretch/>
          </p:blipFill>
          <p:spPr>
            <a:xfrm rot="16240800">
              <a:off x="2393640" y="422280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 Box 27"/>
          <p:cNvSpPr/>
          <p:nvPr/>
        </p:nvSpPr>
        <p:spPr>
          <a:xfrm>
            <a:off x="5105520" y="137160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минут - не говорят.                        Говорят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ло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900000" y="23385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0" y="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116 №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152280" y="1414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20 минут – длительность кинофильм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52280" y="305604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ас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2063160" y="3056040"/>
            <a:ext cx="20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60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и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81000" y="4219560"/>
            <a:ext cx="42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ин + 20 мин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3962520" y="4238640"/>
            <a:ext cx="202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ми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0" y="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116 №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-76320" y="18064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10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124080" y="18064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-76320" y="28954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15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129120" y="2895480"/>
            <a:ext cx="106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-76320" y="401652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40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0" y="51814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ас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124080" y="40384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1676520" y="51814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581280" y="18064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ин+10 мин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7162920" y="18064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581280" y="29494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ин+15 мин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7238880" y="29494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581280" y="40384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ин+40 мин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086600" y="4038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362320" y="5159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ин+60 мин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095880" y="5159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0" y="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116 №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33280" y="1600200"/>
            <a:ext cx="22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2133720" y="1600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819520" y="16002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15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33280" y="27208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2133720" y="2720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819520" y="2720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20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228600" y="38638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286000" y="3886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819520" y="3863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50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28600" y="50068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286000" y="5006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2819520" y="5006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аса 5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1523880" y="685800"/>
            <a:ext cx="60962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Times New Roman"/>
              </a:rPr>
              <a:t>МОЛОДЕЦ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10deac4b3cfb"/>
          <p:cNvPicPr/>
          <p:nvPr/>
        </p:nvPicPr>
        <p:blipFill>
          <a:blip r:embed="rId1"/>
          <a:stretch/>
        </p:blipFill>
        <p:spPr>
          <a:xfrm>
            <a:off x="533520" y="3124080"/>
            <a:ext cx="4343400" cy="320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5764c113633d"/>
          <p:cNvPicPr/>
          <p:nvPr/>
        </p:nvPicPr>
        <p:blipFill>
          <a:blip r:embed="rId2"/>
          <a:stretch/>
        </p:blipFill>
        <p:spPr>
          <a:xfrm>
            <a:off x="5791320" y="2666880"/>
            <a:ext cx="2825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8"/>
          <p:cNvSpPr txBox="1"/>
          <p:nvPr/>
        </p:nvSpPr>
        <p:spPr>
          <a:xfrm>
            <a:off x="609480" y="38088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Час и минут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14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4270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971640" y="381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стный сч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бъект 2"/>
          <p:cNvSpPr/>
          <p:nvPr/>
        </p:nvSpPr>
        <p:spPr>
          <a:xfrm>
            <a:off x="3203640" y="1066680"/>
            <a:ext cx="59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оконнике лежали 8 зелёных помидоров. Через три дня они покраснели. Сколько зелёных помидоров остало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152280" y="1047600"/>
            <a:ext cx="3090960" cy="76820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3456000" y="4152960"/>
            <a:ext cx="122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5051520" y="4457880"/>
            <a:ext cx="122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3827520" y="5886360"/>
            <a:ext cx="122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3827520" y="551196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3827520" y="5484960"/>
            <a:ext cx="122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2160720" y="1112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500040" y="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152280" y="1047600"/>
            <a:ext cx="3090960" cy="7682040"/>
          </a:xfrm>
          <a:prstGeom prst="rect">
            <a:avLst/>
          </a:prstGeom>
          <a:ln w="0">
            <a:noFill/>
          </a:ln>
        </p:spPr>
      </p:pic>
      <p:sp>
        <p:nvSpPr>
          <p:cNvPr id="57" name="Объект 2"/>
          <p:cNvSpPr/>
          <p:nvPr/>
        </p:nvSpPr>
        <p:spPr>
          <a:xfrm>
            <a:off x="3218040" y="1197000"/>
            <a:ext cx="5468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яжелее: 6 пакетов крупы по 2 кг или 2 листа железа по 6 к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Костя\Desktop\математика\0008-008-CHto-tjazhelee.jpg"/>
          <p:cNvPicPr/>
          <p:nvPr/>
        </p:nvPicPr>
        <p:blipFill>
          <a:blip r:embed="rId2"/>
          <a:stretch/>
        </p:blipFill>
        <p:spPr>
          <a:xfrm>
            <a:off x="5580000" y="2924280"/>
            <a:ext cx="3122640" cy="297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Прямоугольник 5"/>
          <p:cNvSpPr/>
          <p:nvPr/>
        </p:nvSpPr>
        <p:spPr>
          <a:xfrm>
            <a:off x="1703520" y="5180040"/>
            <a:ext cx="367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динак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152280" y="1047600"/>
            <a:ext cx="3090960" cy="7682040"/>
          </a:xfrm>
          <a:prstGeom prst="rect">
            <a:avLst/>
          </a:prstGeom>
          <a:ln w="0">
            <a:noFill/>
          </a:ln>
        </p:spPr>
      </p:pic>
      <p:sp>
        <p:nvSpPr>
          <p:cNvPr id="62" name="Объект 2"/>
          <p:cNvSpPr/>
          <p:nvPr/>
        </p:nvSpPr>
        <p:spPr>
          <a:xfrm>
            <a:off x="3218040" y="1197000"/>
            <a:ext cx="5817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ёзе росло 8 яблок, 3 яблока упало. Сколько яблок осталось на берёзе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2987640" y="3500280"/>
            <a:ext cx="6165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 берёзе яблоки не расту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739880" y="107604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ве сестрицы друг за другом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бегают круг за кругом.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ротышка только раз,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, что выше, — кажд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3217320" y="3538440"/>
            <a:ext cx="3102120" cy="2184480"/>
            <a:chOff x="3217320" y="3538440"/>
            <a:chExt cx="3102120" cy="2184480"/>
          </a:xfrm>
        </p:grpSpPr>
        <p:sp>
          <p:nvSpPr>
            <p:cNvPr id="66" name="AutoShape 9"/>
            <p:cNvSpPr/>
            <p:nvPr/>
          </p:nvSpPr>
          <p:spPr>
            <a:xfrm rot="19683000">
              <a:off x="3227760" y="47628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0" descr=""/>
            <p:cNvPicPr/>
            <p:nvPr/>
          </p:nvPicPr>
          <p:blipFill>
            <a:blip r:embed="rId1"/>
            <a:stretch/>
          </p:blipFill>
          <p:spPr>
            <a:xfrm rot="8954400">
              <a:off x="4480920" y="3955320"/>
              <a:ext cx="1804320" cy="62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5"/>
          <p:cNvGrpSpPr/>
          <p:nvPr/>
        </p:nvGrpSpPr>
        <p:grpSpPr>
          <a:xfrm>
            <a:off x="3693240" y="3804480"/>
            <a:ext cx="2405160" cy="1419840"/>
            <a:chOff x="3693240" y="3804480"/>
            <a:chExt cx="2405160" cy="1419840"/>
          </a:xfrm>
        </p:grpSpPr>
        <p:sp>
          <p:nvSpPr>
            <p:cNvPr id="69" name="AutoShape 6"/>
            <p:cNvSpPr/>
            <p:nvPr/>
          </p:nvSpPr>
          <p:spPr>
            <a:xfrm rot="9502800">
              <a:off x="4828320" y="40107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7" descr=""/>
            <p:cNvPicPr/>
            <p:nvPr/>
          </p:nvPicPr>
          <p:blipFill>
            <a:blip r:embed="rId2"/>
            <a:stretch/>
          </p:blipFill>
          <p:spPr>
            <a:xfrm rot="20487600">
              <a:off x="3751560" y="445608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Box 19"/>
          <p:cNvSpPr/>
          <p:nvPr/>
        </p:nvSpPr>
        <p:spPr>
          <a:xfrm>
            <a:off x="6172200" y="335268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ину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2071800" y="4809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Час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ora"/>
          <p:cNvPicPr/>
          <p:nvPr/>
        </p:nvPicPr>
        <p:blipFill>
          <a:blip r:embed="rId1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5181480" y="304920"/>
            <a:ext cx="3505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ная стрелка делает полный оборо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1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5764c113633d"/>
          <p:cNvPicPr/>
          <p:nvPr/>
        </p:nvPicPr>
        <p:blipFill>
          <a:blip r:embed="rId2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3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78" name="AutoShape 4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5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6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81" name="AutoShape 7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8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2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ora"/>
          <p:cNvPicPr/>
          <p:nvPr/>
        </p:nvPicPr>
        <p:blipFill>
          <a:blip r:embed="rId2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1682280" y="2228040"/>
            <a:ext cx="1715400" cy="2341440"/>
            <a:chOff x="1682280" y="2228040"/>
            <a:chExt cx="1715400" cy="2341440"/>
          </a:xfrm>
        </p:grpSpPr>
        <p:sp>
          <p:nvSpPr>
            <p:cNvPr id="87" name="AutoShape 6"/>
            <p:cNvSpPr/>
            <p:nvPr/>
          </p:nvSpPr>
          <p:spPr>
            <a:xfrm rot="7350000">
              <a:off x="2245320" y="262368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7" descr=""/>
            <p:cNvPicPr/>
            <p:nvPr/>
          </p:nvPicPr>
          <p:blipFill>
            <a:blip r:embed="rId3"/>
            <a:stretch/>
          </p:blipFill>
          <p:spPr>
            <a:xfrm rot="18334800">
              <a:off x="1647000" y="3587760"/>
              <a:ext cx="129060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90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11"/>
          <p:cNvSpPr/>
          <p:nvPr/>
        </p:nvSpPr>
        <p:spPr>
          <a:xfrm>
            <a:off x="5181480" y="9144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ас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7079760" y="922320"/>
            <a:ext cx="20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60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и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3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hora"/>
          <p:cNvPicPr/>
          <p:nvPr/>
        </p:nvPicPr>
        <p:blipFill>
          <a:blip r:embed="rId1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8"/>
          <p:cNvGrpSpPr/>
          <p:nvPr/>
        </p:nvGrpSpPr>
        <p:grpSpPr>
          <a:xfrm>
            <a:off x="2113560" y="3651480"/>
            <a:ext cx="2082240" cy="612360"/>
            <a:chOff x="2113560" y="3651480"/>
            <a:chExt cx="2082240" cy="612360"/>
          </a:xfrm>
        </p:grpSpPr>
        <p:sp>
          <p:nvSpPr>
            <p:cNvPr id="98" name="AutoShape 9"/>
            <p:cNvSpPr/>
            <p:nvPr/>
          </p:nvSpPr>
          <p:spPr>
            <a:xfrm rot="21345000">
              <a:off x="2125800" y="38541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0" descr=""/>
            <p:cNvPicPr/>
            <p:nvPr/>
          </p:nvPicPr>
          <p:blipFill>
            <a:blip r:embed="rId2"/>
            <a:stretch/>
          </p:blipFill>
          <p:spPr>
            <a:xfrm rot="10729800">
              <a:off x="3067560" y="366264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1"/>
          <p:cNvGrpSpPr/>
          <p:nvPr/>
        </p:nvGrpSpPr>
        <p:grpSpPr>
          <a:xfrm>
            <a:off x="2836440" y="2570040"/>
            <a:ext cx="544680" cy="2814840"/>
            <a:chOff x="2836440" y="2570040"/>
            <a:chExt cx="544680" cy="2814840"/>
          </a:xfrm>
        </p:grpSpPr>
        <p:sp>
          <p:nvSpPr>
            <p:cNvPr id="101" name="AutoShape 12"/>
            <p:cNvSpPr/>
            <p:nvPr/>
          </p:nvSpPr>
          <p:spPr>
            <a:xfrm rot="16158600">
              <a:off x="2339640" y="4404240"/>
              <a:ext cx="1500480" cy="455400"/>
            </a:xfrm>
            <a:prstGeom prst="leftArrow">
              <a:avLst>
                <a:gd name="adj1" fmla="val 50000"/>
                <a:gd name="adj2" fmla="val 823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3" descr=""/>
            <p:cNvPicPr/>
            <p:nvPr/>
          </p:nvPicPr>
          <p:blipFill>
            <a:blip r:embed="rId3"/>
            <a:stretch/>
          </p:blipFill>
          <p:spPr>
            <a:xfrm rot="5430000">
              <a:off x="2332440" y="3083040"/>
              <a:ext cx="1552680" cy="53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5" descr="5764c113633d"/>
          <p:cNvPicPr/>
          <p:nvPr/>
        </p:nvPicPr>
        <p:blipFill>
          <a:blip r:embed="rId4"/>
          <a:stretch/>
        </p:blipFill>
        <p:spPr>
          <a:xfrm>
            <a:off x="5638680" y="274320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4"/>
          <p:cNvGrpSpPr/>
          <p:nvPr/>
        </p:nvGrpSpPr>
        <p:grpSpPr>
          <a:xfrm>
            <a:off x="2768400" y="2877120"/>
            <a:ext cx="569160" cy="2078640"/>
            <a:chOff x="2768400" y="2877120"/>
            <a:chExt cx="569160" cy="2078640"/>
          </a:xfrm>
        </p:grpSpPr>
        <p:sp>
          <p:nvSpPr>
            <p:cNvPr id="105" name="AutoShape 15"/>
            <p:cNvSpPr/>
            <p:nvPr/>
          </p:nvSpPr>
          <p:spPr>
            <a:xfrm rot="5220600">
              <a:off x="2450520" y="32313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6" descr=""/>
            <p:cNvPicPr/>
            <p:nvPr/>
          </p:nvPicPr>
          <p:blipFill>
            <a:blip r:embed="rId5"/>
            <a:stretch/>
          </p:blipFill>
          <p:spPr>
            <a:xfrm rot="16205400">
              <a:off x="2564280" y="41832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7"/>
          <p:cNvGrpSpPr/>
          <p:nvPr/>
        </p:nvGrpSpPr>
        <p:grpSpPr>
          <a:xfrm>
            <a:off x="2207880" y="3181320"/>
            <a:ext cx="1842480" cy="1629000"/>
            <a:chOff x="2207880" y="3181320"/>
            <a:chExt cx="1842480" cy="1629000"/>
          </a:xfrm>
        </p:grpSpPr>
        <p:sp>
          <p:nvSpPr>
            <p:cNvPr id="108" name="AutoShape 18"/>
            <p:cNvSpPr/>
            <p:nvPr/>
          </p:nvSpPr>
          <p:spPr>
            <a:xfrm rot="19363200">
              <a:off x="2211480" y="415548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19" descr=""/>
            <p:cNvPicPr/>
            <p:nvPr/>
          </p:nvPicPr>
          <p:blipFill>
            <a:blip r:embed="rId6"/>
            <a:stretch/>
          </p:blipFill>
          <p:spPr>
            <a:xfrm rot="8748000">
              <a:off x="2905200" y="346068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20"/>
          <p:cNvGrpSpPr/>
          <p:nvPr/>
        </p:nvGrpSpPr>
        <p:grpSpPr>
          <a:xfrm>
            <a:off x="2165400" y="3159720"/>
            <a:ext cx="1985400" cy="1430280"/>
            <a:chOff x="2165400" y="3159720"/>
            <a:chExt cx="1985400" cy="1430280"/>
          </a:xfrm>
        </p:grpSpPr>
        <p:sp>
          <p:nvSpPr>
            <p:cNvPr id="111" name="AutoShape 21"/>
            <p:cNvSpPr/>
            <p:nvPr/>
          </p:nvSpPr>
          <p:spPr>
            <a:xfrm rot="12843600">
              <a:off x="3076200" y="3953160"/>
              <a:ext cx="1061640" cy="371160"/>
            </a:xfrm>
            <a:prstGeom prst="leftArrow">
              <a:avLst>
                <a:gd name="adj1" fmla="val 50000"/>
                <a:gd name="adj2" fmla="val 715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22" descr=""/>
            <p:cNvPicPr/>
            <p:nvPr/>
          </p:nvPicPr>
          <p:blipFill>
            <a:blip r:embed="rId7"/>
            <a:stretch/>
          </p:blipFill>
          <p:spPr>
            <a:xfrm rot="2227800">
              <a:off x="2178000" y="34560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nstantin</cp:lastModifiedBy>
  <dcterms:modified xsi:type="dcterms:W3CDTF">2019-04-16T14:56:4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