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6C5-8688-4CED-A7B4-3CFAC4213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B225-585B-4429-960B-EA9DA07F4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FE08-8BC6-4FBE-98D6-60E7A047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0C3B-7B25-401F-81B1-04805E052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F42B-4690-4F38-91AA-858BBB76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D4B7-D6B3-4C99-ADEB-185001E3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F7D9-14AE-4288-9E00-6D1C54F3C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81A3-208E-4C29-8E98-8716CB43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D40E-F8CA-4E99-AB01-0864CAF2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D9D8-E43F-474D-99A4-29331872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D0AA-A6DF-4ECB-BC42-3B29D151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E6B6-2294-4C5B-B6BE-2D42C835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BA514-DCD6-4424-8C3E-C7DFFA7A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03584-9484-4F8F-8FAA-2A6835C5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0C6D2-263F-4077-AF44-E4645C0A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DD88-8FB2-43F9-8D6B-07A0865C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FCB1-CBC5-4BB8-A344-3012B49C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8AB-FA2D-499A-8273-82A4D6DC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AAA8-0874-4918-BDE5-A4C2F9C0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F48-0395-4D9B-A331-8ABF409B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CA19-4BEC-44AA-91E4-DA848AB4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5DC6-DC04-403C-AEC1-5B5A6D0E6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575C-A39D-4855-AB4E-F276408F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1A1D-8B85-4A46-912B-030EB4E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4FAF-9B1D-4F86-9641-A47775C696F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2C62-FC6D-4563-9942-4487B6338F09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3816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890800" y="533520"/>
            <a:ext cx="11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257720" y="92880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367000" y="21574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443480" y="25718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19640" y="33526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153200" y="1214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0280" y="3500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71440" y="4343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8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20064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419720" y="5638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848720" y="4114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004760" y="18288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1862280" y="990720"/>
            <a:ext cx="10666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657600" y="1143000"/>
            <a:ext cx="609480" cy="2286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3200400" y="1752480"/>
            <a:ext cx="1371600" cy="6098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 flipV="1">
            <a:off x="1785960" y="2571480"/>
            <a:ext cx="1714320" cy="12380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286080" y="2743200"/>
            <a:ext cx="11430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H="1">
            <a:off x="4171680" y="3357720"/>
            <a:ext cx="685800" cy="3045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1805040" y="1828800"/>
            <a:ext cx="541008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6586560" y="2000160"/>
            <a:ext cx="914400" cy="16765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 flipH="1">
            <a:off x="2023920" y="4214880"/>
            <a:ext cx="4191120" cy="457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019240" y="5029200"/>
            <a:ext cx="42674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>
            <a:off x="5181480" y="5357880"/>
            <a:ext cx="1105200" cy="50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 flipV="1">
            <a:off x="5486400" y="4928760"/>
            <a:ext cx="2514600" cy="1243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Назовите числа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352760" y="512388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/>
          <p:cNvSpPr/>
          <p:nvPr/>
        </p:nvSpPr>
        <p:spPr>
          <a:xfrm>
            <a:off x="571680" y="11365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Петух, стоя на одной ноге весит 5 кг. Сколько он будет весить, стоя на двух но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https://png.pngtree.com/element_origin_min_pic/16/12/01/d06da91933812d46b23771c5d3c61ac3.jpg"/>
          <p:cNvPicPr/>
          <p:nvPr/>
        </p:nvPicPr>
        <p:blipFill>
          <a:blip r:embed="rId1"/>
          <a:srcRect l="19410" t="4150" r="9053" b="10598"/>
          <a:stretch/>
        </p:blipFill>
        <p:spPr>
          <a:xfrm>
            <a:off x="5286240" y="2857680"/>
            <a:ext cx="2286000" cy="27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https://cdn1.vectorstock.com/i/1000x1000/27/95/funny-cartoon-red-cock-vector-9652795.jpg"/>
          <p:cNvPicPr/>
          <p:nvPr/>
        </p:nvPicPr>
        <p:blipFill>
          <a:blip r:embed="rId2"/>
          <a:srcRect l="0" t="0" r="377" b="11037"/>
          <a:stretch/>
        </p:blipFill>
        <p:spPr>
          <a:xfrm>
            <a:off x="928800" y="3040200"/>
            <a:ext cx="2571480" cy="2481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1285920" y="5500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50080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?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573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на смекалк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85880" y="1405080"/>
            <a:ext cx="621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е гуляли куры и собаки. Мальчик посчитал их лапы. Получилось десять. Сколько могло быть кур и сколько собак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000080" y="5648400"/>
            <a:ext cx="819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обаки и 1 кур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обака и 3 ку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0" t="8746" r="0" b="37513"/>
          <a:stretch/>
        </p:blipFill>
        <p:spPr>
          <a:xfrm>
            <a:off x="2924280" y="3367080"/>
            <a:ext cx="1218960" cy="91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305000" y="3456000"/>
            <a:ext cx="1195200" cy="90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rcRect l="0" t="0" r="0" b="4896"/>
          <a:stretch/>
        </p:blipFill>
        <p:spPr>
          <a:xfrm>
            <a:off x="2357280" y="442908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rcRect l="0" t="8746" r="0" b="37513"/>
          <a:stretch/>
        </p:blipFill>
        <p:spPr>
          <a:xfrm>
            <a:off x="6072120" y="3500280"/>
            <a:ext cx="1219320" cy="9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rcRect l="0" t="0" r="0" b="4896"/>
          <a:stretch/>
        </p:blipFill>
        <p:spPr>
          <a:xfrm>
            <a:off x="5143680" y="3786120"/>
            <a:ext cx="738000" cy="90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rcRect l="0" t="0" r="0" b="4896"/>
          <a:stretch/>
        </p:blipFill>
        <p:spPr>
          <a:xfrm>
            <a:off x="6072120" y="450072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215120" y="414324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8"/>
          <a:stretch/>
        </p:blipFill>
        <p:spPr>
          <a:xfrm>
            <a:off x="6819840" y="45720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720" y="3642840"/>
            <a:ext cx="6657840" cy="230508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3 + 4 =9               8 - 3 + 4  = 1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                        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                         2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46800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71680" y="1143000"/>
            <a:ext cx="8135640" cy="4464000"/>
          </a:xfrm>
          <a:prstGeom prst="rect">
            <a:avLst/>
          </a:prstGeom>
          <a:solidFill>
            <a:srgbClr val="99ccff">
              <a:alpha val="57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500120" y="1500120"/>
            <a:ext cx="6335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о в математике обозна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ёдность действий с помощью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е которое написано в ско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(3 + 4 ) = 1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357280" y="3071520"/>
            <a:ext cx="6786720" cy="278604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3 + 4 =9             8 – (3 + 4)  = 1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8-3=5                  1)3+4 =7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5+4=9                 2) 8-7=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4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214280" y="1714680"/>
            <a:ext cx="731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рядок действ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выражения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 скобк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5760" y="345960"/>
            <a:ext cx="5972040" cy="115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выполнения действ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3714480"/>
            <a:ext cx="6913440" cy="175716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скобк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порядку слева напра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8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499760" y="1785960"/>
            <a:ext cx="764388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(5+4)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+6)-7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8)-5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82520"/>
            <a:ext cx="5585040" cy="157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6715080" y="35712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2" name="Овал 7"/>
          <p:cNvSpPr/>
          <p:nvPr/>
        </p:nvSpPr>
        <p:spPr>
          <a:xfrm>
            <a:off x="3929040" y="25718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8"/>
          <p:cNvSpPr/>
          <p:nvPr/>
        </p:nvSpPr>
        <p:spPr>
          <a:xfrm>
            <a:off x="4500720" y="321480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"/>
          <p:cNvSpPr/>
          <p:nvPr/>
        </p:nvSpPr>
        <p:spPr>
          <a:xfrm>
            <a:off x="3714840" y="39290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6:53:59Z</dcterms:created>
  <dc:creator>Светлана</dc:creator>
  <dc:description/>
  <dc:language>en-US</dc:language>
  <cp:lastModifiedBy>Пользователь Windows</cp:lastModifiedBy>
  <dcterms:modified xsi:type="dcterms:W3CDTF">2018-12-11T17:16:49Z</dcterms:modified>
  <cp:revision>78</cp:revision>
  <dc:subject/>
  <dc:title>Самооценка.</dc:title>
</cp:coreProperties>
</file>