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dt" idx="2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5E285F-08F6-4B0D-89F4-C180EB1357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F45E052-9CB1-40A6-BFB5-A9701992DE8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880094-0C51-462F-B4F8-AF00C8D8E60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52A67F-A5F1-4F44-BBCA-45896D80B1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C8AC3-7A59-4E48-B227-95D96C0F89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066F-C253-4B27-A13C-4B73927E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649B03-1AA7-40E8-9D56-62D30A15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63BC98-57D2-4C3E-B7C3-BF125705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0C7BBA-CF9F-4015-B7BD-18268C1F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FEA4B0-D625-4297-93C9-FB1CE912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DA009-8801-4394-B021-B483B824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74BBFC-70EE-40ED-A683-ADBD87B7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399C6F-52EA-455B-B491-2166B8026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62F05-B70C-45E9-AF4F-C741FA21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15B774-456F-419D-8774-483E6546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3D108-B6CC-4C43-9114-127E39A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66B82-568E-485C-8FA5-DA20BFF0A6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108D8-3D24-4FE1-B04F-60344702E6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5F4B6-A50D-46DC-AC0D-4773FDB3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797DF0-AF02-433F-BC49-FC9C7427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C04EF-B367-4D9A-8486-B050400A6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9F4349-794D-4952-B465-88D9F6B4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5EAF0-2A7F-4253-BB78-B55262BE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8E377-2EF2-42C9-B5C9-0E2361C6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7F3CA-8182-4C48-8F83-30E56981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99B0E-66F3-4B12-8817-E80C0439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45508-5202-4825-8C91-4FA694BDC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A3D7C-DAA3-41C6-BD81-4DD5DB37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99582-B0ED-4B0D-8F1E-7EEAC8FD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0CAF5-E652-4687-B08E-A2E3E1D6DD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0A455-8C97-4E8D-8EBC-E01EB5A8A0E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AA88-6394-4E0E-AE1E-72A3D0AA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EE2A-8FE7-4EC0-8C36-5CD252B2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375B-3D04-420C-A402-ABCAA8DC0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B728-5C7F-42EF-B5D8-2CF544E8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CCE11-4780-4294-AC1A-4855DAC7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8962D-B5DA-4699-A386-037405B6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0BD9-83E5-48AD-9CA5-770C05202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E92-B9C8-4CA7-B289-9F2A6243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00A4-A067-45CE-A87E-1FF69B714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2E24-F5BD-418A-801D-A8042895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3F1C-898F-4772-8340-6CA6CB2E1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A82F3-4DFC-4F56-926E-5870601D66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7E748-9697-4570-8FB4-6857779132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1E1216-8DAE-4BBF-8113-1B123CC9B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E61FA2-E612-48FE-9341-37F9EEC21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4C23A-18D0-4EF5-B620-3145BCDC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5F43F-0345-4899-82B0-CD5EF73C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310383-97A0-4366-A854-D9F17CDF8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3D09D-1B24-4467-A2C8-A4790BE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44ECB9-08FB-4A41-AC4A-4AC40100E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B0AED2-97D6-41AE-AE3C-0A4CCB54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57D3D7-3E95-4BC9-B8DC-ED7EA3852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DCD968-CCDA-4D54-B03E-CF1C6E944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15D84F-430D-4F55-A587-B6F1E5C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C89425-0928-478C-846F-C5BA0E0B0D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ED635A-FABF-49D1-81E4-EA814D12DC3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D9BEF-A8A5-426B-8A04-EC39233B6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3B63B9-5577-474E-A537-1B73CE99C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59A081-B13C-4401-9A9C-0744B19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177352-673E-4EEC-805D-0269E19BC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0CBE3C-12EC-49F1-AAA7-C4E467FB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9CA83-1B91-47F1-8E5C-C6EBBDD8B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4238B-4A60-44E9-BD61-ABC5BF88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ED7F44-CB66-436B-9CD0-5B37B33A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A56A2C-03C6-4A40-90B6-38733135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316DED-C535-4E1C-9368-C1B52767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1CCC8D-AC7E-45C5-933D-256C1CFA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3D74A-0721-4BB7-9725-2582F678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89B27-1BF1-47BA-A970-F1B538300F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7FEBB-C1F8-4B50-9354-F8E732BA8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F88A96-042D-4E66-B673-4E136C99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6160DB9-B4E5-4700-9810-809D41C8F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84A7C2-6EDD-4C9C-8A69-4BE22E0A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082B2A-F451-4C8A-8654-B93F21B9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392C64-9389-4204-8F25-DA257647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F5F61-6AEF-4565-94CB-311BC83B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BC9C7C-B4BF-4CC2-BF64-07187850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07F61F-059D-4CE1-A8E3-BA01F09A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3015C-634D-4207-BC85-07EC67A1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86BDD9-DC4D-4AA2-AEA4-D39F85C1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0A1BBF-9E5E-4F84-919B-4220D766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9AC40D-6B30-4354-925F-77A87AEA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C07461-7908-43CC-9927-A68F6E60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7714EB-0C2A-4AA1-B699-FA68062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D5D0A8-6197-4701-85C1-B8E83F5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1C95B6-E090-44CE-81BF-BB4D4E14B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12183D-8F51-4078-8996-8E9BB5F2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B87F8B-8069-4122-B455-B3CF1DD8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4C0F68-3BE7-450D-AEB8-C3093171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23FBF-3694-48B8-948D-35A6CD16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4892F2-D098-4EDB-AE22-857A12AF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939FF3-0CF7-4BF9-9A8A-0773B3F3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E5E1B-1B08-4583-8076-B2E0E81D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2118A-9262-41B9-BE9B-2654A335A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B14ED0-2B85-4561-AD39-E7B6CF41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53042-77BF-40D2-9864-000FFB7F8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D7FDA1-5D47-47D4-8DE4-F3FC8948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CC65A7-E91B-4851-8C9A-95DEF7C3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25A08B-5286-4A85-9F32-9FB3F3AE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5CB9A1-38EB-4577-872D-E7BBC407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FB051-8E7B-416B-B67D-2DEC133E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7DD274-6A90-470A-B900-31F63597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8F9E3-7D25-4F35-A969-D11BD2DA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8D7BC8-04DF-4BF1-A903-0D7DA054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FEC818-F5C8-4A60-B369-A5CD0259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2FC595-82B3-4852-B334-8C8792A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111664-1BFE-42E5-87B6-1DD4301D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434501-1B15-4AB4-88EE-21353FEF6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2D55B2-247C-424B-BCA9-5704D5FC8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354B86-043B-41F3-BB33-E9EF74DFD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FEAD63-0AFE-403F-B780-D0906EEC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341280" y="2938320"/>
            <a:ext cx="7155000" cy="2473560"/>
            <a:chOff x="341280" y="2938320"/>
            <a:chExt cx="7155000" cy="24735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500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345960" y="2943360"/>
              <a:ext cx="71452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" name="Group 6"/>
          <p:cNvGrpSpPr/>
          <p:nvPr/>
        </p:nvGrpSpPr>
        <p:grpSpPr>
          <a:xfrm>
            <a:off x="7564320" y="2938320"/>
            <a:ext cx="1206720" cy="2473560"/>
            <a:chOff x="7564320" y="2938320"/>
            <a:chExt cx="1206720" cy="2473560"/>
          </a:xfrm>
        </p:grpSpPr>
        <p:pic>
          <p:nvPicPr>
            <p:cNvPr id="6" name="Picture 7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672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7572240" y="2944800"/>
              <a:ext cx="11890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" name="Rectangle 9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786800" y="4594320"/>
            <a:ext cx="76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5F8F8EC-CEFB-437A-A45A-6F84A7C53D8B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44600" y="2938320"/>
            <a:ext cx="8277120" cy="2479680"/>
            <a:chOff x="444600" y="2938320"/>
            <a:chExt cx="8277120" cy="2479680"/>
          </a:xfrm>
        </p:grpSpPr>
        <p:pic>
          <p:nvPicPr>
            <p:cNvPr id="56" name="Picture 4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712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452520" y="2946240"/>
              <a:ext cx="82627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B5A4557-FBB2-41EB-988A-BEB02DDF8A2C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54040" y="1500120"/>
            <a:ext cx="2730600" cy="3533760"/>
            <a:chOff x="554040" y="1500120"/>
            <a:chExt cx="2730600" cy="3533760"/>
          </a:xfrm>
        </p:grpSpPr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06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/>
            <p:cNvSpPr/>
            <p:nvPr/>
          </p:nvSpPr>
          <p:spPr>
            <a:xfrm>
              <a:off x="560520" y="1504800"/>
              <a:ext cx="271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7" name="Rectangle 6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CD85E29-B4B7-4F76-8D60-67BC2983970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682560" y="4950000"/>
            <a:ext cx="7783560" cy="1382400"/>
            <a:chOff x="682560" y="4950000"/>
            <a:chExt cx="7783560" cy="1382400"/>
          </a:xfrm>
        </p:grpSpPr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3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5"/>
            <p:cNvSpPr/>
            <p:nvPr/>
          </p:nvSpPr>
          <p:spPr>
            <a:xfrm>
              <a:off x="685800" y="4952880"/>
              <a:ext cx="77709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963AA33-4141-44C0-ACBA-DCA3070ADD91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C3FA059-25A4-4104-9220-D159ED6256D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ADE520-D38E-4D17-B1B3-01F29FA14EC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9360FF-DE14-4213-9309-8EA2C330241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932F29-3B45-4845-A1F3-54E7F7721CA9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BBE2FF-3501-4E99-819C-71746753A8B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3"/>
          <p:cNvGrpSpPr/>
          <p:nvPr/>
        </p:nvGrpSpPr>
        <p:grpSpPr>
          <a:xfrm>
            <a:off x="493560" y="396720"/>
            <a:ext cx="7899480" cy="1814760"/>
            <a:chOff x="493560" y="396720"/>
            <a:chExt cx="7899480" cy="1814760"/>
          </a:xfrm>
        </p:grpSpPr>
        <p:pic>
          <p:nvPicPr>
            <p:cNvPr id="447" name="Picture 4" descr=""/>
            <p:cNvPicPr/>
            <p:nvPr/>
          </p:nvPicPr>
          <p:blipFill>
            <a:blip r:embed="rId4"/>
            <a:stretch/>
          </p:blipFill>
          <p:spPr>
            <a:xfrm>
              <a:off x="493560" y="396720"/>
              <a:ext cx="78994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5"/>
            <p:cNvSpPr/>
            <p:nvPr/>
          </p:nvSpPr>
          <p:spPr>
            <a:xfrm>
              <a:off x="493560" y="396720"/>
              <a:ext cx="7899480" cy="18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9" name="Text Box 6"/>
          <p:cNvSpPr/>
          <p:nvPr/>
        </p:nvSpPr>
        <p:spPr>
          <a:xfrm>
            <a:off x="1143000" y="51814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Всем привет! Будьте внимательным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на уроке! Успехов и удачи вам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83" name="Скругленная прямоугольная выноска 2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, ё, ю, 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457200" y="981000"/>
            <a:ext cx="80010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А  УРОКА: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Повторение двухбуквенной роли е, ё, ю, я»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Text Box 2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"/>
          <p:cNvPicPr/>
          <p:nvPr/>
        </p:nvPicPr>
        <p:blipFill>
          <a:blip r:embed="rId3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"/>
          <p:cNvSpPr/>
          <p:nvPr/>
        </p:nvSpPr>
        <p:spPr>
          <a:xfrm>
            <a:off x="1520640" y="404640"/>
            <a:ext cx="2392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23a28"/>
                </a:solidFill>
                <a:latin typeface="Times New Roman"/>
                <a:ea typeface="Times New Roman"/>
              </a:rPr>
              <a:t>Незнай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Скругленная прямоугольная выноска 1"/>
          <p:cNvSpPr/>
          <p:nvPr/>
        </p:nvSpPr>
        <p:spPr>
          <a:xfrm>
            <a:off x="395280" y="1552680"/>
            <a:ext cx="4608360" cy="38923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ята, у меня есть для вас отличная новость, сегодня на уроке вас ждёт много интересного. Вам нужно будет разгадать загадку про букву, которую мы будем сегодня прописывать, а я вам, буду помога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54" name="Скругленная прямоугольная выноска 2"/>
          <p:cNvSpPr/>
          <p:nvPr/>
        </p:nvSpPr>
        <p:spPr>
          <a:xfrm>
            <a:off x="468360" y="1197000"/>
            <a:ext cx="4608360" cy="410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ё первое задание::откройте тетради, отступите две строки от предыдущей работы и посередине строки запишите число, сегодня семнадцатое апреля, классная работ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Скругленная прямоугольная выноска 1"/>
          <p:cNvSpPr/>
          <p:nvPr/>
        </p:nvSpPr>
        <p:spPr>
          <a:xfrm>
            <a:off x="755640" y="1700280"/>
            <a:ext cx="3960720" cy="266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ята, для того чтобы узнать, какую букву мы сегодня будем прописывать, отгадайте загадку и назовите ту букву в слове, которую я вам скаж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6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58" name="Скругленная прямоугольная выноска 2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небе звёздные фонтан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пустились, как тюльпа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вышине они мерцаю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Новым годом поздравляю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2627280" y="2852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лю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Скругленная прямоугольная выноска 4"/>
          <p:cNvSpPr/>
          <p:nvPr/>
        </p:nvSpPr>
        <p:spPr>
          <a:xfrm>
            <a:off x="1771560" y="3782880"/>
            <a:ext cx="3016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салют, выберите 4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Прямоугольник 6"/>
          <p:cNvSpPr/>
          <p:nvPr/>
        </p:nvSpPr>
        <p:spPr>
          <a:xfrm>
            <a:off x="3206880" y="285588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63" name="Скругленная прямоугольная выноска 6"/>
          <p:cNvSpPr/>
          <p:nvPr/>
        </p:nvSpPr>
        <p:spPr>
          <a:xfrm>
            <a:off x="547560" y="988920"/>
            <a:ext cx="3961080" cy="2664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видимка озорной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ё играет он с травой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истья в воздухе кружи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куда – то всё спеши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Прямоугольник 7"/>
          <p:cNvSpPr/>
          <p:nvPr/>
        </p:nvSpPr>
        <p:spPr>
          <a:xfrm>
            <a:off x="2627280" y="30844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тер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Прямоугольник 8"/>
          <p:cNvSpPr/>
          <p:nvPr/>
        </p:nvSpPr>
        <p:spPr>
          <a:xfrm>
            <a:off x="317304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Скругленная прямоугольная выноска 9"/>
          <p:cNvSpPr/>
          <p:nvPr/>
        </p:nvSpPr>
        <p:spPr>
          <a:xfrm>
            <a:off x="1916280" y="3933720"/>
            <a:ext cx="3016080" cy="1798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ветер, выберите 4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68" name="Скругленная прямоугольная выноска 10"/>
          <p:cNvSpPr/>
          <p:nvPr/>
        </p:nvSpPr>
        <p:spPr>
          <a:xfrm>
            <a:off x="547560" y="988920"/>
            <a:ext cx="3961080" cy="2664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ть тяжёлый он на вид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небо без труда взлети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отправится в полё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ыстрокрылый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Прямоугольник 12"/>
          <p:cNvSpPr/>
          <p:nvPr/>
        </p:nvSpPr>
        <p:spPr>
          <a:xfrm>
            <a:off x="2627280" y="30844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молё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Скругленная прямоугольная выноска 13"/>
          <p:cNvSpPr/>
          <p:nvPr/>
        </p:nvSpPr>
        <p:spPr>
          <a:xfrm>
            <a:off x="1916280" y="3933720"/>
            <a:ext cx="3016080" cy="1798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самолёт, выберите 6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Прямоугольник 14"/>
          <p:cNvSpPr/>
          <p:nvPr/>
        </p:nvSpPr>
        <p:spPr>
          <a:xfrm>
            <a:off x="3566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ё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73" name="Скругленная прямоугольная выноска 9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небе звёздные фонтан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пустились, как тюльпа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вышине они мерцаю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Новым годом поздравляю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Прямоугольник 10"/>
          <p:cNvSpPr/>
          <p:nvPr/>
        </p:nvSpPr>
        <p:spPr>
          <a:xfrm>
            <a:off x="2627280" y="2852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лю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Скругленная прямоугольная выноска 11"/>
          <p:cNvSpPr/>
          <p:nvPr/>
        </p:nvSpPr>
        <p:spPr>
          <a:xfrm>
            <a:off x="1771560" y="3782880"/>
            <a:ext cx="3016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салют, выберите 4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Прямоугольник 12"/>
          <p:cNvSpPr/>
          <p:nvPr/>
        </p:nvSpPr>
        <p:spPr>
          <a:xfrm>
            <a:off x="3206880" y="285588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78" name="Скругленная прямоугольная выноска 2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ьётся, скаче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 не плачет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глашает детвор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весёлую игру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Прямоугольник 3"/>
          <p:cNvSpPr/>
          <p:nvPr/>
        </p:nvSpPr>
        <p:spPr>
          <a:xfrm>
            <a:off x="2338560" y="2924280"/>
            <a:ext cx="18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яч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Прямоугольник 4"/>
          <p:cNvSpPr/>
          <p:nvPr/>
        </p:nvSpPr>
        <p:spPr>
          <a:xfrm>
            <a:off x="2667240" y="291780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Скругленная прямоугольная выноска 5"/>
          <p:cNvSpPr/>
          <p:nvPr/>
        </p:nvSpPr>
        <p:spPr>
          <a:xfrm>
            <a:off x="1771560" y="3782880"/>
            <a:ext cx="3016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мяч, выберите 2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Костя</cp:lastModifiedBy>
  <dcterms:modified xsi:type="dcterms:W3CDTF">2018-04-16T21:05:55Z</dcterms:modified>
  <cp:revision>62</cp:revision>
  <dc:subject/>
  <dc:title>                 Астана</dc:title>
</cp:coreProperties>
</file>