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6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jpeg" ContentType="image/jpeg"/>
  <Override PartName="/ppt/media/image5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dt" idx="2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08871D0-9B60-4E83-8898-966AD7CCA19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B2C2525-514D-4B3D-AEF5-E87912A3F4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0AE832-3C28-46FE-B556-B0BA5C9176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2143367-C871-4768-A73C-D4D9D5FBB96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AA0E7-EBA4-43A3-8EA6-83C44C3DC1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B9803-ED12-425F-AF2B-D4ABA3FBE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7D073F-7E34-4267-B04C-7521E4161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78BE35-6E80-4E5C-BF3E-0B7DDB9D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ED4A0F3-7DB8-4F51-A42C-3F860DD4D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864BB8-57BF-4321-91BE-2935EC7C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CB54F2-30CC-4AD4-8D1F-35B5D570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32BB8F-8552-44F0-A266-0B746D1DB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AC4618-7811-467A-882B-0348E299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1FF638-F0DA-410C-893F-A77FA8207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6A394A-A38B-4A6E-8937-DE0A27C06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B4235-7632-43B0-8DE2-DE7F68FCB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5FF0C-30D6-4E5B-A48E-5E7A92B11D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3679E9-37AD-4344-BB04-4CBB263CB1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75C94D-CB9D-4311-B6A8-F599EC83C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254491-4FA5-4084-99B0-4C1160CE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72495-441F-4C21-A24D-D4EA7E5D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D6B73-6F80-49CF-A33A-F148F7248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AF23-45E6-4A39-8A14-2A30A6408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031F02-CC23-4FA4-9ADA-E896C042E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B2F76-FA57-47BD-A833-9589F912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A6542-F54D-4EC3-9476-7581A85A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B9DE5-2AD4-4764-A88E-0BC7188E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636EB-7A21-409B-9054-466B50F7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3CCB3-848C-4EAE-9978-EE7E6D63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DB7D3A-21F9-4D6C-9F35-EABEA2CD0F7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9977-8B31-4AB9-B1F8-17405B45B3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7BBC-4C07-4147-B075-9DDF66BD3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F0585-8C76-419D-A9C5-A8EE1DA35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3794-01CD-46FC-9128-E5A700D2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E00F-9DAA-46A6-AAE0-631EF3381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A7E20-D0F0-4915-9C5B-BD2559A9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DF852-73AC-4409-8CC3-7DCB6C55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E52C-BEDD-44AA-8D49-59694D14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29AA7-FE88-4433-B72B-65D5D971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972E-EBC4-45D2-89A9-2E4E4988E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3DA9-1961-41EC-8BE4-4355D413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D59D-0171-4B3B-867E-EE407250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C57A2-7150-44D5-9741-53AA9670B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D520D-F2FC-48DB-B22A-81FE885848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B090C-58E8-490F-B1FC-2D630EB0F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B68ABB-9E52-4CFB-8087-1BDD93CA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06BE6-66F9-4771-BB85-058B0DDD4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81B1A-6F98-4AF1-B23E-E24B9091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7DF73-7E19-4172-8F96-36D2B24D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A70678-7A00-47EC-85B0-F65A506D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44373-D01E-4CBB-B36C-020A828B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847E80-A7EF-494F-9F7E-5E1D1B96F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BFEBA-7577-4637-9124-D695F310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8DEAE-B1AA-4BD3-A152-272EA962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5EF80-E380-49EC-BC41-46DFB9FC1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8159C6-342A-4553-85BC-20B4206F61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1E8A48-9C0B-4351-86CD-786C924E9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6FE19-4C54-4D45-96D9-7A4C6259C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490D84-F037-43B4-905B-FB04F0AE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0865B5-97AF-43F4-BC33-807A0F804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975B99-AB25-40F8-BF0C-24239C7F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ED04F-8587-4E3B-A076-A7349679A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C1CE4C-9C8E-4CA2-BED8-655E182DE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EF222-E644-4EA3-86F1-91FB69249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A7F637-7F3A-4DBE-9062-EA66A3FD8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B22516-BE9B-4653-8CC3-BB1E3AB6B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6EFF3F-510F-493C-B857-672C67A6B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F43D4E-039E-499F-A0A0-3EA573AE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5477A-4B5C-4838-A7E8-7641AD98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7C7046-6F01-41BB-83EA-FF276243E1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EEB922-6E6E-4AA1-AB6F-E652B190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C11B1C-F053-41EA-905A-8548F0C1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23A833-4278-49ED-A5C0-19ACC54F5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469EEA-1221-40A6-B970-64BB4B57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DA4047-5F82-4060-8A47-26DF8F3A3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EE1FAD-FC78-4424-9552-3CA1D56E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241F0E-2798-4278-922A-FFC359CD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EC25B8D-218D-4450-8F75-94A58FE07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3655B8-456D-41EE-901A-DD757E44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DDAE5-79A3-4B29-9E55-DE722BA8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1AFE6E-D86B-4E61-A267-ECA4C3BD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12D5C5-05B1-47FA-A930-AECDD842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A16967-6C04-4529-AB6D-FB8D1A826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91BDC-3E4B-4DC4-BF36-878DC03C9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367A3-CF13-4529-A37B-72580D27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BADB61-F48E-46D9-91A4-4B18FC62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3C3AA4-3702-4EBC-9E10-71EAA9F0F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2573FE-16BB-476C-AFC4-5914B3FDB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83428D-555D-4A63-8B67-4D3BA7AE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BB27365-8FFD-4399-9F3F-883F6AEB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4BBC5-D3D3-40AD-BD3A-E87558BAB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F96DB9-1B86-4C73-AFCF-990D46DF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264A7A-C886-4E62-B137-0759737E2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57F3F4-33D4-4D4A-B88D-2DFCF393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B2AF9-6464-4D1E-A300-F7D20D3D2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FF8DD0-5C11-443E-829A-8DFA761BC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A64A82-237C-44F4-AA62-3BE6EF8F0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B0E4BF7-5617-43CA-9885-8560DA80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B9B9C5-DE32-4470-A69A-06E9C972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F6E6DE-6AC2-4849-86EA-E8C4CB85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444ECD-CCED-4684-BE3F-B2328AFB8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3DB4F-1FE3-4B18-A427-854DF94A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51F30C-5A78-48A9-9F4E-A64AB6EE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85F6D1-B676-4CAC-BFD4-2956FAA3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A4A49-9303-405E-A24A-11A1AEF5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36C756-94F2-4EE4-8211-FCBF6F01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2679F2-ACA3-45EC-BC62-F8FA6BB2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763CB8F-00DE-44DD-A65B-641CA323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B09F351-36B5-4EE2-A83A-ADAB8194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04B0165-80C1-4B48-A4CB-F3A93E7B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28DD0D-8307-44A8-8723-D99EDD2A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0AD464-CC13-4C7E-9BA5-149FF1D2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341280" y="2938320"/>
            <a:ext cx="7155000" cy="2473560"/>
            <a:chOff x="341280" y="2938320"/>
            <a:chExt cx="7155000" cy="24735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500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345960" y="2943360"/>
              <a:ext cx="71452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" name="Group 6"/>
          <p:cNvGrpSpPr/>
          <p:nvPr/>
        </p:nvGrpSpPr>
        <p:grpSpPr>
          <a:xfrm>
            <a:off x="7564320" y="2938320"/>
            <a:ext cx="1206720" cy="2473560"/>
            <a:chOff x="7564320" y="2938320"/>
            <a:chExt cx="1206720" cy="2473560"/>
          </a:xfrm>
        </p:grpSpPr>
        <p:pic>
          <p:nvPicPr>
            <p:cNvPr id="6" name="Picture 7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672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7572240" y="2944800"/>
              <a:ext cx="11890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" name="Rectangle 9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786800" y="4594320"/>
            <a:ext cx="76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CD60E25-2AB3-4AA4-BAB6-19306B864B46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44600" y="2938320"/>
            <a:ext cx="8277120" cy="2479680"/>
            <a:chOff x="444600" y="2938320"/>
            <a:chExt cx="8277120" cy="2479680"/>
          </a:xfrm>
        </p:grpSpPr>
        <p:pic>
          <p:nvPicPr>
            <p:cNvPr id="56" name="Picture 4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712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452520" y="2946240"/>
              <a:ext cx="82627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9386FB-52AD-42FE-B710-25F79BB0AA32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54040" y="1500120"/>
            <a:ext cx="2730600" cy="3533760"/>
            <a:chOff x="554040" y="1500120"/>
            <a:chExt cx="2730600" cy="3533760"/>
          </a:xfrm>
        </p:grpSpPr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06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/>
            <p:cNvSpPr/>
            <p:nvPr/>
          </p:nvSpPr>
          <p:spPr>
            <a:xfrm>
              <a:off x="560520" y="1504800"/>
              <a:ext cx="271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7" name="Rectangle 6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45679F8-0D39-4D30-AB06-2D84B59A32CA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682560" y="4950000"/>
            <a:ext cx="7783560" cy="1382400"/>
            <a:chOff x="682560" y="4950000"/>
            <a:chExt cx="7783560" cy="1382400"/>
          </a:xfrm>
        </p:grpSpPr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3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5"/>
            <p:cNvSpPr/>
            <p:nvPr/>
          </p:nvSpPr>
          <p:spPr>
            <a:xfrm>
              <a:off x="685800" y="4952880"/>
              <a:ext cx="77709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00BD317-A187-424B-9E8D-10111D4E51F7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4A4E70C-7905-4C5C-B365-89C8779C898B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57109E-3D8D-4FA0-93CE-6407E6E12DEB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0B3AFB-34E6-4283-8182-D13A83F4CD7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B0D66C-60B9-4B8A-8DD1-E54A9C86FB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CEE274-61A7-4485-AFD7-FBBAF10C748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3"/>
          <p:cNvGrpSpPr/>
          <p:nvPr/>
        </p:nvGrpSpPr>
        <p:grpSpPr>
          <a:xfrm>
            <a:off x="493560" y="396720"/>
            <a:ext cx="7899480" cy="1814760"/>
            <a:chOff x="493560" y="396720"/>
            <a:chExt cx="7899480" cy="1814760"/>
          </a:xfrm>
        </p:grpSpPr>
        <p:pic>
          <p:nvPicPr>
            <p:cNvPr id="447" name="Picture 4" descr=""/>
            <p:cNvPicPr/>
            <p:nvPr/>
          </p:nvPicPr>
          <p:blipFill>
            <a:blip r:embed="rId4"/>
            <a:stretch/>
          </p:blipFill>
          <p:spPr>
            <a:xfrm>
              <a:off x="493560" y="396720"/>
              <a:ext cx="78994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5"/>
            <p:cNvSpPr/>
            <p:nvPr/>
          </p:nvSpPr>
          <p:spPr>
            <a:xfrm>
              <a:off x="493560" y="396720"/>
              <a:ext cx="7899480" cy="18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9" name="Text Box 6"/>
          <p:cNvSpPr/>
          <p:nvPr/>
        </p:nvSpPr>
        <p:spPr>
          <a:xfrm>
            <a:off x="1143000" y="51814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Всем привет! Будьте внимательным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на уроке! Успехов и удачи вам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83" name="Скругленная прямоугольная выноска 2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, ё, ю, я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1"/>
          <p:cNvSpPr/>
          <p:nvPr/>
        </p:nvSpPr>
        <p:spPr>
          <a:xfrm>
            <a:off x="457200" y="981000"/>
            <a:ext cx="8001000" cy="39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3200"/>
            </a:b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МА  УРОКА:</a:t>
            </a:r>
            <a:br>
              <a:rPr sz="4000"/>
            </a:b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«Повторение двухбуквенной роли е, ё, ю, я»</a:t>
            </a:r>
            <a:br>
              <a:rPr sz="36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5" name="Text Box 2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3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8" descr=""/>
          <p:cNvPicPr/>
          <p:nvPr/>
        </p:nvPicPr>
        <p:blipFill>
          <a:blip r:embed="rId3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"/>
          <p:cNvSpPr/>
          <p:nvPr/>
        </p:nvSpPr>
        <p:spPr>
          <a:xfrm>
            <a:off x="1520640" y="404640"/>
            <a:ext cx="23922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a23a28"/>
                </a:solidFill>
                <a:latin typeface="Times New Roman"/>
                <a:ea typeface="Times New Roman"/>
              </a:rPr>
              <a:t>Незнай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Скругленная прямоугольная выноска 1"/>
          <p:cNvSpPr/>
          <p:nvPr/>
        </p:nvSpPr>
        <p:spPr>
          <a:xfrm>
            <a:off x="395280" y="1552680"/>
            <a:ext cx="4608360" cy="38923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ята, у меня есть для вас отличная новость, сегодня на уроке вас ждёт много интересного. Вам нужно будет разгадать загадку про букву, которую мы будем сегодня прописывать, а я вам, буду помогать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54" name="Скругленная прямоугольная выноска 2"/>
          <p:cNvSpPr/>
          <p:nvPr/>
        </p:nvSpPr>
        <p:spPr>
          <a:xfrm>
            <a:off x="468360" y="1197000"/>
            <a:ext cx="4608360" cy="410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оё первое задание::откройте тетради, отступите две строки от предыдущей работы и посередине строки запишите число, сегодня семнадцатое апреля, классная работа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Скругленная прямоугольная выноска 1"/>
          <p:cNvSpPr/>
          <p:nvPr/>
        </p:nvSpPr>
        <p:spPr>
          <a:xfrm>
            <a:off x="755640" y="1700280"/>
            <a:ext cx="3960720" cy="26654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ебята, для того чтобы узнать, какую букву мы сегодня будем прописывать, отгадайте загадку и назовите ту букву в слове, которую я вам скажу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6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58" name="Скругленная прямоугольная выноска 2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небе звёздные фонтан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пустились, как тюльпа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вышине они мерцаю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Новым годом поздравляю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Прямоугольник 3"/>
          <p:cNvSpPr/>
          <p:nvPr/>
        </p:nvSpPr>
        <p:spPr>
          <a:xfrm>
            <a:off x="2627280" y="2852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лю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Скругленная прямоугольная выноска 4"/>
          <p:cNvSpPr/>
          <p:nvPr/>
        </p:nvSpPr>
        <p:spPr>
          <a:xfrm>
            <a:off x="1771560" y="3782880"/>
            <a:ext cx="3016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салют, выберите 4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Прямоугольник 6"/>
          <p:cNvSpPr/>
          <p:nvPr/>
        </p:nvSpPr>
        <p:spPr>
          <a:xfrm>
            <a:off x="3206880" y="285588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63" name="Скругленная прямоугольная выноска 6"/>
          <p:cNvSpPr/>
          <p:nvPr/>
        </p:nvSpPr>
        <p:spPr>
          <a:xfrm>
            <a:off x="547560" y="988920"/>
            <a:ext cx="3961080" cy="2664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евидимка озорной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сё играет он с травой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Листья в воздухе кружи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куда – то всё спеши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Прямоугольник 7"/>
          <p:cNvSpPr/>
          <p:nvPr/>
        </p:nvSpPr>
        <p:spPr>
          <a:xfrm>
            <a:off x="2627280" y="30844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Ветер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Прямоугольник 8"/>
          <p:cNvSpPr/>
          <p:nvPr/>
        </p:nvSpPr>
        <p:spPr>
          <a:xfrm>
            <a:off x="317304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Скругленная прямоугольная выноска 9"/>
          <p:cNvSpPr/>
          <p:nvPr/>
        </p:nvSpPr>
        <p:spPr>
          <a:xfrm>
            <a:off x="1916280" y="3933720"/>
            <a:ext cx="3016080" cy="1798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ветер, выберите 4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68" name="Скругленная прямоугольная выноска 10"/>
          <p:cNvSpPr/>
          <p:nvPr/>
        </p:nvSpPr>
        <p:spPr>
          <a:xfrm>
            <a:off x="547560" y="988920"/>
            <a:ext cx="3961080" cy="266400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Хоть тяжёлый он на вид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небо без труда взлети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 отправится в полёт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ыстрокрылый…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Прямоугольник 12"/>
          <p:cNvSpPr/>
          <p:nvPr/>
        </p:nvSpPr>
        <p:spPr>
          <a:xfrm>
            <a:off x="2627280" y="308448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молё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Скругленная прямоугольная выноска 13"/>
          <p:cNvSpPr/>
          <p:nvPr/>
        </p:nvSpPr>
        <p:spPr>
          <a:xfrm>
            <a:off x="1916280" y="3933720"/>
            <a:ext cx="3016080" cy="179892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самолёт, выберите 6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1" name="Прямоугольник 14"/>
          <p:cNvSpPr/>
          <p:nvPr/>
        </p:nvSpPr>
        <p:spPr>
          <a:xfrm>
            <a:off x="3566160" y="30686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ё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73" name="Скругленная прямоугольная выноска 9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небе звёздные фонтаны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Распустились, как тюльпан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вышине они мерцаю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Новым годом поздравляют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Прямоугольник 10"/>
          <p:cNvSpPr/>
          <p:nvPr/>
        </p:nvSpPr>
        <p:spPr>
          <a:xfrm>
            <a:off x="2627280" y="2852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Салют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Скругленная прямоугольная выноска 11"/>
          <p:cNvSpPr/>
          <p:nvPr/>
        </p:nvSpPr>
        <p:spPr>
          <a:xfrm>
            <a:off x="1771560" y="3782880"/>
            <a:ext cx="3016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салют, выберите 4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Прямоугольник 12"/>
          <p:cNvSpPr/>
          <p:nvPr/>
        </p:nvSpPr>
        <p:spPr>
          <a:xfrm>
            <a:off x="3206880" y="2855880"/>
            <a:ext cx="4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ю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14" descr=""/>
          <p:cNvPicPr/>
          <p:nvPr/>
        </p:nvPicPr>
        <p:blipFill>
          <a:blip r:embed="rId1"/>
          <a:stretch/>
        </p:blipFill>
        <p:spPr>
          <a:xfrm>
            <a:off x="4788000" y="793800"/>
            <a:ext cx="4427280" cy="5875200"/>
          </a:xfrm>
          <a:prstGeom prst="rect">
            <a:avLst/>
          </a:prstGeom>
          <a:ln w="0">
            <a:noFill/>
          </a:ln>
        </p:spPr>
      </p:pic>
      <p:sp>
        <p:nvSpPr>
          <p:cNvPr id="478" name="Скругленная прямоугольная выноска 2"/>
          <p:cNvSpPr/>
          <p:nvPr/>
        </p:nvSpPr>
        <p:spPr>
          <a:xfrm>
            <a:off x="395280" y="836640"/>
            <a:ext cx="3960720" cy="266364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ьётся, скачет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о не плачет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иглашает детвор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весёлую игру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Прямоугольник 3"/>
          <p:cNvSpPr/>
          <p:nvPr/>
        </p:nvSpPr>
        <p:spPr>
          <a:xfrm>
            <a:off x="2338560" y="2924280"/>
            <a:ext cx="187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Мяч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Прямоугольник 4"/>
          <p:cNvSpPr/>
          <p:nvPr/>
        </p:nvSpPr>
        <p:spPr>
          <a:xfrm>
            <a:off x="2667240" y="2917800"/>
            <a:ext cx="4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Скругленная прямоугольная выноска 5"/>
          <p:cNvSpPr/>
          <p:nvPr/>
        </p:nvSpPr>
        <p:spPr>
          <a:xfrm>
            <a:off x="1771560" y="3782880"/>
            <a:ext cx="3016440" cy="18003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noFill/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 слове мяч, выберите 2 букву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Костя</cp:lastModifiedBy>
  <dcterms:modified xsi:type="dcterms:W3CDTF">2018-04-16T21:05:55Z</dcterms:modified>
  <cp:revision>62</cp:revision>
  <dc:subject/>
  <dc:title>                 Астана</dc:title>
</cp:coreProperties>
</file>