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5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6.png" ContentType="image/png"/>
  <Override PartName="/ppt/media/image20.png" ContentType="image/png"/>
  <Override PartName="/ppt/media/image7.jpeg" ContentType="image/jpeg"/>
  <Override PartName="/ppt/media/image18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8" name="Text Box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dt" idx="2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D8E9A57-6600-455F-B5D3-9EBAD6FAC8E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7B3096-B489-4B12-ACC2-B7C1F6FEBE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2BC6DC-C4B8-4C3B-B172-FD691E5D36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9594ABE-DFCF-4FF9-97F2-B36CC656F2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BE5689-703B-4CAC-9E97-FEB991348C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55D24-CB09-4735-8BF5-09EF8012EC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541B5-AABA-4318-BD4C-0618171F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EC87ED-C0D0-451E-B160-059C9969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C69161-2C97-4772-97E5-1563D682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DD1BE1-C5D7-4DE8-9CAD-1E86FB19C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5CF800-E1C8-4926-B66D-0BA4357A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FE920F-308F-4657-9085-107A6F6E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68CC5F-C3AF-4004-8CEB-5E126BF73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D4611F-9FC1-4A72-B8C4-15EE3205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BFA1BB-9A87-4932-91EF-534EFDF4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395A5ED-CD32-4DB1-825C-C8F7EE19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5B724-B9B7-4548-B745-99F7AB72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766AD-6F84-4694-853E-F0AEFC6821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5C559-2FC5-48B3-ABDB-2D998D6405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440FDD-F8DE-417F-B484-229B54DA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6528B1-3323-4C96-86CE-C5C9557F7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57E6A7-470A-458E-BDF2-D0547E14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E714F-070D-42A2-8659-1B2E0CE83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547CC3-76F3-4ED9-A35B-D8945F34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0353F3-6F12-479A-B7DF-B7BF01B2F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8AC6E-5B13-4C7C-A7DB-567A8D65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42386-3125-43C4-BF7C-D67CBC9DA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93B1A-5DF7-4221-AEF2-A18B599A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25CD18-44B5-4D8B-A47E-AAC48F3E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DC7EC-F679-45CF-BAB1-278D50E3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0A33FC-F4D0-4EC7-9C19-9A7D319D3A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64418-B8B9-4752-8DEC-85F6C3CEBE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BE2B-0096-494F-BABC-EC9040CA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2705-26ED-4FFC-97A8-D75F96BD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EF2B-5D56-4F02-86C6-CD7A99D9D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7ADD-886E-4568-A37B-4543AE60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8A639-CFD8-41BB-80BB-14B537D29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66863-DF2C-4C4D-B456-CF8DC32D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EC80-2319-4E03-BAC2-B99312012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9F22-5E73-4CE7-B568-2AE18779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26878-5B11-4C46-827A-BB2B47CF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A7FB-95B0-46C6-BD8F-EE865B856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3B83-7BEA-4EF1-BFB3-A7712F387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09BB-0E6C-43C1-BA7D-E96AAF21E7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D82375-90BC-4867-A492-D1BD61A045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9B20C8-E9D7-4DF4-935D-34001702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1050BF-4B5A-4183-8F25-A3E97696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F6D63-CA0F-4CBE-9DB0-4EC8E683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1AF9B7-8F59-4A5A-9562-48CF28F78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ADD96E-1EF9-46B5-8ECE-AA3122219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FFDA8A-74F3-4104-B6D6-A47AE3542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104253-436F-4CA2-B6B7-C2F93572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75FBCA-7734-410F-B35E-0FDCE58A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39E34B-0ACC-4E8D-9362-93A0D40D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8430D-1CA3-481F-B044-F0A84E76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2A042A-6D4E-4D87-B780-4906A838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36332F-9407-4B91-9CCA-D404F44D9B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1634D9-6883-4A3F-8346-B4DC5BAE1E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D8520-3BC2-4BDB-BCEE-E43AAFA18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157EEA-ABC8-4804-AD67-BC0F3236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511EB2-D6AB-4FD0-9D94-3F6A80871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679FA3-E434-47E7-BFFF-7B3DB786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8F0588-8E54-4E03-A2D7-A189D687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03BC5F-1FA8-4036-B2CD-CDAC124FD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042A10-1FA3-457E-9BAA-8F478D3B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45F60F-2F14-4587-A1E7-DC6472D8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C80D7F-498D-4B9C-813D-FB2E1C46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E20BFD-BCF6-4FFE-81A6-BF8C294F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4F9E70-5AE9-487E-85A2-70DEC006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F0023-84A5-4937-98A7-321A6B905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F722F9-28F9-449C-8FC1-2BCF441598B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16F5D0-4F51-4FED-B7B0-4BD79ADBA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2D7C27-D4F6-477C-8342-4688EBB2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CCEDDF2-86D9-4333-9CCA-C8440970B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1FDA98-5BDC-4B69-BEBB-F6C719D8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7DFF85-9CD2-4FB6-87E4-336837479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5FEE68-F31A-47CF-92F5-7443AFA0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DF3C3C-A0E0-41DB-9696-6EA3DE15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BB60793-9C42-4754-B3B7-48D0DFD1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BBAE87F-4FF7-4084-BA29-8A142199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14F97-3083-435E-8CF1-702EE96A9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233302-AAEF-4A65-9E4D-C88D92B8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858D5B-1822-49F1-9802-FF744A42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4193B7-437A-4F8D-8535-B0572F747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FA9003-17D2-4071-9CD6-2A8A1CC1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1E3403-621F-42A0-8841-9D04053A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175704-4456-4D4C-96AC-26431605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6751774-BDBF-44AE-8110-17704C86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63EDE6-7651-4632-B871-61EFF8CE6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82C6EA-030A-4631-BB12-BD6DEB3B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CAE2E9-6C12-401D-A395-C5E8D335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B80EF-15A6-4267-92EA-FC4C52A0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5CC950-0B14-4A1D-831F-3C8170CA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CE530D-0FC7-4490-B297-789937C3E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FE9BD6-B0A3-41BD-B03F-08D5EC8B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0CBF69-A287-4047-8D00-5D3817D93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E26B2D-2275-400C-9366-74BC62DE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461D14-BF49-46F5-BF4D-2924756B7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B4FEE1-CE77-46D4-AEBA-30A5C47A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8E0355-D9C9-4E05-83DE-A33E9813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FAD623-C6AD-4FDC-8AF9-9C6DB6FC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096C23-D9EF-454A-AF81-CCDEE61DC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85CD2-4F33-4D05-B82A-A3426C8FE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0C66AE-939A-4852-9DB9-CCFC91E7C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8FCCDF-C622-4703-B332-F0CB633B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5A68D7-0C54-4682-AA26-3D4F37EB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94E972-1992-46B9-B3EC-1028E049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C11BA7-D73E-43B5-8295-0FCB3224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A2E556-2CD5-42B8-A983-BF2EE4B51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084D37-E66C-467F-8669-836305B7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0D4E16-8832-45B9-985C-00912D3F8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8B99CB-E15E-4AB1-84D6-791A4063E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9F0BA49-ABBF-42CE-A53C-D4759335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341280" y="2938320"/>
            <a:ext cx="7155000" cy="2473560"/>
            <a:chOff x="341280" y="2938320"/>
            <a:chExt cx="7155000" cy="2473560"/>
          </a:xfrm>
        </p:grpSpPr>
        <p:pic>
          <p:nvPicPr>
            <p:cNvPr id="3" name="Picture 4" descr=""/>
            <p:cNvPicPr/>
            <p:nvPr/>
          </p:nvPicPr>
          <p:blipFill>
            <a:blip r:embed="rId3"/>
            <a:stretch/>
          </p:blipFill>
          <p:spPr>
            <a:xfrm>
              <a:off x="341280" y="2938320"/>
              <a:ext cx="7155000" cy="24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>
              <a:off x="345960" y="2943360"/>
              <a:ext cx="7145280" cy="246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grpSp>
        <p:nvGrpSpPr>
          <p:cNvPr id="5" name="Group 6"/>
          <p:cNvGrpSpPr/>
          <p:nvPr/>
        </p:nvGrpSpPr>
        <p:grpSpPr>
          <a:xfrm>
            <a:off x="7564320" y="2938320"/>
            <a:ext cx="1206720" cy="2473560"/>
            <a:chOff x="7564320" y="2938320"/>
            <a:chExt cx="1206720" cy="2473560"/>
          </a:xfrm>
        </p:grpSpPr>
        <p:pic>
          <p:nvPicPr>
            <p:cNvPr id="6" name="Picture 7" descr=""/>
            <p:cNvPicPr/>
            <p:nvPr/>
          </p:nvPicPr>
          <p:blipFill>
            <a:blip r:embed="rId4"/>
            <a:stretch/>
          </p:blipFill>
          <p:spPr>
            <a:xfrm>
              <a:off x="7564320" y="2938320"/>
              <a:ext cx="1206720" cy="24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Text Box 8"/>
            <p:cNvSpPr/>
            <p:nvPr/>
          </p:nvSpPr>
          <p:spPr>
            <a:xfrm>
              <a:off x="7572240" y="2944800"/>
              <a:ext cx="1189080" cy="24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" name="Rectangle 9"/>
          <p:cNvSpPr/>
          <p:nvPr/>
        </p:nvSpPr>
        <p:spPr>
          <a:xfrm>
            <a:off x="7711920" y="3137040"/>
            <a:ext cx="911520" cy="2074680"/>
          </a:xfrm>
          <a:prstGeom prst="rect">
            <a:avLst/>
          </a:prstGeom>
          <a:solidFill>
            <a:srgbClr val="b5ae53">
              <a:alpha val="70000"/>
            </a:srgbClr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Rectangle 10"/>
          <p:cNvSpPr/>
          <p:nvPr/>
        </p:nvSpPr>
        <p:spPr>
          <a:xfrm>
            <a:off x="446040" y="3056040"/>
            <a:ext cx="694692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Rectangle 11"/>
          <p:cNvSpPr/>
          <p:nvPr/>
        </p:nvSpPr>
        <p:spPr>
          <a:xfrm>
            <a:off x="541440" y="4559400"/>
            <a:ext cx="675612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539640" y="3139920"/>
            <a:ext cx="6759720" cy="20764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Text Box 1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7786800" y="4594320"/>
            <a:ext cx="7603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800" spc="-1" strike="noStrike">
                <a:solidFill>
                  <a:srgbClr val="47534c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197C83-EC1B-4F1D-82B1-D4F7D3329E24}" type="slidenum">
              <a:rPr b="0" lang="ru-RU" sz="2800" spc="-1" strike="noStrike">
                <a:solidFill>
                  <a:srgbClr val="47534c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AutoShape 2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55" name="Group 3"/>
          <p:cNvGrpSpPr/>
          <p:nvPr/>
        </p:nvGrpSpPr>
        <p:grpSpPr>
          <a:xfrm>
            <a:off x="444600" y="2938320"/>
            <a:ext cx="8277120" cy="2479680"/>
            <a:chOff x="444600" y="2938320"/>
            <a:chExt cx="8277120" cy="2479680"/>
          </a:xfrm>
        </p:grpSpPr>
        <p:pic>
          <p:nvPicPr>
            <p:cNvPr id="56" name="Picture 4" descr=""/>
            <p:cNvPicPr/>
            <p:nvPr/>
          </p:nvPicPr>
          <p:blipFill>
            <a:blip r:embed="rId3"/>
            <a:stretch/>
          </p:blipFill>
          <p:spPr>
            <a:xfrm>
              <a:off x="444600" y="2938320"/>
              <a:ext cx="8277120" cy="24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5"/>
            <p:cNvSpPr/>
            <p:nvPr/>
          </p:nvSpPr>
          <p:spPr>
            <a:xfrm>
              <a:off x="452520" y="2946240"/>
              <a:ext cx="8262720" cy="24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8" name="Rectangle 6"/>
          <p:cNvSpPr/>
          <p:nvPr/>
        </p:nvSpPr>
        <p:spPr>
          <a:xfrm>
            <a:off x="568440" y="3048120"/>
            <a:ext cx="8032680" cy="22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676440" y="4541760"/>
            <a:ext cx="7816680" cy="66348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676440" y="3124080"/>
            <a:ext cx="7816680" cy="2078280"/>
          </a:xfrm>
          <a:prstGeom prst="rect">
            <a:avLst/>
          </a:prstGeom>
          <a:noFill/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6FE3940-773C-4B88-BD2C-7838F109640E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554040" y="1500120"/>
            <a:ext cx="2730600" cy="3533760"/>
            <a:chOff x="554040" y="1500120"/>
            <a:chExt cx="2730600" cy="3533760"/>
          </a:xfrm>
        </p:grpSpPr>
        <p:pic>
          <p:nvPicPr>
            <p:cNvPr id="105" name="Picture 4" descr=""/>
            <p:cNvPicPr/>
            <p:nvPr/>
          </p:nvPicPr>
          <p:blipFill>
            <a:blip r:embed="rId3"/>
            <a:stretch/>
          </p:blipFill>
          <p:spPr>
            <a:xfrm>
              <a:off x="554040" y="1500120"/>
              <a:ext cx="2730600" cy="353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5"/>
            <p:cNvSpPr/>
            <p:nvPr/>
          </p:nvSpPr>
          <p:spPr>
            <a:xfrm>
              <a:off x="560520" y="1504800"/>
              <a:ext cx="2714400" cy="352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7" name="Rectangle 6"/>
          <p:cNvSpPr/>
          <p:nvPr/>
        </p:nvSpPr>
        <p:spPr>
          <a:xfrm>
            <a:off x="676440" y="1643040"/>
            <a:ext cx="2484360" cy="3233880"/>
          </a:xfrm>
          <a:prstGeom prst="rect">
            <a:avLst/>
          </a:prstGeom>
          <a:solidFill>
            <a:srgbClr val="ffffff"/>
          </a:solidFill>
          <a:ln w="64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E94E19-45CC-46E6-B4F5-93A808D3BA9F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AutoShape 2"/>
          <p:cNvSpPr/>
          <p:nvPr/>
        </p:nvSpPr>
        <p:spPr>
          <a:xfrm>
            <a:off x="92160" y="101520"/>
            <a:ext cx="8959680" cy="6664320"/>
          </a:xfrm>
          <a:prstGeom prst="roundRect">
            <a:avLst>
              <a:gd name="adj" fmla="val 173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51" name="Group 3"/>
          <p:cNvGrpSpPr/>
          <p:nvPr/>
        </p:nvGrpSpPr>
        <p:grpSpPr>
          <a:xfrm>
            <a:off x="682560" y="4950000"/>
            <a:ext cx="7783560" cy="1382400"/>
            <a:chOff x="682560" y="4950000"/>
            <a:chExt cx="7783560" cy="1382400"/>
          </a:xfrm>
        </p:grpSpPr>
        <p:pic>
          <p:nvPicPr>
            <p:cNvPr id="152" name="Picture 4" descr=""/>
            <p:cNvPicPr/>
            <p:nvPr/>
          </p:nvPicPr>
          <p:blipFill>
            <a:blip r:embed="rId3"/>
            <a:stretch/>
          </p:blipFill>
          <p:spPr>
            <a:xfrm>
              <a:off x="682560" y="4950000"/>
              <a:ext cx="7783560" cy="138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5"/>
            <p:cNvSpPr/>
            <p:nvPr/>
          </p:nvSpPr>
          <p:spPr>
            <a:xfrm>
              <a:off x="685800" y="4952880"/>
              <a:ext cx="7770960" cy="137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54" name="Rectangle 6"/>
          <p:cNvSpPr/>
          <p:nvPr/>
        </p:nvSpPr>
        <p:spPr>
          <a:xfrm>
            <a:off x="762120" y="5029200"/>
            <a:ext cx="7600680" cy="120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914400" y="5638680"/>
            <a:ext cx="7327800" cy="45252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604800" y="5075280"/>
            <a:ext cx="79470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0CF8F1-D72D-4DA9-8A2B-3A3924D006FD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1"/>
          <p:cNvSpPr/>
          <p:nvPr/>
        </p:nvSpPr>
        <p:spPr>
          <a:xfrm>
            <a:off x="6861240" y="228600"/>
            <a:ext cx="1860480" cy="6122880"/>
          </a:xfrm>
          <a:prstGeom prst="rect">
            <a:avLst/>
          </a:prstGeom>
          <a:solidFill>
            <a:srgbClr val="fffff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Rectangle 2"/>
          <p:cNvSpPr/>
          <p:nvPr/>
        </p:nvSpPr>
        <p:spPr>
          <a:xfrm>
            <a:off x="6954840" y="351000"/>
            <a:ext cx="1673280" cy="587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body"/>
          </p:nvPr>
        </p:nvSpPr>
        <p:spPr>
          <a:xfrm>
            <a:off x="457200" y="1752120"/>
            <a:ext cx="8228160" cy="43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564b3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564b3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title"/>
          </p:nvPr>
        </p:nvSpPr>
        <p:spPr>
          <a:xfrm>
            <a:off x="425520" y="347400"/>
            <a:ext cx="825984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6b7d72"/>
                </a:solidFill>
                <a:latin typeface="Book Antiqua"/>
              </a:rPr>
              <a:t>Click to edit the title text format</a:t>
            </a:r>
            <a:endParaRPr b="0" lang="en-US" sz="3500" spc="-1" strike="noStrike">
              <a:solidFill>
                <a:srgbClr val="6b7d72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564b3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BDCA33-0F6F-4D29-8724-2F991E31FB98}" type="slidenum">
              <a:rPr b="0" lang="ru-RU" sz="1200" spc="-1" strike="noStrike">
                <a:solidFill>
                  <a:srgbClr val="564b3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61082C-3D0E-4F89-9AD4-B8739C9F82B5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grpSp>
          <p:nvGrpSpPr>
            <p:cNvPr id="25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2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grpSp>
          <p:nvGrpSpPr>
            <p:cNvPr id="29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1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1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D4DA8A-8984-41D0-809D-A057607027F3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3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  <p:grpSp>
          <p:nvGrpSpPr>
            <p:cNvPr id="34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Century Gothic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1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1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BFD013-01CB-4819-BCB8-F5E671A740C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2162F31-6B73-4168-94DE-EA51CFD9FCC8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gi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1" descr=""/>
          <p:cNvPicPr/>
          <p:nvPr/>
        </p:nvPicPr>
        <p:blipFill>
          <a:blip r:embed="rId2"/>
          <a:stretch/>
        </p:blipFill>
        <p:spPr>
          <a:xfrm>
            <a:off x="571680" y="357120"/>
            <a:ext cx="7559640" cy="61880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2" descr=""/>
          <p:cNvPicPr/>
          <p:nvPr/>
        </p:nvPicPr>
        <p:blipFill>
          <a:blip r:embed="rId3"/>
          <a:stretch/>
        </p:blipFill>
        <p:spPr>
          <a:xfrm>
            <a:off x="584280" y="307800"/>
            <a:ext cx="7559640" cy="6188400"/>
          </a:xfrm>
          <a:prstGeom prst="rect">
            <a:avLst/>
          </a:prstGeom>
          <a:ln w="0">
            <a:noFill/>
          </a:ln>
        </p:spPr>
      </p:pic>
      <p:grpSp>
        <p:nvGrpSpPr>
          <p:cNvPr id="446" name="Group 3"/>
          <p:cNvGrpSpPr/>
          <p:nvPr/>
        </p:nvGrpSpPr>
        <p:grpSpPr>
          <a:xfrm>
            <a:off x="493560" y="396720"/>
            <a:ext cx="7899480" cy="1814760"/>
            <a:chOff x="493560" y="396720"/>
            <a:chExt cx="7899480" cy="1814760"/>
          </a:xfrm>
        </p:grpSpPr>
        <p:pic>
          <p:nvPicPr>
            <p:cNvPr id="447" name="Picture 4" descr=""/>
            <p:cNvPicPr/>
            <p:nvPr/>
          </p:nvPicPr>
          <p:blipFill>
            <a:blip r:embed="rId4"/>
            <a:stretch/>
          </p:blipFill>
          <p:spPr>
            <a:xfrm>
              <a:off x="493560" y="396720"/>
              <a:ext cx="7899480" cy="18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 Box 5"/>
            <p:cNvSpPr/>
            <p:nvPr/>
          </p:nvSpPr>
          <p:spPr>
            <a:xfrm>
              <a:off x="493560" y="396720"/>
              <a:ext cx="7899480" cy="18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9" name="Text Box 6"/>
          <p:cNvSpPr/>
          <p:nvPr/>
        </p:nvSpPr>
        <p:spPr>
          <a:xfrm>
            <a:off x="1143000" y="518148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419f9"/>
                </a:solidFill>
                <a:latin typeface="Times New Roman"/>
                <a:ea typeface="Times New Roman"/>
              </a:rPr>
              <a:t>Всем привет! Будьте внимательными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98480"/>
                <a:tab algn="l" pos="1712880"/>
                <a:tab algn="l" pos="2627280"/>
                <a:tab algn="l" pos="3541680"/>
                <a:tab algn="l" pos="4456080"/>
                <a:tab algn="l" pos="5370480"/>
                <a:tab algn="l" pos="6284880"/>
                <a:tab algn="l" pos="7199280"/>
                <a:tab algn="l" pos="8113680"/>
                <a:tab algn="l" pos="9028080"/>
                <a:tab algn="l" pos="994248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4419f9"/>
                </a:solidFill>
                <a:latin typeface="Times New Roman"/>
                <a:ea typeface="Times New Roman"/>
              </a:rPr>
              <a:t>на уроке! Успехов и удачи вам!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7" dur="20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Прямоугольник 1"/>
          <p:cNvSpPr/>
          <p:nvPr/>
        </p:nvSpPr>
        <p:spPr>
          <a:xfrm>
            <a:off x="2018160" y="260280"/>
            <a:ext cx="510768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a23a28"/>
                </a:solidFill>
                <a:latin typeface="Times New Roman"/>
                <a:ea typeface="Times New Roman"/>
              </a:rPr>
              <a:t>Минутка чистописания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1" name="Прямоугольник 2"/>
          <p:cNvSpPr/>
          <p:nvPr/>
        </p:nvSpPr>
        <p:spPr>
          <a:xfrm>
            <a:off x="3622680" y="3486240"/>
            <a:ext cx="15508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абочк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2" name="Прямоугольник 4"/>
          <p:cNvSpPr/>
          <p:nvPr/>
        </p:nvSpPr>
        <p:spPr>
          <a:xfrm>
            <a:off x="6657840" y="3727440"/>
            <a:ext cx="13701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елк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Прямоугольник 7"/>
          <p:cNvSpPr/>
          <p:nvPr/>
        </p:nvSpPr>
        <p:spPr>
          <a:xfrm>
            <a:off x="1020600" y="3800520"/>
            <a:ext cx="15354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ананы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54" name="Picture 4" descr=""/>
          <p:cNvPicPr/>
          <p:nvPr/>
        </p:nvPicPr>
        <p:blipFill>
          <a:blip r:embed="rId1"/>
          <a:stretch/>
        </p:blipFill>
        <p:spPr>
          <a:xfrm>
            <a:off x="6012000" y="1096920"/>
            <a:ext cx="2700360" cy="23796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6" descr=""/>
          <p:cNvPicPr/>
          <p:nvPr/>
        </p:nvPicPr>
        <p:blipFill>
          <a:blip r:embed="rId2"/>
          <a:stretch/>
        </p:blipFill>
        <p:spPr>
          <a:xfrm>
            <a:off x="3041640" y="1096920"/>
            <a:ext cx="2714760" cy="1414440"/>
          </a:xfrm>
          <a:prstGeom prst="rect">
            <a:avLst/>
          </a:prstGeom>
          <a:ln w="0">
            <a:noFill/>
          </a:ln>
        </p:spPr>
      </p:pic>
      <p:sp>
        <p:nvSpPr>
          <p:cNvPr id="456" name="Прямоугольник 14"/>
          <p:cNvSpPr/>
          <p:nvPr/>
        </p:nvSpPr>
        <p:spPr>
          <a:xfrm>
            <a:off x="573120" y="4797360"/>
            <a:ext cx="1982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уква «б»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Прямоугольник 15"/>
          <p:cNvSpPr/>
          <p:nvPr/>
        </p:nvSpPr>
        <p:spPr>
          <a:xfrm>
            <a:off x="1979640" y="4789440"/>
            <a:ext cx="47530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вук  – согласный, звонкий, твёрдый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58" name="Рисунок 10" descr="https://ayamama.ru/wp-content/uploads/2017/05/banany.jpg"/>
          <p:cNvPicPr/>
          <p:nvPr/>
        </p:nvPicPr>
        <p:blipFill>
          <a:blip r:embed="rId3"/>
          <a:stretch/>
        </p:blipFill>
        <p:spPr>
          <a:xfrm>
            <a:off x="324000" y="1096920"/>
            <a:ext cx="244764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Прямоугольник 1"/>
          <p:cNvSpPr/>
          <p:nvPr/>
        </p:nvSpPr>
        <p:spPr>
          <a:xfrm>
            <a:off x="324000" y="328680"/>
            <a:ext cx="84960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ловарная работа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0" name="Прямоугольник 2"/>
          <p:cNvSpPr/>
          <p:nvPr/>
        </p:nvSpPr>
        <p:spPr>
          <a:xfrm>
            <a:off x="3492360" y="1197000"/>
            <a:ext cx="5327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Это волшебное место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де книгам не скучно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де книгам не тесно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На полках рассказы,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тихи и романы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Истории разные,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дальние страны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Прямоугольник 3"/>
          <p:cNvSpPr/>
          <p:nvPr/>
        </p:nvSpPr>
        <p:spPr>
          <a:xfrm>
            <a:off x="5959080" y="4292640"/>
            <a:ext cx="206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</a:t>
            </a:r>
            <a:r>
              <a:rPr b="0" lang="ru-RU" sz="2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ли</a:t>
            </a:r>
            <a:r>
              <a:rPr b="0" lang="ru-RU" sz="2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тека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Прямоугольник 4"/>
          <p:cNvSpPr/>
          <p:nvPr/>
        </p:nvSpPr>
        <p:spPr>
          <a:xfrm>
            <a:off x="6214320" y="4221000"/>
            <a:ext cx="37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3" name="Прямоугольник 5"/>
          <p:cNvSpPr/>
          <p:nvPr/>
        </p:nvSpPr>
        <p:spPr>
          <a:xfrm>
            <a:off x="7022880" y="42210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64" name="Picture 3" descr="C:\Users\Костя\Desktop\математика\slide_8.jpg"/>
          <p:cNvPicPr/>
          <p:nvPr/>
        </p:nvPicPr>
        <p:blipFill>
          <a:blip r:embed="rId1"/>
          <a:stretch/>
        </p:blipFill>
        <p:spPr>
          <a:xfrm>
            <a:off x="182520" y="938160"/>
            <a:ext cx="3084480" cy="7669440"/>
          </a:xfrm>
          <a:prstGeom prst="rect">
            <a:avLst/>
          </a:prstGeom>
          <a:ln w="0">
            <a:noFill/>
          </a:ln>
        </p:spPr>
      </p:pic>
      <p:sp>
        <p:nvSpPr>
          <p:cNvPr id="465" name="Прямоугольник 7"/>
          <p:cNvSpPr/>
          <p:nvPr/>
        </p:nvSpPr>
        <p:spPr>
          <a:xfrm>
            <a:off x="1218960" y="5013360"/>
            <a:ext cx="70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аша  написала  сочинение  о детской  библиотеке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6" name="Прямоугольник 11"/>
          <p:cNvSpPr/>
          <p:nvPr/>
        </p:nvSpPr>
        <p:spPr>
          <a:xfrm>
            <a:off x="1187280" y="501336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Маша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написала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сочинение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о детской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библиотеке.</a:t>
            </a:r>
            <a:r>
              <a:rPr b="0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повест., невоскл., распр.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Прямоугольник 2"/>
          <p:cNvSpPr/>
          <p:nvPr/>
        </p:nvSpPr>
        <p:spPr>
          <a:xfrm>
            <a:off x="1444680" y="492120"/>
            <a:ext cx="8497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Выбери лишнее слово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Прямоугольник 1"/>
          <p:cNvSpPr/>
          <p:nvPr/>
        </p:nvSpPr>
        <p:spPr>
          <a:xfrm>
            <a:off x="3244680" y="1496880"/>
            <a:ext cx="66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нига, мама, красивая, озеро, печаль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Прямоугольник 3"/>
          <p:cNvSpPr/>
          <p:nvPr/>
        </p:nvSpPr>
        <p:spPr>
          <a:xfrm>
            <a:off x="3492360" y="276228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ива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Прямоугольник 5"/>
          <p:cNvSpPr/>
          <p:nvPr/>
        </p:nvSpPr>
        <p:spPr>
          <a:xfrm>
            <a:off x="5003640" y="278136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 имя прилагательное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71" name="Picture 3" descr="C:\Users\Костя\Desktop\математика\slide_8.jpg"/>
          <p:cNvPicPr/>
          <p:nvPr/>
        </p:nvPicPr>
        <p:blipFill>
          <a:blip r:embed="rId1"/>
          <a:stretch/>
        </p:blipFill>
        <p:spPr>
          <a:xfrm>
            <a:off x="182520" y="938160"/>
            <a:ext cx="3084480" cy="76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2" name=""/>
          <p:cNvGraphicFramePr/>
          <p:nvPr/>
        </p:nvGraphicFramePr>
        <p:xfrm>
          <a:off x="0" y="44280"/>
          <a:ext cx="4573440" cy="7043760"/>
        </p:xfrm>
        <a:graphic>
          <a:graphicData uri="http://schemas.openxmlformats.org/drawingml/2006/table">
            <a:tbl>
              <a:tblPr/>
              <a:tblGrid>
                <a:gridCol w="4573440"/>
              </a:tblGrid>
              <a:tr h="1738440">
                <a:tc>
                  <a:txBody>
                    <a:bodyPr lIns="90000" rIns="90000" tIns="77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23a28"/>
                          </a:solidFill>
                          <a:latin typeface="Times New Roman"/>
                          <a:ea typeface="Times New Roman"/>
                        </a:rPr>
                        <a:t>Имя прилагательное – это….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  <a:tr h="1189080">
                <a:tc>
                  <a:txBody>
                    <a:bodyPr lIns="90000" rIns="90000" tIns="77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Обозначает…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1738440">
                <a:tc>
                  <a:txBody>
                    <a:bodyPr lIns="90000" rIns="90000" tIns="77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Отвечает на вопросы….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  <a:tr h="639720">
                <a:tc>
                  <a:txBody>
                    <a:bodyPr lIns="90000" rIns="90000" tIns="77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a23a28"/>
                          </a:solidFill>
                          <a:latin typeface="Times New Roman"/>
                          <a:ea typeface="Times New Roman"/>
                        </a:rPr>
                        <a:t>Изменяется по…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ce0de"/>
                    </a:solidFill>
                  </a:tcPr>
                </a:tc>
              </a:tr>
              <a:tr h="1738080">
                <a:tc>
                  <a:txBody>
                    <a:bodyPr lIns="90000" rIns="90000" tIns="7740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В предложении является…….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ef0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4581360" y="19080"/>
          <a:ext cx="4564080" cy="1744560"/>
        </p:xfrm>
        <a:graphic>
          <a:graphicData uri="http://schemas.openxmlformats.org/drawingml/2006/table">
            <a:tbl>
              <a:tblPr/>
              <a:tblGrid>
                <a:gridCol w="4564080"/>
              </a:tblGrid>
              <a:tr h="174456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3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4400" spc="-1" strike="noStrike">
                          <a:solidFill>
                            <a:srgbClr val="a23a28"/>
                          </a:solidFill>
                          <a:latin typeface="Times New Roman"/>
                          <a:ea typeface="Times New Roman"/>
                        </a:rPr>
                        <a:t>часть речи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4" name=""/>
          <p:cNvGraphicFramePr/>
          <p:nvPr/>
        </p:nvGraphicFramePr>
        <p:xfrm>
          <a:off x="4619520" y="1844640"/>
          <a:ext cx="4525920" cy="1333440"/>
        </p:xfrm>
        <a:graphic>
          <a:graphicData uri="http://schemas.openxmlformats.org/drawingml/2006/table">
            <a:tbl>
              <a:tblPr/>
              <a:tblGrid>
                <a:gridCol w="4525920"/>
              </a:tblGrid>
              <a:tr h="133344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признак предмета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5" name=""/>
          <p:cNvGraphicFramePr/>
          <p:nvPr/>
        </p:nvGraphicFramePr>
        <p:xfrm>
          <a:off x="4643280" y="3068640"/>
          <a:ext cx="4502160" cy="1739880"/>
        </p:xfrm>
        <a:graphic>
          <a:graphicData uri="http://schemas.openxmlformats.org/drawingml/2006/table">
            <a:tbl>
              <a:tblPr/>
              <a:tblGrid>
                <a:gridCol w="4502160"/>
              </a:tblGrid>
              <a:tr h="173988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Какой? Какая ? Какое? Какие?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6" name=""/>
          <p:cNvGraphicFramePr/>
          <p:nvPr/>
        </p:nvGraphicFramePr>
        <p:xfrm>
          <a:off x="4643280" y="4581360"/>
          <a:ext cx="4502160" cy="1555920"/>
        </p:xfrm>
        <a:graphic>
          <a:graphicData uri="http://schemas.openxmlformats.org/drawingml/2006/table">
            <a:tbl>
              <a:tblPr/>
              <a:tblGrid>
                <a:gridCol w="4502160"/>
              </a:tblGrid>
              <a:tr h="1555920">
                <a:tc>
                  <a:txBody>
                    <a:bodyPr lIns="90000" rIns="90000" tIns="748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по родам, числам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2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и .......?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7" name=""/>
          <p:cNvGraphicFramePr/>
          <p:nvPr/>
        </p:nvGraphicFramePr>
        <p:xfrm>
          <a:off x="4572000" y="5791320"/>
          <a:ext cx="4538520" cy="1218960"/>
        </p:xfrm>
        <a:graphic>
          <a:graphicData uri="http://schemas.openxmlformats.org/drawingml/2006/table">
            <a:tbl>
              <a:tblPr/>
              <a:tblGrid>
                <a:gridCol w="4538520"/>
              </a:tblGrid>
              <a:tr h="1218960">
                <a:tc>
                  <a:txBody>
                    <a:bodyPr lIns="90000" rIns="90000" tIns="7848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3600" spc="-1" strike="noStrike">
                          <a:solidFill>
                            <a:srgbClr val="010199"/>
                          </a:solidFill>
                          <a:latin typeface="Times New Roman"/>
                          <a:ea typeface="Times New Roman"/>
                        </a:rPr>
                        <a:t>определением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93a299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25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25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 Box 1"/>
          <p:cNvSpPr/>
          <p:nvPr/>
        </p:nvSpPr>
        <p:spPr>
          <a:xfrm>
            <a:off x="457200" y="1967040"/>
            <a:ext cx="80010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3600" spc="-1" strike="noStrike">
                <a:solidFill>
                  <a:srgbClr val="550b32"/>
                </a:solidFill>
                <a:latin typeface="Times New Roman"/>
                <a:ea typeface="Times New Roman"/>
              </a:rPr>
              <a:t>ТЕМА  УРОКА:</a:t>
            </a:r>
            <a:br>
              <a:rPr sz="3600"/>
            </a:br>
            <a:r>
              <a:rPr b="1" lang="ru-RU" sz="3600" spc="-1" strike="noStrike">
                <a:solidFill>
                  <a:srgbClr val="550b32"/>
                </a:solidFill>
                <a:latin typeface="Times New Roman"/>
                <a:ea typeface="Times New Roman"/>
              </a:rPr>
              <a:t>«ПАДЕЖНЫЕ ОКОНЧАНИЯ ИМЁН ПРИЛАГАТЕЛЬНЫХ»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9" name="Text Box 2"/>
          <p:cNvSpPr/>
          <p:nvPr/>
        </p:nvSpPr>
        <p:spPr>
          <a:xfrm flipH="1" flipV="1">
            <a:off x="745560" y="1134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3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Прямоугольник 1"/>
          <p:cNvSpPr/>
          <p:nvPr/>
        </p:nvSpPr>
        <p:spPr>
          <a:xfrm>
            <a:off x="3218040" y="2023920"/>
            <a:ext cx="6107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 (маленькая) белки длинный пушистый хвост. На (красивая) головке (яркая чёрная) бусинкой горит каждый глаз. Белка покрыта (серая) шерстью, а брюшко – (белая)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1" name="Прямоугольник 2"/>
          <p:cNvSpPr/>
          <p:nvPr/>
        </p:nvSpPr>
        <p:spPr>
          <a:xfrm>
            <a:off x="324000" y="746280"/>
            <a:ext cx="875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Запишите текст, раскрывая скобки и изменяя имена прилагательные по смыслу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82" name="Picture 3" descr="C:\Users\Костя\Desktop\математика\slide_8.jpg"/>
          <p:cNvPicPr/>
          <p:nvPr/>
        </p:nvPicPr>
        <p:blipFill>
          <a:blip r:embed="rId1"/>
          <a:stretch/>
        </p:blipFill>
        <p:spPr>
          <a:xfrm>
            <a:off x="85680" y="1847880"/>
            <a:ext cx="3084480" cy="76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Прямоугольник 1"/>
          <p:cNvSpPr/>
          <p:nvPr/>
        </p:nvSpPr>
        <p:spPr>
          <a:xfrm>
            <a:off x="539640" y="1268280"/>
            <a:ext cx="5099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ВЕРКА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 </a:t>
            </a:r>
            <a:r>
              <a:rPr b="1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маленькой</a:t>
            </a:r>
            <a:r>
              <a:rPr b="0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белки длинный пушистый хвост. На </a:t>
            </a:r>
            <a:r>
              <a:rPr b="1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красивой </a:t>
            </a:r>
            <a:r>
              <a:rPr b="0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головке </a:t>
            </a:r>
            <a:r>
              <a:rPr b="1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яркой чёрной     </a:t>
            </a:r>
            <a:r>
              <a:rPr b="0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усинкой горит каждый глаз. Белка покрыта </a:t>
            </a:r>
            <a:r>
              <a:rPr b="1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ерой </a:t>
            </a:r>
            <a:r>
              <a:rPr b="0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шерстью, а брюшко – </a:t>
            </a:r>
            <a:r>
              <a:rPr b="1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белое</a:t>
            </a:r>
            <a:r>
              <a:rPr b="0" i="1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84" name="Picture 12" descr="5764c113633d"/>
          <p:cNvPicPr/>
          <p:nvPr/>
        </p:nvPicPr>
        <p:blipFill>
          <a:blip r:embed="rId1"/>
          <a:stretch/>
        </p:blipFill>
        <p:spPr>
          <a:xfrm>
            <a:off x="5867280" y="1844640"/>
            <a:ext cx="2826000" cy="363852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8"/>
          <p:cNvSpPr/>
          <p:nvPr/>
        </p:nvSpPr>
        <p:spPr>
          <a:xfrm>
            <a:off x="4367160" y="1189800"/>
            <a:ext cx="4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Century Gothic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4435920" y="2037240"/>
            <a:ext cx="2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d0d0d"/>
                </a:solidFill>
                <a:latin typeface="Century Gothic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7" descr=""/>
          <p:cNvPicPr/>
          <p:nvPr/>
        </p:nvPicPr>
        <p:blipFill>
          <a:blip r:embed="rId2"/>
          <a:stretch/>
        </p:blipFill>
        <p:spPr>
          <a:xfrm>
            <a:off x="684360" y="333360"/>
            <a:ext cx="7559640" cy="61880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"/>
          <p:cNvPicPr/>
          <p:nvPr/>
        </p:nvPicPr>
        <p:blipFill>
          <a:blip r:embed="rId3"/>
          <a:stretch/>
        </p:blipFill>
        <p:spPr>
          <a:xfrm>
            <a:off x="468360" y="79200"/>
            <a:ext cx="8496360" cy="118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Konstantin</cp:lastModifiedBy>
  <dcterms:modified xsi:type="dcterms:W3CDTF">2019-04-16T14:51:49Z</dcterms:modified>
  <cp:revision>57</cp:revision>
  <dc:subject/>
  <dc:title>                 Астана</dc:title>
</cp:coreProperties>
</file>