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gif" ContentType="image/gif"/>
  <Override PartName="/ppt/media/image15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20.png" ContentType="image/png"/>
  <Override PartName="/ppt/media/image7.jpeg" ContentType="image/jpeg"/>
  <Override PartName="/ppt/media/image18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7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8" name="Text Box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dt" idx="23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sldNum" idx="24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776A84A-27A5-45A6-A337-F0AD04B8BFB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2A615A8-F953-4E3B-8018-B7B3E857345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AE2C67E-E8B4-4809-BBB4-5345785B523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48CED7C-2ADD-4ABE-88F9-04EA7A700D4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03E20C0-F343-4491-991B-34BA7B50F1C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86FE1-4B26-4533-B0B2-35A5A39CE9A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34C7C-5F2E-4460-973A-4E3314D1F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8B7C2B1-9082-4875-9FBC-215FF93A1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E9CE944-AB33-44E8-A5F3-1B48F591B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E023C61-0761-4D3F-A5C4-FFF97EDDA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1B95F14-CA92-4070-AE4D-538333F9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43FAB18-2DB9-42AB-9506-1BF4BA28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3E35A8E-9A9F-4FB7-85CC-69EAC253D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2F6D078-3AB7-42C2-A483-0A34D0AB2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273ADBC-72CC-4909-81DB-7864611D6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32A3294-9512-423A-8F5C-8946B0EBB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F22F5-45EE-4120-9FAE-4F7CD2F18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3A9FE-2454-4988-A24A-40673CD303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1A2EAA-1435-41EB-9AB8-03CC121E2E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9A3A23-ACC5-4EBC-A4C0-F75781A68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D40ED9-EBEF-47BB-ADA4-368178786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693268-ADCE-4480-BAB2-D54EF1C19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5F4B4E-88C8-43F3-847E-9F296F30B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0449BC-11BF-489A-97A1-EE2A77CAA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2B269B-F401-4F19-BF3C-03761677D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34778-EB35-487A-BAF9-F6E14E0F3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5EE700-E64C-4FD2-982E-20D493747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29D510-6FC5-41C3-8E97-114E5603C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EF5A5A-89FB-4215-A7B0-D465992CB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4EFCF5-AFEC-4440-9205-E9075385A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A0D2D9-12A1-42A4-A96D-6692E7C0D0D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A8532-6104-4BE6-B6CC-7BF393F712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ADD56-C93E-4F98-8951-66B1CCAD3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CF016-9C66-4AA5-968A-883B3D737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CA2D7-A987-43F9-BEA6-5FF76B8DD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9AB61-5196-4137-BE22-7BF219109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DE4D7-09AE-403F-B698-4BFD9AE7B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94047-F4AF-4055-87A5-ABD226046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493FD-B283-405E-A858-B51E5F067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860D8-8E62-4A5D-A653-8C0C96D45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33D01-E3CF-49E0-AAB0-51C0FE9EA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692B9-1BFE-4C8E-9B99-3B60A6D6A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E1846-02FB-4E3F-B2C4-CFD399F1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6FE78-1374-4773-92C2-76853D3BC0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378F60-F3CB-4B22-9871-CBBBFE2697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599707-2AEF-44E2-8D3D-F56BBACF3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4F601D-0BBB-496B-85C0-F92FF9C8A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5F12A-9BCA-42DC-9CA1-17243B4DB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D626EC-A657-4379-B3FA-BBE599B35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700A9D-C188-461E-91C2-7481F6F64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F6734F-CC69-4134-A3EC-E28DC0C6F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986BFF-F349-40EC-8CC3-B8DC933D2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EBCB47-A968-41B1-A7FA-654D3A960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79F6B5-FB62-428E-944E-0649D5549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D81669-7BA7-416F-87B4-5EEF36248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69DE66-FC64-4648-A439-B40D1872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634C12-34CF-4070-AF3B-1250D260B06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A7F6CF-4447-4865-8DA4-C33A23F0AF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75A7B-6E4D-45BA-9E26-553463E35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17AB2B-2206-4256-A689-9982183CB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8F2300-5460-4BAE-B547-F174C73FD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B2BAEE-3954-4735-96B1-CBFB94BD2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E3303C-871D-416C-BD20-61E8B2A0F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28C793-0B7C-4BE2-9B76-783690B88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2E2C1D-0CFF-4133-B8F4-849A1CEE9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856156-AFEA-4062-A168-AFFB6CF85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007953-1AB1-4EFF-A47C-E2DFE3D38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D3E70A-F45E-44FD-9AA0-969B9BAAA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DCF2CD-44F0-40D9-9C70-902234A1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BD371-EBFF-45A2-966A-3A12C1D59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F27FCF-8F97-460F-832C-2077348A61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38238E-5536-4A54-9CC0-F6F5F60FB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7509B6F-ED2E-490B-834A-3CEBAD58C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A72F9AA-9660-49A3-B5B6-1CCB2C042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C6B76DA-A6DF-4117-9D30-2E4F60B42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9836475-92B1-4C75-9DED-82EDF31AE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639D76E-4DD1-41CD-A9C4-47E5DD0DE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2D1028F-0023-4751-8DC6-8A8BB68D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7BE672F-F7E6-4122-9C2F-411420D80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274CDB0-4B9B-4419-8448-4BD38990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2D0F5-3ACC-4C6F-ACE4-DE4A52C9D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30F155E-20B2-4153-A6B1-54E02020B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4F6296E-9644-4BBA-99CF-0DBADB56D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9686112-C1E1-49EF-B94B-57A917576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9D9C988-CE4B-4479-B903-867654995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1D26240-FF50-45F8-9556-391064A35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B6843E4-08DF-4FCC-A379-3629D7951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104AFB8-FECC-49C5-B8C5-416E8126A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27DFD85-DABC-43BF-8106-AA2C412FC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506E016-F91A-4172-9C27-BD4428E96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18397A3-F325-4A8E-B25F-B031BBB02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41F4E-F90E-4C93-AC18-384AFB30A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FBC251B-7286-4FEC-9743-5D57001D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46DE992-53AF-44DD-975A-8F8EB116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2805935-F46A-4AF1-88AE-017711E71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B6287BD-9477-412D-95D7-CC42A4C37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415D0C8-A2F1-4282-A413-0E9659745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1C6A2CE-C7BB-451D-9551-AF44B9F47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111E38A-F59B-4EEC-BA5F-0F85A0B27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CD1E14A-97CB-4DD1-85BC-D1ABE9BB8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47C97B1-5451-478D-89A8-864BD8176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2A528F9-821F-43CB-B8BD-43C920C59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6B223-0107-4A52-A020-57C7175BB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DEB54E2-3729-492F-B541-0FFF0BA4D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BD513C1-6EB1-4004-8BA7-087E594A6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2655B0B-16C2-4642-B65B-DC2296BD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74216FF-6528-4DC6-A885-D4BED2C2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2CA5E92-0B0D-49D3-B303-DA32342EE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41F0B9C-D18C-4229-9A33-EF8013095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AE2801E-8826-47A9-BC13-583FB98C1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1473D48-F5AE-44DA-BF6F-2724CC34E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1A70FF7-1D64-4307-B61A-EE43DB5AC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302B5EE-3C7D-46D7-A121-53C75C152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2" name="Group 3"/>
          <p:cNvGrpSpPr/>
          <p:nvPr/>
        </p:nvGrpSpPr>
        <p:grpSpPr>
          <a:xfrm>
            <a:off x="341280" y="2938320"/>
            <a:ext cx="7155000" cy="2473560"/>
            <a:chOff x="341280" y="2938320"/>
            <a:chExt cx="7155000" cy="2473560"/>
          </a:xfrm>
        </p:grpSpPr>
        <p:pic>
          <p:nvPicPr>
            <p:cNvPr id="3" name="Picture 4" descr=""/>
            <p:cNvPicPr/>
            <p:nvPr/>
          </p:nvPicPr>
          <p:blipFill>
            <a:blip r:embed="rId3"/>
            <a:stretch/>
          </p:blipFill>
          <p:spPr>
            <a:xfrm>
              <a:off x="341280" y="2938320"/>
              <a:ext cx="7155000" cy="247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Text Box 5"/>
            <p:cNvSpPr/>
            <p:nvPr/>
          </p:nvSpPr>
          <p:spPr>
            <a:xfrm>
              <a:off x="345960" y="2943360"/>
              <a:ext cx="7145280" cy="246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5" name="Group 6"/>
          <p:cNvGrpSpPr/>
          <p:nvPr/>
        </p:nvGrpSpPr>
        <p:grpSpPr>
          <a:xfrm>
            <a:off x="7564320" y="2938320"/>
            <a:ext cx="1206720" cy="2473560"/>
            <a:chOff x="7564320" y="2938320"/>
            <a:chExt cx="1206720" cy="2473560"/>
          </a:xfrm>
        </p:grpSpPr>
        <p:pic>
          <p:nvPicPr>
            <p:cNvPr id="6" name="Picture 7" descr=""/>
            <p:cNvPicPr/>
            <p:nvPr/>
          </p:nvPicPr>
          <p:blipFill>
            <a:blip r:embed="rId4"/>
            <a:stretch/>
          </p:blipFill>
          <p:spPr>
            <a:xfrm>
              <a:off x="7564320" y="2938320"/>
              <a:ext cx="1206720" cy="247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Text Box 8"/>
            <p:cNvSpPr/>
            <p:nvPr/>
          </p:nvSpPr>
          <p:spPr>
            <a:xfrm>
              <a:off x="7572240" y="2944800"/>
              <a:ext cx="1189080" cy="24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8" name="Rectangle 9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Rectangle 10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Rectangle 11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Rectangle 12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8160" cy="43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" name="Text Box 1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sldNum" idx="2"/>
          </p:nvPr>
        </p:nvSpPr>
        <p:spPr>
          <a:xfrm>
            <a:off x="7786800" y="4594320"/>
            <a:ext cx="7603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800" spc="-1" strike="noStrike">
                <a:solidFill>
                  <a:srgbClr val="47534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301297F-D89B-469B-B720-936754EEB475}" type="slidenum">
              <a:rPr b="0" lang="ru-RU" sz="2800" spc="-1" strike="noStrike">
                <a:solidFill>
                  <a:srgbClr val="47534c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AutoShape 2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55" name="Group 3"/>
          <p:cNvGrpSpPr/>
          <p:nvPr/>
        </p:nvGrpSpPr>
        <p:grpSpPr>
          <a:xfrm>
            <a:off x="444600" y="2938320"/>
            <a:ext cx="8277120" cy="2479680"/>
            <a:chOff x="444600" y="2938320"/>
            <a:chExt cx="8277120" cy="2479680"/>
          </a:xfrm>
        </p:grpSpPr>
        <p:pic>
          <p:nvPicPr>
            <p:cNvPr id="56" name="Picture 4" descr=""/>
            <p:cNvPicPr/>
            <p:nvPr/>
          </p:nvPicPr>
          <p:blipFill>
            <a:blip r:embed="rId3"/>
            <a:stretch/>
          </p:blipFill>
          <p:spPr>
            <a:xfrm>
              <a:off x="444600" y="2938320"/>
              <a:ext cx="8277120" cy="247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5"/>
            <p:cNvSpPr/>
            <p:nvPr/>
          </p:nvSpPr>
          <p:spPr>
            <a:xfrm>
              <a:off x="452520" y="2946240"/>
              <a:ext cx="8262720" cy="24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58" name="Rectangle 6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8160" cy="43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0282BEC-667D-4881-B58C-A7F69C906805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AutoShape 2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104" name="Group 3"/>
          <p:cNvGrpSpPr/>
          <p:nvPr/>
        </p:nvGrpSpPr>
        <p:grpSpPr>
          <a:xfrm>
            <a:off x="554040" y="1500120"/>
            <a:ext cx="2730600" cy="3533760"/>
            <a:chOff x="554040" y="1500120"/>
            <a:chExt cx="2730600" cy="3533760"/>
          </a:xfrm>
        </p:grpSpPr>
        <p:pic>
          <p:nvPicPr>
            <p:cNvPr id="105" name="Picture 4" descr=""/>
            <p:cNvPicPr/>
            <p:nvPr/>
          </p:nvPicPr>
          <p:blipFill>
            <a:blip r:embed="rId3"/>
            <a:stretch/>
          </p:blipFill>
          <p:spPr>
            <a:xfrm>
              <a:off x="554040" y="1500120"/>
              <a:ext cx="2730600" cy="353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5"/>
            <p:cNvSpPr/>
            <p:nvPr/>
          </p:nvSpPr>
          <p:spPr>
            <a:xfrm>
              <a:off x="560520" y="1504800"/>
              <a:ext cx="2714400" cy="35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07" name="Rectangle 6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8160" cy="43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5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sldNum" idx="6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80CB0D4-7E78-43E4-910A-5F9E6ECFBF0A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AutoShape 2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151" name="Group 3"/>
          <p:cNvGrpSpPr/>
          <p:nvPr/>
        </p:nvGrpSpPr>
        <p:grpSpPr>
          <a:xfrm>
            <a:off x="682560" y="4950000"/>
            <a:ext cx="7783560" cy="1382400"/>
            <a:chOff x="682560" y="4950000"/>
            <a:chExt cx="7783560" cy="1382400"/>
          </a:xfrm>
        </p:grpSpPr>
        <p:pic>
          <p:nvPicPr>
            <p:cNvPr id="152" name="Picture 4" descr=""/>
            <p:cNvPicPr/>
            <p:nvPr/>
          </p:nvPicPr>
          <p:blipFill>
            <a:blip r:embed="rId3"/>
            <a:stretch/>
          </p:blipFill>
          <p:spPr>
            <a:xfrm>
              <a:off x="682560" y="4950000"/>
              <a:ext cx="7783560" cy="138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Text Box 5"/>
            <p:cNvSpPr/>
            <p:nvPr/>
          </p:nvSpPr>
          <p:spPr>
            <a:xfrm>
              <a:off x="685800" y="4952880"/>
              <a:ext cx="7770960" cy="137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54" name="Rectangle 6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8160" cy="43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7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FDDC2A6-8474-4D70-9584-1A8E56CB63B0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1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8160" cy="43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9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sldNum" idx="10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80703CA-0410-4DF7-BE9C-8EAA45BD2914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4A874F4-84D0-4825-B02E-51ED45787928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50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</p:grpSp>
        <p:grpSp>
          <p:nvGrpSpPr>
            <p:cNvPr id="25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3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29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94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9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</p:grpSp>
        <p:grpSp>
          <p:nvGrpSpPr>
            <p:cNvPr id="29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9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</p:grpSp>
      </p:grp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1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1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D0C5F78-FF3A-4F97-AED3-BBB104F1D17D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34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44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4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</p:grpSp>
        <p:grpSp>
          <p:nvGrpSpPr>
            <p:cNvPr id="34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4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</p:grp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1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1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78455B8-8D88-4517-B2D9-0C1AAB2325BC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2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3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4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ftr" idx="2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sldNum" idx="2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FD2A5C9-418B-456E-B320-E332D38A0AEB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gif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Picture 1" descr=""/>
          <p:cNvPicPr/>
          <p:nvPr/>
        </p:nvPicPr>
        <p:blipFill>
          <a:blip r:embed="rId2"/>
          <a:stretch/>
        </p:blipFill>
        <p:spPr>
          <a:xfrm>
            <a:off x="571680" y="357120"/>
            <a:ext cx="7559640" cy="618804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2" descr=""/>
          <p:cNvPicPr/>
          <p:nvPr/>
        </p:nvPicPr>
        <p:blipFill>
          <a:blip r:embed="rId3"/>
          <a:stretch/>
        </p:blipFill>
        <p:spPr>
          <a:xfrm>
            <a:off x="584280" y="307800"/>
            <a:ext cx="7559640" cy="6188400"/>
          </a:xfrm>
          <a:prstGeom prst="rect">
            <a:avLst/>
          </a:prstGeom>
          <a:ln w="0">
            <a:noFill/>
          </a:ln>
        </p:spPr>
      </p:pic>
      <p:grpSp>
        <p:nvGrpSpPr>
          <p:cNvPr id="446" name="Group 3"/>
          <p:cNvGrpSpPr/>
          <p:nvPr/>
        </p:nvGrpSpPr>
        <p:grpSpPr>
          <a:xfrm>
            <a:off x="493560" y="396720"/>
            <a:ext cx="7899480" cy="1814760"/>
            <a:chOff x="493560" y="396720"/>
            <a:chExt cx="7899480" cy="1814760"/>
          </a:xfrm>
        </p:grpSpPr>
        <p:pic>
          <p:nvPicPr>
            <p:cNvPr id="447" name="Picture 4" descr=""/>
            <p:cNvPicPr/>
            <p:nvPr/>
          </p:nvPicPr>
          <p:blipFill>
            <a:blip r:embed="rId4"/>
            <a:stretch/>
          </p:blipFill>
          <p:spPr>
            <a:xfrm>
              <a:off x="493560" y="396720"/>
              <a:ext cx="7899480" cy="18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Text Box 5"/>
            <p:cNvSpPr/>
            <p:nvPr/>
          </p:nvSpPr>
          <p:spPr>
            <a:xfrm>
              <a:off x="493560" y="396720"/>
              <a:ext cx="7899480" cy="18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449" name="Text Box 6"/>
          <p:cNvSpPr/>
          <p:nvPr/>
        </p:nvSpPr>
        <p:spPr>
          <a:xfrm>
            <a:off x="1143000" y="518148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4419f9"/>
                </a:solidFill>
                <a:latin typeface="Times New Roman"/>
                <a:ea typeface="Times New Roman"/>
              </a:rPr>
              <a:t>Всем привет! Будьте внимательными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4419f9"/>
                </a:solidFill>
                <a:latin typeface="Times New Roman"/>
                <a:ea typeface="Times New Roman"/>
              </a:rPr>
              <a:t>на уроке! Успехов и удачи вам!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" dur="2000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" dur="2000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Прямоугольник 1"/>
          <p:cNvSpPr/>
          <p:nvPr/>
        </p:nvSpPr>
        <p:spPr>
          <a:xfrm>
            <a:off x="2018160" y="260280"/>
            <a:ext cx="510768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a23a28"/>
                </a:solidFill>
                <a:latin typeface="Times New Roman"/>
                <a:ea typeface="Times New Roman"/>
              </a:rPr>
              <a:t>Минутка чистописания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1" name="Прямоугольник 2"/>
          <p:cNvSpPr/>
          <p:nvPr/>
        </p:nvSpPr>
        <p:spPr>
          <a:xfrm>
            <a:off x="3622680" y="3486240"/>
            <a:ext cx="15508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бабочка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2" name="Прямоугольник 4"/>
          <p:cNvSpPr/>
          <p:nvPr/>
        </p:nvSpPr>
        <p:spPr>
          <a:xfrm>
            <a:off x="6657840" y="3727440"/>
            <a:ext cx="13701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белка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3" name="Прямоугольник 7"/>
          <p:cNvSpPr/>
          <p:nvPr/>
        </p:nvSpPr>
        <p:spPr>
          <a:xfrm>
            <a:off x="1020600" y="3800520"/>
            <a:ext cx="15354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бананы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454" name="Picture 4" descr=""/>
          <p:cNvPicPr/>
          <p:nvPr/>
        </p:nvPicPr>
        <p:blipFill>
          <a:blip r:embed="rId1"/>
          <a:stretch/>
        </p:blipFill>
        <p:spPr>
          <a:xfrm>
            <a:off x="6012000" y="1096920"/>
            <a:ext cx="2700360" cy="23796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6" descr=""/>
          <p:cNvPicPr/>
          <p:nvPr/>
        </p:nvPicPr>
        <p:blipFill>
          <a:blip r:embed="rId2"/>
          <a:stretch/>
        </p:blipFill>
        <p:spPr>
          <a:xfrm>
            <a:off x="3041640" y="1096920"/>
            <a:ext cx="2714760" cy="1414440"/>
          </a:xfrm>
          <a:prstGeom prst="rect">
            <a:avLst/>
          </a:prstGeom>
          <a:ln w="0">
            <a:noFill/>
          </a:ln>
        </p:spPr>
      </p:pic>
      <p:sp>
        <p:nvSpPr>
          <p:cNvPr id="456" name="Прямоугольник 14"/>
          <p:cNvSpPr/>
          <p:nvPr/>
        </p:nvSpPr>
        <p:spPr>
          <a:xfrm>
            <a:off x="573120" y="4797360"/>
            <a:ext cx="19828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уква «б»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7" name="Прямоугольник 15"/>
          <p:cNvSpPr/>
          <p:nvPr/>
        </p:nvSpPr>
        <p:spPr>
          <a:xfrm>
            <a:off x="1979640" y="4789440"/>
            <a:ext cx="475308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звук  – согласный, звонкий, твёрдый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458" name="Рисунок 10" descr="https://ayamama.ru/wp-content/uploads/2017/05/banany.jpg"/>
          <p:cNvPicPr/>
          <p:nvPr/>
        </p:nvPicPr>
        <p:blipFill>
          <a:blip r:embed="rId3"/>
          <a:stretch/>
        </p:blipFill>
        <p:spPr>
          <a:xfrm>
            <a:off x="324000" y="1096920"/>
            <a:ext cx="244764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Прямоугольник 1"/>
          <p:cNvSpPr/>
          <p:nvPr/>
        </p:nvSpPr>
        <p:spPr>
          <a:xfrm>
            <a:off x="324000" y="328680"/>
            <a:ext cx="849600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ловарная работа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0" name="Прямоугольник 2"/>
          <p:cNvSpPr/>
          <p:nvPr/>
        </p:nvSpPr>
        <p:spPr>
          <a:xfrm>
            <a:off x="3492360" y="1197000"/>
            <a:ext cx="5327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Это волшебное место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Где книгам не скучно,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где книгам не тесно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На полках рассказы,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тихи и романы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Истории разные,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дальние страны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1" name="Прямоугольник 3"/>
          <p:cNvSpPr/>
          <p:nvPr/>
        </p:nvSpPr>
        <p:spPr>
          <a:xfrm>
            <a:off x="5959080" y="4292640"/>
            <a:ext cx="206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Б</a:t>
            </a:r>
            <a:r>
              <a:rPr b="0" lang="ru-RU" sz="24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бли</a:t>
            </a:r>
            <a:r>
              <a:rPr b="0" lang="ru-RU" sz="24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тека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2" name="Прямоугольник 4"/>
          <p:cNvSpPr/>
          <p:nvPr/>
        </p:nvSpPr>
        <p:spPr>
          <a:xfrm>
            <a:off x="6214320" y="4221000"/>
            <a:ext cx="37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3" name="Прямоугольник 5"/>
          <p:cNvSpPr/>
          <p:nvPr/>
        </p:nvSpPr>
        <p:spPr>
          <a:xfrm>
            <a:off x="7022880" y="4221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464" name="Picture 3" descr="C:\Users\Костя\Desktop\математика\slide_8.jpg"/>
          <p:cNvPicPr/>
          <p:nvPr/>
        </p:nvPicPr>
        <p:blipFill>
          <a:blip r:embed="rId1"/>
          <a:stretch/>
        </p:blipFill>
        <p:spPr>
          <a:xfrm>
            <a:off x="182520" y="938160"/>
            <a:ext cx="3084480" cy="7669440"/>
          </a:xfrm>
          <a:prstGeom prst="rect">
            <a:avLst/>
          </a:prstGeom>
          <a:ln w="0">
            <a:noFill/>
          </a:ln>
        </p:spPr>
      </p:pic>
      <p:sp>
        <p:nvSpPr>
          <p:cNvPr id="465" name="Прямоугольник 7"/>
          <p:cNvSpPr/>
          <p:nvPr/>
        </p:nvSpPr>
        <p:spPr>
          <a:xfrm>
            <a:off x="1218960" y="5013360"/>
            <a:ext cx="70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Маша  написала  сочинение  о детской  библиотеке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6" name="Прямоугольник 11"/>
          <p:cNvSpPr/>
          <p:nvPr/>
        </p:nvSpPr>
        <p:spPr>
          <a:xfrm>
            <a:off x="1187280" y="501336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Маша</a:t>
            </a: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написала</a:t>
            </a: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сочинение</a:t>
            </a: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о детской</a:t>
            </a: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библиотеке.</a:t>
            </a: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(повест., невоскл., распр.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Прямоугольник 2"/>
          <p:cNvSpPr/>
          <p:nvPr/>
        </p:nvSpPr>
        <p:spPr>
          <a:xfrm>
            <a:off x="1444680" y="492120"/>
            <a:ext cx="849780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ыбери лишнее слово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8" name="Прямоугольник 1"/>
          <p:cNvSpPr/>
          <p:nvPr/>
        </p:nvSpPr>
        <p:spPr>
          <a:xfrm>
            <a:off x="3244680" y="1496880"/>
            <a:ext cx="66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Книга, мама, красивая, озеро, печаль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9" name="Прямоугольник 3"/>
          <p:cNvSpPr/>
          <p:nvPr/>
        </p:nvSpPr>
        <p:spPr>
          <a:xfrm>
            <a:off x="3492360" y="276228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асивая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0" name="Прямоугольник 5"/>
          <p:cNvSpPr/>
          <p:nvPr/>
        </p:nvSpPr>
        <p:spPr>
          <a:xfrm>
            <a:off x="5003640" y="2781360"/>
            <a:ext cx="36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 имя прилагательное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471" name="Picture 3" descr="C:\Users\Костя\Desktop\математика\slide_8.jpg"/>
          <p:cNvPicPr/>
          <p:nvPr/>
        </p:nvPicPr>
        <p:blipFill>
          <a:blip r:embed="rId1"/>
          <a:stretch/>
        </p:blipFill>
        <p:spPr>
          <a:xfrm>
            <a:off x="182520" y="938160"/>
            <a:ext cx="3084480" cy="766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2" name=""/>
          <p:cNvGraphicFramePr/>
          <p:nvPr/>
        </p:nvGraphicFramePr>
        <p:xfrm>
          <a:off x="0" y="44280"/>
          <a:ext cx="4573440" cy="7043760"/>
        </p:xfrm>
        <a:graphic>
          <a:graphicData uri="http://schemas.openxmlformats.org/drawingml/2006/table">
            <a:tbl>
              <a:tblPr/>
              <a:tblGrid>
                <a:gridCol w="4573440"/>
              </a:tblGrid>
              <a:tr h="1738440">
                <a:tc>
                  <a:txBody>
                    <a:bodyPr lIns="90000" rIns="90000" tIns="77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3600" spc="-1" strike="noStrike">
                          <a:solidFill>
                            <a:srgbClr val="a23a28"/>
                          </a:solidFill>
                          <a:latin typeface="Times New Roman"/>
                          <a:ea typeface="Times New Roman"/>
                        </a:rPr>
                        <a:t>Имя прилагательное – это…..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</a:tr>
              <a:tr h="1189080">
                <a:tc>
                  <a:txBody>
                    <a:bodyPr lIns="90000" rIns="90000" tIns="77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3600" spc="-1" strike="noStrike">
                          <a:solidFill>
                            <a:srgbClr val="010199"/>
                          </a:solidFill>
                          <a:latin typeface="Times New Roman"/>
                          <a:ea typeface="Times New Roman"/>
                        </a:rPr>
                        <a:t>Обозначает….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</a:tr>
              <a:tr h="1738440">
                <a:tc>
                  <a:txBody>
                    <a:bodyPr lIns="90000" rIns="90000" tIns="77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3600" spc="-1" strike="noStrike">
                          <a:solidFill>
                            <a:srgbClr val="010199"/>
                          </a:solidFill>
                          <a:latin typeface="Times New Roman"/>
                          <a:ea typeface="Times New Roman"/>
                        </a:rPr>
                        <a:t>Отвечает на вопросы…..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</a:tr>
              <a:tr h="639720">
                <a:tc>
                  <a:txBody>
                    <a:bodyPr lIns="90000" rIns="90000" tIns="77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3600" spc="-1" strike="noStrike">
                          <a:solidFill>
                            <a:srgbClr val="a23a28"/>
                          </a:solidFill>
                          <a:latin typeface="Times New Roman"/>
                          <a:ea typeface="Times New Roman"/>
                        </a:rPr>
                        <a:t>Изменяется по….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</a:tr>
              <a:tr h="1738080">
                <a:tc>
                  <a:txBody>
                    <a:bodyPr lIns="90000" rIns="90000" tIns="77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3600" spc="-1" strike="noStrike">
                          <a:solidFill>
                            <a:srgbClr val="010199"/>
                          </a:solidFill>
                          <a:latin typeface="Times New Roman"/>
                          <a:ea typeface="Times New Roman"/>
                        </a:rPr>
                        <a:t>В предложении является…….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73" name=""/>
          <p:cNvGraphicFramePr/>
          <p:nvPr/>
        </p:nvGraphicFramePr>
        <p:xfrm>
          <a:off x="4581360" y="19080"/>
          <a:ext cx="4564080" cy="1744560"/>
        </p:xfrm>
        <a:graphic>
          <a:graphicData uri="http://schemas.openxmlformats.org/drawingml/2006/table">
            <a:tbl>
              <a:tblPr/>
              <a:tblGrid>
                <a:gridCol w="4564080"/>
              </a:tblGrid>
              <a:tr h="1744560">
                <a:tc>
                  <a:txBody>
                    <a:bodyPr lIns="90000" rIns="90000" tIns="784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4400" spc="-1" strike="noStrike">
                          <a:solidFill>
                            <a:srgbClr val="a23a28"/>
                          </a:solidFill>
                          <a:latin typeface="Times New Roman"/>
                          <a:ea typeface="Times New Roman"/>
                        </a:rPr>
                        <a:t>часть речи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74" name=""/>
          <p:cNvGraphicFramePr/>
          <p:nvPr/>
        </p:nvGraphicFramePr>
        <p:xfrm>
          <a:off x="4619520" y="1844640"/>
          <a:ext cx="4525920" cy="1333440"/>
        </p:xfrm>
        <a:graphic>
          <a:graphicData uri="http://schemas.openxmlformats.org/drawingml/2006/table">
            <a:tbl>
              <a:tblPr/>
              <a:tblGrid>
                <a:gridCol w="4525920"/>
              </a:tblGrid>
              <a:tr h="1333440">
                <a:tc>
                  <a:txBody>
                    <a:bodyPr lIns="90000" rIns="90000" tIns="784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3600" spc="-1" strike="noStrike">
                          <a:solidFill>
                            <a:srgbClr val="010199"/>
                          </a:solidFill>
                          <a:latin typeface="Times New Roman"/>
                          <a:ea typeface="Times New Roman"/>
                        </a:rPr>
                        <a:t>признак предмета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75" name=""/>
          <p:cNvGraphicFramePr/>
          <p:nvPr/>
        </p:nvGraphicFramePr>
        <p:xfrm>
          <a:off x="4643280" y="3068640"/>
          <a:ext cx="4502160" cy="1739880"/>
        </p:xfrm>
        <a:graphic>
          <a:graphicData uri="http://schemas.openxmlformats.org/drawingml/2006/table">
            <a:tbl>
              <a:tblPr/>
              <a:tblGrid>
                <a:gridCol w="4502160"/>
              </a:tblGrid>
              <a:tr h="1739880">
                <a:tc>
                  <a:txBody>
                    <a:bodyPr lIns="90000" rIns="90000" tIns="784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3600" spc="-1" strike="noStrike">
                          <a:solidFill>
                            <a:srgbClr val="010199"/>
                          </a:solidFill>
                          <a:latin typeface="Times New Roman"/>
                          <a:ea typeface="Times New Roman"/>
                        </a:rPr>
                        <a:t>Какой? Какая ? Какое? Какие?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76" name=""/>
          <p:cNvGraphicFramePr/>
          <p:nvPr/>
        </p:nvGraphicFramePr>
        <p:xfrm>
          <a:off x="4643280" y="4581360"/>
          <a:ext cx="4502160" cy="1555920"/>
        </p:xfrm>
        <a:graphic>
          <a:graphicData uri="http://schemas.openxmlformats.org/drawingml/2006/table">
            <a:tbl>
              <a:tblPr/>
              <a:tblGrid>
                <a:gridCol w="4502160"/>
              </a:tblGrid>
              <a:tr h="1555920"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10199"/>
                          </a:solidFill>
                          <a:latin typeface="Times New Roman"/>
                          <a:ea typeface="Times New Roman"/>
                        </a:rPr>
                        <a:t>по родам, числам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10199"/>
                          </a:solidFill>
                          <a:latin typeface="Times New Roman"/>
                          <a:ea typeface="Times New Roman"/>
                        </a:rPr>
                        <a:t>и .......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77" name=""/>
          <p:cNvGraphicFramePr/>
          <p:nvPr/>
        </p:nvGraphicFramePr>
        <p:xfrm>
          <a:off x="4572000" y="5791320"/>
          <a:ext cx="4538520" cy="1218960"/>
        </p:xfrm>
        <a:graphic>
          <a:graphicData uri="http://schemas.openxmlformats.org/drawingml/2006/table">
            <a:tbl>
              <a:tblPr/>
              <a:tblGrid>
                <a:gridCol w="4538520"/>
              </a:tblGrid>
              <a:tr h="1218960">
                <a:tc>
                  <a:txBody>
                    <a:bodyPr lIns="90000" rIns="90000" tIns="784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3600" spc="-1" strike="noStrike">
                          <a:solidFill>
                            <a:srgbClr val="010199"/>
                          </a:solidFill>
                          <a:latin typeface="Times New Roman"/>
                          <a:ea typeface="Times New Roman"/>
                        </a:rPr>
                        <a:t>определением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25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25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Text Box 1"/>
          <p:cNvSpPr/>
          <p:nvPr/>
        </p:nvSpPr>
        <p:spPr>
          <a:xfrm>
            <a:off x="457200" y="1967040"/>
            <a:ext cx="8001000" cy="39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3600" spc="-1" strike="noStrike">
                <a:solidFill>
                  <a:srgbClr val="550b32"/>
                </a:solidFill>
                <a:latin typeface="Times New Roman"/>
                <a:ea typeface="Times New Roman"/>
              </a:rPr>
              <a:t>ТЕМА  УРОКА:</a:t>
            </a:r>
            <a:br>
              <a:rPr sz="3600"/>
            </a:br>
            <a:r>
              <a:rPr b="1" lang="ru-RU" sz="3600" spc="-1" strike="noStrike">
                <a:solidFill>
                  <a:srgbClr val="550b32"/>
                </a:solidFill>
                <a:latin typeface="Times New Roman"/>
                <a:ea typeface="Times New Roman"/>
              </a:rPr>
              <a:t>«ПАДЕЖНЫЕ ОКОНЧАНИЯ ИМЁН ПРИЛАГАТЕЛЬНЫХ»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9" name="Text Box 2"/>
          <p:cNvSpPr/>
          <p:nvPr/>
        </p:nvSpPr>
        <p:spPr>
          <a:xfrm flipH="1" flipV="1">
            <a:off x="745560" y="1134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3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Прямоугольник 1"/>
          <p:cNvSpPr/>
          <p:nvPr/>
        </p:nvSpPr>
        <p:spPr>
          <a:xfrm>
            <a:off x="3218040" y="2023920"/>
            <a:ext cx="6107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У (маленькая) белки длинный пушистый хвост. На (красивая) головке (яркая чёрная) бусинкой горит каждый глаз. Белка покрыта (серая) шерстью, а брюшко – (белая)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1" name="Прямоугольник 2"/>
          <p:cNvSpPr/>
          <p:nvPr/>
        </p:nvSpPr>
        <p:spPr>
          <a:xfrm>
            <a:off x="324000" y="746280"/>
            <a:ext cx="8754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Запишите текст, раскрывая скобки и изменяя имена прилагательные по смыслу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482" name="Picture 3" descr="C:\Users\Костя\Desktop\математика\slide_8.jpg"/>
          <p:cNvPicPr/>
          <p:nvPr/>
        </p:nvPicPr>
        <p:blipFill>
          <a:blip r:embed="rId1"/>
          <a:stretch/>
        </p:blipFill>
        <p:spPr>
          <a:xfrm>
            <a:off x="85680" y="1847880"/>
            <a:ext cx="3084480" cy="768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Прямоугольник 1"/>
          <p:cNvSpPr/>
          <p:nvPr/>
        </p:nvSpPr>
        <p:spPr>
          <a:xfrm>
            <a:off x="539640" y="1268280"/>
            <a:ext cx="50990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РОВЕРКА: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У </a:t>
            </a:r>
            <a:r>
              <a:rPr b="1" i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маленькой</a:t>
            </a:r>
            <a:r>
              <a:rPr b="0" i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белки длинный пушистый хвост. На </a:t>
            </a:r>
            <a:r>
              <a:rPr b="1" i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красивой </a:t>
            </a:r>
            <a:r>
              <a:rPr b="0" i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головке </a:t>
            </a:r>
            <a:r>
              <a:rPr b="1" i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яркой чёрной     </a:t>
            </a:r>
            <a:r>
              <a:rPr b="0" i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бусинкой горит каждый глаз. Белка покрыта </a:t>
            </a:r>
            <a:r>
              <a:rPr b="1" i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ерой </a:t>
            </a:r>
            <a:r>
              <a:rPr b="0" i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шерстью, а брюшко – </a:t>
            </a:r>
            <a:r>
              <a:rPr b="1" i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белое</a:t>
            </a:r>
            <a:r>
              <a:rPr b="0" i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484" name="Picture 12" descr="5764c113633d"/>
          <p:cNvPicPr/>
          <p:nvPr/>
        </p:nvPicPr>
        <p:blipFill>
          <a:blip r:embed="rId1"/>
          <a:stretch/>
        </p:blipFill>
        <p:spPr>
          <a:xfrm>
            <a:off x="5867280" y="1844640"/>
            <a:ext cx="2826000" cy="3638520"/>
          </a:xfrm>
          <a:prstGeom prst="rect">
            <a:avLst/>
          </a:prstGeom>
          <a:ln w="0">
            <a:noFill/>
          </a:ln>
        </p:spPr>
      </p:pic>
      <p:sp>
        <p:nvSpPr>
          <p:cNvPr id="485" name="Rectangle 8"/>
          <p:cNvSpPr/>
          <p:nvPr/>
        </p:nvSpPr>
        <p:spPr>
          <a:xfrm>
            <a:off x="4367160" y="118980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Century Gothic"/>
              </a:rPr>
              <a:t>    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6" name="Rectangle 9"/>
          <p:cNvSpPr/>
          <p:nvPr/>
        </p:nvSpPr>
        <p:spPr>
          <a:xfrm>
            <a:off x="4435920" y="2037240"/>
            <a:ext cx="2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Century Gothic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Picture 7" descr=""/>
          <p:cNvPicPr/>
          <p:nvPr/>
        </p:nvPicPr>
        <p:blipFill>
          <a:blip r:embed="rId2"/>
          <a:stretch/>
        </p:blipFill>
        <p:spPr>
          <a:xfrm>
            <a:off x="684360" y="333360"/>
            <a:ext cx="7559640" cy="618804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8" descr=""/>
          <p:cNvPicPr/>
          <p:nvPr/>
        </p:nvPicPr>
        <p:blipFill>
          <a:blip r:embed="rId3"/>
          <a:stretch/>
        </p:blipFill>
        <p:spPr>
          <a:xfrm>
            <a:off x="468360" y="79200"/>
            <a:ext cx="8496360" cy="1189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Konstantin</cp:lastModifiedBy>
  <dcterms:modified xsi:type="dcterms:W3CDTF">2019-04-16T14:51:49Z</dcterms:modified>
  <cp:revision>57</cp:revision>
  <dc:subject/>
  <dc:title>                 Астана</dc:title>
</cp:coreProperties>
</file>