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CF3B-4A12-4C4B-A4E8-99D857FB5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CE30-5B98-4444-AE75-18FB958E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9793-B435-4AC2-B846-97AF6F199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B339-A516-42FC-939E-881C00FD0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5F0C-30F4-462E-BB66-BF738B28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734A-E4A8-4C64-9604-302DB80F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0842-694B-4A43-BBA1-3620571D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B861-FC3C-46E3-B15E-9E0FE223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E7D4-C7EB-4C83-89E5-3BA16203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BFD3-4DF4-4D96-A270-12B9012E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8E6D-0E0E-4C90-B057-9ACB8229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54F1-E887-4FFB-9FE8-201E4FDD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190D-B7F6-4645-991C-1F7136DC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1574-9BD0-4AAE-BA70-12B1FC38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CB92-46F9-4733-A368-4E0385C9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2620-CB61-4A43-985E-3CBD42847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6999-70B0-418A-AD2A-68C32360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AC5B-CD99-417F-A77D-4204D8E8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BBAF-3850-4185-95D6-7358A74C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C1E4-5298-4F15-8CA3-CE0C3A92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1585-28D0-4600-8B5C-43DAA1A4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6AEC-FF6A-40A6-960A-D9EC3C13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81AA-B9FE-41C2-9EB8-9DF5252F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44FE-94A3-4D68-B8A3-2FE5FCB6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C3DF-D8D6-4B1A-853A-F201D0DB2BC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0683-3B00-4605-B89F-EFD82A740F7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4360" y="691920"/>
            <a:ext cx="46069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36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25 января 1943 г.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Славная дата 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города - солдата</a:t>
            </a:r>
            <a:br>
              <a:rPr sz="6000"/>
            </a:br>
            <a:br>
              <a:rPr sz="6000"/>
            </a:br>
            <a:r>
              <a:rPr b="0" lang="ru-RU" sz="1400" spc="-1" strike="noStrike">
                <a:solidFill>
                  <a:srgbClr val="ffffcc"/>
                </a:solidFill>
                <a:latin typeface="Tahoma"/>
              </a:rPr>
              <a:t>Беспрозванная Т.В.</a:t>
            </a:r>
            <a:br>
              <a:rPr sz="1400"/>
            </a:br>
            <a:r>
              <a:rPr b="0" lang="ru-RU" sz="1400" spc="-1" strike="noStrike">
                <a:solidFill>
                  <a:srgbClr val="ffffcc"/>
                </a:solidFill>
                <a:latin typeface="Tahoma"/>
              </a:rPr>
              <a:t>учитель истории МКОУ Борской СОШ </a:t>
            </a:r>
            <a:br>
              <a:rPr sz="1400"/>
            </a:br>
            <a:r>
              <a:rPr b="0" lang="ru-RU" sz="1400" spc="-1" strike="noStrike">
                <a:solidFill>
                  <a:srgbClr val="ffffcc"/>
                </a:solidFill>
                <a:latin typeface="Tahoma"/>
              </a:rPr>
              <a:t>Рамонского района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 rot="18627000">
            <a:off x="135720" y="766080"/>
            <a:ext cx="45496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«Ротонда»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(разрушенная немцами областная больница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3" name="standalone" descr=""/>
          <p:cNvPicPr/>
          <p:nvPr/>
        </p:nvPicPr>
        <p:blipFill>
          <a:blip r:embed="rId1"/>
          <a:stretch/>
        </p:blipFill>
        <p:spPr>
          <a:xfrm>
            <a:off x="179280" y="1181160"/>
            <a:ext cx="878544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амятник Слав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Чижовский плацдарм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лощадь Побед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379520"/>
            <a:ext cx="914400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87255_html_57ebc656" descr=""/>
          <p:cNvPicPr/>
          <p:nvPr/>
        </p:nvPicPr>
        <p:blipFill>
          <a:blip r:embed="rId1"/>
          <a:stretch/>
        </p:blipFill>
        <p:spPr>
          <a:xfrm>
            <a:off x="2771640" y="0"/>
            <a:ext cx="366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-24300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Немецкие танки на улицах Воронежа, 1942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78408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35640" y="115560"/>
            <a:ext cx="34574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Военный патруль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на улице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20-летие Октября,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лето 1942.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276880" cy="3676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4232160" y="2919240"/>
            <a:ext cx="4911840" cy="3938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"/>
          <p:cNvSpPr/>
          <p:nvPr/>
        </p:nvSpPr>
        <p:spPr>
          <a:xfrm>
            <a:off x="533880" y="5638680"/>
            <a:ext cx="34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Окраина города, 194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Николай Федорович Ватутин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340000" y="1125360"/>
            <a:ext cx="457344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Иван Данилович Черняховски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4238640" cy="5445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788000" y="1125360"/>
            <a:ext cx="41907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асковья Ивановна Щёголева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9640" y="906480"/>
            <a:ext cx="790920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076720" y="188640"/>
            <a:ext cx="3888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гибла в 35 лет вместе со своей матерью и пятью детьм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я – 9 ле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ее плюшевый жакетик был весь как решето от пуль)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ина – 7 ле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ина – не было двух л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два Николая (сын и племянник) 5 - 6-ти лет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аша испугался. Он сидел в запертом чулане. Вспомнил, что здесь есть узкий лаз. Через него и убежал, спрятался.</a:t>
            </a: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4838760" cy="64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5805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мцы вывезли статую Петра Первог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Германи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5676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20:36:26Z</dcterms:created>
  <dc:creator>Tanya</dc:creator>
  <dc:description/>
  <dc:language>en-US</dc:language>
  <cp:lastModifiedBy>АДМИН</cp:lastModifiedBy>
  <dcterms:modified xsi:type="dcterms:W3CDTF">2019-04-17T20:52:23Z</dcterms:modified>
  <cp:revision>16</cp:revision>
  <dc:subject/>
  <dc:title>  25 января 1943 г.  Славная дата  города- солдата</dc:title>
</cp:coreProperties>
</file>