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C44-2C34-4A42-9E7F-6B8D6D22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57A-81FA-4F82-9DD1-ADCA3BA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A56-4E9F-4041-BC22-EE099FB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F48-C941-4063-B9AB-95E77689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5AA3-E07B-478B-83E9-15D887E8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A34E-45AB-4C93-A544-84E9CCC6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7B2F-CD51-456B-9508-8A80EDC4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DF3-90A5-4F03-B8F0-8CD8AC3A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21ED-2C66-460C-8D46-86BB3FCB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D662-5D67-4AA7-95C4-9259E7FE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522-1332-41AE-AC2F-06032D0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46-41C3-4524-A149-CBC0668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1915-BDED-4F87-8965-DF24F903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DA1-5A5C-41AF-89A1-6D12DB01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EC8E-E794-42CF-86C2-990B1230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FBE-1786-4B56-A09D-5308ACD3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9BA8-4000-40E4-BF7C-72408C1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019-AE4A-454D-A1C2-BAB8921B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A3A-BA42-4D08-9457-57179A2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D6E-33A8-452C-B456-64BC344A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CEA8-AA1B-484A-AEA9-2843233D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3FC-482A-4047-8EE3-F3C25D9F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326-A609-405C-8F38-F3ECF81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7C8-068F-4EC2-B24F-1848EDF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1CD-4C37-4966-8946-D1A42CE9A36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527-FB6B-476C-ABB7-E37AE60102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360" y="691920"/>
            <a:ext cx="46069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36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25 января 1943 г.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Славная дата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орода - солдата</a:t>
            </a:r>
            <a:br>
              <a:rPr sz="6000"/>
            </a:br>
            <a:br>
              <a:rPr sz="60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Беспрозванная Т.В.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учитель истории МКОУ Борской СОШ </a:t>
            </a:r>
            <a:br>
              <a:rPr sz="1400"/>
            </a:br>
            <a:r>
              <a:rPr b="0" lang="ru-RU" sz="1400" spc="-1" strike="noStrike">
                <a:solidFill>
                  <a:srgbClr val="ffffcc"/>
                </a:solidFill>
                <a:latin typeface="Tahoma"/>
              </a:rPr>
              <a:t>Рамонского район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18627000">
            <a:off x="135720" y="766080"/>
            <a:ext cx="4549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Ротонда»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разрушенная немцами областная больница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standalone" descr=""/>
          <p:cNvPicPr/>
          <p:nvPr/>
        </p:nvPicPr>
        <p:blipFill>
          <a:blip r:embed="rId1"/>
          <a:stretch/>
        </p:blipFill>
        <p:spPr>
          <a:xfrm>
            <a:off x="179280" y="1181160"/>
            <a:ext cx="87854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амятник Сла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Чижовский плацдар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лощадь Побед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7952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87255_html_57ebc656" descr=""/>
          <p:cNvPicPr/>
          <p:nvPr/>
        </p:nvPicPr>
        <p:blipFill>
          <a:blip r:embed="rId1"/>
          <a:stretch/>
        </p:blipFill>
        <p:spPr>
          <a:xfrm>
            <a:off x="2771640" y="0"/>
            <a:ext cx="36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-2430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мецкие танки на улицах Воронежа, 194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640" y="115560"/>
            <a:ext cx="34574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оенный патруль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улице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20-летие Октября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лето 1942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276880" cy="367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232160" y="2919240"/>
            <a:ext cx="4911840" cy="3938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33880" y="563868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краина города, 19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иколай Федорович Ватути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5734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ван Данилович Черняховск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238640" cy="54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8000" y="1125360"/>
            <a:ext cx="41907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асковья Ивановна Щёголев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9640" y="906480"/>
            <a:ext cx="79092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76720" y="188640"/>
            <a:ext cx="388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гибла в 35 лет вместе со своей матерью и пятью деть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я – 9 л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ее плюшевый жакетик был весь как решето от пуль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на – 7 л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на – не было двух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ва Николая (сын и племянник) 5 - 6-ти лет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ша испугался. Он сидел в запертом чулане. Вспомнил, что здесь есть узкий лаз. Через него и убежал, спрятался.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38760" cy="64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80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мцы вывезли статую Петра Перв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Герм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7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20:36:26Z</dcterms:created>
  <dc:creator>Tanya</dc:creator>
  <dc:description/>
  <dc:language>en-US</dc:language>
  <cp:lastModifiedBy>АДМИН</cp:lastModifiedBy>
  <dcterms:modified xsi:type="dcterms:W3CDTF">2019-04-17T20:52:23Z</dcterms:modified>
  <cp:revision>16</cp:revision>
  <dc:subject/>
  <dc:title>  25 января 1943 г.  Славная дата  города- солдата</dc:title>
</cp:coreProperties>
</file>