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FF2-1A14-4D10-8400-B4E78EDE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1F0-4B5B-47A5-BDCC-3287F61C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C191-A26E-4A80-AF3F-EB38A7F0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D26-1478-4ABD-B5C2-BD30F79A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F972-1C8C-45E3-9ADA-59AA5C27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D937-37C2-4155-9022-DE291BDF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9921-A28A-4390-83A3-C40E0B18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BFB3-EE97-4229-8198-06D9602C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33C9-CEEF-41AF-ADC2-7748FE12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15D3-F859-42CF-B5D2-C72F570A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0A87-340E-4188-97E0-C1B09E80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8AD8-B632-42BB-B220-9BC943C4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899C-BB89-4AEE-9619-C40CDA93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2741-5F28-4465-A554-26F8EFC6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ECCD-8FD1-428B-8371-14B8E445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D437-81F6-4166-B0C8-030A9D96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E267-524B-4342-9B40-488A6C8B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CE6-9134-4A7F-928D-427B4F3A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A31-1C1F-43C0-BA90-4D2AB8D1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3D3-7686-4645-96C3-806BB0F9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B177-C747-4182-8D1F-B8A6D4CD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C787-DB56-4E41-9B86-5F090D0C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BC0-BAC6-42CA-82DE-83F14E7A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1435-134C-494D-87AE-F0B8AC41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6A71-1B08-4806-B8B6-18869574B75A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3533-79B1-48BA-A60C-A3E520CA8B6D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Автоматизация 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[р] 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в  середине  слов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норк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2179800" y="1981080"/>
            <a:ext cx="4782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фартук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термос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арбуз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836720" y="1981080"/>
            <a:ext cx="546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арт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2382840" y="1981080"/>
            <a:ext cx="437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орден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2484360" y="1981080"/>
            <a:ext cx="4173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ерсик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500200" y="1981080"/>
            <a:ext cx="4143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горк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3149640" y="1981080"/>
            <a:ext cx="2843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арт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954080" y="1981080"/>
            <a:ext cx="523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орк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811160" y="1981080"/>
            <a:ext cx="551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ширм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836720" y="1981080"/>
            <a:ext cx="546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одарк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811160" y="1981080"/>
            <a:ext cx="551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4T08:20:43Z</dcterms:created>
  <dc:creator>Алексей</dc:creator>
  <dc:description/>
  <dc:language>en-US</dc:language>
  <cp:lastModifiedBy>Дима</cp:lastModifiedBy>
  <dcterms:modified xsi:type="dcterms:W3CDTF">2019-04-15T19:14:34Z</dcterms:modified>
  <cp:revision>3</cp:revision>
  <dc:subject/>
  <dc:title>Автоматизация  [р]  в середине  слова</dc:title>
</cp:coreProperties>
</file>