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A62-8B93-42FD-8A00-D2EE7C1C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3F8-6951-447D-A91C-AF8B2606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4BBB-5DEE-4489-A83A-855F9215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262-8673-4C01-AF24-DB3DD3E8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597B-50DE-404D-AF31-827A4BF3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42E5-4B3B-4607-8DC6-406C5AB7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AFA9-1AB1-4F5A-BE1A-B2619A99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176A-0F46-48D8-9ECC-2698F562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4885-2C4A-4A0D-80C7-1796DF79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D451-76EC-49F6-9139-02AD133E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65A1-D10D-40AD-AAAA-9BBDAFB2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15BA-4DD4-45CD-ACD2-48B3C506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9BD4-071B-4C40-A03F-58EDFE7A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F4AF-D1AA-43C5-9C83-6BD38398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01AC-F85D-4F93-A55D-ADEA19F8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33F5-FE50-4A5C-A645-6F31E31D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3DF6-154D-4A57-A66E-E20AED41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657-555B-435E-97AA-44E3DD0F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6F69-8996-433C-8BE8-6DBE90AB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D11-94F8-4D00-BD68-E0EC1631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0847-E907-40D0-82AC-65528319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A28-68A9-451E-B1EC-BD474F4B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3134-C4BE-44B6-A310-2948B951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C705-162C-443C-924F-992E4BDA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64EF-18A8-49EE-99FF-6F6EBE34B20D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5976-4401-4C5B-AF8F-34A5BD15EB11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Автоматизация 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[р] </a:t>
            </a:r>
            <a:br>
              <a:rPr sz="4400"/>
            </a:b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в  середине  слов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норк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2179800" y="1981080"/>
            <a:ext cx="4782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фартук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термос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арбуз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836720" y="1981080"/>
            <a:ext cx="546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карт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2382840" y="1981080"/>
            <a:ext cx="437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орден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2484360" y="1981080"/>
            <a:ext cx="4173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ерсик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500200" y="1981080"/>
            <a:ext cx="4143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горк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3149640" y="1981080"/>
            <a:ext cx="2843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арт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954080" y="1981080"/>
            <a:ext cx="523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корк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811160" y="1981080"/>
            <a:ext cx="551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ширм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836720" y="1981080"/>
            <a:ext cx="546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одарк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811160" y="1981080"/>
            <a:ext cx="551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4T08:20:43Z</dcterms:created>
  <dc:creator>Алексей</dc:creator>
  <dc:description/>
  <dc:language>en-US</dc:language>
  <cp:lastModifiedBy>Дима</cp:lastModifiedBy>
  <dcterms:modified xsi:type="dcterms:W3CDTF">2019-04-15T19:14:34Z</dcterms:modified>
  <cp:revision>3</cp:revision>
  <dc:subject/>
  <dc:title>Автоматизация  [р]  в середине  слова</dc:title>
</cp:coreProperties>
</file>