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7320" cy="3441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D1BFF-06DD-4C27-82AF-1ACE88A912E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ED989-5337-4D77-AB54-93F43B7F00B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EDC46-3B26-49E0-868A-40A36A2E8D4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46502-8238-43FB-8542-BB4AE08503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CD944-ECDC-4BD9-9550-B1E2AC5CD1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F98D2-51C6-4543-AEA6-5C8E739CA14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17221-9B71-49FE-A268-2AF19FCE66A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7BA27-E965-46C3-8D3F-8BB5C05239B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14ACD-C648-48BE-9A02-AA51246D30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A2678-B271-4DB6-8F8B-36610C8CEE8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1FD9B-7D04-442A-8A2A-E9810D7A8E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C5754-B9CD-45B5-B32A-B8D5D64775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3BA18-FFDE-4121-AB8F-9188238E6D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EC259-7B89-4F99-B930-8A18518B020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C0469-57B7-4037-94CE-86E6A4B9F98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069C2-C5A4-431D-9926-263177D9F50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78443-B188-4EB7-988F-24F02C5B075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CF23-D2FB-4D5F-8B14-A875BA5F3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2367-2F0F-4A36-80D5-BF0D2ACDE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4F13-2AD5-4FFE-9600-A24CACCE4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C8FC-2FB9-46AA-A746-9269A7E584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1FCB-36BD-4F71-A503-D89B6A2809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E244-FB60-4B70-913C-1D5DE8D73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A5356-74ED-43EB-9B3F-6A8630B6F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A544-ED8A-4D5E-B097-FB81982EE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280"/>
            <a:ext cx="822492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2C8F-72A8-4694-B8CD-3E060FBF6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1373-2223-4A41-ABAB-5AE2CD478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B2A2-613B-4A3D-A406-ADE830B07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EBE6-77AE-4436-A758-E789C8881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280"/>
            <a:ext cx="822492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4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F830BA-77F9-4C0D-9AC3-E90AE90B8FE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2232000"/>
            <a:ext cx="2087640" cy="196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2050920" y="4005360"/>
            <a:ext cx="6481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79280" y="5950080"/>
            <a:ext cx="1800360" cy="647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340000" y="5950080"/>
            <a:ext cx="1800360" cy="907920"/>
          </a:xfrm>
          <a:prstGeom prst="rect">
            <a:avLst/>
          </a:prstGeom>
          <a:solidFill>
            <a:srgbClr val="00b8ff"/>
          </a:soli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340000" y="5950080"/>
            <a:ext cx="1800360" cy="907920"/>
          </a:xfrm>
          <a:prstGeom prst="rect">
            <a:avLst/>
          </a:prstGeom>
          <a:solidFill>
            <a:srgbClr val="00b8ff"/>
          </a:soli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340000" y="5950080"/>
            <a:ext cx="1800360" cy="907920"/>
          </a:xfrm>
          <a:prstGeom prst="rect">
            <a:avLst/>
          </a:prstGeom>
          <a:solidFill>
            <a:srgbClr val="00b8ff"/>
          </a:soli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5796000" y="0"/>
            <a:ext cx="2736720" cy="907920"/>
          </a:xfrm>
          <a:prstGeom prst="rect">
            <a:avLst/>
          </a:prstGeom>
          <a:solidFill>
            <a:srgbClr val="00b8ff"/>
          </a:solidFill>
          <a:ln cap="rnd" w="936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638440" y="2209680"/>
            <a:ext cx="571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Интернет - зона безопасност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70080" y="4248000"/>
            <a:ext cx="57135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1071720" y="785880"/>
            <a:ext cx="621504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оровье - это состояние полного физического, психического и социального благополучия, а не только отсутствие болезней и физических недостат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929280" y="3500280"/>
            <a:ext cx="1827360" cy="27576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2268360" y="4797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9640" y="95400"/>
            <a:ext cx="8353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7201080" cy="50421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"/>
          <p:cNvSpPr/>
          <p:nvPr/>
        </p:nvSpPr>
        <p:spPr>
          <a:xfrm>
            <a:off x="900000" y="333360"/>
            <a:ext cx="7415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 результатам опроса НИИ школьных технологий. Подростки от 10 до 17 лет на вопрос «Чем ты обычно занимаешься в свободное время?» ответи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500720" y="2060640"/>
            <a:ext cx="409572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2, 2 % - общаюсь в се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8, 1 % - читаю книг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0,1 % - посещаю кружки, се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44, 9 % - играют в компьютерные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3, 7 % - общаюсь по телефон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1,1 % провожу время с друзь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4, 2 % - смотрю телевизо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86856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900000" y="404640"/>
            <a:ext cx="77025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пьютерная зависимость —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42920" y="1844640"/>
            <a:ext cx="72644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трастие к занятиям, связанным с использованием компьютера, приводящее к резкому сокращению всех остальных видов деятельности, ограничению общения с другими людь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2438280" cy="1895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826920" y="333360"/>
            <a:ext cx="7631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ризнаки зависимости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11280" y="1125360"/>
            <a:ext cx="703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ест, пьет чай, готовит уроки у компью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л хотя бы одну ночь у компью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улял школу – сидел за компьюте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ходит домой, и сразу к компьют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ыл поесть, почистить зубы (раньше такого не наблюдалос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бывает в плохом, раздраженном настроении, не может ничем заняться, если компьютер слома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ликтует, угрожает, шантажирует в ответ на запрет сидеть за компьюте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7415280" y="4500720"/>
            <a:ext cx="17287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1042920" y="404640"/>
            <a:ext cx="74152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ие опасности и неприятности таит в себе сеть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00000" y="2637000"/>
            <a:ext cx="7624800" cy="39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ые ата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шенничеств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к ненужн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желательное общ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6012000" y="191628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826920" y="260280"/>
            <a:ext cx="741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Общие правила для родител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11280" y="1341360"/>
            <a:ext cx="8137440" cy="50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айте собственную компьютерную грамот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уйтесь Интернетом вместе с дет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еляйте больше внимания нравственному воспитанию ребёнка, обучайте его компьютерной грамотности и правилам безопасной работы в Се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те другом и советчи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йтесь с ребенком, обсуждайте его достижения, предлагайте помощ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08040"/>
                <a:tab algn="l" pos="1055520"/>
                <a:tab algn="l" pos="1504800"/>
                <a:tab algn="l" pos="1954080"/>
                <a:tab algn="l" pos="2403360"/>
                <a:tab algn="l" pos="2852640"/>
                <a:tab algn="l" pos="3301920"/>
                <a:tab algn="l" pos="3751200"/>
                <a:tab algn="l" pos="4200480"/>
                <a:tab algn="l" pos="4649760"/>
                <a:tab algn="l" pos="5099040"/>
                <a:tab algn="l" pos="5548320"/>
                <a:tab algn="l" pos="5997600"/>
                <a:tab algn="l" pos="6446880"/>
                <a:tab algn="l" pos="6896160"/>
                <a:tab algn="l" pos="7345440"/>
                <a:tab algn="l" pos="7794720"/>
                <a:tab algn="l" pos="8244000"/>
                <a:tab algn="l" pos="8693280"/>
                <a:tab algn="l" pos="9142560"/>
                <a:tab algn="l" pos="95918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ложите детям в качестве альтернативы познавательные, интересные и увлекательные ресур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Учитель</cp:lastModifiedBy>
  <dcterms:modified xsi:type="dcterms:W3CDTF">2017-09-28T08:14:13Z</dcterms:modified>
  <cp:revision>111</cp:revision>
  <dc:subject/>
  <dc:title>Презентация PowerPoint</dc:title>
</cp:coreProperties>
</file>