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7320" cy="344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904DF-10A9-49B5-8F2A-6566DDAFC8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CB07C-3F28-4C33-AD13-E2DE464BB6B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AA6F2-31C4-4F97-8390-06BADDE9154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B5C70-FB90-46DD-9AB6-D5007FEF3C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4D1A8-7867-4B17-9564-6D457F7EDC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E924C-F84C-4912-9739-F60B929438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B9826-F24E-4E0B-BE44-5426C01A12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7F5FC-0129-491B-A294-6AA5062887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8A90A-B527-4068-9856-FCD612E7368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B8731-91E4-4261-A38B-E5ADE95797A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EA317-8C91-4684-96F2-B1DF5D64F55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151B4-D5F6-4925-B118-C5FC359C29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D45BC-ECB4-4D10-B42D-5C2D655903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2CD75-1D50-4F06-A286-5A9FFC3CCDD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11F50-B8A1-4A83-9950-74872214388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88A9E-F34B-4B84-9BF3-B94DBF544F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7EF78-DB04-47C0-9CCB-F3D52E401B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26F4-AC52-4EDC-9ADF-81A1D84D0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91B7-8AAA-491D-BB03-6ECB9F42E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7AE3-2061-433E-96FF-2C9B68A32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3618-8FAC-49E0-B733-2B90026B46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4368-4D07-4478-94D9-1395B932F3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23D6-57C8-42BB-ACB4-D831C7756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84EB-E9BD-4541-8B26-47432FFD6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B6D3-17F6-4C7D-8901-B1060E012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280"/>
            <a:ext cx="822492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534B-7E3A-41EB-8717-7D3BACACF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3AB5-836D-4974-A2C2-5C575A589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74F4-482D-4674-8476-7E415433B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A2A2-8318-4EA2-90C1-D455F6E6C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4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7D0FE9-B7A4-43FD-AB05-D83A404F667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2232000"/>
            <a:ext cx="2087640" cy="196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79280" y="5950080"/>
            <a:ext cx="1800360" cy="64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340000" y="5950080"/>
            <a:ext cx="1800360" cy="907920"/>
          </a:xfrm>
          <a:prstGeom prst="rect">
            <a:avLst/>
          </a:prstGeom>
          <a:solidFill>
            <a:srgbClr val="00b8ff"/>
          </a:soli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340000" y="5950080"/>
            <a:ext cx="1800360" cy="907920"/>
          </a:xfrm>
          <a:prstGeom prst="rect">
            <a:avLst/>
          </a:prstGeom>
          <a:solidFill>
            <a:srgbClr val="00b8ff"/>
          </a:soli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340000" y="5950080"/>
            <a:ext cx="1800360" cy="907920"/>
          </a:xfrm>
          <a:prstGeom prst="rect">
            <a:avLst/>
          </a:prstGeom>
          <a:solidFill>
            <a:srgbClr val="00b8ff"/>
          </a:soli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5796000" y="0"/>
            <a:ext cx="2736720" cy="907920"/>
          </a:xfrm>
          <a:prstGeom prst="rect">
            <a:avLst/>
          </a:prstGeom>
          <a:solidFill>
            <a:srgbClr val="00b8ff"/>
          </a:soli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638440" y="2209680"/>
            <a:ext cx="571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Интернет - зона безопасност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70080" y="4248000"/>
            <a:ext cx="57135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1071720" y="785880"/>
            <a:ext cx="62150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оровье - это состояние полного физического, психического и социального благополучия, а не только отсутствие болезней и физических недостат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929280" y="3500280"/>
            <a:ext cx="182736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2268360" y="4797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9640" y="95400"/>
            <a:ext cx="8353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201080" cy="5042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900000" y="333360"/>
            <a:ext cx="7415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 результатам опроса НИИ школьных технологий. Подростки от 10 до 17 лет на вопрос «Чем ты обычно занимаешься в свободное время?» ответи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500720" y="2060640"/>
            <a:ext cx="409572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, 2 % - общаюсь в се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, 1 % - читаю кн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0,1 % - посещаю кружки, се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4, 9 % - играют в компьютерные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3, 7 % - общаюсь по телефон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1,1 % провожу время с друзь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4, 2 % - смотрю телевиз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86856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900000" y="404640"/>
            <a:ext cx="77025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пьютерная зависимость —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42920" y="1844640"/>
            <a:ext cx="72644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трастие к занятиям, связанным с использованием компьютера, приводящее к резкому сокращению всех остальных видов деятельности, ограничению общения с другими люд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2438280" cy="1895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826920" y="333360"/>
            <a:ext cx="7631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изнаки зависимости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11280" y="1125360"/>
            <a:ext cx="703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ест, пьет чай, готовит уроки у компью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л хотя бы одну ночь у компью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ял школу – сидел за компьюте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ходит домой, и сразу к компьют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ыл поесть, почистить зубы (раньше такого не наблюдалос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бывает в плохом, раздраженном настроении, не может ничем заняться, если компьютер слома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ликтует, угрожает, шантажирует в ответ на запрет сидеть за компьюте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7415280" y="4500720"/>
            <a:ext cx="17287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1042920" y="404640"/>
            <a:ext cx="74152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ие опасности и неприятности таит в себе сеть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00000" y="2637000"/>
            <a:ext cx="7624800" cy="39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ые ата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шенниче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к ненужн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желательное общ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6012000" y="191628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826920" y="260280"/>
            <a:ext cx="741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щие правила для родител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11280" y="1341360"/>
            <a:ext cx="8137440" cy="50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айте собственную компьютерную грамот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уйтесь Интернетом вместе с дет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еляйте больше внимания нравственному воспитанию ребёнка, обучайте его компьютерной грамотности и правилам безопасной работы в Се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те другом и советч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йтесь с ребенком, обсуждайте его достижения, предлагайте помощ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ложите детям в качестве альтернативы познавательные, интересные и увлекательные ресур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Учитель</cp:lastModifiedBy>
  <dcterms:modified xsi:type="dcterms:W3CDTF">2017-09-28T08:14:13Z</dcterms:modified>
  <cp:revision>111</cp:revision>
  <dc:subject/>
  <dc:title>Презентация PowerPoint</dc:title>
</cp:coreProperties>
</file>