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6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15E2-F89A-4E86-A461-C6CAE81A6C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11C9-3767-4E74-BF3F-EC5FE783F6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FEE-B068-46B1-AF56-C27E54B6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764-0E57-4F86-9765-BE73DC9D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790-9137-421D-B9F1-505AEBC6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805-15F9-40D7-B81E-A077371F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4B0-2100-42DE-A5C1-048DFCF4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8F8-2306-4826-948B-DBA96C89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08B-2EE4-4EAB-8DE6-CCB337C6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FA3-1050-4A76-A499-6A40AA7D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655-A9D1-478D-ADDD-B6081E0B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8F6-A056-4C14-A966-DF63BE0F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6D9-EF0A-40E5-B30D-D2E04D84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D47-72E3-4915-9CD6-0E59E215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C081-4095-496B-A7B5-549194EDF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5357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Х</a:t>
            </a:r>
            <a:r>
              <a:rPr b="1" lang="tt-RU" sz="2400" spc="-1" strike="noStrike">
                <a:solidFill>
                  <a:srgbClr val="c00000"/>
                </a:solidFill>
                <a:latin typeface="Arial"/>
              </a:rPr>
              <a:t>езмәт булган җирдә уңыш б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3880" y="2643120"/>
            <a:ext cx="7858440" cy="13240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Arial"/>
              </a:rPr>
              <a:t>ДӘРЕСТӘН ТЫШ  ВАКЫТТА СӘЛӘТЛЕ БАЛАЛАР БЕЛӘН ЭШЛӘ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ыямова Г.Р.- Алан у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әктәбенең югары категория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ар теле һәм әдәбия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tt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ытучы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14240" y="785880"/>
            <a:ext cx="3214800" cy="20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643200" y="2214720"/>
            <a:ext cx="3635640" cy="1722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3786120" y="500040"/>
            <a:ext cx="2087640" cy="15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2071800" y="3000240"/>
            <a:ext cx="1512720" cy="18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5"/>
          <a:stretch/>
        </p:blipFill>
        <p:spPr>
          <a:xfrm>
            <a:off x="785880" y="3214800"/>
            <a:ext cx="1581120" cy="2000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Comp\Desktop\документлар фото\02YylCooBQA.jpg"/>
          <p:cNvPicPr/>
          <p:nvPr/>
        </p:nvPicPr>
        <p:blipFill>
          <a:blip r:embed="rId6"/>
          <a:stretch/>
        </p:blipFill>
        <p:spPr>
          <a:xfrm>
            <a:off x="7358040" y="1785960"/>
            <a:ext cx="144468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Users\Comp\Desktop\документлар фото\DSCF1802.JPG"/>
          <p:cNvPicPr/>
          <p:nvPr/>
        </p:nvPicPr>
        <p:blipFill>
          <a:blip r:embed="rId7"/>
          <a:stretch/>
        </p:blipFill>
        <p:spPr>
          <a:xfrm>
            <a:off x="6500880" y="4000680"/>
            <a:ext cx="2428920" cy="1571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8"/>
          <a:stretch/>
        </p:blipFill>
        <p:spPr>
          <a:xfrm>
            <a:off x="5072040" y="4071960"/>
            <a:ext cx="1244520" cy="1928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9"/>
          <a:stretch/>
        </p:blipFill>
        <p:spPr>
          <a:xfrm>
            <a:off x="3571920" y="3571920"/>
            <a:ext cx="1204920" cy="1857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Comp\Desktop\IMG_4104.JPG"/>
          <p:cNvPicPr/>
          <p:nvPr/>
        </p:nvPicPr>
        <p:blipFill>
          <a:blip r:embed="rId10"/>
          <a:stretch/>
        </p:blipFill>
        <p:spPr>
          <a:xfrm>
            <a:off x="428760" y="5286240"/>
            <a:ext cx="2643120" cy="1263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Users\Comp\Desktop\документлар фото\IMG_4106.JPG"/>
          <p:cNvPicPr/>
          <p:nvPr/>
        </p:nvPicPr>
        <p:blipFill>
          <a:blip r:embed="rId11"/>
          <a:stretch/>
        </p:blipFill>
        <p:spPr>
          <a:xfrm>
            <a:off x="6429240" y="428760"/>
            <a:ext cx="2286000" cy="1234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Comp\Desktop\документлар фото\IMG_4112.JPG"/>
          <p:cNvPicPr/>
          <p:nvPr/>
        </p:nvPicPr>
        <p:blipFill>
          <a:blip r:embed="rId12"/>
          <a:stretch/>
        </p:blipFill>
        <p:spPr>
          <a:xfrm>
            <a:off x="3571920" y="5429160"/>
            <a:ext cx="1928880" cy="1217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Comp\Desktop\документлар фото\IMG_4110.JPG"/>
          <p:cNvPicPr/>
          <p:nvPr/>
        </p:nvPicPr>
        <p:blipFill>
          <a:blip r:embed="rId13"/>
          <a:stretch/>
        </p:blipFill>
        <p:spPr>
          <a:xfrm>
            <a:off x="6786720" y="5572080"/>
            <a:ext cx="13698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7030a0"/>
                </a:solidFill>
                <a:latin typeface="Arial"/>
              </a:rPr>
              <a:t>      </a:t>
            </a:r>
            <a:r>
              <a:rPr b="0" i="1" lang="tt-RU" sz="3200" spc="-1" strike="noStrike">
                <a:solidFill>
                  <a:srgbClr val="7030a0"/>
                </a:solidFill>
                <a:latin typeface="Arial"/>
              </a:rPr>
              <a:t>Кешегә бетмәс-төкәнмәс иҗат чыганагы салынган. Менә шул                                     чыганакны ачарга, иреккә чыгарыр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i="1" lang="tt-RU" sz="3200" spc="-1" strike="noStrike">
                <a:solidFill>
                  <a:srgbClr val="7030a0"/>
                </a:solidFill>
                <a:latin typeface="Arial"/>
              </a:rPr>
              <a:t>кешегә иҗтимагый тормышта урынын табарга булышырга, аңа үс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7030a0"/>
                </a:solidFill>
                <a:latin typeface="Arial"/>
              </a:rPr>
              <a:t>өчен тиешле шартлар тудыры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7030a0"/>
                </a:solidFill>
                <a:latin typeface="Arial"/>
              </a:rPr>
              <a:t>кирә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7030a0"/>
                </a:solidFill>
                <a:latin typeface="Arial"/>
              </a:rPr>
              <a:t>                                             </a:t>
            </a:r>
            <a:r>
              <a:rPr b="0" i="1" lang="tt-RU" sz="3200" spc="-1" strike="noStrike">
                <a:solidFill>
                  <a:srgbClr val="7030a0"/>
                </a:solidFill>
                <a:latin typeface="Arial"/>
              </a:rPr>
              <a:t>Л.Н.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8"/>
          <p:cNvSpPr/>
          <p:nvPr/>
        </p:nvSpPr>
        <p:spPr>
          <a:xfrm>
            <a:off x="2000160" y="333360"/>
            <a:ext cx="6929640" cy="916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ФЕДЕРАЦИЯСЕ МӘГАРИФ ҺӘМ ФӘН МИНИСТРЛЫГ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әләтле балалар “федераль максатчан программасы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13"/>
          <p:cNvSpPr/>
          <p:nvPr/>
        </p:nvSpPr>
        <p:spPr>
          <a:xfrm>
            <a:off x="285840" y="2000160"/>
            <a:ext cx="3857400" cy="4572000"/>
          </a:xfrm>
          <a:custGeom>
            <a:avLst/>
            <a:gdLst>
              <a:gd name="textAreaLeft" fmla="*/ 188280 w 3857400"/>
              <a:gd name="textAreaRight" fmla="*/ 3669120 w 3857400"/>
              <a:gd name="textAreaTop" fmla="*/ 188280 h 4572000"/>
              <a:gd name="textAreaBottom" fmla="*/ 4383720 h 4572000"/>
            </a:gdLst>
            <a:ahLst/>
            <a:rect l="textAreaLeft" t="textAreaTop" r="textAreaRight" b="textAreaBottom"/>
            <a:pathLst>
              <a:path w="21600" h="25601">
                <a:moveTo>
                  <a:pt x="3600" y="0"/>
                </a:moveTo>
                <a:arcTo wR="3600" hR="3600" stAng="16200000" swAng="-5400000"/>
                <a:lnTo>
                  <a:pt x="0" y="22001"/>
                </a:lnTo>
                <a:arcTo wR="3600" hR="3600" stAng="10800000" swAng="-5400000"/>
                <a:lnTo>
                  <a:pt x="18000" y="256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4"/>
          <p:cNvSpPr/>
          <p:nvPr/>
        </p:nvSpPr>
        <p:spPr>
          <a:xfrm>
            <a:off x="4500720" y="1928880"/>
            <a:ext cx="3643200" cy="4643280"/>
          </a:xfrm>
          <a:custGeom>
            <a:avLst/>
            <a:gdLst>
              <a:gd name="textAreaLeft" fmla="*/ 177840 w 3643200"/>
              <a:gd name="textAreaRight" fmla="*/ 3465360 w 3643200"/>
              <a:gd name="textAreaTop" fmla="*/ 177840 h 4643280"/>
              <a:gd name="textAreaBottom" fmla="*/ 4465440 h 4643280"/>
            </a:gdLst>
            <a:ahLst/>
            <a:rect l="textAreaLeft" t="textAreaTop" r="textAreaRight" b="textAreaBottom"/>
            <a:pathLst>
              <a:path w="21600" h="27529">
                <a:moveTo>
                  <a:pt x="3600" y="0"/>
                </a:moveTo>
                <a:arcTo wR="3600" hR="3600" stAng="16200000" swAng="-5400000"/>
                <a:lnTo>
                  <a:pt x="0" y="23929"/>
                </a:lnTo>
                <a:arcTo wR="3600" hR="3600" stAng="10800000" swAng="-5400000"/>
                <a:lnTo>
                  <a:pt x="18000" y="27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ыгнутая вверх стрелка 15"/>
          <p:cNvSpPr/>
          <p:nvPr/>
        </p:nvSpPr>
        <p:spPr>
          <a:xfrm>
            <a:off x="3500280" y="1428840"/>
            <a:ext cx="1428840" cy="428400"/>
          </a:xfrm>
          <a:custGeom>
            <a:avLst/>
            <a:gdLst>
              <a:gd name="textAreaLeft" fmla="*/ 316800 w 1428840"/>
              <a:gd name="textAreaRight" fmla="*/ 1058400 w 142884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5" hR="21600" stAng="10800000" swAng="5400000"/>
                <a:lnTo>
                  <a:pt x="11205" y="0"/>
                </a:lnTo>
                <a:arcTo wR="9585" hR="21600" stAng="-5400000" swAng="3588404"/>
                <a:lnTo>
                  <a:pt x="21296" y="16200"/>
                </a:lnTo>
                <a:lnTo>
                  <a:pt x="19980" y="21600"/>
                </a:lnTo>
                <a:lnTo>
                  <a:pt x="18056" y="16200"/>
                </a:lnTo>
                <a:lnTo>
                  <a:pt x="18866" y="16200"/>
                </a:lnTo>
                <a:arcTo wR="9585" hR="21600" stAng="-1811596" swAng="-3459087"/>
                <a:lnTo>
                  <a:pt x="10395" y="77"/>
                </a:lnTo>
                <a:arcTo wR="9585" hR="21600" stAng="-5529317" swAng="-5270683"/>
                <a:close/>
              </a:path>
              <a:path fill="darkenLess" w="21600" h="21600">
                <a:moveTo>
                  <a:pt x="0" y="21600"/>
                </a:moveTo>
                <a:arcTo wR="9585" hR="21600" stAng="10800000" swAng="5400000"/>
                <a:lnTo>
                  <a:pt x="9585" y="0"/>
                </a:lnTo>
                <a:arcTo wR="9585" hR="21600" stAng="-5400000" swAng="129317"/>
                <a:lnTo>
                  <a:pt x="10395" y="77"/>
                </a:lnTo>
                <a:arcTo wR="9585" hR="21600" stAng="-5529317" swAng="-5270683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ыгнутая влево стрелка 16"/>
          <p:cNvSpPr/>
          <p:nvPr/>
        </p:nvSpPr>
        <p:spPr>
          <a:xfrm rot="5138400">
            <a:off x="3731040" y="945360"/>
            <a:ext cx="466560" cy="1395360"/>
          </a:xfrm>
          <a:custGeom>
            <a:avLst/>
            <a:gdLst>
              <a:gd name="textAreaLeft" fmla="*/ 62280 w 466560"/>
              <a:gd name="textAreaRight" fmla="*/ 404280 w 466560"/>
              <a:gd name="textAreaTop" fmla="*/ 304920 h 1395360"/>
              <a:gd name="textAreaBottom" fmla="*/ 1032120 h 139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46" stAng="-5400000" swAng="-5400000"/>
                <a:lnTo>
                  <a:pt x="0" y="11252"/>
                </a:lnTo>
                <a:arcTo wR="21600" hR="9446" stAng="10800000" swAng="-3566416"/>
                <a:lnTo>
                  <a:pt x="16200" y="21300"/>
                </a:lnTo>
                <a:lnTo>
                  <a:pt x="21600" y="19794"/>
                </a:lnTo>
                <a:lnTo>
                  <a:pt x="16200" y="17688"/>
                </a:lnTo>
                <a:lnTo>
                  <a:pt x="16200" y="18591"/>
                </a:lnTo>
                <a:arcTo wR="21600" hR="9446" stAng="7233584" swAng="3422123"/>
                <a:lnTo>
                  <a:pt x="99" y="10349"/>
                </a:lnTo>
                <a:arcTo wR="21600" hR="9446" stAng="-10655707" swAng="5255707"/>
                <a:close/>
              </a:path>
              <a:path fill="darkenLess" w="21600" h="21600">
                <a:moveTo>
                  <a:pt x="21600" y="0"/>
                </a:moveTo>
                <a:arcTo wR="21600" hR="9446" stAng="-5400000" swAng="-5400000"/>
                <a:lnTo>
                  <a:pt x="0" y="9446"/>
                </a:lnTo>
                <a:arcTo wR="21600" hR="9446" stAng="10800000" swAng="-144293"/>
                <a:lnTo>
                  <a:pt x="99" y="10349"/>
                </a:lnTo>
                <a:arcTo wR="21600" hR="9446" stAng="-10655707" swAng="5255707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D:\Мои рисунки\школа\Книги\книга Вней писать можно.png"/>
          <p:cNvPicPr/>
          <p:nvPr/>
        </p:nvPicPr>
        <p:blipFill>
          <a:blip r:embed="rId1"/>
          <a:stretch/>
        </p:blipFill>
        <p:spPr>
          <a:xfrm rot="18664200">
            <a:off x="295560" y="107280"/>
            <a:ext cx="1765440" cy="15890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785880" y="2584080"/>
            <a:ext cx="271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Сәләтле балаларны ачыклау һәм үстерүне тәэмин итү өчен шартлар тудыру, аларның потенциаль мөмкинлекләрен тор-мышка ашыру хәзерге заман җәмгыят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дә өстенлекле бурычлар-ның берсе булып тора </a:t>
            </a:r>
            <a:r>
              <a:rPr b="0" lang="tt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4714920" y="265572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Укытучылар һәм халык мәгарифе хезмәткәрләре арасында, шулай ук ата-аналарда сәләтле балаларны ачыклау һәм үстерү юллары турын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tt-RU" sz="1800" spc="-1" strike="noStrike">
                <a:solidFill>
                  <a:srgbClr val="333333"/>
                </a:solidFill>
                <a:latin typeface="Times New Roman"/>
                <a:ea typeface="Calibri"/>
              </a:rPr>
              <a:t>фәнни адекват һәм заманча күзаллаулар форма-лаштыру буенча җитди мәгърифәтчелек эше таләп ител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хема 5" descr=""/>
          <p:cNvPicPr/>
          <p:nvPr/>
        </p:nvPicPr>
        <p:blipFill>
          <a:blip r:embed="rId1"/>
          <a:stretch/>
        </p:blipFill>
        <p:spPr>
          <a:xfrm>
            <a:off x="353880" y="665280"/>
            <a:ext cx="8796600" cy="649116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 rot="5400000">
            <a:off x="-1714320" y="3857400"/>
            <a:ext cx="4714920" cy="71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БУРЫЧЛА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62" name="Picture 5" descr="D:\Мои рисунки\школа\Книги\анимированные\18.gif"/>
          <p:cNvPicPr/>
          <p:nvPr/>
        </p:nvPicPr>
        <p:blipFill>
          <a:blip r:embed="rId2"/>
          <a:stretch/>
        </p:blipFill>
        <p:spPr>
          <a:xfrm rot="1175400">
            <a:off x="6860880" y="-102960"/>
            <a:ext cx="23050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5214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инем бурычлар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523520"/>
            <a:ext cx="8610480" cy="53341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укучыларның белем үсеше дәрәҗәсен төгәл билгеләү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нинди   алым,   эш   формалары   кулланырга кирәклеген билгеләү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укытучы-укучы дуслыгын тагын да нәтиҗәле итү юлларын</a:t>
            </a:r>
            <a:br>
              <a:rPr sz="2400"/>
            </a:b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таб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балада үзбәянең югарылыгы. Аның үз көченә ышанучанлыгын булды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гаиләдә һәм мәктәптә тиешенчә уңай психологик климат туды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D:\Мои рисунки\школа\Книги\анимированные\Рисунок7.gif"/>
          <p:cNvPicPr/>
          <p:nvPr/>
        </p:nvPicPr>
        <p:blipFill>
          <a:blip r:embed="rId1"/>
          <a:stretch/>
        </p:blipFill>
        <p:spPr>
          <a:xfrm rot="926400">
            <a:off x="5482800" y="339840"/>
            <a:ext cx="1089000" cy="108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D:\Мои рисунки\для оформления\маркеры\Immersion1_Yellow.gif"/>
          <p:cNvPicPr/>
          <p:nvPr/>
        </p:nvPicPr>
        <p:blipFill>
          <a:blip r:embed="rId2"/>
          <a:stretch/>
        </p:blipFill>
        <p:spPr>
          <a:xfrm>
            <a:off x="357120" y="16430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D:\Мои рисунки\для оформления\маркеры\Immersion1_Yellow.gif"/>
          <p:cNvPicPr/>
          <p:nvPr/>
        </p:nvPicPr>
        <p:blipFill>
          <a:blip r:embed="rId3"/>
          <a:stretch/>
        </p:blipFill>
        <p:spPr>
          <a:xfrm>
            <a:off x="357120" y="2000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D:\Мои рисунки\для оформления\маркеры\Immersion1_Yellow.gif"/>
          <p:cNvPicPr/>
          <p:nvPr/>
        </p:nvPicPr>
        <p:blipFill>
          <a:blip r:embed="rId4"/>
          <a:stretch/>
        </p:blipFill>
        <p:spPr>
          <a:xfrm>
            <a:off x="357120" y="2928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D:\Мои рисунки\для оформления\маркеры\Immersion1_Yellow.gif"/>
          <p:cNvPicPr/>
          <p:nvPr/>
        </p:nvPicPr>
        <p:blipFill>
          <a:blip r:embed="rId5"/>
          <a:stretch/>
        </p:blipFill>
        <p:spPr>
          <a:xfrm>
            <a:off x="357120" y="40719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D:\Мои рисунки\для оформления\маркеры\Immersion1_Yellow.gif"/>
          <p:cNvPicPr/>
          <p:nvPr/>
        </p:nvPicPr>
        <p:blipFill>
          <a:blip r:embed="rId6"/>
          <a:stretch/>
        </p:blipFill>
        <p:spPr>
          <a:xfrm>
            <a:off x="357120" y="485784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2214720" y="21074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042920" y="5173560"/>
            <a:ext cx="7599600" cy="3700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8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57120" y="114300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2d8a"/>
                </a:solidFill>
                <a:latin typeface="Arial"/>
              </a:rPr>
              <a:t>Укучының сәләтле булуына характерист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D:\Мои рисунки\для оформления\маркеры\whirlscarlet.gif"/>
          <p:cNvPicPr/>
          <p:nvPr/>
        </p:nvPicPr>
        <p:blipFill>
          <a:blip r:embed="rId1"/>
          <a:stretch/>
        </p:blipFill>
        <p:spPr>
          <a:xfrm>
            <a:off x="2071800" y="192888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D:\Мои рисунки\для оформления\маркеры\whirlscarlet.gif"/>
          <p:cNvPicPr/>
          <p:nvPr/>
        </p:nvPicPr>
        <p:blipFill>
          <a:blip r:embed="rId2"/>
          <a:stretch/>
        </p:blipFill>
        <p:spPr>
          <a:xfrm>
            <a:off x="2071800" y="228600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D:\Мои рисунки\для оформления\маркеры\whirlscarlet.gif"/>
          <p:cNvPicPr/>
          <p:nvPr/>
        </p:nvPicPr>
        <p:blipFill>
          <a:blip r:embed="rId3"/>
          <a:stretch/>
        </p:blipFill>
        <p:spPr>
          <a:xfrm>
            <a:off x="2071800" y="25718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D:\Мои рисунки\для оформления\маркеры\whirlscarlet.gif"/>
          <p:cNvPicPr/>
          <p:nvPr/>
        </p:nvPicPr>
        <p:blipFill>
          <a:blip r:embed="rId4"/>
          <a:stretch/>
        </p:blipFill>
        <p:spPr>
          <a:xfrm>
            <a:off x="2071800" y="285768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D:\Мои рисунки\для оформления\маркеры\whirlscarlet.gif"/>
          <p:cNvPicPr/>
          <p:nvPr/>
        </p:nvPicPr>
        <p:blipFill>
          <a:blip r:embed="rId5"/>
          <a:stretch/>
        </p:blipFill>
        <p:spPr>
          <a:xfrm>
            <a:off x="2071800" y="3143160"/>
            <a:ext cx="214200" cy="214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D:\Мои рисунки\для оформления\маркеры\whirlscarlet.gif"/>
          <p:cNvPicPr/>
          <p:nvPr/>
        </p:nvPicPr>
        <p:blipFill>
          <a:blip r:embed="rId6"/>
          <a:stretch/>
        </p:blipFill>
        <p:spPr>
          <a:xfrm>
            <a:off x="2071800" y="342900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2"/>
          <p:cNvSpPr/>
          <p:nvPr/>
        </p:nvSpPr>
        <p:spPr>
          <a:xfrm>
            <a:off x="642960" y="50004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лаларның сәләтле булу өлкәсен ачыкл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4"/>
          <p:cNvSpPr/>
          <p:nvPr/>
        </p:nvSpPr>
        <p:spPr>
          <a:xfrm>
            <a:off x="2428920" y="1857240"/>
            <a:ext cx="439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нып-бел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җ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Шәескә юнәлтелгә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Лидерл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DSC01467"/>
          <p:cNvPicPr/>
          <p:nvPr/>
        </p:nvPicPr>
        <p:blipFill>
          <a:blip r:embed="rId1"/>
          <a:stretch/>
        </p:blipFill>
        <p:spPr>
          <a:xfrm>
            <a:off x="3714840" y="1643040"/>
            <a:ext cx="1581120" cy="2381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1428840" y="928800"/>
            <a:ext cx="2044440" cy="87156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агно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714920" y="714240"/>
            <a:ext cx="1925640" cy="7970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Calibri"/>
              </a:rPr>
              <a:t>Сәләтле өлкә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215040" y="2000160"/>
            <a:ext cx="2071800" cy="100008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шне планлашты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214960" y="4214880"/>
            <a:ext cx="2238480" cy="8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333333"/>
                </a:solidFill>
                <a:latin typeface="Times New Roman"/>
                <a:ea typeface="Calibri"/>
              </a:rPr>
              <a:t>    </a:t>
            </a:r>
            <a:r>
              <a:rPr b="1" lang="tt-RU" sz="1400" spc="-1" strike="noStrike">
                <a:solidFill>
                  <a:srgbClr val="333333"/>
                </a:solidFill>
                <a:latin typeface="Times New Roman"/>
                <a:ea typeface="Calibri"/>
              </a:rPr>
              <a:t>Д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Calibri"/>
              </a:rPr>
              <a:t>әресләрдә проблемал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Calibri"/>
              </a:rPr>
              <a:t>һәм иҗади биремнә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071800" y="4214880"/>
            <a:ext cx="1936800" cy="82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333333"/>
                </a:solidFill>
                <a:latin typeface="Times New Roman"/>
                <a:ea typeface="Calibri"/>
              </a:rPr>
              <a:t>О</a:t>
            </a:r>
            <a:r>
              <a:rPr b="1" lang="ru-RU" sz="1400" spc="-1" strike="noStrike">
                <a:solidFill>
                  <a:srgbClr val="333333"/>
                </a:solidFill>
                <a:latin typeface="Times New Roman"/>
                <a:ea typeface="Calibri"/>
              </a:rPr>
              <a:t>лимпиадаларга индивидуаль әзерл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928800" y="2500200"/>
            <a:ext cx="1666800" cy="73188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9236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лимпиадаларда катнаш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3786120" y="5357880"/>
            <a:ext cx="1751040" cy="322200"/>
          </a:xfrm>
          <a:prstGeom prst="leftArrow">
            <a:avLst>
              <a:gd name="adj1" fmla="val 50000"/>
              <a:gd name="adj2" fmla="val 135866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1285920" y="3500280"/>
            <a:ext cx="495360" cy="1150920"/>
          </a:xfrm>
          <a:prstGeom prst="upArrow">
            <a:avLst>
              <a:gd name="adj1" fmla="val 50000"/>
              <a:gd name="adj2" fmla="val 58085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3000240" y="428760"/>
            <a:ext cx="1774800" cy="398160"/>
          </a:xfrm>
          <a:prstGeom prst="rightArrow">
            <a:avLst>
              <a:gd name="adj1" fmla="val 50000"/>
              <a:gd name="adj2" fmla="val 111438"/>
            </a:avLst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6786720" y="785880"/>
            <a:ext cx="360360" cy="1022400"/>
          </a:xfrm>
          <a:prstGeom prst="downArrow">
            <a:avLst>
              <a:gd name="adj1" fmla="val 50000"/>
              <a:gd name="adj2" fmla="val 70929"/>
            </a:avLst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7786800" y="3214800"/>
            <a:ext cx="317520" cy="1323720"/>
          </a:xfrm>
          <a:prstGeom prst="downArrow">
            <a:avLst>
              <a:gd name="adj1" fmla="val 50000"/>
              <a:gd name="adj2" fmla="val 104223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5389560" y="456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4352400" y="3576960"/>
            <a:ext cx="115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9"/>
          <p:cNvSpPr/>
          <p:nvPr/>
        </p:nvSpPr>
        <p:spPr>
          <a:xfrm>
            <a:off x="1000080" y="573876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ирова Нурзиләнең шәхси белем бирү маршр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хема 12" descr=""/>
          <p:cNvPicPr/>
          <p:nvPr/>
        </p:nvPicPr>
        <p:blipFill>
          <a:blip r:embed="rId1"/>
          <a:stretch/>
        </p:blipFill>
        <p:spPr>
          <a:xfrm>
            <a:off x="-6480" y="328680"/>
            <a:ext cx="915696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500040" y="738360"/>
            <a:ext cx="8143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үбәндәге мәсьәләләрне истә тотарга кирәк дип саный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38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 укытучысын хөрмәт итәргә, ышанырга тиеш. Моның өчен укытучының да төрле бәйгеләрдә катнашып торуы, иҗат кешесе булуы сорала. Бу укучы белән укытучыны тагын да ныграк берләштерә ген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38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ытны кызганмыйча күп эшләү, ләкин көндәлек режимны бозмау. Баланың сәламәтлеге турында да онытырга ярам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38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чының  фәнгә карата кызыксынуы кимемәсен өчен, эшчәнлекне төрләндереп т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3824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чының уңышлары белән горурланып яши белү, һәр уңышы өчен мактау, рәхмәт сүзләре әйтү һ. б.чараларны кул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0:34:30Z</dcterms:created>
  <dc:creator>Тягина И. А.</dc:creator>
  <dc:description/>
  <dc:language>en-US</dc:language>
  <cp:lastModifiedBy>Comp</cp:lastModifiedBy>
  <dcterms:modified xsi:type="dcterms:W3CDTF">2019-04-17T19:05:20Z</dcterms:modified>
  <cp:revision>123</cp:revision>
  <dc:subject/>
  <dc:title>Где труд – там успех.</dc:title>
</cp:coreProperties>
</file>