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35D2F-31DB-45F8-BB48-44599F1CB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12F7D-925D-4122-9E15-AD62D13F3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514A4-58C7-45F6-857D-D7AE80A92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74932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96548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3316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74932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496548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7339A-8421-40F6-949C-DF401E2A9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54473-D0F4-4D6D-B808-CC3D79B72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5DD69-4A49-42E3-A3C4-4D1F63229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A8EE4-A5F9-4BDA-B8B1-B274BB2A1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F6FE8-ECE5-4177-BF8C-6B93862C0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C508A-951D-4766-BC69-F5FA702EE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533160" y="4495680"/>
            <a:ext cx="655452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19B1F-5217-4EF3-B4D0-0DB15742D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932AE-C420-4C70-AE01-FD602D974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87AC7-27CE-49A5-928C-4F0819D97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67B71-8614-41D6-A404-876444832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62384-FD2F-40C5-99BB-1DB6A93BB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CFAB6-E3BF-4DAA-9AD9-2CF88B5F2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8A1EB-C7C0-45FC-A76E-2593593ED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274932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96548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3316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274932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496548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1EBCF-0307-4031-9E31-36A779A39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F4EECD-2F25-4D7F-A4A8-2F38221DE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C56DE6-FDA1-4798-9D4F-B65FAB197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BC379D-750A-417D-AF49-2F4C91B66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C8AD65-F5C2-40D7-B5A3-7C1093C86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4E18EF-913C-4851-AB36-D6B168C08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4E7A4-4C11-4F0B-B096-09713406D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533160" y="4495680"/>
            <a:ext cx="655452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1D84EE-C2FD-4C75-8A57-F5C39A444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2FDC5F-6BB4-4262-85E4-D3B96DABA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D12387-D29B-49A1-B28E-633E4CF47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833013-BACF-4396-B1D9-DE9B901DE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6EA761-474A-4420-A0AA-951F17B9D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249FFF-2FB5-41BA-827F-106B5653E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274932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96548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53316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274932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496548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DF989D-8F86-4BEC-B073-2F35FDCF3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5445CE-4D11-4ADB-AE1B-6B8ADAB4E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C7B829-93DB-48A1-8005-3C5E8AED7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B4E281-F8A5-4E25-9160-756F5C5C6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444DC-F763-498C-8A99-CBAF1375D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E2E5F8-1355-4B4E-8156-038855D14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D01513-3673-4568-B3EB-C7A3A1120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533160" y="4495680"/>
            <a:ext cx="655452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F19D8C-07DE-48BB-84A5-2D2261648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C74EE7-FA5F-4BF3-B717-EE35FEC1E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5F76B4-1491-4E50-B4F0-FA9E1F353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ADD465-CD4A-41C1-82BB-B1C7952C8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A67FA4-4D37-4584-B5D2-A56C2C203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1CEC58-10C1-4D50-949D-90400B8F7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4932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96548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53316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4932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496548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9D69E5-B6EE-466E-8163-E7EC9FB3D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D2046-12B7-4483-BD03-3320483E9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533160" y="4495680"/>
            <a:ext cx="655452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FC9DC-DA96-4D82-A30A-5739199BD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15C89-A6B6-478E-928C-DB777BB23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F649A-D3B1-42CE-BF63-92CE4532F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D7DAE-E445-4835-8FEA-EDFD79934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"/>
          <p:cNvGrpSpPr/>
          <p:nvPr/>
        </p:nvGrpSpPr>
        <p:grpSpPr>
          <a:xfrm>
            <a:off x="6670440" y="3894120"/>
            <a:ext cx="2469960" cy="2658960"/>
            <a:chOff x="6670440" y="3894120"/>
            <a:chExt cx="2469960" cy="2658960"/>
          </a:xfrm>
        </p:grpSpPr>
        <p:sp>
          <p:nvSpPr>
            <p:cNvPr id="1" name="Straight Connector 7"/>
            <p:cNvSpPr/>
            <p:nvPr/>
          </p:nvSpPr>
          <p:spPr>
            <a:xfrm flipH="1">
              <a:off x="8384760" y="3894120"/>
              <a:ext cx="755640" cy="75564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Straight Connector 8"/>
            <p:cNvSpPr/>
            <p:nvPr/>
          </p:nvSpPr>
          <p:spPr>
            <a:xfrm flipH="1">
              <a:off x="6670440" y="4081320"/>
              <a:ext cx="2469960" cy="247176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Straight Connector 9"/>
            <p:cNvSpPr/>
            <p:nvPr/>
          </p:nvSpPr>
          <p:spPr>
            <a:xfrm flipH="1">
              <a:off x="7569000" y="4160520"/>
              <a:ext cx="1571400" cy="157176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Straight Connector 10"/>
            <p:cNvSpPr/>
            <p:nvPr/>
          </p:nvSpPr>
          <p:spPr>
            <a:xfrm flipH="1">
              <a:off x="7694640" y="4038480"/>
              <a:ext cx="1441440" cy="14414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Straight Connector 11"/>
            <p:cNvSpPr/>
            <p:nvPr/>
          </p:nvSpPr>
          <p:spPr>
            <a:xfrm flipH="1">
              <a:off x="8088480" y="4495680"/>
              <a:ext cx="1047600" cy="104760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2" marL="12002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3" marL="15429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4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5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6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7429680" y="6172200"/>
            <a:ext cx="120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33520" y="6172200"/>
            <a:ext cx="5811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7773840" y="5578200"/>
            <a:ext cx="85752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800" spc="-1" strike="noStrike">
                <a:solidFill>
                  <a:srgbClr val="0a304a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147CF-27EB-474E-94A2-80452C2053EA}" type="slidenum">
              <a:rPr b="0" lang="ru-RU" sz="2800" spc="-1" strike="noStrike">
                <a:solidFill>
                  <a:srgbClr val="0a304a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15"/>
          <p:cNvGrpSpPr/>
          <p:nvPr/>
        </p:nvGrpSpPr>
        <p:grpSpPr>
          <a:xfrm>
            <a:off x="4335120" y="1170000"/>
            <a:ext cx="4815000" cy="4994280"/>
            <a:chOff x="4335120" y="1170000"/>
            <a:chExt cx="4815000" cy="4994280"/>
          </a:xfrm>
        </p:grpSpPr>
        <p:sp>
          <p:nvSpPr>
            <p:cNvPr id="48" name="Straight Connector 16"/>
            <p:cNvSpPr/>
            <p:nvPr/>
          </p:nvSpPr>
          <p:spPr>
            <a:xfrm flipH="1">
              <a:off x="6009840" y="1170000"/>
              <a:ext cx="3133800" cy="3135240"/>
            </a:xfrm>
            <a:prstGeom prst="line">
              <a:avLst/>
            </a:prstGeom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Straight Connector 18"/>
            <p:cNvSpPr/>
            <p:nvPr/>
          </p:nvSpPr>
          <p:spPr>
            <a:xfrm flipH="1">
              <a:off x="4335120" y="1349280"/>
              <a:ext cx="4815000" cy="4815000"/>
            </a:xfrm>
            <a:prstGeom prst="line">
              <a:avLst/>
            </a:prstGeom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Straight Connector 20"/>
            <p:cNvSpPr/>
            <p:nvPr/>
          </p:nvSpPr>
          <p:spPr>
            <a:xfrm flipH="1">
              <a:off x="5226120" y="1469880"/>
              <a:ext cx="3911760" cy="3911760"/>
            </a:xfrm>
            <a:prstGeom prst="line">
              <a:avLst/>
            </a:prstGeom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Straight Connector 21"/>
            <p:cNvSpPr/>
            <p:nvPr/>
          </p:nvSpPr>
          <p:spPr>
            <a:xfrm flipH="1">
              <a:off x="5304960" y="1307880"/>
              <a:ext cx="3838680" cy="3840120"/>
            </a:xfrm>
            <a:prstGeom prst="line">
              <a:avLst/>
            </a:prstGeom>
            <a:ln cap="rnd"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Straight Connector 22"/>
            <p:cNvSpPr/>
            <p:nvPr/>
          </p:nvSpPr>
          <p:spPr>
            <a:xfrm flipH="1">
              <a:off x="5707080" y="1769760"/>
              <a:ext cx="3430800" cy="3430800"/>
            </a:xfrm>
            <a:prstGeom prst="line">
              <a:avLst/>
            </a:prstGeom>
            <a:ln cap="rnd"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2" marL="12002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3" marL="15429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4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5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6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7429680" y="6172200"/>
            <a:ext cx="120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533520" y="6172200"/>
            <a:ext cx="5811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7773840" y="5578200"/>
            <a:ext cx="85752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800" spc="-1" strike="noStrike">
                <a:solidFill>
                  <a:srgbClr val="0a304a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D2853-00E0-43A1-A325-684059334E7C}" type="slidenum">
              <a:rPr b="0" lang="ru-RU" sz="2800" spc="-1" strike="noStrike">
                <a:solidFill>
                  <a:srgbClr val="0a304a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Group 6"/>
          <p:cNvGrpSpPr/>
          <p:nvPr/>
        </p:nvGrpSpPr>
        <p:grpSpPr>
          <a:xfrm>
            <a:off x="6670440" y="3894120"/>
            <a:ext cx="2469960" cy="2658960"/>
            <a:chOff x="6670440" y="3894120"/>
            <a:chExt cx="2469960" cy="2658960"/>
          </a:xfrm>
        </p:grpSpPr>
        <p:sp>
          <p:nvSpPr>
            <p:cNvPr id="95" name="Straight Connector 7"/>
            <p:cNvSpPr/>
            <p:nvPr/>
          </p:nvSpPr>
          <p:spPr>
            <a:xfrm flipH="1">
              <a:off x="8384760" y="3894120"/>
              <a:ext cx="755640" cy="75564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Straight Connector 8"/>
            <p:cNvSpPr/>
            <p:nvPr/>
          </p:nvSpPr>
          <p:spPr>
            <a:xfrm flipH="1">
              <a:off x="6670440" y="4081320"/>
              <a:ext cx="2469960" cy="247176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Straight Connector 9"/>
            <p:cNvSpPr/>
            <p:nvPr/>
          </p:nvSpPr>
          <p:spPr>
            <a:xfrm flipH="1">
              <a:off x="7569000" y="4160520"/>
              <a:ext cx="1571400" cy="157176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Straight Connector 10"/>
            <p:cNvSpPr/>
            <p:nvPr/>
          </p:nvSpPr>
          <p:spPr>
            <a:xfrm flipH="1">
              <a:off x="7694640" y="4038480"/>
              <a:ext cx="1441440" cy="14414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Straight Connector 11"/>
            <p:cNvSpPr/>
            <p:nvPr/>
          </p:nvSpPr>
          <p:spPr>
            <a:xfrm flipH="1">
              <a:off x="8088480" y="4495680"/>
              <a:ext cx="1047600" cy="104760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0" name="TextBox 12"/>
          <p:cNvSpPr/>
          <p:nvPr/>
        </p:nvSpPr>
        <p:spPr>
          <a:xfrm>
            <a:off x="228600" y="711360"/>
            <a:ext cx="45720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Box 13"/>
          <p:cNvSpPr/>
          <p:nvPr/>
        </p:nvSpPr>
        <p:spPr>
          <a:xfrm>
            <a:off x="7696080" y="2768760"/>
            <a:ext cx="45720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2" marL="12002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3" marL="15429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4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5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6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7429680" y="6172200"/>
            <a:ext cx="120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533520" y="6172200"/>
            <a:ext cx="5811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7773840" y="5578200"/>
            <a:ext cx="85752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800" spc="-1" strike="noStrike">
                <a:solidFill>
                  <a:srgbClr val="0a304a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15088-12D7-4998-9C66-344FB42C9DCA}" type="slidenum">
              <a:rPr b="0" lang="ru-RU" sz="2800" spc="-1" strike="noStrike">
                <a:solidFill>
                  <a:srgbClr val="0a304a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" name="Group 6"/>
          <p:cNvGrpSpPr/>
          <p:nvPr/>
        </p:nvGrpSpPr>
        <p:grpSpPr>
          <a:xfrm>
            <a:off x="6670440" y="3894120"/>
            <a:ext cx="2469960" cy="2658960"/>
            <a:chOff x="6670440" y="3894120"/>
            <a:chExt cx="2469960" cy="2658960"/>
          </a:xfrm>
        </p:grpSpPr>
        <p:sp>
          <p:nvSpPr>
            <p:cNvPr id="144" name="Straight Connector 7"/>
            <p:cNvSpPr/>
            <p:nvPr/>
          </p:nvSpPr>
          <p:spPr>
            <a:xfrm flipH="1">
              <a:off x="8384760" y="3894120"/>
              <a:ext cx="755640" cy="75564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Straight Connector 8"/>
            <p:cNvSpPr/>
            <p:nvPr/>
          </p:nvSpPr>
          <p:spPr>
            <a:xfrm flipH="1">
              <a:off x="6670440" y="4081320"/>
              <a:ext cx="2469960" cy="247176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Straight Connector 9"/>
            <p:cNvSpPr/>
            <p:nvPr/>
          </p:nvSpPr>
          <p:spPr>
            <a:xfrm flipH="1">
              <a:off x="7569000" y="4160520"/>
              <a:ext cx="1571400" cy="157176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Straight Connector 10"/>
            <p:cNvSpPr/>
            <p:nvPr/>
          </p:nvSpPr>
          <p:spPr>
            <a:xfrm flipH="1">
              <a:off x="7694640" y="4038480"/>
              <a:ext cx="1441440" cy="14414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Straight Connector 11"/>
            <p:cNvSpPr/>
            <p:nvPr/>
          </p:nvSpPr>
          <p:spPr>
            <a:xfrm flipH="1">
              <a:off x="8088480" y="4495680"/>
              <a:ext cx="1047600" cy="104760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9" name="TextBox 12"/>
          <p:cNvSpPr/>
          <p:nvPr/>
        </p:nvSpPr>
        <p:spPr>
          <a:xfrm>
            <a:off x="228600" y="711360"/>
            <a:ext cx="45720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Box 13"/>
          <p:cNvSpPr/>
          <p:nvPr/>
        </p:nvSpPr>
        <p:spPr>
          <a:xfrm>
            <a:off x="7696080" y="2768760"/>
            <a:ext cx="45720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2" marL="12002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3" marL="15429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4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5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6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7429680" y="6172200"/>
            <a:ext cx="120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533520" y="6172200"/>
            <a:ext cx="5811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7773840" y="5578200"/>
            <a:ext cx="85752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800" spc="-1" strike="noStrike">
                <a:solidFill>
                  <a:srgbClr val="0a304a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B408D-EA22-410B-867C-5BC02B44856F}" type="slidenum">
              <a:rPr b="0" lang="ru-RU" sz="2800" spc="-1" strike="noStrike">
                <a:solidFill>
                  <a:srgbClr val="0a304a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304920" y="609480"/>
            <a:ext cx="8540640" cy="548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 algn="ctr">
              <a:lnSpc>
                <a:spcPct val="100000"/>
              </a:lnSpc>
              <a:spcBef>
                <a:spcPts val="10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-285840" algn="ctr">
              <a:lnSpc>
                <a:spcPct val="100000"/>
              </a:lnSpc>
              <a:spcBef>
                <a:spcPts val="10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93" name="Text Box 7"/>
          <p:cNvSpPr/>
          <p:nvPr/>
        </p:nvSpPr>
        <p:spPr>
          <a:xfrm>
            <a:off x="6537240" y="4913280"/>
            <a:ext cx="1540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Text Box 9"/>
          <p:cNvSpPr/>
          <p:nvPr/>
        </p:nvSpPr>
        <p:spPr>
          <a:xfrm>
            <a:off x="4692600" y="5079960"/>
            <a:ext cx="4419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Толокнова Галина Георгиевна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оспитатель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МБДОУ– детский сад №13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г.Чебоксар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Text Box 10"/>
          <p:cNvSpPr/>
          <p:nvPr/>
        </p:nvSpPr>
        <p:spPr>
          <a:xfrm>
            <a:off x="228600" y="609480"/>
            <a:ext cx="8534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ffff"/>
                </a:solidFill>
                <a:latin typeface="Times New Roman"/>
              </a:rPr>
              <a:t>ПЕРЕЛЕТНЫЕ  ПТИЦЫ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6" name="Picture 14" descr="i?id=144984350-35-72&amp;n=21"/>
          <p:cNvPicPr/>
          <p:nvPr/>
        </p:nvPicPr>
        <p:blipFill>
          <a:blip r:embed="rId1"/>
          <a:stretch/>
        </p:blipFill>
        <p:spPr>
          <a:xfrm>
            <a:off x="380880" y="1676520"/>
            <a:ext cx="4419720" cy="334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8" descr="gb39xMX57D"/>
          <p:cNvPicPr/>
          <p:nvPr/>
        </p:nvPicPr>
        <p:blipFill>
          <a:blip r:embed="rId1"/>
          <a:stretch/>
        </p:blipFill>
        <p:spPr>
          <a:xfrm>
            <a:off x="457200" y="1236600"/>
            <a:ext cx="3657600" cy="3044880"/>
          </a:xfrm>
          <a:prstGeom prst="rect">
            <a:avLst/>
          </a:prstGeom>
          <a:ln w="0">
            <a:noFill/>
          </a:ln>
        </p:spPr>
      </p:pic>
      <p:sp>
        <p:nvSpPr>
          <p:cNvPr id="223" name="TextBox 3"/>
          <p:cNvSpPr/>
          <p:nvPr/>
        </p:nvSpPr>
        <p:spPr>
          <a:xfrm>
            <a:off x="457200" y="457200"/>
            <a:ext cx="32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Ласточк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TextBox 4"/>
          <p:cNvSpPr/>
          <p:nvPr/>
        </p:nvSpPr>
        <p:spPr>
          <a:xfrm>
            <a:off x="4191120" y="1219320"/>
            <a:ext cx="46479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онец весны 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тмечается прилетом ласточек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. Эти красавицы обычно гнездятся поблизости с жилищем людей. Зачастую ласточки строят гнезда под балконами, в сенях, в ущельях над рекой. Эти птицы имеют черный окрас с белой грудкой. Обычно ласточки один раз выбирают место для гнезда и строят его самостоятельно. Каждый год они прилетают на старые гнезд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5" descr="i?id=509209565-31-72&amp;n=21"/>
          <p:cNvPicPr/>
          <p:nvPr/>
        </p:nvPicPr>
        <p:blipFill>
          <a:blip r:embed="rId1"/>
          <a:stretch/>
        </p:blipFill>
        <p:spPr>
          <a:xfrm>
            <a:off x="457200" y="1611360"/>
            <a:ext cx="4191120" cy="279396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8"/>
          <p:cNvSpPr/>
          <p:nvPr/>
        </p:nvSpPr>
        <p:spPr>
          <a:xfrm>
            <a:off x="304920" y="533520"/>
            <a:ext cx="266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Трясогузк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TextBox 2"/>
          <p:cNvSpPr/>
          <p:nvPr/>
        </p:nvSpPr>
        <p:spPr>
          <a:xfrm>
            <a:off x="4800600" y="1992240"/>
            <a:ext cx="36576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амыми ранними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тицами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читаются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рясогузки, так как они радуют своим курлыканьем уже по началу расставания льда. За ними можно наблюдать, когда они плывут по талым льдинам на рек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685440" y="237960"/>
            <a:ext cx="1600200" cy="89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lnSpc>
                <a:spcPct val="100000"/>
              </a:lnSpc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  <a:ea typeface="Arial"/>
              </a:rPr>
              <a:t>Грач</a:t>
            </a:r>
            <a:endParaRPr b="0" lang="en-US" sz="3600" spc="-1" strike="noStrike">
              <a:solidFill>
                <a:srgbClr val="0f496f"/>
              </a:solidFill>
              <a:latin typeface="Century Gothic"/>
            </a:endParaRPr>
          </a:p>
        </p:txBody>
      </p:sp>
      <p:pic>
        <p:nvPicPr>
          <p:cNvPr id="201" name="Picture 8" descr="i?id=470671587-24-72&amp;n=21"/>
          <p:cNvPicPr/>
          <p:nvPr/>
        </p:nvPicPr>
        <p:blipFill>
          <a:blip r:embed="rId1"/>
          <a:stretch/>
        </p:blipFill>
        <p:spPr>
          <a:xfrm>
            <a:off x="685800" y="1676520"/>
            <a:ext cx="3809880" cy="2992320"/>
          </a:xfrm>
          <a:prstGeom prst="rect">
            <a:avLst/>
          </a:prstGeom>
          <a:ln w="0">
            <a:noFill/>
          </a:ln>
        </p:spPr>
      </p:pic>
      <p:sp>
        <p:nvSpPr>
          <p:cNvPr id="202" name="TextBox 7"/>
          <p:cNvSpPr/>
          <p:nvPr/>
        </p:nvSpPr>
        <p:spPr>
          <a:xfrm>
            <a:off x="4648320" y="1676520"/>
            <a:ext cx="40766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е менее ранними пернатыми замечены грачи. Они также прилетают в свои владения, едва растает снег на полях. Грачам свойственно облагораживать ранее покинутые гнезда, после чего они занимаются кладкой и насиживанием яиц. Грачи одни из первых выводят птенцо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457200" y="457200"/>
            <a:ext cx="55627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lnSpc>
                <a:spcPct val="80000"/>
              </a:lnSpc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  <a:ea typeface="Arial"/>
              </a:rPr>
              <a:t>Скворец и жаворонок</a:t>
            </a:r>
            <a:endParaRPr b="0" lang="en-US" sz="3600" spc="-1" strike="noStrike">
              <a:solidFill>
                <a:srgbClr val="0f496f"/>
              </a:solidFill>
              <a:latin typeface="Century Gothic"/>
            </a:endParaRPr>
          </a:p>
        </p:txBody>
      </p:sp>
      <p:pic>
        <p:nvPicPr>
          <p:cNvPr id="204" name="Picture 8" descr="i?id=140884508-67-72&amp;n=21"/>
          <p:cNvPicPr/>
          <p:nvPr/>
        </p:nvPicPr>
        <p:blipFill>
          <a:blip r:embed="rId1"/>
          <a:stretch/>
        </p:blipFill>
        <p:spPr>
          <a:xfrm>
            <a:off x="457200" y="1523880"/>
            <a:ext cx="2878200" cy="2554560"/>
          </a:xfrm>
          <a:prstGeom prst="rect">
            <a:avLst/>
          </a:prstGeom>
          <a:ln w="0">
            <a:noFill/>
          </a:ln>
        </p:spPr>
      </p:pic>
      <p:sp>
        <p:nvSpPr>
          <p:cNvPr id="205" name="TextBox 1"/>
          <p:cNvSpPr/>
          <p:nvPr/>
        </p:nvSpPr>
        <p:spPr>
          <a:xfrm>
            <a:off x="3457440" y="1523880"/>
            <a:ext cx="563904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ледующими пришельцами замечено видеть скворцов и жаворонков. Скворцы занимают уже построенные для них гнезда и тоже спешат произвести потомство. А жаворонки поют звонкие песни, которые означают приход весны. У скворцов первыми прилетают самцы и обустраивают гнездышко, а самки присоединяются позж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6" name="Picture 9" descr="i?id=471637596-55-72&amp;n=21"/>
          <p:cNvPicPr/>
          <p:nvPr/>
        </p:nvPicPr>
        <p:blipFill>
          <a:blip r:embed="rId2"/>
          <a:stretch/>
        </p:blipFill>
        <p:spPr>
          <a:xfrm>
            <a:off x="2209680" y="4073400"/>
            <a:ext cx="2894040" cy="25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Объект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3048120" cy="2286000"/>
          </a:xfrm>
          <a:prstGeom prst="rect">
            <a:avLst/>
          </a:prstGeom>
          <a:ln w="0">
            <a:noFill/>
          </a:ln>
        </p:spPr>
      </p:pic>
      <p:sp>
        <p:nvSpPr>
          <p:cNvPr id="208" name="TextBox 4"/>
          <p:cNvSpPr/>
          <p:nvPr/>
        </p:nvSpPr>
        <p:spPr>
          <a:xfrm>
            <a:off x="457200" y="53352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Зяблик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TextBox 6"/>
          <p:cNvSpPr/>
          <p:nvPr/>
        </p:nvSpPr>
        <p:spPr>
          <a:xfrm>
            <a:off x="3962520" y="1598760"/>
            <a:ext cx="464796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емного позднее можно встретить и 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расавца зяблика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. Его можно заметить по своеобразной окраске: голова голубая; лобик черный; на щеках, горле и груди коричнево-красноватый окрас; спина имеет рыжевато-бурую окантовку; хвост зеленый; крылья по краям желтые, внутри черно-серы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Объект 3" descr=""/>
          <p:cNvPicPr/>
          <p:nvPr/>
        </p:nvPicPr>
        <p:blipFill>
          <a:blip r:embed="rId1"/>
          <a:stretch/>
        </p:blipFill>
        <p:spPr>
          <a:xfrm>
            <a:off x="533520" y="1600200"/>
            <a:ext cx="3276360" cy="2320920"/>
          </a:xfrm>
          <a:prstGeom prst="rect">
            <a:avLst/>
          </a:prstGeom>
          <a:ln w="0">
            <a:noFill/>
          </a:ln>
        </p:spPr>
      </p:pic>
      <p:sp>
        <p:nvSpPr>
          <p:cNvPr id="211" name="TextBox 4"/>
          <p:cNvSpPr/>
          <p:nvPr/>
        </p:nvSpPr>
        <p:spPr>
          <a:xfrm>
            <a:off x="531720" y="609480"/>
            <a:ext cx="289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Дрозд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TextBox 5"/>
          <p:cNvSpPr/>
          <p:nvPr/>
        </p:nvSpPr>
        <p:spPr>
          <a:xfrm>
            <a:off x="4038480" y="1600200"/>
            <a:ext cx="48006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ельзя не восхититься такой своеобразной птицей, как дрозд, который прилетает вслед за зябликом. По размерам он напоминает голубя. Но, окрас его намного привлекательней. Он имеет желтовато — белую грудку и бурые пятнышки на брюхе. Окрас спины серы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Объект 5" descr=""/>
          <p:cNvPicPr/>
          <p:nvPr/>
        </p:nvPicPr>
        <p:blipFill>
          <a:blip r:embed="rId1"/>
          <a:srcRect l="0" t="0" r="0" b="9366"/>
          <a:stretch/>
        </p:blipFill>
        <p:spPr>
          <a:xfrm>
            <a:off x="426960" y="1600200"/>
            <a:ext cx="3316320" cy="2325600"/>
          </a:xfrm>
          <a:prstGeom prst="rect">
            <a:avLst/>
          </a:prstGeom>
          <a:ln w="0">
            <a:noFill/>
          </a:ln>
        </p:spPr>
      </p:pic>
      <p:sp>
        <p:nvSpPr>
          <p:cNvPr id="214" name="TextBox 3"/>
          <p:cNvSpPr/>
          <p:nvPr/>
        </p:nvSpPr>
        <p:spPr>
          <a:xfrm>
            <a:off x="417600" y="685800"/>
            <a:ext cx="403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Горихвостк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TextBox 6"/>
          <p:cNvSpPr/>
          <p:nvPr/>
        </p:nvSpPr>
        <p:spPr>
          <a:xfrm>
            <a:off x="3809880" y="1679400"/>
            <a:ext cx="51310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апреле возвращаются с теплых краев горихвостки. Эта птичка немного меньше воробья и имеет синевато-серый окрас. Глаза очерчены черной полоской, на лбу белое пятно. Горлышко окрашено в черный цвет. Хвост имеет красно-оранжевый окрас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Box 3"/>
          <p:cNvSpPr/>
          <p:nvPr/>
        </p:nvSpPr>
        <p:spPr>
          <a:xfrm>
            <a:off x="3962520" y="1292400"/>
            <a:ext cx="49528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Еще одним пернатым другом, который прилетает вслед за горихвосткой, можно считать варакушку. Эта птица имеет маленькие размеры. Ее отличительной особенностью является 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ярко-синее пятнышко на грудке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, которое отделяется от брюха в черное полукольцо. Спина и крылышки имеют бурый окрас, а хвост полосато-рыжи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TextBox 4"/>
          <p:cNvSpPr/>
          <p:nvPr/>
        </p:nvSpPr>
        <p:spPr>
          <a:xfrm>
            <a:off x="380880" y="533520"/>
            <a:ext cx="266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Варакушка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8" name="Рисунок 5" descr=""/>
          <p:cNvPicPr/>
          <p:nvPr/>
        </p:nvPicPr>
        <p:blipFill>
          <a:blip r:embed="rId1"/>
          <a:stretch/>
        </p:blipFill>
        <p:spPr>
          <a:xfrm>
            <a:off x="458640" y="1371600"/>
            <a:ext cx="3427560" cy="23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 txBox="1"/>
          <p:nvPr/>
        </p:nvSpPr>
        <p:spPr>
          <a:xfrm>
            <a:off x="402840" y="228600"/>
            <a:ext cx="33526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lnSpc>
                <a:spcPct val="100000"/>
              </a:lnSpc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  <a:ea typeface="Arial"/>
              </a:rPr>
              <a:t>Соловей</a:t>
            </a:r>
            <a:endParaRPr b="0" lang="en-US" sz="3600" spc="-1" strike="noStrike">
              <a:solidFill>
                <a:srgbClr val="0f496f"/>
              </a:solidFill>
              <a:latin typeface="Century Gothic"/>
            </a:endParaRPr>
          </a:p>
        </p:txBody>
      </p:sp>
      <p:pic>
        <p:nvPicPr>
          <p:cNvPr id="220" name="Picture 6" descr="18368959_solovey01"/>
          <p:cNvPicPr/>
          <p:nvPr/>
        </p:nvPicPr>
        <p:blipFill>
          <a:blip r:embed="rId1"/>
          <a:stretch/>
        </p:blipFill>
        <p:spPr>
          <a:xfrm>
            <a:off x="380880" y="1219320"/>
            <a:ext cx="3641760" cy="2666880"/>
          </a:xfrm>
          <a:prstGeom prst="rect">
            <a:avLst/>
          </a:prstGeom>
          <a:ln w="0">
            <a:noFill/>
          </a:ln>
        </p:spPr>
      </p:pic>
      <p:sp>
        <p:nvSpPr>
          <p:cNvPr id="221" name="TextBox 1"/>
          <p:cNvSpPr/>
          <p:nvPr/>
        </p:nvSpPr>
        <p:spPr>
          <a:xfrm>
            <a:off x="4022640" y="1143000"/>
            <a:ext cx="48006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ай месяц встречает соловья в лесные объятия. Эта птица радует окружающих своим необыкновенным пением. О трелях соловья слагались легенды. Никто не может устоять перед его пением, хоть по внешнему виду соловей совсем неприметный, имеет серый окрас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Алексей</dc:creator>
  <dc:description/>
  <dc:language>en-US</dc:language>
  <cp:lastModifiedBy>Алексей</cp:lastModifiedBy>
  <dcterms:modified xsi:type="dcterms:W3CDTF">2019-04-07T16:51:17Z</dcterms:modified>
  <cp:revision>3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