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997-9840-43AD-B3F4-740A72B8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CC3-7EAB-42B6-8045-88539F5A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3EA3-7A64-41C4-98B3-7EBA52B1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B4B-616F-4BDF-BB95-3E08D549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2A15-80AF-4BB3-87EC-E39562B1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FC21-8E2C-4041-B4BE-57D0E548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D47B-964C-4CA2-BF88-4A4B6D9F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84D9-1A96-4721-9C71-321A4051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C9C9-6E3D-4FB3-A35E-7065DF63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EC6E-2A87-47D8-87D9-7804EDA0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9174-1167-49AA-8567-4FEA6CDE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A80-7E8E-4210-B292-CF8AA01B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54E2-D681-47CB-B8B1-1B951E38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30F3-3D13-42C5-9270-319FCAC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4046-5A94-4B7A-9185-4DB2AB29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AD6B-8407-4AB2-B3A2-7CAFDF3B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312A-BF2F-4BAE-914E-5F0C0A19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8D59-BB27-411D-AD4A-FEC206A6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F857-9CB5-4422-A9D6-3823E6A4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39A1-0B07-4498-B8BF-E07EA5B2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DF4F1-EF1B-4322-B01D-4DA2B59E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3CAA-A587-41C2-A01C-D4BA285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8B8-6F82-4B22-B6FA-594838EC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CC06-B3A2-4F40-9C6A-8EB2A7D1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470D-BFE4-4DC9-88A8-4E40206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3F73-2744-49D9-AF47-608FD1F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9795-7A72-4727-A116-492FD3C9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FA6D5-F347-4E93-A898-096FC4A6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E7F5-2934-4729-A5C0-E056A907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F632-2F98-44B9-AF2E-1E859EAC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5933-8E1A-4FB8-B4AA-A1A9040B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0230-58BA-43F8-B0AF-CE7ECF1D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029A6-4539-438C-A99C-B5887B0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4DA-D411-4321-A6F2-65463C08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10F05-8A4C-4B6D-97E5-F70572B2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82B62-6F02-4E53-841B-9F735B9A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307F3-B0F7-4F70-9627-70E93B56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1EEF-7930-4B10-A270-7E2EFCF6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890DD-D3C7-436D-90E5-FA38E17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FEC1-D22F-47AA-9355-BD588E9E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DEE52-94F9-4562-8989-D9165CB2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DBBD-4A44-48C0-9D3A-CE29BE1F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8E28-6486-4E72-93BB-C127D7CC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998-202F-4C71-A6EE-B2ADB20D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0BA-45AA-4F43-A763-61508060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698-4DF0-4450-B80B-00676CE7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386-C654-4798-B25E-BD0F0BC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BAF-403E-4581-98C2-90BBE2D0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5670-CDB7-4F6C-AC60-A01037A719EB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10D4-934F-4982-95E6-28F0553F4C58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CB3A-9611-4265-B20C-49D0A98CD802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B68A-3FD0-4DF8-AA23-B8F04D8C025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04920" y="60948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537240" y="4913280"/>
            <a:ext cx="154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92600" y="5079960"/>
            <a:ext cx="441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олокнова Галина Георгиевн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спита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БДОУ– детский сад №1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.Чебокса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28600" y="609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ПЕРЕЛЕТНЫЕ  ПТИЦ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4" descr="i?id=144984350-35-72&amp;n=21"/>
          <p:cNvPicPr/>
          <p:nvPr/>
        </p:nvPicPr>
        <p:blipFill>
          <a:blip r:embed="rId1"/>
          <a:stretch/>
        </p:blipFill>
        <p:spPr>
          <a:xfrm>
            <a:off x="380880" y="1676520"/>
            <a:ext cx="4419720" cy="33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gb39xMX57D"/>
          <p:cNvPicPr/>
          <p:nvPr/>
        </p:nvPicPr>
        <p:blipFill>
          <a:blip r:embed="rId1"/>
          <a:stretch/>
        </p:blipFill>
        <p:spPr>
          <a:xfrm>
            <a:off x="457200" y="1236600"/>
            <a:ext cx="3657600" cy="3044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45720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асточ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191120" y="1219320"/>
            <a:ext cx="4647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ец весны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мечается прилетом ласточ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Эти красавицы обычно гнездятся поблизости с жилищем людей. Зачастую ласточки строят гнезда под балконами, в сенях, в ущельях над рекой. Эти птицы имеют черный окрас с белой грудкой. Обычно ласточки один раз выбирают место для гнезда и строят его самостоятельно. Каждый год они прилетают на старые гнез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i?id=509209565-31-72&amp;n=21"/>
          <p:cNvPicPr/>
          <p:nvPr/>
        </p:nvPicPr>
        <p:blipFill>
          <a:blip r:embed="rId1"/>
          <a:stretch/>
        </p:blipFill>
        <p:spPr>
          <a:xfrm>
            <a:off x="457200" y="1611360"/>
            <a:ext cx="4191120" cy="2793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304920" y="533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ясогуз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4800600" y="19922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ми ранни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иц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чит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ясогузки, так как они радуют своим курлыканьем уже по началу расставания льда. За ними можно наблюдать, когда они плывут по талым льдинам на ре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440" y="237960"/>
            <a:ext cx="1600200" cy="8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Грач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1" name="Picture 8" descr="i?id=470671587-24-72&amp;n=21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29923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4648320" y="1676520"/>
            <a:ext cx="407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менее ранними пернатыми замечены грачи. Они также прилетают в свои владения, едва растает снег на полях. Грачам свойственно облагораживать ранее покинутые гнезда, после чего они занимаются кладкой и насиживанием яиц. Грачи одни из первых выводят птенц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45720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кворец и жаворонок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04" name="Picture 8" descr="i?id=140884508-67-72&amp;n=21"/>
          <p:cNvPicPr/>
          <p:nvPr/>
        </p:nvPicPr>
        <p:blipFill>
          <a:blip r:embed="rId1"/>
          <a:stretch/>
        </p:blipFill>
        <p:spPr>
          <a:xfrm>
            <a:off x="457200" y="1523880"/>
            <a:ext cx="2878200" cy="255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3457440" y="1523880"/>
            <a:ext cx="563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дующими пришельцами замечено видеть скворцов и жаворонков. Скворцы занимают уже построенные для них гнезда и тоже спешат произвести потомство. А жаворонки поют звонкие песни, которые означают приход весны. У скворцов первыми прилетают самцы и обустраивают гнездышко, а самки присоединяются позж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9" descr="i?id=471637596-55-72&amp;n=21"/>
          <p:cNvPicPr/>
          <p:nvPr/>
        </p:nvPicPr>
        <p:blipFill>
          <a:blip r:embed="rId2"/>
          <a:stretch/>
        </p:blipFill>
        <p:spPr>
          <a:xfrm>
            <a:off x="2209680" y="4073400"/>
            <a:ext cx="28940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Объект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4"/>
          <p:cNvSpPr/>
          <p:nvPr/>
        </p:nvSpPr>
        <p:spPr>
          <a:xfrm>
            <a:off x="457200" y="533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ябл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3962520" y="1598760"/>
            <a:ext cx="4647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много позднее можно встретить и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савца зябли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Его можно заметить по своеобразной окраске: голова голубая; лобик черный; на щеках, горле и груди коричнево-красноватый окрас; спина имеет рыжевато-бурую окантовку; хвост зеленый; крылья по краям желтые, внутри черно-сер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Объект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7636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531720" y="6094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роз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4038480" y="1600200"/>
            <a:ext cx="4800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льзя не восхититься такой своеобразной птицей, как дрозд, который прилетает вслед за зябликом. По размерам он напоминает голубя. Но, окрас его намного привлекательней. Он имеет желтовато — белую грудку и бурые пятнышки на брюхе. Окрас спины сер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Объект 5" descr=""/>
          <p:cNvPicPr/>
          <p:nvPr/>
        </p:nvPicPr>
        <p:blipFill>
          <a:blip r:embed="rId1"/>
          <a:srcRect l="0" t="0" r="0" b="9366"/>
          <a:stretch/>
        </p:blipFill>
        <p:spPr>
          <a:xfrm>
            <a:off x="426960" y="1600200"/>
            <a:ext cx="3316320" cy="2325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"/>
          <p:cNvSpPr/>
          <p:nvPr/>
        </p:nvSpPr>
        <p:spPr>
          <a:xfrm>
            <a:off x="417600" y="6858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рихвос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3809880" y="1679400"/>
            <a:ext cx="513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преле возвращаются с теплых краев горихвостки. Эта птичка немного меньше воробья и имеет синевато-серый окрас. Глаза очерчены черной полоской, на лбу белое пятно. Горлышко окрашено в черный цвет. Хвост имеет красно-оранжевый окр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3"/>
          <p:cNvSpPr/>
          <p:nvPr/>
        </p:nvSpPr>
        <p:spPr>
          <a:xfrm>
            <a:off x="3962520" y="1292400"/>
            <a:ext cx="495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одним пернатым другом, который прилетает вслед за горихвосткой, можно считать варакушку. Эта птица имеет маленькие размеры. Ее отличительной особенностью является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рко-синее пятнышко на груд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торое отделяется от брюха в черное полукольцо. Спина и крылышки имеют бурый окрас, а хвост полосато-рыж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80880" y="5335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аракуш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5" descr=""/>
          <p:cNvPicPr/>
          <p:nvPr/>
        </p:nvPicPr>
        <p:blipFill>
          <a:blip r:embed="rId1"/>
          <a:stretch/>
        </p:blipFill>
        <p:spPr>
          <a:xfrm>
            <a:off x="458640" y="1371600"/>
            <a:ext cx="34275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02840" y="22860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Соловей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0" name="Picture 6" descr="18368959_solovey01"/>
          <p:cNvPicPr/>
          <p:nvPr/>
        </p:nvPicPr>
        <p:blipFill>
          <a:blip r:embed="rId1"/>
          <a:stretch/>
        </p:blipFill>
        <p:spPr>
          <a:xfrm>
            <a:off x="380880" y="1219320"/>
            <a:ext cx="3641760" cy="26668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>
            <a:off x="4022640" y="1143000"/>
            <a:ext cx="4800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й месяц встречает соловья в лесные объятия. Эта птица радует окружающих своим необыкновенным пением. О трелях соловья слагались легенды. Никто не может устоять перед его пением, хоть по внешнему виду соловей совсем неприметный, имеет серый окр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й</dc:creator>
  <dc:description/>
  <dc:language>en-US</dc:language>
  <cp:lastModifiedBy>Алексей</cp:lastModifiedBy>
  <dcterms:modified xsi:type="dcterms:W3CDTF">2019-04-07T16:51:17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