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288-9651-44BC-A26F-8C792108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C3E-680B-4BE9-AC8A-CAAA38D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643-106E-4C52-92A2-DFB48E8F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9A-4280-4442-961F-AA707323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EB1-57D5-4627-9218-79F35BCD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D9A-FF2A-427F-9061-07C0932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469-363E-4C38-BB21-95F497D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FF6-AE7C-4EDF-81CF-D53EF3D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631-C270-4987-A5E0-422EE7E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804-9526-4F1A-B03F-7C2978E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792-9806-42AB-AF13-C81F0BB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462-8B36-4CB9-8988-F88BC7F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839-4EB0-44F5-AFB9-6379F08A2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er.myshared.ru/457183/data/images/img4.png"/>
          <p:cNvPicPr/>
          <p:nvPr/>
        </p:nvPicPr>
        <p:blipFill>
          <a:blip r:embed="rId3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5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layer.myshared.ru/457183/data/images/img4.png"/>
          <p:cNvPicPr/>
          <p:nvPr/>
        </p:nvPicPr>
        <p:blipFill>
          <a:blip r:embed="rId3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"/>
          <p:cNvPicPr/>
          <p:nvPr/>
        </p:nvPicPr>
        <p:blipFill>
          <a:blip r:embed="rId5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player.myshared.ru/457183/data/images/img4.png"/>
          <p:cNvPicPr/>
          <p:nvPr/>
        </p:nvPicPr>
        <p:blipFill>
          <a:blip r:embed="rId5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img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50920" y="1197000"/>
            <a:ext cx="2879640" cy="223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пч"/>
          <p:cNvPicPr/>
          <p:nvPr/>
        </p:nvPicPr>
        <p:blipFill>
          <a:blip r:embed="rId2"/>
          <a:stretch/>
        </p:blipFill>
        <p:spPr>
          <a:xfrm>
            <a:off x="2916360" y="2060640"/>
            <a:ext cx="3033720" cy="214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с"/>
          <p:cNvPicPr/>
          <p:nvPr/>
        </p:nvPicPr>
        <p:blipFill>
          <a:blip r:embed="rId3"/>
          <a:stretch/>
        </p:blipFill>
        <p:spPr>
          <a:xfrm>
            <a:off x="5724360" y="3068640"/>
            <a:ext cx="2889360" cy="2181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2392200" y="488952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24480" y="4753080"/>
            <a:ext cx="54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2800" spc="-1" strike="noStrike">
                <a:solidFill>
                  <a:srgbClr val="1a00da"/>
                </a:solidFill>
                <a:latin typeface="Monotype Corsiva"/>
              </a:rPr>
              <a:t>ГБОУ школа №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00da"/>
                </a:solidFill>
                <a:latin typeface="Monotype Corsiva"/>
              </a:rPr>
              <a:t>Дошкольное отделение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3348000" y="333360"/>
            <a:ext cx="4896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ИР НАСЕКОМЫХ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826920" y="2060640"/>
            <a:ext cx="8066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ерегите природ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>
            <a:off x="684360" y="33336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частники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едагоги: Щепилова Н.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акарычева Н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24000" y="1989000"/>
            <a:ext cx="456408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младшей группы № 4: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1619280" y="2852640"/>
            <a:ext cx="267480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ликов Рома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ельчикова Ан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одова Наст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лещенко Кол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5219640" y="2852640"/>
            <a:ext cx="30560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нникова Ан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имова Вика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евикин Андрей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лова Софи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6" descr=""/>
          <p:cNvPicPr/>
          <p:nvPr/>
        </p:nvPicPr>
        <p:blipFill>
          <a:blip r:embed="rId1"/>
          <a:stretch/>
        </p:blipFill>
        <p:spPr>
          <a:xfrm>
            <a:off x="542880" y="-3636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аиболее часто встречающимися насекомыми и их образом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2340000" y="242100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реалистическое представление об окружающей нас природе, желание стать другом природы, беречь и охранят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у детей элементарные представления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ы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абочка, муравей, жук, пчела, кузнечик, способах передви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бережное отношение к жи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D:\мир насекомых\мир насекомых 015 - копия.JPG"/>
          <p:cNvPicPr/>
          <p:nvPr/>
        </p:nvPicPr>
        <p:blipFill>
          <a:blip r:embed="rId1"/>
          <a:stretch/>
        </p:blipFill>
        <p:spPr>
          <a:xfrm>
            <a:off x="5724360" y="1197000"/>
            <a:ext cx="3157560" cy="421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D:\мир насекомых\мир насекомых 016.JPG"/>
          <p:cNvPicPr/>
          <p:nvPr/>
        </p:nvPicPr>
        <p:blipFill>
          <a:blip r:embed="rId2"/>
          <a:stretch/>
        </p:blipFill>
        <p:spPr>
          <a:xfrm>
            <a:off x="2843280" y="260280"/>
            <a:ext cx="3024000" cy="403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0240" y="549360"/>
            <a:ext cx="28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детей в проекте позволит сформировать представления о насекомых, их строении, местах обитания; развивать творческие способности и поисков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D:\мир насекомых\мир насекомых 001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D:\мир насекомых\мир насекомых 037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26920" y="76500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оде наблюдения за насекомыми выяснили, что они все разные, друг на друга не похож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у всех насекомых шесть ног (три па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мир насекомых\мир насекомых 003.JPG"/>
          <p:cNvPicPr/>
          <p:nvPr/>
        </p:nvPicPr>
        <p:blipFill>
          <a:blip r:embed="rId1"/>
          <a:stretch/>
        </p:blipFill>
        <p:spPr>
          <a:xfrm>
            <a:off x="324000" y="1628640"/>
            <a:ext cx="3833640" cy="367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D:\мир насекомых\мир насекомых 004.JPG"/>
          <p:cNvPicPr/>
          <p:nvPr/>
        </p:nvPicPr>
        <p:blipFill>
          <a:blip r:embed="rId2"/>
          <a:stretch/>
        </p:blipFill>
        <p:spPr>
          <a:xfrm>
            <a:off x="4572000" y="1628640"/>
            <a:ext cx="3887640" cy="36054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68360" y="26028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знакомились с насекомыми, живущими на боло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-плавунец - он очень хорошо пла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ы, мошки - ими питаются хищ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зы - они очень прожорливы, охотятся в по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мир насекомых\мир насекомых 017.JPG"/>
          <p:cNvPicPr/>
          <p:nvPr/>
        </p:nvPicPr>
        <p:blipFill>
          <a:blip r:embed="rId1"/>
          <a:stretch/>
        </p:blipFill>
        <p:spPr>
          <a:xfrm>
            <a:off x="324000" y="2492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1080507"/>
          <p:cNvPicPr/>
          <p:nvPr/>
        </p:nvPicPr>
        <p:blipFill>
          <a:blip r:embed="rId2"/>
          <a:stretch/>
        </p:blipFill>
        <p:spPr>
          <a:xfrm>
            <a:off x="4622760" y="2495520"/>
            <a:ext cx="4054680" cy="3041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900000" y="692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день мы узнавали много интересного. Рассматривали и рисовали, делали аппл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D:\мир насекомых\мир насекомых 032.JPG"/>
          <p:cNvPicPr/>
          <p:nvPr/>
        </p:nvPicPr>
        <p:blipFill>
          <a:blip r:embed="rId1"/>
          <a:stretch/>
        </p:blipFill>
        <p:spPr>
          <a:xfrm>
            <a:off x="826920" y="260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P1080477"/>
          <p:cNvPicPr/>
          <p:nvPr/>
        </p:nvPicPr>
        <p:blipFill>
          <a:blip r:embed="rId2"/>
          <a:stretch/>
        </p:blipFill>
        <p:spPr>
          <a:xfrm>
            <a:off x="4572000" y="3068640"/>
            <a:ext cx="3598920" cy="2698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4932360" y="112536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еница-з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истьях прячется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ть и много нож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етется вдоль дор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95280" y="3429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гусеница не превратилась в бабочку, берем пластилин и лепим её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:\мир насекомых\P1080512.JPG"/>
          <p:cNvPicPr/>
          <p:nvPr/>
        </p:nvPicPr>
        <p:blipFill>
          <a:blip r:embed="rId1"/>
          <a:stretch/>
        </p:blipFill>
        <p:spPr>
          <a:xfrm>
            <a:off x="4572000" y="2565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123984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4360" y="1197000"/>
            <a:ext cx="362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является нашим общим д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любовь к окружающему миру необходимо с раннего дет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8:05:29Z</dcterms:created>
  <dc:creator>оксана</dc:creator>
  <dc:description/>
  <dc:language>en-US</dc:language>
  <cp:lastModifiedBy>kantima</cp:lastModifiedBy>
  <dcterms:modified xsi:type="dcterms:W3CDTF">2019-04-17T16:42:30Z</dcterms:modified>
  <cp:revision>72</cp:revision>
  <dc:subject/>
  <dc:title>Презентация PowerPoint</dc:title>
</cp:coreProperties>
</file>