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038-A2AC-4D7E-AB76-2CE508C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E9E-2F00-4BB5-8A97-9509CB9B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5A8-1C9E-44AA-B594-B53813E1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58F-3C05-499B-AA52-C598B7BD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886-A6B3-4DB5-8404-BF53C08B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D1D-896A-4F3C-849A-B6CCC54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4B6-27DF-4702-81D4-969DC9A1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91D-9CCD-422E-97D8-214AC65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255-BC6F-4F83-BC4E-89E5FEB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BF1-FACD-43FB-B1FE-3B5BC0D8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01E-6270-4C9B-ABBE-915E1D62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8BB-DE9A-48E0-A594-6679C4C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074-1973-4952-8E59-CD3381EAE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player.myshared.ru/457183/data/images/img4.png"/>
          <p:cNvPicPr/>
          <p:nvPr/>
        </p:nvPicPr>
        <p:blipFill>
          <a:blip r:embed="rId3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5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layer.myshared.ru/457183/data/images/img4.png"/>
          <p:cNvPicPr/>
          <p:nvPr/>
        </p:nvPicPr>
        <p:blipFill>
          <a:blip r:embed="rId3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"/>
          <p:cNvPicPr/>
          <p:nvPr/>
        </p:nvPicPr>
        <p:blipFill>
          <a:blip r:embed="rId5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0" y="4327560"/>
            <a:ext cx="9169560" cy="253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http://player.myshared.ru/457183/data/images/img4.png"/>
          <p:cNvPicPr/>
          <p:nvPr/>
        </p:nvPicPr>
        <p:blipFill>
          <a:blip r:embed="rId4"/>
          <a:stretch/>
        </p:blipFill>
        <p:spPr>
          <a:xfrm rot="8209800">
            <a:off x="574200" y="46875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://player.myshared.ru/457183/data/images/img4.png"/>
          <p:cNvPicPr/>
          <p:nvPr/>
        </p:nvPicPr>
        <p:blipFill>
          <a:blip r:embed="rId5"/>
          <a:stretch/>
        </p:blipFill>
        <p:spPr>
          <a:xfrm>
            <a:off x="7381800" y="189000"/>
            <a:ext cx="865440" cy="8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player.myshared.ru/457183/data/images/img4.png"/>
          <p:cNvPicPr/>
          <p:nvPr/>
        </p:nvPicPr>
        <p:blipFill>
          <a:blip r:embed="rId6"/>
          <a:stretch/>
        </p:blipFill>
        <p:spPr>
          <a:xfrm rot="1842600">
            <a:off x="8091000" y="620280"/>
            <a:ext cx="865440" cy="863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img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50920" y="1197000"/>
            <a:ext cx="2879640" cy="2235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пч"/>
          <p:cNvPicPr/>
          <p:nvPr/>
        </p:nvPicPr>
        <p:blipFill>
          <a:blip r:embed="rId2"/>
          <a:stretch/>
        </p:blipFill>
        <p:spPr>
          <a:xfrm>
            <a:off x="2916360" y="2060640"/>
            <a:ext cx="3033720" cy="2149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с"/>
          <p:cNvPicPr/>
          <p:nvPr/>
        </p:nvPicPr>
        <p:blipFill>
          <a:blip r:embed="rId3"/>
          <a:stretch/>
        </p:blipFill>
        <p:spPr>
          <a:xfrm>
            <a:off x="5724360" y="3068640"/>
            <a:ext cx="2889360" cy="2181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2392200" y="4889520"/>
            <a:ext cx="26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24480" y="4753080"/>
            <a:ext cx="541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2800" spc="-1" strike="noStrike">
                <a:solidFill>
                  <a:srgbClr val="1a00da"/>
                </a:solidFill>
                <a:latin typeface="Monotype Corsiva"/>
              </a:rPr>
              <a:t>ГБОУ школа №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00da"/>
                </a:solidFill>
                <a:latin typeface="Monotype Corsiva"/>
              </a:rPr>
              <a:t>Дошкольное отделение №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3348000" y="333360"/>
            <a:ext cx="4896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ОЕ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ИР НАСЕКОМЫХ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826920" y="2060640"/>
            <a:ext cx="8066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ерегите природ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>
            <a:off x="684360" y="333360"/>
            <a:ext cx="5688000" cy="151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частники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едагоги: Щепилова Н.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Макарычева Н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4" name="WordArt 9"/>
          <p:cNvSpPr txBox="1"/>
          <p:nvPr/>
        </p:nvSpPr>
        <p:spPr>
          <a:xfrm>
            <a:off x="324000" y="1989000"/>
            <a:ext cx="456408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младшей группы № 4: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1619280" y="2852640"/>
            <a:ext cx="267480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ликов Рома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ельчикова Ан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одова Наст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лещенко Кол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1"/>
          <p:cNvSpPr txBox="1"/>
          <p:nvPr/>
        </p:nvSpPr>
        <p:spPr>
          <a:xfrm>
            <a:off x="5219640" y="2852640"/>
            <a:ext cx="30560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нникова Ан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имова Вика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евикин Андрей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влова София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6" descr=""/>
          <p:cNvPicPr/>
          <p:nvPr/>
        </p:nvPicPr>
        <p:blipFill>
          <a:blip r:embed="rId1"/>
          <a:stretch/>
        </p:blipFill>
        <p:spPr>
          <a:xfrm>
            <a:off x="542880" y="-3636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наиболее часто встречающимися насекомыми и их образом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2340000" y="242100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реалистическое представление об окружающей нас природе, желание стать другом природы, беречь и охранят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у детей элементарные представления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ых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абочка, муравей, жук, пчела, кузнечик, способах передви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ть бережное отношение к жи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D:\мир насекомых\мир насекомых 015 - копия.JPG"/>
          <p:cNvPicPr/>
          <p:nvPr/>
        </p:nvPicPr>
        <p:blipFill>
          <a:blip r:embed="rId1"/>
          <a:stretch/>
        </p:blipFill>
        <p:spPr>
          <a:xfrm>
            <a:off x="5724360" y="1197000"/>
            <a:ext cx="3157560" cy="421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D:\мир насекомых\мир насекомых 016.JPG"/>
          <p:cNvPicPr/>
          <p:nvPr/>
        </p:nvPicPr>
        <p:blipFill>
          <a:blip r:embed="rId2"/>
          <a:stretch/>
        </p:blipFill>
        <p:spPr>
          <a:xfrm>
            <a:off x="2843280" y="260280"/>
            <a:ext cx="3024000" cy="403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0240" y="549360"/>
            <a:ext cx="280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детей в проекте позволит сформировать представления о насекомых, их строении, местах обитания; развивать творческие способности и поисков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D:\мир насекомых\мир насекомых 001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D:\мир насекомых\мир насекомых 037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26920" y="76500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оде наблюдения за насекомыми выяснили, что они все разные, друг на друга не похож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у всех насекомых шесть ног (три па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D:\мир насекомых\мир насекомых 003.JPG"/>
          <p:cNvPicPr/>
          <p:nvPr/>
        </p:nvPicPr>
        <p:blipFill>
          <a:blip r:embed="rId1"/>
          <a:stretch/>
        </p:blipFill>
        <p:spPr>
          <a:xfrm>
            <a:off x="324000" y="1628640"/>
            <a:ext cx="3833640" cy="3672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D:\мир насекомых\мир насекомых 004.JPG"/>
          <p:cNvPicPr/>
          <p:nvPr/>
        </p:nvPicPr>
        <p:blipFill>
          <a:blip r:embed="rId2"/>
          <a:stretch/>
        </p:blipFill>
        <p:spPr>
          <a:xfrm>
            <a:off x="4572000" y="1628640"/>
            <a:ext cx="3887640" cy="36054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68360" y="26028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знакомились с насекомыми, живущими на боло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-плавунец - он очень хорошо плав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ы, мошки - ими питаются хищ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зы - они очень прожорливы, охотятся в пол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мир насекомых\мир насекомых 017.JPG"/>
          <p:cNvPicPr/>
          <p:nvPr/>
        </p:nvPicPr>
        <p:blipFill>
          <a:blip r:embed="rId1"/>
          <a:stretch/>
        </p:blipFill>
        <p:spPr>
          <a:xfrm>
            <a:off x="324000" y="2492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1080507"/>
          <p:cNvPicPr/>
          <p:nvPr/>
        </p:nvPicPr>
        <p:blipFill>
          <a:blip r:embed="rId2"/>
          <a:stretch/>
        </p:blipFill>
        <p:spPr>
          <a:xfrm>
            <a:off x="4622760" y="2495520"/>
            <a:ext cx="4054680" cy="3041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8"/>
          <p:cNvSpPr/>
          <p:nvPr/>
        </p:nvSpPr>
        <p:spPr>
          <a:xfrm>
            <a:off x="900000" y="692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день мы узнавали много интересного. Рассматривали и рисовали, делали аппл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D:\мир насекомых\мир насекомых 032.JPG"/>
          <p:cNvPicPr/>
          <p:nvPr/>
        </p:nvPicPr>
        <p:blipFill>
          <a:blip r:embed="rId1"/>
          <a:stretch/>
        </p:blipFill>
        <p:spPr>
          <a:xfrm>
            <a:off x="826920" y="260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P1080477"/>
          <p:cNvPicPr/>
          <p:nvPr/>
        </p:nvPicPr>
        <p:blipFill>
          <a:blip r:embed="rId2"/>
          <a:stretch/>
        </p:blipFill>
        <p:spPr>
          <a:xfrm>
            <a:off x="4572000" y="3068640"/>
            <a:ext cx="3598920" cy="26989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4932360" y="1125360"/>
            <a:ext cx="37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еница-зеле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листьях прячется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ть и много нож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етется вдоль дор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95280" y="342900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гусеница не превратилась в бабочку, берем пластилин и лепим её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D:\мир насекомых\P1080512.JPG"/>
          <p:cNvPicPr/>
          <p:nvPr/>
        </p:nvPicPr>
        <p:blipFill>
          <a:blip r:embed="rId1"/>
          <a:stretch/>
        </p:blipFill>
        <p:spPr>
          <a:xfrm>
            <a:off x="4572000" y="2565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123984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4360" y="1197000"/>
            <a:ext cx="362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является нашим общим дом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ть любовь к окружающему миру необходимо с раннего дет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8:05:29Z</dcterms:created>
  <dc:creator>оксана</dc:creator>
  <dc:description/>
  <dc:language>en-US</dc:language>
  <cp:lastModifiedBy>kantima</cp:lastModifiedBy>
  <dcterms:modified xsi:type="dcterms:W3CDTF">2019-04-17T16:42:30Z</dcterms:modified>
  <cp:revision>72</cp:revision>
  <dc:subject/>
  <dc:title>Презентация PowerPoint</dc:title>
</cp:coreProperties>
</file>