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C55-71BA-48FB-BC3D-3FD9B7D7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D87-AEEF-4DEE-9AC6-155DACE8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29F-40FE-4A59-B9A3-D999C0C6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617-BE25-4646-B6FE-1D946DD7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73D7-D290-4E08-A0FC-2A63AFE7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46C1-EFA4-4921-9898-D857C648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C9A6-FC82-4BA2-BFCA-99977917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AC63-C070-4F64-82AE-79625E13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AB88-30A9-4397-AAB4-00E4FE92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0D0D-E852-43E9-8212-5FB631C8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AB9-325A-400D-A20C-59FB68DB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38E-14BE-4FC8-81D5-448E01D8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E9CB-F08D-44FD-9B4E-9CB110A1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9EB6-A3A8-4ABC-87B0-E7EB22DC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4EB6-83BE-487F-8770-E765877A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D20B-57B1-40A0-91EA-6DF05137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9723-E107-4FCD-ACB9-49095716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DE12-38B4-4FE0-9684-AAADA710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70D8-9213-41A9-92C2-85575E34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87CB-4394-4A4E-9ED9-D19330A7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564A-6BD8-4D2D-891D-743D8C76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7F96-94FC-4606-B607-562DF24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F35-6D53-4B9C-B219-BF47D681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7A80-12BE-461B-B16E-7713C818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E141-2E41-46E0-B86E-729CEB4B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F78E-FAD1-44E6-B697-09F78F6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AC55-8689-4A49-8896-30C759B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1627-7A89-4632-8BEE-0CE1D3A0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A46B-FA68-461E-8B99-10797904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E2524-DDA3-4E3E-A254-B47E3AD1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5083-690E-4097-A40A-99BFD145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D459-7F09-47FA-9F3D-A8CFECC2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9658-1B04-4C5B-8EEA-30A753CD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79A-4247-4778-9BAD-2BBD5B36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4454-78CA-4F13-AB9A-3CA72AC0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505F-1DDF-4122-976D-B4F356C7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E37F-54AC-4776-86F1-FF90CAAC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0CED-D884-4E3C-B4B9-C1B6D1F3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8A71-8703-4DD7-A0E7-7CB5F90C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670C-891C-43D9-B3BE-D4CECAE2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426F-3AD6-4110-9E8A-54A634C2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F5EE9-D6B2-458C-9A85-EE4FBA74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8BA3-CF57-4AE8-AEF8-966E172D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E47-2E38-4628-B3DA-30172E68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3E1-CAFE-43FB-B0B0-A21F3A56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AD5-CFB2-417D-9CD6-1FF67A61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413-6484-49EA-89AB-7D86298D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BB0-1479-4B32-B40A-A387655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1840CB-33D0-4F3A-8045-80C69D1D1CE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5E38FF-C14F-4BCF-B284-04038807411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57736A-184A-4402-8F89-4C413E80825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C8A718-6EEC-46AC-BFEE-D5A00981D44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1735344-74271dd62d6b353e.jpg"/>
          <p:cNvPicPr/>
          <p:nvPr/>
        </p:nvPicPr>
        <p:blipFill>
          <a:blip r:embed="rId1"/>
          <a:stretch/>
        </p:blipFill>
        <p:spPr>
          <a:xfrm>
            <a:off x="1523880" y="-14400"/>
            <a:ext cx="9143640" cy="68720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523880" y="500040"/>
            <a:ext cx="914364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Развивающая предметно – пространственная  среда в соответствии ФГО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 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Доступность среды предполагает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90560"/>
            <a:ext cx="105152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ступ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воспитанников, в том числе детей с ОВЗ и детей-инвалидов, всех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ещен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рганизации, где осуществляется образовательный процесс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бодны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ступ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нников, в том числе детей с ОВЗ и детей-инвалидов, посещающих Организацию (группу)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играм, игрушкам, материалам, пособиям, обеспечивающим все основные виды детской активност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равность и сохра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териалов и оборудова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769320"/>
            <a:ext cx="10515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Безопасность предметно-пространственной среды предполагает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73880" y="2728800"/>
            <a:ext cx="9912960" cy="22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ответствие всех её элементов требованиям по обеспечению надёжности и безопасности их использования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54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just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Главной задачей воспитания дошкольников является          создание  у детей  чувства  эмоционального комфорта и психологической защищённости. В детском саду ребёнку важно чувствовать себя любимым и неповторимым. Поэтому важным является и среда , в которой проходит воспитательный процесс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536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8000" spc="-1" strike="noStrike">
                <a:solidFill>
                  <a:srgbClr val="7030a0"/>
                </a:solidFill>
                <a:latin typeface="Monotype Corsiva"/>
              </a:rPr>
              <a:t>СПАСИБО     ЗА ВНИМАНИЕ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admin\Downloads\фон я.jpg"/>
          <p:cNvPicPr/>
          <p:nvPr/>
        </p:nvPicPr>
        <p:blipFill>
          <a:blip r:embed="rId1"/>
          <a:stretch/>
        </p:blipFill>
        <p:spPr>
          <a:xfrm>
            <a:off x="1523880" y="-100080"/>
            <a:ext cx="9143640" cy="6957720"/>
          </a:xfrm>
          <a:prstGeom prst="rect">
            <a:avLst/>
          </a:prstGeom>
          <a:ln w="9525">
            <a:noFill/>
          </a:ln>
        </p:spPr>
      </p:pic>
      <p:sp>
        <p:nvSpPr>
          <p:cNvPr id="167" name="TextBox 2"/>
          <p:cNvSpPr/>
          <p:nvPr/>
        </p:nvSpPr>
        <p:spPr>
          <a:xfrm>
            <a:off x="478800" y="1484280"/>
            <a:ext cx="10899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т такой стороны воспитания, на которую обстановка не оказывала бы влияние, нет способности, которая находилась бы в прямой зависимости от непосредственно окружающей ребёнка конкретного мир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т, кому удастся создать такую обстановку, облегчит свой труд в высшей степ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и неё ребёнок будет жить – развиваться собственно самодовлеющей жизнью, его духовный рост будет совершенствоваться из самого себя, от природы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Е. И. Тихее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1960" y="261360"/>
            <a:ext cx="10515240" cy="100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Требования к развивающей предметно-пространственной среде в соответствии ФГОС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0160" y="1988280"/>
            <a:ext cx="11466000" cy="41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щая предметно-пространственная среда обеспечивает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ксимальную реализацию образовательного потенциала 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материалов, оборудования и инвентаря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щая предметно-пространственная сред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лжна обеспечивать возмож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ния и совместной деятельности детей и взрослых (в том числе детей разного возраста), во всей группе и в малых группах, двигательной активности детей, а также возможности для уедине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1960" y="275760"/>
            <a:ext cx="10515240" cy="137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Требования к развивающей предметно-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пространственной среде в соответствии ФГОС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1960" y="2177280"/>
            <a:ext cx="10515240" cy="391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3. Развивающая предметно-пространственная среда должна обеспечивать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Реализацию различных образовательных программ, используемых в образовательной деятельност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В случае организации инклюзивного образования – необходимые для него услов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Учёт национально-культурных, климатических условий, в которых осуществляется образовательная деятельность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1960" y="464400"/>
            <a:ext cx="10515240" cy="137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Требования к развивающей предметно-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пространственной среде в соответствии ФГОС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1960" y="2206080"/>
            <a:ext cx="1051524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4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Развивающая предметно-пространственная среда должна быть</a:t>
            </a:r>
            <a:r>
              <a:rPr b="0" lang="ru-RU" sz="3200" spc="-1" strike="noStrike">
                <a:solidFill>
                  <a:srgbClr val="181717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содержательно-насыщенн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трансформируем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полифункциональн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вариативн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доступн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безопасн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4400" y="609480"/>
            <a:ext cx="111754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100" spc="-1" strike="noStrike">
                <a:solidFill>
                  <a:srgbClr val="000000"/>
                </a:solidFill>
                <a:latin typeface="Calibri Light"/>
              </a:rPr>
              <a:t> </a:t>
            </a:r>
            <a:r>
              <a:rPr b="1" lang="ru-RU" sz="3100" spc="-1" strike="noStrike">
                <a:solidFill>
                  <a:srgbClr val="ff0000"/>
                </a:solidFill>
                <a:latin typeface="Calibri Light"/>
              </a:rPr>
              <a:t>Насыщенность среды должна соответствовать возрастным возможностям детей и содержанию Программы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400" y="1825560"/>
            <a:ext cx="1117548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тельное пространство должно быть оснащено расходным игровым, спортивным, оздоровительным оборудованием, инвентарём;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образовательного пространства и разнообразие материалов, оборудования и инвентаря (в здании и на участке) должны обеспечивать: игровую, познавательную, исследовательскую и творческую активность, экспериментирование с доступными детям материалами (в том числе с песком и водой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игательную активность, в том числе развитие крупной и мелкой моторики, участие в подвижных играх и соревнованиях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етей младенческого и раннего возраста образовательное пространство должно предоставлять необходимые и достаточные возможности для движения, предметной и игровой деятельности с разными материалам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5960" y="537120"/>
            <a:ext cx="914004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Calibri Light"/>
              </a:rPr>
              <a:t> 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Трансформируемость пространств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полагает возможность изменений предметно-пространственной среды в зависимости от образовательной ситуации, в том числе от меняющихся интересов и возможностей детей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7400" y="321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Полифункциональность материалов предполагает: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разнообразного использования различных составляющих предметной среды, например, детской мебели, матов, мягких модулей, ширм и т.д.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в Организации (в группе) полифункциональных (не обладающих жёстко закреплённым способом употребления) предметов, в том числе, природных материалов, пригодных для использования в разных видах детской активности (в том числе в качестве предметов-заместителей в детской игре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Вариативность среды предполагает: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в Организации (группе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личных пространст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для игры, конструирования, уединения и пр.), а такж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образных материалов, игр, игрушек и оборудования, обеспечивающих свободный выбор дете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одическую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меняемость игрового материала, появление новых предметов, стимулирующи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гровую, двигательну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знавательную и исследовательскую активность дет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  <Words>362</Words>
  <Paragraphs>4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4:24:58Z</dcterms:created>
  <dc:creator>Новосельский д.сад</dc:creator>
  <dc:description/>
  <dc:language>en-US</dc:language>
  <cp:lastModifiedBy>Новосельский д.сад</cp:lastModifiedBy>
  <cp:lastPrinted>2014-04-15T04:28:33Z</cp:lastPrinted>
  <dcterms:modified xsi:type="dcterms:W3CDTF">2014-04-21T03:51:05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3</vt:r8>
  </property>
</Properties>
</file>