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D09-4D07-4AC1-B44E-21A209CC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764-119B-473F-A6DD-37D9DB04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103-7408-49ED-A4A3-5468331E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056-EB74-42EF-AFB3-C2176506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4587-83E9-4581-881B-B8C3214E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804-77D8-4B74-81FB-B5E684CF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BE4-8580-4CD9-9C8D-2C16CB7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7A7-5567-4681-9FE0-C4A8EC8B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1A6-DB51-4041-96BA-FA358CD6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E9B5-DD9B-4173-9276-6BCAF496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18C4-7D3C-432B-9E61-44736002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898-387E-41AA-8A26-57FAF02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3033-8D0A-4063-AA04-1AD85007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0A68-7EC2-4919-ABE3-92A696B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9DFC-3294-4DB6-A681-5AACCC8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B1EF-9F2F-48F1-B5C0-021DE3A1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36D5-0C37-41BE-9DF5-18DD4124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F13F-51E9-4EC1-A2E6-A9143A46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30CC-7E1A-4C12-9725-06BC304E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CBDF5-F9D4-4EA4-AECA-21AE75CB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2C16-7603-4425-8C68-5A5CC8EF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32FF-78F1-4A83-8DFD-DCBE5D7C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C62-8FC0-4758-958C-94C5166F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4FD0-A918-4B59-A9F4-58649926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EE805-74F8-4159-BF39-2E64A88E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97A1F-DCCD-40C1-B85F-DC3DD12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5B8A-496A-4CB3-AE8D-94D706A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4549-216C-4410-8934-8BB52BB4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FCBD-13BE-406C-8D82-6AA68D34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CB27-7F89-4B23-BF00-7BFE5C66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8646-16E8-4BCF-934F-3BC7602A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F135-E695-4069-B759-2E081C5A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DD87-8377-4241-89BE-AB530247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7A9-7E70-485E-A71D-9055019E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D650F-D6B9-4955-8689-EC8C4FB4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2D07-3F3B-441B-BCFD-914EB1DF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8482E-C0B8-4D56-AD02-681A6C29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11AF-80EC-41C1-B7CC-4E45DF5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9FBC1-C687-4E96-847E-4FE706C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1A88-BE6A-4137-A562-92721C0F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2379-031A-4B18-85CF-8B194A07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FD2A-C008-4DB2-B3FA-291D2157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FAFA-2A1F-449E-B538-7715940A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E1C-81E4-4135-9A03-F31133B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D83-9B73-4801-A65A-71AE77EF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F1F-B706-47D1-8A28-B8EE50D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1CA-990D-4F74-A815-B36588A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654-672C-4CEA-9543-474106C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25600D-1A78-4E63-AC8F-978099BD120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1960" y="4589640"/>
            <a:ext cx="1051524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8A7FC9-5B33-4675-B3D5-0645E12BC3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6ACE98-FE45-48A7-92F1-A2A1D467076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9E0854-FF84-4E67-AC04-ADE06BE4FE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1" descr="1735344-74271dd62d6b353e.jpg"/>
          <p:cNvPicPr/>
          <p:nvPr/>
        </p:nvPicPr>
        <p:blipFill>
          <a:blip r:embed="rId1"/>
          <a:stretch/>
        </p:blipFill>
        <p:spPr>
          <a:xfrm>
            <a:off x="1523880" y="-14400"/>
            <a:ext cx="9143640" cy="68720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523880" y="500040"/>
            <a:ext cx="914364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Развивающая предметно – пространственная  среда в соответствии ФГО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Доступность среды предполагает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105152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ступ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воспитанников, в том числе детей с ОВЗ и детей-инвалидов, всех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мещ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рганизации, где осуществляется образовательный процесс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бодны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ступ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нников, в том числе детей с ОВЗ и детей-инвалидов, посещающих Организацию (группу),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играм, игрушкам, материалам, пособиям, обеспечивающим все основные виды детской активност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равность и сохра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териалов и оборудова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769320"/>
            <a:ext cx="10515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Безопасность предметно-пространственной среды предполагает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3880" y="2728800"/>
            <a:ext cx="9912960" cy="22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ответствие всех её элементов требованиям по обеспечению надёжности и безопасности их использования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54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Главной задачей воспитания дошкольников является          создание  у детей  чувства  эмоционального комфорта и психологической защищённости. В детском саду ребёнку важно чувствовать себя любимым и неповторимым. Поэтому важным является и среда , в которой проходит воспитательный процесс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536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8000" spc="-1" strike="noStrike">
                <a:solidFill>
                  <a:srgbClr val="7030a0"/>
                </a:solidFill>
                <a:latin typeface="Monotype Corsiva"/>
              </a:rPr>
              <a:t>СПАСИБО     ЗА ВНИМАНИЕ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\Downloads\фон я.jpg"/>
          <p:cNvPicPr/>
          <p:nvPr/>
        </p:nvPicPr>
        <p:blipFill>
          <a:blip r:embed="rId1"/>
          <a:stretch/>
        </p:blipFill>
        <p:spPr>
          <a:xfrm>
            <a:off x="1523880" y="-100080"/>
            <a:ext cx="9143640" cy="6957720"/>
          </a:xfrm>
          <a:prstGeom prst="rect">
            <a:avLst/>
          </a:prstGeom>
          <a:ln w="9525">
            <a:noFill/>
          </a:ln>
        </p:spPr>
      </p:pic>
      <p:sp>
        <p:nvSpPr>
          <p:cNvPr id="167" name="TextBox 2"/>
          <p:cNvSpPr/>
          <p:nvPr/>
        </p:nvSpPr>
        <p:spPr>
          <a:xfrm>
            <a:off x="478800" y="1484280"/>
            <a:ext cx="10899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т такой стороны воспитания, на которую обстановка не оказывала бы влияние, нет способности, которая находилась бы в прямой зависимости от непосредственно окружающей ребёнка конкретного мира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т, кому удастся создать такую обстановку, облегчит свой труд в высшей степ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и неё ребёнок будет жить – развиваться собственно самодовлеющей жизнью, его духовный рост будет совершенствоваться из самого себя, от природы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Е. И. Тихе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1960" y="261360"/>
            <a:ext cx="10515240" cy="100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Требования к развивающей предметно-пространственной среде в соответствии ФГОС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90160" y="1988280"/>
            <a:ext cx="11466000" cy="41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ая предметно-пространственная среда обеспечивает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симальную реализацию образовательного потенциала 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материалов, оборудования и инвентаря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ая предметно-пространственная сред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лжна обеспечивать возмож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ния и совместной деятельности детей и взрослых (в том числе детей разного возраста), во всей группе и в малых группах, двигательной активности детей, а также возможности для уедин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1960" y="275760"/>
            <a:ext cx="10515240" cy="137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Требования к развивающей предметно-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пространственной среде в соответствии ФГОС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1960" y="2177280"/>
            <a:ext cx="10515240" cy="39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8b8b8b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3. Развивающая предметно-пространственная среда должна обеспечивать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Реализацию различных образовательных программ, используемых в образовательной деятельност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В случае организации инклюзивного образования – необходимые для него условия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Учёт национально-культурных, климатических условий, в которых осуществляется образовательная деятельность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1960" y="464400"/>
            <a:ext cx="10515240" cy="137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Требования к развивающей предметно-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пространственной среде в соответствии ФГОС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1960" y="2206080"/>
            <a:ext cx="1051524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4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Развивающая предметно-пространственная среда должна быть</a:t>
            </a:r>
            <a:r>
              <a:rPr b="0" lang="ru-RU" sz="3200" spc="-1" strike="noStrike">
                <a:solidFill>
                  <a:srgbClr val="181717"/>
                </a:solidFill>
                <a:latin typeface="Calibri"/>
              </a:rPr>
              <a:t>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содержательно-насыщен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трансформируем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полифункциональ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вариатив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доступной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181717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800" spc="-1" strike="noStrike">
                <a:solidFill>
                  <a:srgbClr val="181717"/>
                </a:solidFill>
                <a:latin typeface="Calibri"/>
              </a:rPr>
              <a:t>безопасн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400" y="609480"/>
            <a:ext cx="111754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100" spc="-1" strike="noStrike">
                <a:solidFill>
                  <a:srgbClr val="000000"/>
                </a:solidFill>
                <a:latin typeface="Calibri Light"/>
              </a:rPr>
              <a:t> </a:t>
            </a:r>
            <a:r>
              <a:rPr b="1" lang="ru-RU" sz="3100" spc="-1" strike="noStrike">
                <a:solidFill>
                  <a:srgbClr val="ff0000"/>
                </a:solidFill>
                <a:latin typeface="Calibri Light"/>
              </a:rPr>
              <a:t>Насыщенность среды должна соответствовать возрастным возможностям детей и содержанию Программы.</a:t>
            </a:r>
            <a:endParaRPr b="0" lang="ru-RU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400" y="1825560"/>
            <a:ext cx="1117548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ое пространство должно быть оснащено расходным игровым, спортивным, оздоровительным оборудованием, инвентарём;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образовательного пространства и разнообразие материалов, оборудования и инвентаря (в здании и на участке) должны обеспечивать: игровую, познавательную, исследовательскую и творческую активность, экспериментирование с доступными детям материалами (в том числе с песком и водой)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игательную активность, в том числе развитие крупной и мелкой моторики, участие в подвижных играх и соревнованиях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етей младенческого и раннего возраста образовательное пространство должно предоставлять необходимые и достаточные возможности для движения, предметной и игровой деятельности с разными материалам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5960" y="537120"/>
            <a:ext cx="914004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4000" spc="-1" strike="noStrike">
                <a:solidFill>
                  <a:srgbClr val="ff0000"/>
                </a:solidFill>
                <a:latin typeface="Calibri Light"/>
              </a:rPr>
              <a:t>Трансформируемость пространств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полагает возможность изменений предметно-пространственной среды в зависимости от образовательной ситуации, в том числе от меняющихся интересов и возможностей детей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7400" y="321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Полифункциональность материалов предполагает: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разнообразного использования различных составляющих предметной среды, например, детской мебели, матов, мягких модулей, ширм и т.д.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в Организации (в группе) полифункциональных (не обладающих жёстко закреплённым способом употребления) предметов, в том числе, природных материалов, пригодных для использования в разных видах детской активности (в том числе в качестве предметов-заместителей в детской игре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Вариативность среды предполагает: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в Организации (группе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личных пространст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для игры, конструирования, уединения и пр.), а такж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образных материалов, игр, игрушек и оборудования, обеспечивающих свободный выбор дет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ическую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меняемость игрового материала, появление новых предметов, стимулирующи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гровую, двигательну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знавательную и исследовательскую активность дет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  <Words>362</Words>
  <Paragraphs>4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4:24:58Z</dcterms:created>
  <dc:creator>Новосельский д.сад</dc:creator>
  <dc:description/>
  <dc:language>en-US</dc:language>
  <cp:lastModifiedBy>Новосельский д.сад</cp:lastModifiedBy>
  <cp:lastPrinted>2014-04-15T04:28:33Z</cp:lastPrinted>
  <dcterms:modified xsi:type="dcterms:W3CDTF">2014-04-21T03:51:05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3</vt:r8>
  </property>
</Properties>
</file>