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C84-53DC-45C3-A5CA-75B43965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62A-EC81-47E1-92F1-B37A2FAB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C95-C7C0-4150-86DD-E0C6446B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13C-F132-49DB-AFFF-36E91101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B1A3-E79B-4527-9C77-2D9E9EF2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44AB-5AF6-4E08-B823-9F9C8FA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BD0-32E9-42BE-BDC8-804F6AE1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DD5-2087-458E-900B-7D743844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53AA-20E2-4062-8288-744C35DE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41C-DA60-441B-8503-A48C9945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27E1-48CB-4243-BD92-B52DDA6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E31-D5AF-428E-A1CE-5B7C1E83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39A8-4202-4DBF-A124-CBBD0C7A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F05D-C6CA-4CA7-AD4A-CDBBFC4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C6DC-AC36-4D65-8E63-43CAEBC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D2D-F6F3-4013-A8CD-13C48DA8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22CD-9B60-4340-A774-DD03D126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32D-47A8-4C83-8DC5-71A5F389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FCB-16C3-43E5-BE75-E404F7E9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E62-F3BE-451C-8329-E01348D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1F9-3D08-4E98-A890-FE2B631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79E-BD0D-44A6-8FA3-C278EBB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A77-2D52-459D-A80E-881587F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532-2C2D-4B00-81C9-DDE8CB2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E81F-A776-4FC3-894B-EC6BD24D26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C2C2-82B5-4DBC-952B-3E4A4ECF9A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429000"/>
            <a:ext cx="86104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Times New Roman"/>
              </a:rPr>
              <a:t>«Война в моей семье»</a:t>
            </a:r>
            <a:br>
              <a:rPr sz="6600"/>
            </a:b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(из семейного архив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9092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спрозванный Мар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ащийся 5 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Рамонский лицей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. Е.М. Ольденбург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70102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Каждый из них был героем,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а Родину шёл он в огонь и дым.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Город, улицу, дом отстаивал с боем,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Чтоб жизнь подарить други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6248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рутских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ихон Павлович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? – 27.07.194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44953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ший лейтен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941-194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гиб за оборону Ленингра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82880" cy="441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3400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Спасибо деду за Победу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31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ван Васильевич Шиянов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(1918 - 1994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0 стрелковый полк Западной Украин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шел победный путь от Волги до Эльбы, участвовал в битвах за освобождение Украины, Польши, Чехословакии (Южный фрон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ервые дни войны назначен поваром. С термосом за плечами полз к бойцам, доставляя им горячую пищ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0160" y="1676520"/>
            <a:ext cx="3322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78200" y="0"/>
            <a:ext cx="5365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 газеты «Боевой товарищ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з официального докумен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рад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аль «За освобождение Пра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ден Отечественной войн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билейные мед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моты и благодар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Рисунок 5" descr="http://podvignaroda.ru/filter/filterimage?path=VS/351/033-0690306-0101%2b012-0100/00000718_2.jpg&amp;id=37982872&amp;id1=28e4d28d8ea2c06f9b18774ef49892ee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387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44484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59160" cy="586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32280" y="533520"/>
            <a:ext cx="43117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ысоев Степан Михайлович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(1906-1959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ядовой (1941-19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армия Юго-Западного фронта 349 дивизия минометный батальон 1ая рота 1го взвода 1173 стрелкового пол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42 г. тяжело ранен в руку. Демобилизован в 1943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32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Сведения из его Книжки красноармей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шел на фронт в 35 лет. Оставил одних жену и  шестерых детей (четыре сына и две дочери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шел путь от Воронежа до Туапс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ывал на нескольких фронтах (Юго-Западный, Северо-Кавказски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ирались порой до места назначения пешком (по 9 км, 12 км, 30 км, 45 км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гда, в виду сильного огня со стороны противника, ползли канавой (2 к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рутских Степан Павлович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(1909-1983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апитан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ранга (1941-1945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инимал участие в десантах на Малую землю, в Новороссийск, на Керченский полуостро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аграды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рден Красной звезды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рден отечественной войны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степен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юбилейные медал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медаль «50 лет пребывания в КПСС»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хоронен в Аллее Славы в г. Риг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43640" y="160020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9-04-17T20:20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