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646-78E9-4693-9971-C10F6FFB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9ACF-4F0F-43FD-8BA9-B64C9B86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A43-BC1B-45B0-A6A4-17287F3C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B254-C88D-4CDC-880A-2A9C59BE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F15C-BC9A-44A7-BA87-597AF721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81BD-B76F-41DE-944B-8AC5FC95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58B5-5F66-47D0-9592-B2B2762B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E11E-BD41-4F5B-88C2-7E7AD5B9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FB13-0F37-469C-B3A8-F8C8FF8B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99CF-5394-47F9-AFC6-CC4A89BD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52E9-5528-4230-907D-9AB50FF2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A3B8-1FDE-4EF6-80E7-A6E99328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29D3-E786-46F4-B4D3-3CD67BB9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0270-EB65-47D7-9D10-C53CA40E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17BB-8019-4C87-9896-CCCB16F6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C94F-2D7A-4704-A864-D11041AE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EE0B-57D3-4DEB-99E0-7E8F6D24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900-A0A8-4572-A1E4-B4D2CF57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BE2-3351-4558-B896-F87D76BC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08B-1CA1-4DFC-AC6A-85830B72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495-1CF8-4984-98EF-A404BBE0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633-2EF6-4535-A46A-BE80E824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B1D-2325-4C8B-8E8D-90BB6BA3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559-12C0-479B-9639-7412AF25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8D02-FFA4-4866-993A-743DF657D9F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648C-72E2-4442-B007-645CB258D8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3429000"/>
            <a:ext cx="86104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cc"/>
                </a:solidFill>
                <a:latin typeface="Times New Roman"/>
              </a:rPr>
              <a:t>«Война в моей семье»</a:t>
            </a:r>
            <a:br>
              <a:rPr sz="6600"/>
            </a:b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(из семейного архива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90920" y="5334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спрозванный Мар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ащийся 5 г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КОУ «Рамонский лицей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м. Е.М. Ольденбургс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04920"/>
            <a:ext cx="701028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Каждый из них был героем, 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За Родину шёл он в огонь и дым.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Город, улицу, дом отстаивал с боем,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Чтоб жизнь подарить други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533160"/>
            <a:ext cx="6248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Крутских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Тихон Павлович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? – 27.07.1942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4495320"/>
            <a:ext cx="5257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рший лейтенан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1941-194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гиб за оборону Ленингра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882880" cy="4419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562720" y="2133720"/>
            <a:ext cx="3400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Спасибо деду за Победу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7315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Иван Васильевич Шиянов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(1918 - 1994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33920" y="1600200"/>
            <a:ext cx="4952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0 стрелковый полк Западной Украин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шел победный путь от Волги до Эльбы, участвовал в битвах за освобождение Украины, Польши, Чехословакии (Южный фронт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первые дни войны назначен поваром. С термосом за плечами полз к бойцам, доставляя им горячую пищ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0160" y="1676520"/>
            <a:ext cx="3322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778200" y="0"/>
            <a:ext cx="5365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з газеты «Боевой товарищ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з официального документ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8954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грады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даль «За освобождение Праг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даль «За победу над Германией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даль «За боевые заслуг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ден Отечественной войны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Юбилейные меда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моты и благодар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Рисунок 5" descr="http://podvignaroda.ru/filter/filterimage?path=VS/351/033-0690306-0101%2b012-0100/00000718_2.jpg&amp;id=37982872&amp;id1=28e4d28d8ea2c06f9b18774ef49892ee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3875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444840"/>
            <a:ext cx="45720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259160" cy="586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32280" y="533520"/>
            <a:ext cx="431172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Сысоев Степан Михайлович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(1906-1959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ядовой (1941-194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армия Юго-Западного фронта 349 дивизия минометный батальон 1ая рота 1го взвода 1173 стрелкового пол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1942 г. тяжело ранен в руку. Демобилизован в 1943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321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Сведения из его Книжки красноармейц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шел на фронт в 35 лет. Оставил одних жену и  шестерых детей (четыре сына и две дочери)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шел путь от Воронежа до Туапс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бывал на нескольких фронтах (Юго-Западный, Северо-Кавказский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бирались порой до места назначения пешком (по 9 км, 12 км, 30 км, 45 км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огда, в виду сильного огня со стороны противника, ползли канавой (2 км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Крутских Степан Павлович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 (1909-1983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34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Капитан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ранга (1941-1945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ринимал участие в десантах на Малую землю, в Новороссийск, на Керченский полуостров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Награды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рден Красной звезды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рден отечественной войны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степени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юбилейные медали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медаль «50 лет пребывания в КПСС»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охоронен в Аллее Славы в г. Рига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43640" y="1600200"/>
            <a:ext cx="3600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9-04-17T20:20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