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E605-2BA6-465B-A331-2153EFC17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1729-5C77-4473-B8CF-17B59D72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C340-3817-4470-A189-26B413EDD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B683-57B3-497E-AF68-D8849C8AB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A375C-6CB5-4192-9F82-0715F0C77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9152-BB9B-4325-964A-8F9ED677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46D0-D969-41A5-B6E0-043DBCEF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CF352-0142-4923-ABC5-207018F0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F18D-34A6-48B5-832B-A169A416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D873-A39F-4BE1-B2FE-BCE6C6BE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0297-829D-471B-A24C-C4589670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8CA4-31A4-4C50-BFA3-1519AEA8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AC2F-5BA4-4D87-8AD3-7473A04C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D24CB-59FC-4F96-B092-208F3A5A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B361-F368-45B5-82E7-4F63FE13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E204-54B5-47AF-B16F-6C3E178CC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99799-C220-484C-984B-D3F49E71F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91AD-368C-4B2C-AE55-E742D177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155F-BDA4-4161-B7D9-1DA2016D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5E08-612B-423E-9A94-07C49C06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BA7E-4E5E-40AA-86D6-BEB58871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1E40-FBBB-4FDD-9A38-4BD5CACD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A56E-31DF-4641-9292-6B409662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E8D6-C9E3-4B9F-BF88-DAA083FC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FFB8-96D1-45BA-AA8F-0C7783A326BB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D:\фоны и шаблоны\a454f3a7c5ac.jpg"/>
          <p:cNvPicPr/>
          <p:nvPr/>
        </p:nvPicPr>
        <p:blipFill>
          <a:blip r:embed="rId2"/>
          <a:stretch/>
        </p:blipFill>
        <p:spPr>
          <a:xfrm>
            <a:off x="0" y="0"/>
            <a:ext cx="8571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:\фоны и шаблоны\a454f3a7c5ac.jpg"/>
          <p:cNvPicPr/>
          <p:nvPr/>
        </p:nvPicPr>
        <p:blipFill>
          <a:blip r:embed="rId2"/>
          <a:stretch/>
        </p:blipFill>
        <p:spPr>
          <a:xfrm>
            <a:off x="0" y="0"/>
            <a:ext cx="85716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D:\фоны и шаблоны\a454f3a7c5ac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EFE6-626E-4113-A04D-F1DBB7D86146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773000"/>
            <a:ext cx="5759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 Light"/>
              </a:rPr>
              <a:t>Образ человека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4005360"/>
            <a:ext cx="3311640" cy="50328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ffc000"/>
                </a:solidFill>
                <a:latin typeface="Calibri"/>
              </a:rPr>
              <a:t>Женский образ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1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79693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"/>
          <p:cNvSpPr/>
          <p:nvPr/>
        </p:nvSpPr>
        <p:spPr>
          <a:xfrm>
            <a:off x="900000" y="446040"/>
            <a:ext cx="5832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  <a:ea typeface="Arial"/>
              </a:rPr>
              <a:t>За морем царевна ес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  <a:ea typeface="Arial"/>
              </a:rPr>
              <a:t>Что не можно глаз отве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  <a:ea typeface="Arial"/>
              </a:rPr>
              <a:t>Днем свет божий затмева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  <a:ea typeface="Arial"/>
              </a:rPr>
              <a:t>Ночью землю освеща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  <a:ea typeface="Arial"/>
              </a:rPr>
              <a:t>Месяц под косой блест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  <a:ea typeface="Arial"/>
              </a:rPr>
              <a:t>А во лбу звезда гор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  <a:ea typeface="Arial"/>
              </a:rPr>
              <a:t>А сама-то велича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  <a:ea typeface="Arial"/>
              </a:rPr>
              <a:t>Выплывает, будто па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  <a:ea typeface="Arial"/>
              </a:rPr>
              <a:t>А как речь-то говор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  <a:ea typeface="Arial"/>
              </a:rPr>
              <a:t>Словно реченька журч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  <a:ea typeface="Arial"/>
              </a:rPr>
              <a:t>Молвить можно справедлив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  <a:ea typeface="Arial"/>
              </a:rPr>
              <a:t>Это диво, так уж диво“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2"/>
          <p:cNvSpPr/>
          <p:nvPr/>
        </p:nvSpPr>
        <p:spPr>
          <a:xfrm>
            <a:off x="4392720" y="5877000"/>
            <a:ext cx="46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Georgia"/>
                <a:ea typeface="Times New Roman"/>
              </a:rPr>
              <a:t>Царевна-Лебедь. А.С.Пушк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Georgia"/>
                <a:ea typeface="Times New Roman"/>
              </a:rPr>
              <a:t>«Сказка о царе Салтане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"/>
          <p:cNvPicPr/>
          <p:nvPr/>
        </p:nvPicPr>
        <p:blipFill>
          <a:blip r:embed="rId1"/>
          <a:stretch/>
        </p:blipFill>
        <p:spPr>
          <a:xfrm>
            <a:off x="33480" y="0"/>
            <a:ext cx="907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" descr=""/>
          <p:cNvPicPr/>
          <p:nvPr/>
        </p:nvPicPr>
        <p:blipFill>
          <a:blip r:embed="rId1"/>
          <a:stretch/>
        </p:blipFill>
        <p:spPr>
          <a:xfrm>
            <a:off x="2139840" y="0"/>
            <a:ext cx="486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"/>
          <p:cNvPicPr/>
          <p:nvPr/>
        </p:nvPicPr>
        <p:blipFill>
          <a:blip r:embed="rId1"/>
          <a:stretch/>
        </p:blipFill>
        <p:spPr>
          <a:xfrm>
            <a:off x="2259000" y="0"/>
            <a:ext cx="462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1" descr=""/>
          <p:cNvPicPr/>
          <p:nvPr/>
        </p:nvPicPr>
        <p:blipFill>
          <a:blip r:embed="rId1"/>
          <a:stretch/>
        </p:blipFill>
        <p:spPr>
          <a:xfrm>
            <a:off x="2324160" y="0"/>
            <a:ext cx="681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1042920" y="1268280"/>
            <a:ext cx="734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  <a:ea typeface="Arial"/>
              </a:rPr>
              <a:t>А              …       с     …       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  <a:ea typeface="Arial"/>
              </a:rPr>
              <a:t>С сватьей     …       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  <a:ea typeface="Arial"/>
              </a:rPr>
              <a:t>Не хотят его пуст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  <a:ea typeface="Arial"/>
              </a:rPr>
              <a:t>Чудный остров навес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2"/>
          <p:cNvSpPr/>
          <p:nvPr/>
        </p:nvSpPr>
        <p:spPr>
          <a:xfrm>
            <a:off x="2771640" y="436572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Georgia"/>
                <a:ea typeface="Times New Roman"/>
              </a:rPr>
              <a:t>Ткачиха, повариха, баба Бабариха. А.С.Пушкин «Сказка о царе Салтане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1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8064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1" descr=""/>
          <p:cNvPicPr/>
          <p:nvPr/>
        </p:nvPicPr>
        <p:blipFill>
          <a:blip r:embed="rId1"/>
          <a:stretch/>
        </p:blipFill>
        <p:spPr>
          <a:xfrm>
            <a:off x="-36360" y="836640"/>
            <a:ext cx="9216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971640" y="189000"/>
            <a:ext cx="7993080" cy="52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Georgia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333333"/>
                </a:solidFill>
                <a:latin typeface="Georgia"/>
                <a:ea typeface="Times New Roman"/>
              </a:rPr>
              <a:t>В старину существовала наука о лицах, называлась она </a:t>
            </a:r>
            <a:r>
              <a:rPr b="1" lang="ru-RU" sz="3200" spc="-1" strike="noStrike">
                <a:solidFill>
                  <a:srgbClr val="333333"/>
                </a:solidFill>
                <a:latin typeface="Georgia"/>
                <a:ea typeface="Times New Roman"/>
              </a:rPr>
              <a:t>«Физиогномика» </a:t>
            </a:r>
            <a:r>
              <a:rPr b="0" lang="ru-RU" sz="3200" spc="-1" strike="noStrike">
                <a:solidFill>
                  <a:srgbClr val="333333"/>
                </a:solidFill>
                <a:latin typeface="Georgia"/>
                <a:ea typeface="Times New Roman"/>
              </a:rPr>
              <a:t>или искусство раскрытия характера человек по лицу. Изображая лица, художники раскрывают характер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Georgia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333333"/>
                </a:solidFill>
                <a:latin typeface="Georgia"/>
                <a:ea typeface="Times New Roman"/>
              </a:rPr>
              <a:t>Вот и мы на уроке будем учиться раскрывать характер женских образ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1"/>
          <p:cNvSpPr/>
          <p:nvPr/>
        </p:nvSpPr>
        <p:spPr>
          <a:xfrm>
            <a:off x="1116000" y="260280"/>
            <a:ext cx="7488360" cy="39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Georgia"/>
                <a:ea typeface="Times New Roman"/>
              </a:rPr>
              <a:t>- Сколько людей живет среди нас, внешне очень красивых, но злых и черствых. Много внешне страшненьких, но очень до­брых и отзывчивых. Наблюдая за теми и другими, художники, поэты и музыканты создают живые образы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2"/>
          <p:cNvSpPr/>
          <p:nvPr/>
        </p:nvSpPr>
        <p:spPr>
          <a:xfrm>
            <a:off x="900000" y="3821040"/>
            <a:ext cx="78487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Georgia"/>
                <a:ea typeface="Times New Roman"/>
              </a:rPr>
              <a:t>- А можно ли выразить образ доброго или злого персонажа цветом? Каким и почему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1116000" y="5084640"/>
            <a:ext cx="76327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Georgia"/>
                <a:ea typeface="Times New Roman"/>
              </a:rPr>
              <a:t>Вспомните </a:t>
            </a:r>
            <a:r>
              <a:rPr b="0" lang="ru-RU" sz="2800" spc="-1" strike="noStrike">
                <a:solidFill>
                  <a:srgbClr val="ff0000"/>
                </a:solidFill>
                <a:latin typeface="Georgia"/>
                <a:ea typeface="Times New Roman"/>
              </a:rPr>
              <a:t>тёплые</a:t>
            </a:r>
            <a:r>
              <a:rPr b="0" lang="ru-RU" sz="2800" spc="-1" strike="noStrike">
                <a:solidFill>
                  <a:srgbClr val="333333"/>
                </a:solidFill>
                <a:latin typeface="Georgia"/>
                <a:ea typeface="Times New Roman"/>
              </a:rPr>
              <a:t>, </a:t>
            </a:r>
            <a:r>
              <a:rPr b="0" lang="ru-RU" sz="2800" spc="-1" strike="noStrike">
                <a:solidFill>
                  <a:srgbClr val="0070c0"/>
                </a:solidFill>
                <a:latin typeface="Georgia"/>
                <a:ea typeface="Times New Roman"/>
              </a:rPr>
              <a:t>холодные</a:t>
            </a:r>
            <a:r>
              <a:rPr b="0" lang="ru-RU" sz="2800" spc="-1" strike="noStrike">
                <a:solidFill>
                  <a:srgbClr val="333333"/>
                </a:solidFill>
                <a:latin typeface="Georgia"/>
                <a:ea typeface="Times New Roman"/>
              </a:rPr>
              <a:t> цв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http://rusedu.info/upload/rte/Gribanova_R_F_1_clip_image002.jpg"/>
          <p:cNvPicPr/>
          <p:nvPr/>
        </p:nvPicPr>
        <p:blipFill>
          <a:blip r:embed="rId1"/>
          <a:stretch/>
        </p:blipFill>
        <p:spPr>
          <a:xfrm>
            <a:off x="1042920" y="17640"/>
            <a:ext cx="1584360" cy="290664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2" descr="http://rusedu.info/upload/rte/Gribanova_R_F_1_clip_image004.jpg"/>
          <p:cNvPicPr/>
          <p:nvPr/>
        </p:nvPicPr>
        <p:blipFill>
          <a:blip r:embed="rId2"/>
          <a:stretch/>
        </p:blipFill>
        <p:spPr>
          <a:xfrm>
            <a:off x="4067280" y="0"/>
            <a:ext cx="1728720" cy="292428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3" descr="http://rusedu.info/upload/rte/Gribanova_R_F_1_clip_image006.jpg"/>
          <p:cNvPicPr/>
          <p:nvPr/>
        </p:nvPicPr>
        <p:blipFill>
          <a:blip r:embed="rId3"/>
          <a:stretch/>
        </p:blipFill>
        <p:spPr>
          <a:xfrm>
            <a:off x="6875640" y="17640"/>
            <a:ext cx="1773000" cy="29113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4" descr="http://rusedu.info/upload/rte/Gribanova_R_F_1_clip_image008.jpg"/>
          <p:cNvPicPr/>
          <p:nvPr/>
        </p:nvPicPr>
        <p:blipFill>
          <a:blip r:embed="rId4"/>
          <a:stretch/>
        </p:blipFill>
        <p:spPr>
          <a:xfrm>
            <a:off x="1055520" y="3500280"/>
            <a:ext cx="1514520" cy="32194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5" descr="http://rusedu.info/upload/rte/Gribanova_R_F_1_clip_image010.jpg"/>
          <p:cNvPicPr/>
          <p:nvPr/>
        </p:nvPicPr>
        <p:blipFill>
          <a:blip r:embed="rId5"/>
          <a:stretch/>
        </p:blipFill>
        <p:spPr>
          <a:xfrm>
            <a:off x="4048200" y="3500280"/>
            <a:ext cx="1747800" cy="321948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6" descr="http://rusedu.info/upload/rte/Gribanova_R_F_1_clip_image012.jpg"/>
          <p:cNvPicPr/>
          <p:nvPr/>
        </p:nvPicPr>
        <p:blipFill>
          <a:blip r:embed="rId6"/>
          <a:stretch/>
        </p:blipFill>
        <p:spPr>
          <a:xfrm>
            <a:off x="6929280" y="3381480"/>
            <a:ext cx="1667160" cy="3476520"/>
          </a:xfrm>
          <a:prstGeom prst="rect">
            <a:avLst/>
          </a:prstGeom>
          <a:ln w="0">
            <a:noFill/>
          </a:ln>
        </p:spPr>
      </p:pic>
      <p:cxnSp>
        <p:nvCxnSpPr>
          <p:cNvPr id="119" name="Прямая со стрелкой 8"/>
          <p:cNvCxnSpPr/>
          <p:nvPr/>
        </p:nvCxnSpPr>
        <p:spPr>
          <a:xfrm>
            <a:off x="2195280" y="2733480"/>
            <a:ext cx="4842360" cy="76716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120" name="Прямая со стрелкой 11"/>
          <p:cNvCxnSpPr/>
          <p:nvPr/>
        </p:nvCxnSpPr>
        <p:spPr>
          <a:xfrm flipH="1">
            <a:off x="2483640" y="2491920"/>
            <a:ext cx="4553640" cy="1369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21" name="Прямая со стрелкой 14"/>
          <p:cNvCxnSpPr/>
          <p:nvPr/>
        </p:nvCxnSpPr>
        <p:spPr>
          <a:xfrm>
            <a:off x="4427280" y="2349360"/>
            <a:ext cx="1152720" cy="1512000"/>
          </a:xfrm>
          <a:prstGeom prst="straightConnector1">
            <a:avLst/>
          </a:prstGeom>
          <a:ln w="38160">
            <a:solidFill>
              <a:srgbClr val="5b9bd5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1"/>
          <p:cNvSpPr/>
          <p:nvPr/>
        </p:nvSpPr>
        <p:spPr>
          <a:xfrm>
            <a:off x="826920" y="930240"/>
            <a:ext cx="8066160" cy="45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ahoma"/>
                <a:ea typeface="Times New Roman"/>
              </a:rPr>
              <a:t>-  </a:t>
            </a:r>
            <a:r>
              <a:rPr b="0" lang="ru-RU" sz="3200" spc="-1" strike="noStrike">
                <a:solidFill>
                  <a:srgbClr val="333333"/>
                </a:solidFill>
                <a:latin typeface="Georgia"/>
                <a:ea typeface="Times New Roman"/>
              </a:rPr>
              <a:t>Попробуйте представить свой сказочный персонаж и дайте ему имя. Надо сделать крупное изображение женских портретов сказочных  персонажей, контрастных по характеру, выразительных, добрых  или злых (по вашему выбору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1" descr="http://rusedu.info/upload/rte/Gribanova_R_F_1_clip_image014.jpg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-4680" y="0"/>
            <a:ext cx="511164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1" descr="http://rusedu.info/upload/rte/Gribanova_R_F_1_clip_image018.jpg"/>
          <p:cNvPicPr/>
          <p:nvPr/>
        </p:nvPicPr>
        <p:blipFill>
          <a:blip r:embed="rId2"/>
          <a:stretch/>
        </p:blipFill>
        <p:spPr>
          <a:xfrm>
            <a:off x="4786200" y="0"/>
            <a:ext cx="439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1" descr="http://rusedu.info/upload/rte/Gribanova_R_F_1_clip_image016.jpg"/>
          <p:cNvPicPr/>
          <p:nvPr/>
        </p:nvPicPr>
        <p:blipFill>
          <a:blip r:embed="rId1"/>
          <a:stretch/>
        </p:blipFill>
        <p:spPr>
          <a:xfrm>
            <a:off x="2050920" y="0"/>
            <a:ext cx="532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1" descr="http://rusedu.info/upload/rte/Gribanova_R_F_1_clip_image020.jpg"/>
          <p:cNvPicPr/>
          <p:nvPr/>
        </p:nvPicPr>
        <p:blipFill>
          <a:blip r:embed="rId1"/>
          <a:stretch/>
        </p:blipFill>
        <p:spPr>
          <a:xfrm>
            <a:off x="2268360" y="0"/>
            <a:ext cx="50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1" descr="http://rusedu.info/upload/rte/Gribanova_R_F_1_clip_image022.jpg"/>
          <p:cNvPicPr/>
          <p:nvPr/>
        </p:nvPicPr>
        <p:blipFill>
          <a:blip r:embed="rId1"/>
          <a:stretch/>
        </p:blipFill>
        <p:spPr>
          <a:xfrm>
            <a:off x="2340000" y="12600"/>
            <a:ext cx="504036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1" descr="http://rusedu.info/upload/rte/Gribanova_R_F_1_clip_image024.jpg"/>
          <p:cNvPicPr/>
          <p:nvPr/>
        </p:nvPicPr>
        <p:blipFill>
          <a:blip r:embed="rId1"/>
          <a:stretch/>
        </p:blipFill>
        <p:spPr>
          <a:xfrm>
            <a:off x="2411280" y="0"/>
            <a:ext cx="518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" descr="http://rusedu.info/upload/rte/Gribanova_R_F_1_clip_image026.jpg"/>
          <p:cNvPicPr/>
          <p:nvPr/>
        </p:nvPicPr>
        <p:blipFill>
          <a:blip r:embed="rId1"/>
          <a:stretch/>
        </p:blipFill>
        <p:spPr>
          <a:xfrm>
            <a:off x="2268360" y="0"/>
            <a:ext cx="468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1" descr="http://rusedu.info/upload/rte/Gribanova_R_F_1_clip_image028.jpg"/>
          <p:cNvPicPr/>
          <p:nvPr/>
        </p:nvPicPr>
        <p:blipFill>
          <a:blip r:embed="rId1"/>
          <a:stretch/>
        </p:blipFill>
        <p:spPr>
          <a:xfrm>
            <a:off x="2195640" y="0"/>
            <a:ext cx="496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1042920" y="2060640"/>
            <a:ext cx="785016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Georgia"/>
                <a:ea typeface="Times New Roman"/>
              </a:rPr>
              <a:t>В русских народных сказках, в сказках народов мира вы встречаетесь с разными персонажами. Давайте поговорим о них: какие они и как мы к ним относимся. Назовите кого-нибудь и попробуйте дать характеристику одного из женских персонажей, н/р, из сказок: А.С.Пушкина «Сказка о мёртвой царевне и семи богатырях», «Сказка о рыбаке и рыбке»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1" descr="http://rusedu.info/upload/rte/Gribanova_R_F_1_clip_image033.jpg"/>
          <p:cNvPicPr/>
          <p:nvPr/>
        </p:nvPicPr>
        <p:blipFill>
          <a:blip r:embed="rId1"/>
          <a:stretch/>
        </p:blipFill>
        <p:spPr>
          <a:xfrm>
            <a:off x="2124000" y="0"/>
            <a:ext cx="525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2"/>
          <p:cNvSpPr/>
          <p:nvPr/>
        </p:nvSpPr>
        <p:spPr>
          <a:xfrm>
            <a:off x="1199160" y="333360"/>
            <a:ext cx="30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Использованные ресур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3"/>
          <p:cNvSpPr/>
          <p:nvPr/>
        </p:nvSpPr>
        <p:spPr>
          <a:xfrm>
            <a:off x="1214280" y="1157400"/>
            <a:ext cx="739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://kinofilms.tv/film/skazka-o-care-saltane1984/25952/?order=reit_k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4"/>
          <p:cNvSpPr/>
          <p:nvPr/>
        </p:nvSpPr>
        <p:spPr>
          <a:xfrm>
            <a:off x="1235880" y="1628640"/>
            <a:ext cx="41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://www.rusedu.info/Article1050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5"/>
          <p:cNvSpPr/>
          <p:nvPr/>
        </p:nvSpPr>
        <p:spPr>
          <a:xfrm>
            <a:off x="1254240" y="701640"/>
            <a:ext cx="735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://blogs.privet.ru/community/Vid+/81597962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6"/>
          <p:cNvSpPr/>
          <p:nvPr/>
        </p:nvSpPr>
        <p:spPr>
          <a:xfrm>
            <a:off x="1254240" y="2205000"/>
            <a:ext cx="735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://raskras-ka.com/raskraski/raskraski-skazki-pushkin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934920" y="1698480"/>
            <a:ext cx="8244000" cy="25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Georgia"/>
                <a:ea typeface="Times New Roman"/>
              </a:rPr>
              <a:t>Положительные образы: прекрасные, нежные, добрые, кроткие, стройные, изящные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"/>
          <p:cNvSpPr/>
          <p:nvPr/>
        </p:nvSpPr>
        <p:spPr>
          <a:xfrm>
            <a:off x="1042920" y="4365720"/>
            <a:ext cx="770580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Georgia"/>
                <a:ea typeface="Times New Roman"/>
              </a:rPr>
              <a:t>Отрицательные: безобразные, злые, коварные, завистливые, ленивые.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954000" y="1490760"/>
            <a:ext cx="7632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  <a:ea typeface="Times New Roman"/>
              </a:rPr>
              <a:t>Но царевна молодая,                                    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Georgia"/>
                <a:ea typeface="Times New Roman"/>
              </a:rPr>
              <a:t>Тихомолком расцветая,                                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Georgia"/>
                <a:ea typeface="Times New Roman"/>
              </a:rPr>
              <a:t>Между тем росла, росла,                            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Georgia"/>
                <a:ea typeface="Times New Roman"/>
              </a:rPr>
              <a:t>Поднялась и расцвела.                                          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Georgia"/>
                <a:ea typeface="Times New Roman"/>
              </a:rPr>
              <a:t>Белолица, черноброва,                                    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Georgia"/>
                <a:ea typeface="Times New Roman"/>
              </a:rPr>
              <a:t>Нраву кроткого такого...</a:t>
            </a:r>
            <a:r>
              <a:rPr b="0" lang="ru-RU" sz="2000" spc="-1" strike="noStrike">
                <a:solidFill>
                  <a:srgbClr val="333333"/>
                </a:solidFill>
                <a:latin typeface="Georgia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333333"/>
                </a:solidFill>
                <a:latin typeface="Georgia"/>
                <a:ea typeface="Times New Roman"/>
              </a:rPr>
              <a:t>      </a:t>
            </a:r>
            <a:r>
              <a:rPr b="0" lang="ru-RU" sz="1800" spc="-1" strike="noStrike">
                <a:solidFill>
                  <a:srgbClr val="333333"/>
                </a:solidFill>
                <a:latin typeface="Tahoma"/>
                <a:ea typeface="Times New Roman"/>
              </a:rPr>
              <a:t>   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2"/>
          <p:cNvSpPr/>
          <p:nvPr/>
        </p:nvSpPr>
        <p:spPr>
          <a:xfrm>
            <a:off x="1979640" y="474984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Georgia"/>
                <a:ea typeface="Times New Roman"/>
              </a:rPr>
              <a:t>Царевна. А.С.Пушкин «Сказка о мёртвой царевне и семи богатыря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1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1062000" y="1773360"/>
            <a:ext cx="799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  <a:ea typeface="Times New Roman"/>
              </a:rPr>
              <a:t>...Правду молвить, молодица                         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Georgia"/>
                <a:ea typeface="Times New Roman"/>
              </a:rPr>
              <a:t>и впрямь была царица:                   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Georgia"/>
                <a:ea typeface="Times New Roman"/>
              </a:rPr>
              <a:t>Высока, стройна, бела,                             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Georgia"/>
                <a:ea typeface="Times New Roman"/>
              </a:rPr>
              <a:t>И умом и всем взяла;                             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Georgia"/>
                <a:ea typeface="Times New Roman"/>
              </a:rPr>
              <a:t>Но зато горда, ломлива,                       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Georgia"/>
                <a:ea typeface="Times New Roman"/>
              </a:rPr>
              <a:t>Своенравна и ревнива.   </a:t>
            </a:r>
            <a:r>
              <a:rPr b="0" lang="ru-RU" sz="2800" spc="-1" strike="noStrike">
                <a:solidFill>
                  <a:srgbClr val="002060"/>
                </a:solidFill>
                <a:latin typeface="Tahoma"/>
                <a:ea typeface="Times New Roman"/>
              </a:rPr>
              <a:t>  </a:t>
            </a:r>
            <a:r>
              <a:rPr b="0" lang="ru-RU" sz="2800" spc="-1" strike="noStrike">
                <a:solidFill>
                  <a:srgbClr val="333333"/>
                </a:solidFill>
                <a:latin typeface="Tahoma"/>
                <a:ea typeface="Times New Roman"/>
              </a:rPr>
              <a:t>                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"/>
          <p:cNvSpPr/>
          <p:nvPr/>
        </p:nvSpPr>
        <p:spPr>
          <a:xfrm>
            <a:off x="2700360" y="4941720"/>
            <a:ext cx="61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Georgia"/>
                <a:ea typeface="Times New Roman"/>
              </a:rPr>
              <a:t>Царица. А.С.Пушкин «Сказка о мёртвой царевне и семи богатыря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" descr=""/>
          <p:cNvPicPr/>
          <p:nvPr/>
        </p:nvPicPr>
        <p:blipFill>
          <a:blip r:embed="rId1"/>
          <a:stretch/>
        </p:blipFill>
        <p:spPr>
          <a:xfrm>
            <a:off x="1116000" y="476280"/>
            <a:ext cx="781848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8T16:40:25Z</dcterms:created>
  <dc:creator>Helen</dc:creator>
  <dc:description/>
  <dc:language>en-US</dc:language>
  <cp:lastModifiedBy>User</cp:lastModifiedBy>
  <dcterms:modified xsi:type="dcterms:W3CDTF">2019-04-18T07:57:30Z</dcterms:modified>
  <cp:revision>34</cp:revision>
  <dc:subject/>
  <dc:title>Слайд 1</dc:title>
</cp:coreProperties>
</file>