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C80-67FA-4479-8453-473FA60E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26C-E54C-468D-9A1A-64CD29FE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B20-D337-4FDA-B788-A3AA564E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456-5E7C-4BA8-9757-A3F9D8E5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19AC-5C9A-4AD0-820F-8DF13D21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B919-DDD2-4DC5-9E36-81FE47E2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27FB-E8F6-4A26-BC6A-5B288B3B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4CF-A095-4352-A12F-171D967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4FB7-7149-4333-9429-5A70DDD0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D760-EBC2-4123-8ED5-66836A3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C600-91DB-4790-99CE-937A292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E77-076E-4A98-9A17-8218C0B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3B3-5C12-4311-BDCE-4EBD4C1B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ABA-851F-4279-9A4B-CFC97031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BFD4-F605-4707-80B7-EE98A911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5D92-AE5D-41BC-95C9-8E105EDA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83E-767E-41AF-BF5E-C7562D32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DCA-7535-4D6B-96A0-C8F09E2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8A9-6DE7-4341-B5C4-22361CF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555-DEDB-4F2C-8F6A-59483032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AC9-4FCF-493E-A920-8C4677CC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6D3-5D44-463D-8862-0900ED3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2F5-DD02-410E-861B-8AF24F4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C61-C473-41DF-9EC5-B89B8769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659-83DC-4909-8ECA-2BDD2048725B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D:\фоны и шаблоны\a454f3a7c5ac.jpg"/>
          <p:cNvPicPr/>
          <p:nvPr/>
        </p:nvPicPr>
        <p:blipFill>
          <a:blip r:embed="rId2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фоны и шаблоны\a454f3a7c5ac.jpg"/>
          <p:cNvPicPr/>
          <p:nvPr/>
        </p:nvPicPr>
        <p:blipFill>
          <a:blip r:embed="rId2"/>
          <a:stretch/>
        </p:blipFill>
        <p:spPr>
          <a:xfrm>
            <a:off x="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фоны и шаблоны\a454f3a7c5ac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E306-902B-4BA9-A6BA-67AB4FF5ADB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Образ челове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4005360"/>
            <a:ext cx="3311640" cy="503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ffc000"/>
                </a:solidFill>
                <a:latin typeface="Calibri"/>
              </a:rPr>
              <a:t>Женский обра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900000" y="446040"/>
            <a:ext cx="583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За морем царевна 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Что не можно глаз отве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Днем свет божий затмев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Ночью землю освещ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Месяц под косой блест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во лбу звезда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сама-то велич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Выплывает, будто па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А как речь-то говор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Словно реченька жур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Молвить можно справедли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Arial"/>
              </a:rPr>
              <a:t>Это диво, так уж диво“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392720" y="5877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евна-Лебедь. А.С.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«Сказка о царе Сал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2139840" y="0"/>
            <a:ext cx="48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2259000" y="0"/>
            <a:ext cx="462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232416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042920" y="1268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А              …       с     …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С сватьей     …       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Не хотят его пу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  <a:ea typeface="Arial"/>
              </a:rPr>
              <a:t>Чудный остров наве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771640" y="436572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Ткачиха, повариха, баба Бабариха. А.С.Пушкин «Сказка о царе Сал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2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971640" y="189000"/>
            <a:ext cx="799308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В старину существовала наука о лицах, называлась она </a:t>
            </a:r>
            <a:r>
              <a:rPr b="1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«Физиогномика»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или искусство раскрытия характера человек по лицу. Изображая лица, художники раскрывают характ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Вот и мы на уроке будем учиться раскрывать характер женских обра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1116000" y="260280"/>
            <a:ext cx="7488360" cy="39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- Сколько людей живет среди нас, внешне очень красивых, но злых и черствых. Много внешне страшненьких, но очень до­брых и отзывчивых. Наблюдая за теми и другими, художники, поэты и музыканты создают живые образ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900000" y="3821040"/>
            <a:ext cx="78487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- А можно ли выразить образ доброго или злого персонажа цветом? Каким и почему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16000" y="5084640"/>
            <a:ext cx="7632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спомните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  <a:ea typeface="Times New Roman"/>
              </a:rPr>
              <a:t>тёплые</a:t>
            </a: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70c0"/>
                </a:solidFill>
                <a:latin typeface="Georgia"/>
                <a:ea typeface="Times New Roman"/>
              </a:rPr>
              <a:t>холодные</a:t>
            </a: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 ц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http://rusedu.info/upload/rte/Gribanova_R_F_1_clip_image002.jpg"/>
          <p:cNvPicPr/>
          <p:nvPr/>
        </p:nvPicPr>
        <p:blipFill>
          <a:blip r:embed="rId1"/>
          <a:stretch/>
        </p:blipFill>
        <p:spPr>
          <a:xfrm>
            <a:off x="1042920" y="17640"/>
            <a:ext cx="1584360" cy="2906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http://rusedu.info/upload/rte/Gribanova_R_F_1_clip_image004.jpg"/>
          <p:cNvPicPr/>
          <p:nvPr/>
        </p:nvPicPr>
        <p:blipFill>
          <a:blip r:embed="rId2"/>
          <a:stretch/>
        </p:blipFill>
        <p:spPr>
          <a:xfrm>
            <a:off x="4067280" y="0"/>
            <a:ext cx="1728720" cy="2924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http://rusedu.info/upload/rte/Gribanova_R_F_1_clip_image006.jpg"/>
          <p:cNvPicPr/>
          <p:nvPr/>
        </p:nvPicPr>
        <p:blipFill>
          <a:blip r:embed="rId3"/>
          <a:stretch/>
        </p:blipFill>
        <p:spPr>
          <a:xfrm>
            <a:off x="6875640" y="17640"/>
            <a:ext cx="1773000" cy="29113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http://rusedu.info/upload/rte/Gribanova_R_F_1_clip_image008.jpg"/>
          <p:cNvPicPr/>
          <p:nvPr/>
        </p:nvPicPr>
        <p:blipFill>
          <a:blip r:embed="rId4"/>
          <a:stretch/>
        </p:blipFill>
        <p:spPr>
          <a:xfrm>
            <a:off x="1055520" y="3500280"/>
            <a:ext cx="1514520" cy="3219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http://rusedu.info/upload/rte/Gribanova_R_F_1_clip_image010.jpg"/>
          <p:cNvPicPr/>
          <p:nvPr/>
        </p:nvPicPr>
        <p:blipFill>
          <a:blip r:embed="rId5"/>
          <a:stretch/>
        </p:blipFill>
        <p:spPr>
          <a:xfrm>
            <a:off x="4048200" y="3500280"/>
            <a:ext cx="1747800" cy="3219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http://rusedu.info/upload/rte/Gribanova_R_F_1_clip_image012.jpg"/>
          <p:cNvPicPr/>
          <p:nvPr/>
        </p:nvPicPr>
        <p:blipFill>
          <a:blip r:embed="rId6"/>
          <a:stretch/>
        </p:blipFill>
        <p:spPr>
          <a:xfrm>
            <a:off x="6929280" y="3381480"/>
            <a:ext cx="1667160" cy="3476520"/>
          </a:xfrm>
          <a:prstGeom prst="rect">
            <a:avLst/>
          </a:prstGeom>
          <a:ln w="0">
            <a:noFill/>
          </a:ln>
        </p:spPr>
      </p:pic>
      <p:cxnSp>
        <p:nvCxnSpPr>
          <p:cNvPr id="119" name="Прямая со стрелкой 8"/>
          <p:cNvCxnSpPr/>
          <p:nvPr/>
        </p:nvCxnSpPr>
        <p:spPr>
          <a:xfrm>
            <a:off x="2195280" y="2733480"/>
            <a:ext cx="4842360" cy="76716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20" name="Прямая со стрелкой 11"/>
          <p:cNvCxnSpPr/>
          <p:nvPr/>
        </p:nvCxnSpPr>
        <p:spPr>
          <a:xfrm flipH="1">
            <a:off x="2483640" y="2491920"/>
            <a:ext cx="4553640" cy="1369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1" name="Прямая со стрелкой 14"/>
          <p:cNvCxnSpPr/>
          <p:nvPr/>
        </p:nvCxnSpPr>
        <p:spPr>
          <a:xfrm>
            <a:off x="4427280" y="2349360"/>
            <a:ext cx="1152720" cy="15120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826920" y="930240"/>
            <a:ext cx="806616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  <a:ea typeface="Times New Roman"/>
              </a:rPr>
              <a:t>-  </a:t>
            </a:r>
            <a:r>
              <a:rPr b="0" lang="ru-RU" sz="3200" spc="-1" strike="noStrike">
                <a:solidFill>
                  <a:srgbClr val="333333"/>
                </a:solidFill>
                <a:latin typeface="Georgia"/>
                <a:ea typeface="Times New Roman"/>
              </a:rPr>
              <a:t>Попробуйте представить свой сказочный персонаж и дайте ему имя. Надо сделать крупное изображение женских портретов сказочных  персонажей, контрастных по характеру, выразительных, добрых  или злых (по вашему выбор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://rusedu.info/upload/rte/Gribanova_R_F_1_clip_image014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4680" y="0"/>
            <a:ext cx="51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" descr="http://rusedu.info/upload/rte/Gribanova_R_F_1_clip_image018.jpg"/>
          <p:cNvPicPr/>
          <p:nvPr/>
        </p:nvPicPr>
        <p:blipFill>
          <a:blip r:embed="rId2"/>
          <a:stretch/>
        </p:blipFill>
        <p:spPr>
          <a:xfrm>
            <a:off x="4786200" y="0"/>
            <a:ext cx="43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http://rusedu.info/upload/rte/Gribanova_R_F_1_clip_image016.jpg"/>
          <p:cNvPicPr/>
          <p:nvPr/>
        </p:nvPicPr>
        <p:blipFill>
          <a:blip r:embed="rId1"/>
          <a:stretch/>
        </p:blipFill>
        <p:spPr>
          <a:xfrm>
            <a:off x="2050920" y="0"/>
            <a:ext cx="532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http://rusedu.info/upload/rte/Gribanova_R_F_1_clip_image020.jpg"/>
          <p:cNvPicPr/>
          <p:nvPr/>
        </p:nvPicPr>
        <p:blipFill>
          <a:blip r:embed="rId1"/>
          <a:stretch/>
        </p:blipFill>
        <p:spPr>
          <a:xfrm>
            <a:off x="2268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http://rusedu.info/upload/rte/Gribanova_R_F_1_clip_image022.jpg"/>
          <p:cNvPicPr/>
          <p:nvPr/>
        </p:nvPicPr>
        <p:blipFill>
          <a:blip r:embed="rId1"/>
          <a:stretch/>
        </p:blipFill>
        <p:spPr>
          <a:xfrm>
            <a:off x="2340000" y="12600"/>
            <a:ext cx="5040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http://rusedu.info/upload/rte/Gribanova_R_F_1_clip_image024.jpg"/>
          <p:cNvPicPr/>
          <p:nvPr/>
        </p:nvPicPr>
        <p:blipFill>
          <a:blip r:embed="rId1"/>
          <a:stretch/>
        </p:blipFill>
        <p:spPr>
          <a:xfrm>
            <a:off x="241128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http://rusedu.info/upload/rte/Gribanova_R_F_1_clip_image026.jpg"/>
          <p:cNvPicPr/>
          <p:nvPr/>
        </p:nvPicPr>
        <p:blipFill>
          <a:blip r:embed="rId1"/>
          <a:stretch/>
        </p:blipFill>
        <p:spPr>
          <a:xfrm>
            <a:off x="226836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http://rusedu.info/upload/rte/Gribanova_R_F_1_clip_image028.jpg"/>
          <p:cNvPicPr/>
          <p:nvPr/>
        </p:nvPicPr>
        <p:blipFill>
          <a:blip r:embed="rId1"/>
          <a:stretch/>
        </p:blipFill>
        <p:spPr>
          <a:xfrm>
            <a:off x="2195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042920" y="2060640"/>
            <a:ext cx="78501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Georgia"/>
                <a:ea typeface="Times New Roman"/>
              </a:rPr>
              <a:t>В русских народных сказках, в сказках народов мира вы встречаетесь с разными персонажами. Давайте поговорим о них: какие они и как мы к ним относимся. Назовите кого-нибудь и попробуйте дать характеристику одного из женских персонажей, н/р, из сказок: А.С.Пушкина «Сказка о мёртвой царевне и семи богатырях», «Сказка о рыбаке и рыбке»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http://rusedu.info/upload/rte/Gribanova_R_F_1_clip_image033.jpg"/>
          <p:cNvPicPr/>
          <p:nvPr/>
        </p:nvPicPr>
        <p:blipFill>
          <a:blip r:embed="rId1"/>
          <a:stretch/>
        </p:blipFill>
        <p:spPr>
          <a:xfrm>
            <a:off x="212400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"/>
          <p:cNvSpPr/>
          <p:nvPr/>
        </p:nvSpPr>
        <p:spPr>
          <a:xfrm>
            <a:off x="1199160" y="333360"/>
            <a:ext cx="30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спользова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1214280" y="1157400"/>
            <a:ext cx="73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kinofilms.tv/film/skazka-o-care-saltane1984/25952/?order=reit_k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1235880" y="162864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rusedu.info/Article1050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254240" y="70164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blogs.privet.ru/community/Vid+/8159796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254240" y="2205000"/>
            <a:ext cx="73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raskras-ka.com/raskraski/raskraski-skazki-pushkin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934920" y="1698480"/>
            <a:ext cx="8244000" cy="25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  <a:ea typeface="Times New Roman"/>
              </a:rPr>
              <a:t>Положительные образы: прекрасные, нежные, добрые, кроткие, стройные, изящные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1042920" y="4365720"/>
            <a:ext cx="77058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eorgia"/>
                <a:ea typeface="Times New Roman"/>
              </a:rPr>
              <a:t>Отрицательные: безобразные, злые, коварные, завистливые, ленивые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954000" y="14907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о царевна молодая, 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Тихомолком расцветая, 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Между тем росла, росла, 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Поднялась и расцвела.       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Белолица, черноброва,     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раву кроткого такого...</a:t>
            </a:r>
            <a:r>
              <a:rPr b="0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Times New Roman"/>
              </a:rPr>
              <a:t>      </a:t>
            </a:r>
            <a:r>
              <a:rPr b="0" lang="ru-RU" sz="1800" spc="-1" strike="noStrike">
                <a:solidFill>
                  <a:srgbClr val="333333"/>
                </a:solidFill>
                <a:latin typeface="Tahoma"/>
                <a:ea typeface="Times New Roman"/>
              </a:rPr>
              <a:t>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979640" y="47498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евна. А.С.Пушкин «Сказка о мёртвой царевне и семи богатыр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062000" y="177336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...Правду молвить, молодица                         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и впрямь была царица: 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Высока, стройна, бела, 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И умом и всем взяла; 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Но зато горда, ломлива, 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Georgia"/>
                <a:ea typeface="Times New Roman"/>
              </a:rPr>
              <a:t>Своенравна и ревнива.   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  <a:ea typeface="Times New Roman"/>
              </a:rPr>
              <a:t>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700360" y="494172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Царица. А.С.Пушкин «Сказка о мёртвой царевне и семи богатыр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81848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6:40:25Z</dcterms:created>
  <dc:creator>Helen</dc:creator>
  <dc:description/>
  <dc:language>en-US</dc:language>
  <cp:lastModifiedBy>User</cp:lastModifiedBy>
  <dcterms:modified xsi:type="dcterms:W3CDTF">2019-04-18T07:57:30Z</dcterms:modified>
  <cp:revision>34</cp:revision>
  <dc:subject/>
  <dc:title>Слайд 1</dc:title>
</cp:coreProperties>
</file>