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2D8-C805-40F2-9D2A-9F5C11CF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7C2C-8E57-40CA-8371-2EED77AC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DF6C-9747-4282-A94C-F6864192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2155-6C1C-4859-BE79-B5D1E0E4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798-6F7A-4291-B3FF-5FD0E995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D552-A7B6-4902-AA4F-D6F0AF16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B2B4-2353-4E73-830B-6AA67B09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5F4F-C0DF-4085-AA2D-13E0D810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57B8-6F3E-480F-8EEC-F110CE34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B5F-6045-432A-A1D4-0E265E35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8D41-DF29-444C-9EEC-E48E4D69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785E-A5DA-40ED-94DB-559B09CC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DC6D-2DE7-4438-8B65-4F63D6A2CA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prezentacii.com/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3.jpeg"/><Relationship Id="rId4" Type="http://schemas.openxmlformats.org/officeDocument/2006/relationships/hyperlink" Target="http://prezentacii.com/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285840" y="826920"/>
            <a:ext cx="8643960" cy="5336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«Детские музыкальные инструмент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6" descr="75c9a963efcf.png"/>
          <p:cNvPicPr/>
          <p:nvPr/>
        </p:nvPicPr>
        <p:blipFill>
          <a:blip r:embed="rId3"/>
          <a:stretch/>
        </p:blipFill>
        <p:spPr>
          <a:xfrm>
            <a:off x="1500120" y="2214720"/>
            <a:ext cx="5997600" cy="34844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5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3714840" y="2142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БУБ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0" y="1000080"/>
            <a:ext cx="3429000" cy="4239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БУБЕН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— ударный музыкальный инструмент неопределённой высоты звучания, состоящий из кожаной мембраны, натянутой на деревянный обод. К некоторым разновидностям бубнов подвешены металлические колокольчики, которые начинают звенеть, когда исполнитель ударяет по мембране бубна, потирает её или встряхивает весь инструмент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7" descr="бубен.jpg"/>
          <p:cNvPicPr/>
          <p:nvPr/>
        </p:nvPicPr>
        <p:blipFill>
          <a:blip r:embed="rId3"/>
          <a:stretch/>
        </p:blipFill>
        <p:spPr>
          <a:xfrm>
            <a:off x="3462480" y="1000080"/>
            <a:ext cx="5681520" cy="49435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2857680" y="142920"/>
            <a:ext cx="350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РЕЩЕ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0" y="857160"/>
            <a:ext cx="6715080" cy="558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ТРЕЩЕТК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- народный музыкальный инструмент, идиофон, заменяющий хлопки в ладо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рещЕтки состоят из набора 18 - 20 тонких дощечек (обычно дубовых) длиной 16 - 18 см. Они соединяются между собой плотной верёвкой, продетой в отверстия верхней части дощечек. Для разделения дощечек между ними вверху вставляются небольшие пластинки из дерева шириной приблизительно 2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уществует и другая конструкция трещетки - прямоугольный ящичек с помещённым внутри деревянным зубчатым колесом, прикреплённым к маленькой рукоятке. В одной из стенок этого ящичка делается прорез, в отверстии которого неподвижно укреплена тонкая упругая деревянная или металлическая пласти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рещетка держится за веревку двумя руками, резкие или плавные движения позволяют издавать различные звуки. При этом руки находятся на уровне груди, головы, а иногда поднимаются чтобы привлечь внимание своим внешним ви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7" descr="трещетка.gif"/>
          <p:cNvPicPr/>
          <p:nvPr/>
        </p:nvPicPr>
        <p:blipFill>
          <a:blip r:embed="rId3"/>
          <a:stretch/>
        </p:blipFill>
        <p:spPr>
          <a:xfrm>
            <a:off x="6680160" y="114480"/>
            <a:ext cx="1028880" cy="9889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трещетка.jpg"/>
          <p:cNvPicPr/>
          <p:nvPr/>
        </p:nvPicPr>
        <p:blipFill>
          <a:blip r:embed="rId4"/>
          <a:stretch/>
        </p:blipFill>
        <p:spPr>
          <a:xfrm>
            <a:off x="6572160" y="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9" descr="трещетка.gif"/>
          <p:cNvPicPr/>
          <p:nvPr/>
        </p:nvPicPr>
        <p:blipFill>
          <a:blip r:embed="rId5"/>
          <a:stretch/>
        </p:blipFill>
        <p:spPr>
          <a:xfrm>
            <a:off x="6443640" y="3735360"/>
            <a:ext cx="2452680" cy="235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2500200" y="14292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ОЛОКОЛЬЧ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0" y="736560"/>
            <a:ext cx="9144000" cy="3501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КОЛОКОЛЬЧИКИ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 — ударный музыкальный инструмент с определённой высотой звучания. Инструмент обладает светлозвенящим тембром в пиано, блестящим и ярким — в форте. Колокольчики существуют в двух разновидностях: простые и клавиш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Простые колокольчики представляют собой набор настроенных по хроматизму металлических пластинок, размещённых в два ряда на деревянной раме трапециевидной формы. Расположение пластинок на них аналогично расположению белых и чёрных клавиш фортепиано. Применяемый диапазон колокольчиков — от третьей октавы до пятой октавы, на некоторых инструментах — шире. Играют на обычных колокольчиках двумя маленькими металлическими молоточками или деревянными палоч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В клавишных колокольчиках пластинки заключены в корпус наподобие маленького пианино, где имеется несложный механизм молоточков, передающий удары от клавиш к пластинкам (этот механизм схож с механизмом челесты). Клавишные колокольчики технически подвижнее простых, но проигрывают им в чистоте темб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7" descr="колокольчики.jpg"/>
          <p:cNvPicPr/>
          <p:nvPr/>
        </p:nvPicPr>
        <p:blipFill>
          <a:blip r:embed="rId3"/>
          <a:stretch/>
        </p:blipFill>
        <p:spPr>
          <a:xfrm>
            <a:off x="3429000" y="4160880"/>
            <a:ext cx="5160960" cy="2697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2786040" y="0"/>
            <a:ext cx="37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УГИ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0" y="611280"/>
            <a:ext cx="9144000" cy="4231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КУГИКЛЫ — духовой музыкальный инструмент, русская разновидность многоствольчатой флейты, известной науке под названием «флейта Пана». Инструмент этот распространён в разных частях, у каждого народа для него свои наз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У русских первым обратил внимание на флейту Пана Гасри, давший весьма неточное её описание под названием свирель или свирелка. О кугиклах писал Дмитрюков в журнале «Московский телеграф» в 1831 году. На протяжении XIX в. в литературе время от времени встречается свидетельства об игре на кугиклах, особенно на территории Курской губер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Кугиклы представляют собой набор пустотелых трубок различной длины и диаметра с открытым верхним концом и закрытым нижним. Инструмент этот изготавливался обычно из стеблей куги (камыша), тростника, бамбука и т. д., дном служил узел ство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Комплект кугикл обычно состоит из 3—5 трубок одинакового диаметра, но разной длины. Трубки инструмента не скрепляются между собой, что позволяет их менять в зависимости от требуемого строя. Верхние, открытые концы инструмента располагаются на одной линии. Поднося их ко рту и поводя ими (или головой) из стороны в сторону, дуют на края срезов, извлекая, как правило, короткие, толчкообразные зву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7" descr="кугиклы.jpg"/>
          <p:cNvPicPr/>
          <p:nvPr/>
        </p:nvPicPr>
        <p:blipFill>
          <a:blip r:embed="rId3"/>
          <a:stretch/>
        </p:blipFill>
        <p:spPr>
          <a:xfrm>
            <a:off x="3214800" y="4497480"/>
            <a:ext cx="3571920" cy="236052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6"/>
          <p:cNvSpPr/>
          <p:nvPr/>
        </p:nvSpPr>
        <p:spPr>
          <a:xfrm>
            <a:off x="6929280" y="6429240"/>
            <a:ext cx="221472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dce6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5"/>
          <p:cNvSpPr/>
          <p:nvPr/>
        </p:nvSpPr>
        <p:spPr>
          <a:xfrm>
            <a:off x="0" y="571680"/>
            <a:ext cx="6786720" cy="6677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БАРАБАН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— ударный музыкальный инструмент, мембранофон. Распространён у большинства народов. Состоит из полого цилиндрического деревянного (или металлического) корпуса-резонатора или рамы, на которые с одной или двух сторон натянуты мембраны. Относительная высота звука может регулироваться натяжением мембран. Звук извлекают ударом по мембране деревянной колотушкой с мягким наконечником, палочкой, руками, а иногда и тр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звестно о существовании барабанов в древнем Шумере около 3000 лет до н.э. При раскопках в Месопотамии были найдены одни из древнейших ударных инструментов, сделанные в виде маленьких цилиндров, происхождение которых датируется третьим тысячелетием до нашей эры. С древнейших времён барабан использовался как сигнальный инструмент, а также для сопровождения ритуальных танцев, военных шествий, религиозных обрядов. В современную Европу барабаны попали с Ближнего Востока. Прототип малого (военного) барабана был заимствован у арабов в Испании и Палестине. О длительной истории развития инструмента свидетельствует и большое разнообразие его видов в наши дни. Известны барабаны различных форм и разме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3500280" y="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БАРАБ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7" descr="барабан.jpg"/>
          <p:cNvPicPr/>
          <p:nvPr/>
        </p:nvPicPr>
        <p:blipFill>
          <a:blip r:embed="rId3"/>
          <a:stretch/>
        </p:blipFill>
        <p:spPr>
          <a:xfrm>
            <a:off x="6643800" y="214200"/>
            <a:ext cx="2500200" cy="28828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2500200" y="14292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МЕТАЛЛОФ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0" y="1000080"/>
            <a:ext cx="9144000" cy="1923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МЕТАЛЛОФОН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— род музыкальных инструментов, основным элементом которых является ряд металлических пластин-клавиш, по которым для извлечения звука ударяют специальным молоточ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дин из видов металлофона — колокольч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ходный музыкальный инструмент — ксилофон, отличающийся от металлофона в основном материалом изготовления клави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7" descr="металлофон.jpg"/>
          <p:cNvPicPr/>
          <p:nvPr/>
        </p:nvPicPr>
        <p:blipFill>
          <a:blip r:embed="rId3"/>
          <a:stretch/>
        </p:blipFill>
        <p:spPr>
          <a:xfrm>
            <a:off x="1857240" y="2928960"/>
            <a:ext cx="5367600" cy="3929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3500280" y="14292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ВИР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0" y="896760"/>
            <a:ext cx="5857920" cy="3385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СВИРЕЛЬ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— русский двуствольный духовой инструмент; род двуствольной продольной флейты. Один из стволов имеет обычно длину 300—350 мм, второй — 450—470 мм. В верхнем конце ствола — свистковое устройство, в нижней части — по 3 боковых отверстия для изменения высоты звуков. Стволы настроены между собой в кварту и дают в целом диатонический звукоряд в объёме септ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 обыденном языке свирелью часто называют духовые инструменты типа одноствольных или двуствольных флей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7" descr="свирель.jpg"/>
          <p:cNvPicPr/>
          <p:nvPr/>
        </p:nvPicPr>
        <p:blipFill>
          <a:blip r:embed="rId3"/>
          <a:stretch/>
        </p:blipFill>
        <p:spPr>
          <a:xfrm>
            <a:off x="5929200" y="1428840"/>
            <a:ext cx="2714760" cy="3636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3500280" y="142920"/>
            <a:ext cx="25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ДУ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0" y="785880"/>
            <a:ext cx="5000760" cy="6129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ДУДК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— русский народный музыкальный духовой инструмент, состоящий из бузинной тростины или камыша и имеющий несколько боковых отверстий, а для вдувания — мундштучок. Существуют двойные дудки: в две сложенные трубки дуют через один общий мундшту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рхеологические раскопки свидетельствуют, что на костяных дудках играли задолго до нашей эры. В этнографических материалах XVIII и XIX вв. упоминаются деревянные и тростниковые дудоч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Деревянная дудка может быть вырезана из ветки или сделана на токарном станке. На конце вырезается свисток или вставляется жалейка. В дудке выжигаются или сверлятся отверс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У тростниковой дудочки или жалейки язычок надрезается прямо на ней. Звук своеобразный, рез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8" descr="дудка.jpg"/>
          <p:cNvPicPr/>
          <p:nvPr/>
        </p:nvPicPr>
        <p:blipFill>
          <a:blip r:embed="rId3"/>
          <a:stretch/>
        </p:blipFill>
        <p:spPr>
          <a:xfrm>
            <a:off x="4857840" y="107172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2786040" y="142920"/>
            <a:ext cx="37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ВИСТУЛЬ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0" y="1071720"/>
            <a:ext cx="5715000" cy="3385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СВИСТУЛЬКА –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детский игрушечный свис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вистульки берут свое начало глубоко из древности и снова встречаются с нами в современности. Они нашли воплощение в жанре дымковской игрушки – мастера лепили их в форме птичек, козликов и барашков и дарили детям на праздники или продавали на больших ярмар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 игрушках (обычно в хвостике) проделывали дырочку, куда нужно было дуть, и тогда получался мягкий, но в то же время слегка резкий зву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7" descr="свистульки.jpg"/>
          <p:cNvPicPr/>
          <p:nvPr/>
        </p:nvPicPr>
        <p:blipFill>
          <a:blip r:embed="rId3"/>
          <a:stretch/>
        </p:blipFill>
        <p:spPr>
          <a:xfrm>
            <a:off x="5072040" y="380376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500040" y="785880"/>
            <a:ext cx="8072640" cy="1313640"/>
          </a:xfrm>
          <a:prstGeom prst="rect">
            <a:avLst/>
          </a:prstGeom>
          <a:solidFill>
            <a:srgbClr val="f8f8f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Музыкальный инструмент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— обычно, предмет, с помощью которого музыканты исполняют или импровизируют музыку или любые, в том числе и немузыкальные неорганизованные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6" descr="63b73ad28f45.png"/>
          <p:cNvPicPr/>
          <p:nvPr/>
        </p:nvPicPr>
        <p:blipFill>
          <a:blip r:embed="rId3"/>
          <a:stretch/>
        </p:blipFill>
        <p:spPr>
          <a:xfrm>
            <a:off x="2487600" y="2363760"/>
            <a:ext cx="4370400" cy="2708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2214720" y="142920"/>
            <a:ext cx="485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узыкальные инстр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низ 6"/>
          <p:cNvSpPr/>
          <p:nvPr/>
        </p:nvSpPr>
        <p:spPr>
          <a:xfrm rot="1871400">
            <a:off x="2286000" y="642600"/>
            <a:ext cx="357120" cy="128592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низ 7"/>
          <p:cNvSpPr/>
          <p:nvPr/>
        </p:nvSpPr>
        <p:spPr>
          <a:xfrm rot="19465200">
            <a:off x="6777000" y="601200"/>
            <a:ext cx="357120" cy="1374840"/>
          </a:xfrm>
          <a:prstGeom prst="downArrow">
            <a:avLst>
              <a:gd name="adj1" fmla="val 56722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низ 9"/>
          <p:cNvSpPr/>
          <p:nvPr/>
        </p:nvSpPr>
        <p:spPr>
          <a:xfrm>
            <a:off x="4572000" y="762120"/>
            <a:ext cx="357120" cy="3666960"/>
          </a:xfrm>
          <a:prstGeom prst="downArrow">
            <a:avLst>
              <a:gd name="adj1" fmla="val 56722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1357200" y="2000160"/>
            <a:ext cx="14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ух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низ 14"/>
          <p:cNvSpPr/>
          <p:nvPr/>
        </p:nvSpPr>
        <p:spPr>
          <a:xfrm rot="1339800">
            <a:off x="1250640" y="2426760"/>
            <a:ext cx="193680" cy="13575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низ 15"/>
          <p:cNvSpPr/>
          <p:nvPr/>
        </p:nvSpPr>
        <p:spPr>
          <a:xfrm rot="20568000">
            <a:off x="2625840" y="2426760"/>
            <a:ext cx="195120" cy="135756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низ 16"/>
          <p:cNvSpPr/>
          <p:nvPr/>
        </p:nvSpPr>
        <p:spPr>
          <a:xfrm>
            <a:off x="1928880" y="2500200"/>
            <a:ext cx="214200" cy="221472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357120" y="37861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е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1357200" y="464328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ух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2214720" y="3786120"/>
            <a:ext cx="15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Язычк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1"/>
          <p:cNvSpPr/>
          <p:nvPr/>
        </p:nvSpPr>
        <p:spPr>
          <a:xfrm>
            <a:off x="3896640" y="44290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тру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низ 22"/>
          <p:cNvSpPr/>
          <p:nvPr/>
        </p:nvSpPr>
        <p:spPr>
          <a:xfrm rot="2526600">
            <a:off x="3596760" y="4758840"/>
            <a:ext cx="322560" cy="1282680"/>
          </a:xfrm>
          <a:prstGeom prst="downArrow">
            <a:avLst>
              <a:gd name="adj1" fmla="val 50000"/>
              <a:gd name="adj2" fmla="val 4994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низ 23"/>
          <p:cNvSpPr/>
          <p:nvPr/>
        </p:nvSpPr>
        <p:spPr>
          <a:xfrm rot="19557600">
            <a:off x="5402160" y="4772160"/>
            <a:ext cx="316080" cy="1276200"/>
          </a:xfrm>
          <a:prstGeom prst="down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5"/>
          <p:cNvSpPr/>
          <p:nvPr/>
        </p:nvSpPr>
        <p:spPr>
          <a:xfrm>
            <a:off x="2571840" y="585792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Щипк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6"/>
          <p:cNvSpPr/>
          <p:nvPr/>
        </p:nvSpPr>
        <p:spPr>
          <a:xfrm>
            <a:off x="5072040" y="58960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мычк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6715080" y="200016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д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1143000" y="21420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етские инстр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 вниз 6"/>
          <p:cNvSpPr/>
          <p:nvPr/>
        </p:nvSpPr>
        <p:spPr>
          <a:xfrm rot="1166400">
            <a:off x="2930400" y="668160"/>
            <a:ext cx="428760" cy="19209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низ 7"/>
          <p:cNvSpPr/>
          <p:nvPr/>
        </p:nvSpPr>
        <p:spPr>
          <a:xfrm rot="20178000">
            <a:off x="6226200" y="644040"/>
            <a:ext cx="428760" cy="192276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1116000" y="2619360"/>
            <a:ext cx="25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елодическ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5364000" y="260208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мелодическ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785880" y="3071880"/>
            <a:ext cx="335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еталло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вир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у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вистуль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угик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5072040" y="3071880"/>
            <a:ext cx="36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лав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роб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арел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ло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уб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рещ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локольч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араб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0" y="1209600"/>
            <a:ext cx="5072040" cy="3111480"/>
          </a:xfrm>
          <a:prstGeom prst="rect">
            <a:avLst/>
          </a:prstGeom>
          <a:solidFill>
            <a:srgbClr val="f8f8f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КЛАВЕС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- кубинский народный ударный инструмент, две палочки из черного дерева разной толщины. По легенде эти палочки символизируют Мужчину и Женщину. При игре палочками ударяют друг о друга, при этом пальцы левой руки, держащие палочку, по которой ударяют, складываются особым образом, чтобы создать своеобразный резонатор. На кла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можно играть самые разнообразные ритмические рису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2071800" y="357120"/>
            <a:ext cx="51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ЛАВ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8" descr="клавес.jpg"/>
          <p:cNvPicPr/>
          <p:nvPr/>
        </p:nvPicPr>
        <p:blipFill>
          <a:blip r:embed="rId3"/>
          <a:stretch/>
        </p:blipFill>
        <p:spPr>
          <a:xfrm>
            <a:off x="5000760" y="1104840"/>
            <a:ext cx="4143240" cy="3965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2928960" y="21420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ОРОБ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0" y="1143000"/>
            <a:ext cx="4929120" cy="6129000"/>
          </a:xfrm>
          <a:prstGeom prst="rect">
            <a:avLst/>
          </a:prstGeom>
          <a:solidFill>
            <a:srgbClr val="f8f8f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ДЕРЕВЯННАЯ КОРОБОЧКА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ли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ВУД-БЛОК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— один из самых распространённых ударных музыкальных инструментов с неопределённой высотой звучания. Звучание инструмента — характерный цокающий зв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едставляет собой прямоугольный брусок звонкого, хорошо высушенного дерева. С одной стороны, ближе к верхней части бруска, выдолблена глубокая щель шириной около 1 см. На инструменте играют деревянными или пластиковыми палочками. В зависимости от размера коробочки, звук может быть выше или ниже, поэтому зачастую композиторы используют несколько вуд-блоков, звучащих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ообраз современного оркестрового инструмента распространён среди народов Дальнего Востока, Африки и Юж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7" descr="коробочка.jpg"/>
          <p:cNvPicPr/>
          <p:nvPr/>
        </p:nvPicPr>
        <p:blipFill>
          <a:blip r:embed="rId3"/>
          <a:stretch/>
        </p:blipFill>
        <p:spPr>
          <a:xfrm>
            <a:off x="4857840" y="1714680"/>
            <a:ext cx="4286160" cy="3071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3071880" y="21420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АРЕ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0" y="1143000"/>
            <a:ext cx="5286240" cy="4239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ТАРЕЛКИ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— ударный музыкальный инструмент с неопределенной высотой звучания. Тарелки известны с древнейших времен, встречаясь в Китае, Индии, позже в Греции и Тур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едставляют собой диск выпуклой формы, изготовленный из особых сплавов путем литья и последующей ковки. В центре тарелки имеется отверстие, предназначенное для закрепления инструмента на специальной стойке или для прикрепления рем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реди основных приемов игры: удары различными палочками и колотушками, удары тарелок друг о друга, игра смычком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7" descr="тарелка.jpg"/>
          <p:cNvPicPr/>
          <p:nvPr/>
        </p:nvPicPr>
        <p:blipFill>
          <a:blip r:embed="rId3"/>
          <a:stretch/>
        </p:blipFill>
        <p:spPr>
          <a:xfrm>
            <a:off x="5357880" y="1285920"/>
            <a:ext cx="3786120" cy="32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2786040" y="21420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ТРЕУГОЛЬ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7" descr="треугольник.jpg"/>
          <p:cNvPicPr/>
          <p:nvPr/>
        </p:nvPicPr>
        <p:blipFill>
          <a:blip r:embed="rId3"/>
          <a:stretch/>
        </p:blipFill>
        <p:spPr>
          <a:xfrm>
            <a:off x="6372360" y="1341360"/>
            <a:ext cx="2736720" cy="28018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0" y="868320"/>
            <a:ext cx="6357960" cy="58546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ТРЕУГОЛЬНИК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— ударный музыкальный инструмент в виде металлического прута (обычно из стали или алюминия), изогнутого в форме треугольника. Один из углов оставлен открытым (концы прута почти касаютс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реугольник принадлежит к инструментам с неопределённой высотой звука, имеет блестящий и яркий тембр. Как правило, ему поручаются несложные ритмические фигуры и тремоло. Треугольник подвешивается за один из углов на тонкой проволоке или тесьме, которую держат в руке или прикрепляют к пюпитру. По треугольнику ударяют металлической (реже деревянной) палоч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 конца XVIII века треугольник — один из основных ударных инструментов симфонического оркестра. В сочинениях Гайдна, Моцарта и Бетховена он использовался для имитации так называемой «янычарской музыки». Одно из первых сочинений, в котором треугольнику поручена достаточно ответственная самостоятельная партия — Концерт № 1 для фортепиано с оркестром Ли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/>
          <p:cNvSpPr/>
          <p:nvPr/>
        </p:nvSpPr>
        <p:spPr>
          <a:xfrm>
            <a:off x="3714840" y="2142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ЛОЖ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0" y="1166760"/>
            <a:ext cx="5286240" cy="4208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ДЕРЕВЯННЫЕ ЛОЖКИ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спользуются в славянской традиции как музыкальный инструмент. Игровой комплект составляет от 3 до 5 ложек, иногда разного размера. Звук извлекается путём ударения друг о друга задних сторон черпаков. Тембр звука зависит от способа звукоизв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бычно один исполнитель использует три ложки, две из которых закладываются между пальцами левой руки, а третья берётся в правую. Удары производятся третьей ложкой по двум в левой руке. Обычно для удобства удары производятся на руке или колене. Иногда к ложкам подвешивают бубенч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7" descr="ложка.jpg"/>
          <p:cNvPicPr/>
          <p:nvPr/>
        </p:nvPicPr>
        <p:blipFill>
          <a:blip r:embed="rId3"/>
          <a:stretch/>
        </p:blipFill>
        <p:spPr>
          <a:xfrm>
            <a:off x="5334120" y="1357200"/>
            <a:ext cx="3809880" cy="36007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06:56Z</dcterms:created>
  <dc:creator>Alessana</dc:creator>
  <dc:description/>
  <dc:language>en-US</dc:language>
  <cp:lastModifiedBy>Admin</cp:lastModifiedBy>
  <dcterms:modified xsi:type="dcterms:W3CDTF">2012-08-03T06:56:49Z</dcterms:modified>
  <cp:revision>25</cp:revision>
  <dc:subject/>
  <dc:title>Слайд 1</dc:title>
</cp:coreProperties>
</file>