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9.gif" ContentType="image/gif"/>
  <Override PartName="/ppt/media/image28.gif" ContentType="image/gif"/>
  <Override PartName="/ppt/media/image27.gif" ContentType="image/gif"/>
  <Override PartName="/ppt/media/image7.png" ContentType="image/png"/>
  <Override PartName="/ppt/media/image8.gif" ContentType="image/gif"/>
  <Override PartName="/ppt/media/image13.gif" ContentType="image/gif"/>
  <Override PartName="/ppt/media/image26.gif" ContentType="image/gif"/>
  <Override PartName="/ppt/media/image6.png" ContentType="image/png"/>
  <Override PartName="/ppt/media/image9.gif" ContentType="image/gif"/>
  <Override PartName="/ppt/media/image10.gif" ContentType="image/gif"/>
  <Override PartName="/ppt/media/image11.gif" ContentType="image/gif"/>
  <Override PartName="/ppt/media/image12.gif" ContentType="image/gif"/>
  <Override PartName="/ppt/media/image5.png" ContentType="image/png"/>
  <Override PartName="/ppt/media/image25.gif" ContentType="image/gif"/>
  <Override PartName="/ppt/media/image30.gif" ContentType="image/gif"/>
  <Override PartName="/ppt/media/image31.gif" ContentType="image/gif"/>
  <Override PartName="/ppt/media/image4.png" ContentType="image/png"/>
  <Override PartName="/ppt/media/image24.gif" ContentType="image/gif"/>
  <Override PartName="/ppt/media/image3.png" ContentType="image/png"/>
  <Override PartName="/ppt/media/image23.gif" ContentType="image/gif"/>
  <Override PartName="/ppt/media/image2.png" ContentType="image/png"/>
  <Override PartName="/ppt/media/image22.gif" ContentType="image/gif"/>
  <Override PartName="/ppt/media/image1.png" ContentType="image/png"/>
  <Override PartName="/ppt/media/image19.gif" ContentType="image/gif"/>
  <Override PartName="/ppt/media/image21.gif" ContentType="image/gif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18.gif" ContentType="image/gif"/>
  <Override PartName="/ppt/media/image2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89CA-2745-4587-879F-FD530381F6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7E51-3B8A-431F-ACBB-AC1F297256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то мы делали для того, чтобы определить в какую группу записать сло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DA42-BE2D-475E-AD59-3E752FD452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чему эти слова никуда не включил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ы не знаем, к какой группе их отнести, они не подходят к данным частям реч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читайте их ещё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ожно сказать об эти словах? - Как их можно назват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одим курсор на слово. На каждой группой слов наведите курсор – появится название группы. Под группой – характерис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C0D5-7314-453E-B1CF-0857C74E4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57F2-3119-49A3-8C30-2DC90188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4F193-61B5-42CA-A1D4-96E78FDC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F8FC3-B411-4880-B6D5-DCFDF534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ED519-BE15-4F2A-AE7D-F42EA25C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47D7B-09E7-4DB4-BD06-962AFC1D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73698-9D5E-4073-B9B2-F4BCF117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B7DD3-480B-4993-B181-A7161E1D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99295-E1D5-4D78-AE80-FA75AA34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B2695-0203-473E-AE39-A96A8BDB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9BB31-9519-444B-876F-C7ED9F633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EC819-0822-40CB-A5FA-D7C4F55D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CE6B-19C5-4C37-AB90-5FAA56141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83E24-6194-45E4-9839-E42D1D50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B3F535-CFB3-439D-AACF-C734AD79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DCD5B-42D6-4DDB-A00E-70771E3A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A56DA-9BC4-414B-93ED-6CD6866D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38E45-0EC8-4697-A372-A8FF2AF3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2E3EB-5A8E-4732-A94C-B42DAECC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D512D9-E1E6-4283-A3D1-F14EBDE1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83EE52-700B-47AD-BAAE-10C5710D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0987D-2839-4569-AA26-15B721A2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07DDF-8D53-4B08-953F-8BFEC63A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9AB0-87BD-402A-A139-59F9AA20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7256E-10B1-4D2D-9557-EE67F08D1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EDA4B-3E03-47BD-A5CB-B6088EFAD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EA392-E0EE-4D76-AA65-3C117CA3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6A2F1-2DC0-49B8-9A3E-92EBF954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51BB5-2DE9-4C8F-8C81-7321310E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9626A-6B29-4510-89DA-0AF6FFD8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3E298-6626-400E-BD7B-8938D71D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1361D-7739-4A16-8BC8-E7F285D2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11AA7-6E8F-458B-B73C-C1A215B8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1C141-AEC0-4C63-8A7C-C69214C9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3871-8EC3-4B49-90A1-17D99B488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22177-CB8D-44EA-B98C-E581B5E1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1DEDE-3DB1-4F5E-99AA-325D092F6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9BE9D-414D-4443-A0DF-CBD88DF73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1025-6198-420E-8137-FC1D0E5C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E5E3-7083-4DBF-B108-4A040550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7581-1FB2-443D-8C1D-10A39C8E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12D1-8F72-4A5F-95E5-70A7C6F1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A4E9-33E3-4612-A27E-0FCA8CBC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C884-F87E-4950-9627-42B37747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262F-D873-49CA-BECA-CF68BBBC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BD9F-DCA7-4DA4-A17F-BD8A013B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5FFE-BC90-42C7-9485-F98EDDB2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8C35-6F4A-4816-8EC2-1CF44E68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5640-EE21-4615-B51F-97C67E97E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809C-C45F-4A2F-9A77-A93232E0E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69603-8EED-4A94-9CF4-ED6A68F9E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7AD58-88F3-4F77-8D4B-D8682CF0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6B390-3C84-45DD-AE36-C1B28D5F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61782-550C-43C7-9079-6C8F52A1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A433F-E3D2-4F4B-805B-E76F004A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2DF4-F782-45E9-82A3-BDE95F10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23E92-4252-4AE6-A415-45735BE6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D62E6-6E1D-4728-874E-A8E3568A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1D14D-30C7-4C25-87B3-B55FF370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AA42F-EA35-4137-ABB3-B61F8645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C7A18-F4B1-40A0-A09A-9CE9A84D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A2124-4C83-44A2-8FE7-4ED609153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F76E8-CC90-4F43-87CA-70957064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B70D2-D08F-476A-B39D-81C63ECEC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79FD3-C5EA-4A1C-9DA7-7AEDE9E9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BF7EC-6A21-423E-8916-6B913571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E9A2-CAE6-4243-B769-CEF1190A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50086-DECC-4504-BB9F-7F5A1B35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BC2B9-540B-4174-9D36-7D286E7B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E9899-CE58-4E7B-B187-0DCEE215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F8F9A-4D91-4286-B5BE-3C579A74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0F10B-0DA1-4122-BD24-FA35DC7E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791B2-2A76-4B4A-AF90-1EC4E839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F6AF8-D842-49CA-BD4C-3D3B827F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6B502-B52B-48A4-AB41-7F8910D31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8269C-D23D-43C2-A197-B24324DF0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2186A-F027-45CC-BB95-1C3FE2A0D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EEDA-E9DB-43FF-8971-B8A1E9F0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12D6C-4BA7-43CE-8930-196AA72D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0574E-EF5B-4578-B095-41FE1EA8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DCC47-9EC5-44B5-8BD8-B4481979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02B23-2829-43E2-AB59-FA2441C7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83C81-DEF7-4E0A-A308-AFC0B98F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AA8C0-C085-4A72-A06E-C1185FD5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00CA1-CB02-45B7-B7AB-DD7CC5D2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254C2-31C5-43C4-89C3-C140BD8C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11731-0203-449B-8159-840B7435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19C3C-E5D8-46AA-9A5B-AA2E1118B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54C2-B8CE-450F-9E74-739F6EED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45F3E-FDC5-404A-B952-AF47F3C62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707BE-562E-42A8-8183-BC056F8D8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7DB41-DABF-458A-9C81-722F48A7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39899-F6EB-4E82-8F91-0F96ADCB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13D3A-0A96-4EBE-B33C-83E75366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3FE20-A049-4E01-8EF4-0A8C4A29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FEFF3-1F80-48B6-98F6-8D2F1969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0F7DB-2C84-453C-9C33-7C3A4B95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3310F-B76A-45F3-AE44-BA4084E9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2961C-163E-4B51-B236-4816B368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E656-8F6C-45C5-99B9-DEC2B193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480A5-F8AC-4C07-84C4-9C760D77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B7826-C6F7-491F-997A-EBC8CD921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BC5F0-1BC4-4EAD-9B7C-E16FB1237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C658F-BE6F-48D6-986C-9F7D587D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08481-78F1-49DD-B690-9D6107D5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EC71F-CA8C-4C04-B5D6-1BD908D7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8E135-BD09-4311-8531-519AFD7A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52843-0AA7-422D-B854-2F754DEB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4B4AD-926C-475E-B19A-803DD7D7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5328D-3129-4691-BCE0-835D5A58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E094-9D3F-4949-855D-F14D3A46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6A5A2-0716-4F23-AA01-3451D2CA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F221B-901A-49D3-9499-F2F3A881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E20BD-FFD4-492D-A9AC-6C7977E1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8EA28-D80A-4CAA-AA7E-879A8FDCF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4AF36-D590-4732-8074-21745A6DB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1E52B-AE6E-4850-BEB8-AF7E9863B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E4E04-E574-43F5-B574-45C25AEC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ABE74-96F5-49D9-9C37-47F56C7C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E8886-CAA8-405A-AE8A-1B3237E2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038CE-A174-4B58-A888-88CBA72F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BA24-74FD-4EDE-9243-710764A0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0C012-EA47-4163-B200-6426192C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1FDDE-8ED6-447E-AEFA-4A87BFB1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A0776-E6B4-4350-9CB1-AC1723E8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EED53-533A-4721-8668-9B3B378C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7819E-76D0-4FE7-84F3-45A0BA1E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0EB3B-A296-4485-8CD2-8155F509D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80995-A6EC-45D5-9060-776608A2B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B2AFF-A2F5-4D2F-9EFC-11D6689B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F6368-6410-4D4F-9EB1-EC6BF94A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06C5ED-59DE-4156-950F-9FA2B4FD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016E-8DBD-469A-A374-0E5B4D78C1D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7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361C-AB33-4593-BD1F-138C6B61A26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2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"Образовательный портал Мой университет - www.moi-universitet.ru. факультет "Реформа образования"www.edu-reforma.ru"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0BBE-F495-42D8-8DD3-ECE4A4383D3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8CBD-0BB8-4590-B449-39C477783E40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5FC1-492C-4451-9A1D-05F9F96C81FA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2276-97CE-4703-92A7-A439CE837678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0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241D-6074-4B68-A961-B401998DDAF2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6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1ED8-01CF-402E-959E-08F32AD593B7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EE69-488A-4C99-AF35-9DDCC756B66B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6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442A-FB2F-4F0A-A016-0F054FED7E25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1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2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366B-6F9A-43CD-8BDE-E39C95003A2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Прямоугольник 3" descr=""/>
          <p:cNvPicPr/>
          <p:nvPr/>
        </p:nvPicPr>
        <p:blipFill>
          <a:blip r:embed="rId1"/>
          <a:stretch/>
        </p:blipFill>
        <p:spPr>
          <a:xfrm>
            <a:off x="2646360" y="1427040"/>
            <a:ext cx="4424400" cy="1017720"/>
          </a:xfrm>
          <a:prstGeom prst="rect">
            <a:avLst/>
          </a:prstGeom>
          <a:ln w="0">
            <a:noFill/>
          </a:ln>
        </p:spPr>
      </p:pic>
      <p:sp>
        <p:nvSpPr>
          <p:cNvPr id="584" name="TextBox 4"/>
          <p:cNvSpPr/>
          <p:nvPr/>
        </p:nvSpPr>
        <p:spPr>
          <a:xfrm>
            <a:off x="2394000" y="3789360"/>
            <a:ext cx="49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олни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касов М. 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0" y="0"/>
          <a:ext cx="7072200" cy="3071880"/>
        </p:xfrm>
        <a:graphic>
          <a:graphicData uri="http://schemas.openxmlformats.org/drawingml/2006/table">
            <a:tbl>
              <a:tblPr/>
              <a:tblGrid>
                <a:gridCol w="7072200"/>
              </a:tblGrid>
              <a:tr h="307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Числительно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олько?    Который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предметов  или порядок предметов при их счёте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8" name="Picture 19" descr="21"/>
          <p:cNvPicPr/>
          <p:nvPr/>
        </p:nvPicPr>
        <p:blipFill>
          <a:blip r:embed="rId1"/>
          <a:stretch/>
        </p:blipFill>
        <p:spPr>
          <a:xfrm>
            <a:off x="7072200" y="500040"/>
            <a:ext cx="1695600" cy="221472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6" descr="AG00511_"/>
          <p:cNvPicPr/>
          <p:nvPr/>
        </p:nvPicPr>
        <p:blipFill>
          <a:blip r:embed="rId2"/>
          <a:stretch/>
        </p:blipFill>
        <p:spPr>
          <a:xfrm>
            <a:off x="2214720" y="3643200"/>
            <a:ext cx="3571560" cy="257184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53" descr="184"/>
          <p:cNvPicPr/>
          <p:nvPr/>
        </p:nvPicPr>
        <p:blipFill>
          <a:blip r:embed="rId3"/>
          <a:stretch/>
        </p:blipFill>
        <p:spPr>
          <a:xfrm>
            <a:off x="571680" y="2928960"/>
            <a:ext cx="7694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1" name=""/>
          <p:cNvGraphicFramePr/>
          <p:nvPr/>
        </p:nvGraphicFramePr>
        <p:xfrm>
          <a:off x="1071720" y="714240"/>
          <a:ext cx="7358040" cy="1892520"/>
        </p:xfrm>
        <a:graphic>
          <a:graphicData uri="http://schemas.openxmlformats.org/drawingml/2006/table">
            <a:tbl>
              <a:tblPr/>
              <a:tblGrid>
                <a:gridCol w="7358040"/>
              </a:tblGrid>
              <a:tr h="1892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Нареч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? Где? Куда? Откуда? Когда?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нак действ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52" name="Picture 33" descr="a4e76a7daa978006a3440b1d18a4795f"/>
          <p:cNvPicPr/>
          <p:nvPr/>
        </p:nvPicPr>
        <p:blipFill>
          <a:blip r:embed="rId1"/>
          <a:stretch/>
        </p:blipFill>
        <p:spPr>
          <a:xfrm>
            <a:off x="6286680" y="2571840"/>
            <a:ext cx="1857240" cy="185724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1c4f28dc7b2032595545ed7545800529"/>
          <p:cNvPicPr/>
          <p:nvPr/>
        </p:nvPicPr>
        <p:blipFill>
          <a:blip r:embed="rId2"/>
          <a:stretch/>
        </p:blipFill>
        <p:spPr>
          <a:xfrm>
            <a:off x="428760" y="4357800"/>
            <a:ext cx="3571920" cy="211932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4" descr="2"/>
          <p:cNvPicPr/>
          <p:nvPr/>
        </p:nvPicPr>
        <p:blipFill>
          <a:blip r:embed="rId3"/>
          <a:stretch/>
        </p:blipFill>
        <p:spPr>
          <a:xfrm>
            <a:off x="285840" y="2928960"/>
            <a:ext cx="2733480" cy="13572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6" descr="ag00032_"/>
          <p:cNvPicPr/>
          <p:nvPr/>
        </p:nvPicPr>
        <p:blipFill>
          <a:blip r:embed="rId4"/>
          <a:stretch/>
        </p:blipFill>
        <p:spPr>
          <a:xfrm>
            <a:off x="4000680" y="2786040"/>
            <a:ext cx="1963440" cy="1909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8" descr="ag00005_"/>
          <p:cNvPicPr/>
          <p:nvPr/>
        </p:nvPicPr>
        <p:blipFill>
          <a:blip r:embed="rId5"/>
          <a:stretch/>
        </p:blipFill>
        <p:spPr>
          <a:xfrm>
            <a:off x="6019920" y="4429080"/>
            <a:ext cx="20714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4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4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7" name=""/>
          <p:cNvGraphicFramePr/>
          <p:nvPr/>
        </p:nvGraphicFramePr>
        <p:xfrm>
          <a:off x="642960" y="500040"/>
          <a:ext cx="7786800" cy="4786200"/>
        </p:xfrm>
        <a:graphic>
          <a:graphicData uri="http://schemas.openxmlformats.org/drawingml/2006/table">
            <a:tbl>
              <a:tblPr/>
              <a:tblGrid>
                <a:gridCol w="7786800"/>
              </a:tblGrid>
              <a:tr h="504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асти реч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мя существительное                     Предло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мя прилагательно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лагол                                       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Числительное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Наречие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                  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8" name=""/>
          <p:cNvGraphicFramePr/>
          <p:nvPr/>
        </p:nvGraphicFramePr>
        <p:xfrm>
          <a:off x="357120" y="714240"/>
          <a:ext cx="8501040" cy="5572440"/>
        </p:xfrm>
        <a:graphic>
          <a:graphicData uri="http://schemas.openxmlformats.org/drawingml/2006/table">
            <a:tbl>
              <a:tblPr/>
              <a:tblGrid>
                <a:gridCol w="8501040"/>
              </a:tblGrid>
              <a:tr h="5572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,  РОТ,  РАЗЕВАЙ,  ЧУЖОЙ,  ШИРОКО, Н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РАВАЙ,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уровен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и, какой частью речи является каждое слов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уровен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данных слов  составьте  пословицу и  определи, какой частью речи является каждое слов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уровен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данных слов  составьте  пословицу  и определи, какой частью речи является каждое слов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 прилагательному подберите однокоренное слово, которое являлось бы существительны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4"/>
          <p:cNvSpPr/>
          <p:nvPr/>
        </p:nvSpPr>
        <p:spPr>
          <a:xfrm>
            <a:off x="714240" y="373320"/>
            <a:ext cx="5643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гадайте загадк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за стол среди берё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 открытым неб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гощает он в моро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тиц зерном и хлебо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5" descr=""/>
          <p:cNvPicPr/>
          <p:nvPr/>
        </p:nvPicPr>
        <p:blipFill>
          <a:blip r:embed="rId1"/>
          <a:stretch/>
        </p:blipFill>
        <p:spPr>
          <a:xfrm>
            <a:off x="1785960" y="3429000"/>
            <a:ext cx="3809880" cy="2867040"/>
          </a:xfrm>
          <a:prstGeom prst="rect">
            <a:avLst/>
          </a:prstGeom>
          <a:ln w="0">
            <a:noFill/>
          </a:ln>
        </p:spPr>
      </p:pic>
      <p:sp>
        <p:nvSpPr>
          <p:cNvPr id="587" name="TextBox 5"/>
          <p:cNvSpPr/>
          <p:nvPr/>
        </p:nvSpPr>
        <p:spPr>
          <a:xfrm>
            <a:off x="5000760" y="271476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МУ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10" descr=""/>
          <p:cNvPicPr/>
          <p:nvPr/>
        </p:nvPicPr>
        <p:blipFill>
          <a:blip r:embed="rId1"/>
          <a:stretch/>
        </p:blipFill>
        <p:spPr>
          <a:xfrm>
            <a:off x="928800" y="428760"/>
            <a:ext cx="5972040" cy="497664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8" descr=""/>
          <p:cNvPicPr/>
          <p:nvPr/>
        </p:nvPicPr>
        <p:blipFill>
          <a:blip r:embed="rId2"/>
          <a:stretch/>
        </p:blipFill>
        <p:spPr>
          <a:xfrm>
            <a:off x="928800" y="335772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6" descr=""/>
          <p:cNvPicPr/>
          <p:nvPr/>
        </p:nvPicPr>
        <p:blipFill>
          <a:blip r:embed="rId3"/>
          <a:srcRect l="14421" t="2456" r="-1008" b="0"/>
          <a:stretch/>
        </p:blipFill>
        <p:spPr>
          <a:xfrm rot="17576400">
            <a:off x="5317560" y="173160"/>
            <a:ext cx="1485720" cy="1671840"/>
          </a:xfrm>
          <a:prstGeom prst="rect">
            <a:avLst/>
          </a:prstGeom>
          <a:ln w="0">
            <a:noFill/>
          </a:ln>
        </p:spPr>
      </p:pic>
      <p:pic>
        <p:nvPicPr>
          <p:cNvPr id="591" name="Рисунок 10" descr=""/>
          <p:cNvPicPr/>
          <p:nvPr/>
        </p:nvPicPr>
        <p:blipFill>
          <a:blip r:embed="rId4"/>
          <a:srcRect l="15743" t="0" r="20655" b="0"/>
          <a:stretch/>
        </p:blipFill>
        <p:spPr>
          <a:xfrm>
            <a:off x="6429240" y="3071880"/>
            <a:ext cx="1000440" cy="157140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11"/>
          <p:cNvSpPr/>
          <p:nvPr/>
        </p:nvSpPr>
        <p:spPr>
          <a:xfrm>
            <a:off x="4000680" y="4864680"/>
            <a:ext cx="485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Имя существитель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Кто? Ч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ме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15" descr="lares"/>
          <p:cNvPicPr/>
          <p:nvPr/>
        </p:nvPicPr>
        <p:blipFill>
          <a:blip r:embed="rId1"/>
          <a:stretch/>
        </p:blipFill>
        <p:spPr>
          <a:xfrm>
            <a:off x="2548080" y="1176480"/>
            <a:ext cx="4047840" cy="404784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16"/>
          <p:cNvSpPr/>
          <p:nvPr/>
        </p:nvSpPr>
        <p:spPr>
          <a:xfrm>
            <a:off x="1476360" y="1268280"/>
            <a:ext cx="6769080" cy="38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7"/>
          <p:cNvSpPr/>
          <p:nvPr/>
        </p:nvSpPr>
        <p:spPr>
          <a:xfrm>
            <a:off x="1692360" y="1052640"/>
            <a:ext cx="676908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. задай к слову вопро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. определи, что обозначает сло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. назови часть реч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8"/>
          <p:cNvSpPr/>
          <p:nvPr/>
        </p:nvSpPr>
        <p:spPr>
          <a:xfrm>
            <a:off x="3851280" y="5013360"/>
            <a:ext cx="1728720" cy="5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20"/>
          <p:cNvSpPr/>
          <p:nvPr/>
        </p:nvSpPr>
        <p:spPr>
          <a:xfrm>
            <a:off x="2701080" y="0"/>
            <a:ext cx="413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Times New Roman"/>
              </a:rPr>
              <a:t>алгорит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Прямоугольник 1"/>
          <p:cNvSpPr/>
          <p:nvPr/>
        </p:nvSpPr>
        <p:spPr>
          <a:xfrm>
            <a:off x="1428840" y="285840"/>
            <a:ext cx="457200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уществитель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Кто? Ч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м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11" descr="8"/>
          <p:cNvPicPr/>
          <p:nvPr/>
        </p:nvPicPr>
        <p:blipFill>
          <a:blip r:embed="rId1"/>
          <a:stretch/>
        </p:blipFill>
        <p:spPr>
          <a:xfrm>
            <a:off x="428760" y="2286000"/>
            <a:ext cx="2592360" cy="1494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8" descr="2"/>
          <p:cNvPicPr/>
          <p:nvPr/>
        </p:nvPicPr>
        <p:blipFill>
          <a:blip r:embed="rId2"/>
          <a:stretch/>
        </p:blipFill>
        <p:spPr>
          <a:xfrm>
            <a:off x="4357800" y="2081160"/>
            <a:ext cx="1500120" cy="18748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44" descr="0129c77b338f822a93d5c9540c35c8a6"/>
          <p:cNvPicPr/>
          <p:nvPr/>
        </p:nvPicPr>
        <p:blipFill>
          <a:blip r:embed="rId3"/>
          <a:stretch/>
        </p:blipFill>
        <p:spPr>
          <a:xfrm>
            <a:off x="7215120" y="3143160"/>
            <a:ext cx="1571760" cy="20955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7" descr="a17cb1a412eb1792e60c984d535e4cde"/>
          <p:cNvPicPr/>
          <p:nvPr/>
        </p:nvPicPr>
        <p:blipFill>
          <a:blip r:embed="rId4"/>
          <a:stretch/>
        </p:blipFill>
        <p:spPr>
          <a:xfrm>
            <a:off x="7358040" y="357120"/>
            <a:ext cx="1495440" cy="250056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21" descr="fb8d00d7f44134da8dc886627e55ade1"/>
          <p:cNvPicPr/>
          <p:nvPr/>
        </p:nvPicPr>
        <p:blipFill>
          <a:blip r:embed="rId5"/>
          <a:stretch/>
        </p:blipFill>
        <p:spPr>
          <a:xfrm>
            <a:off x="1071720" y="4071960"/>
            <a:ext cx="2357280" cy="25718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6" descr="animal75"/>
          <p:cNvPicPr/>
          <p:nvPr/>
        </p:nvPicPr>
        <p:blipFill>
          <a:blip r:embed="rId6"/>
          <a:stretch/>
        </p:blipFill>
        <p:spPr>
          <a:xfrm>
            <a:off x="4929120" y="4572000"/>
            <a:ext cx="185760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5" name=""/>
          <p:cNvGraphicFramePr/>
          <p:nvPr/>
        </p:nvGraphicFramePr>
        <p:xfrm>
          <a:off x="1285920" y="357120"/>
          <a:ext cx="6858000" cy="189252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1892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Имя  прилагательно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ой? Какая? Какое? Какие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нак предмет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6" name="Picture 8" descr="4c5b8f986382f15f91973cdd776a138c"/>
          <p:cNvPicPr/>
          <p:nvPr/>
        </p:nvPicPr>
        <p:blipFill>
          <a:blip r:embed="rId1"/>
          <a:stretch/>
        </p:blipFill>
        <p:spPr>
          <a:xfrm>
            <a:off x="785880" y="2571840"/>
            <a:ext cx="1428840" cy="10857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7" descr="521245980fcf8191c0082378ba038394"/>
          <p:cNvPicPr/>
          <p:nvPr/>
        </p:nvPicPr>
        <p:blipFill>
          <a:blip r:embed="rId2"/>
          <a:stretch/>
        </p:blipFill>
        <p:spPr>
          <a:xfrm>
            <a:off x="1214280" y="4643280"/>
            <a:ext cx="1333800" cy="133380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9" descr="2ed289bfe88d1f4c332b5e9791f4305b"/>
          <p:cNvPicPr/>
          <p:nvPr/>
        </p:nvPicPr>
        <p:blipFill>
          <a:blip r:embed="rId3"/>
          <a:stretch/>
        </p:blipFill>
        <p:spPr>
          <a:xfrm>
            <a:off x="4071960" y="3786120"/>
            <a:ext cx="1333440" cy="130176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6" descr="33b44212315acfbd4949c2cba89ef4fb"/>
          <p:cNvPicPr/>
          <p:nvPr/>
        </p:nvPicPr>
        <p:blipFill>
          <a:blip r:embed="rId4"/>
          <a:stretch/>
        </p:blipFill>
        <p:spPr>
          <a:xfrm>
            <a:off x="7215120" y="492912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5" descr="c09015259d45d2768413ee4edd7a8743"/>
          <p:cNvPicPr/>
          <p:nvPr/>
        </p:nvPicPr>
        <p:blipFill>
          <a:blip r:embed="rId5"/>
          <a:stretch/>
        </p:blipFill>
        <p:spPr>
          <a:xfrm>
            <a:off x="6143760" y="2714760"/>
            <a:ext cx="13334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1" name=""/>
          <p:cNvGraphicFramePr/>
          <p:nvPr/>
        </p:nvGraphicFramePr>
        <p:xfrm>
          <a:off x="785880" y="357120"/>
          <a:ext cx="7643880" cy="2286000"/>
        </p:xfrm>
        <a:graphic>
          <a:graphicData uri="http://schemas.openxmlformats.org/drawingml/2006/table">
            <a:tbl>
              <a:tblPr/>
              <a:tblGrid>
                <a:gridCol w="7643880"/>
              </a:tblGrid>
              <a:tr h="2286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Глаго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о делать? Что сделать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йствие предмет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12" name="Picture 5" descr="1300f1f15dd4f5a23d5d5cf40879c350"/>
          <p:cNvPicPr/>
          <p:nvPr/>
        </p:nvPicPr>
        <p:blipFill>
          <a:blip r:embed="rId1"/>
          <a:stretch/>
        </p:blipFill>
        <p:spPr>
          <a:xfrm>
            <a:off x="571680" y="307188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4" descr="bbede0006c530d485ca772fc67e59d7f"/>
          <p:cNvPicPr/>
          <p:nvPr/>
        </p:nvPicPr>
        <p:blipFill>
          <a:blip r:embed="rId2"/>
          <a:stretch/>
        </p:blipFill>
        <p:spPr>
          <a:xfrm>
            <a:off x="3214800" y="3357720"/>
            <a:ext cx="1089000" cy="18144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9" descr="15a4"/>
          <p:cNvPicPr/>
          <p:nvPr/>
        </p:nvPicPr>
        <p:blipFill>
          <a:blip r:embed="rId3"/>
          <a:stretch/>
        </p:blipFill>
        <p:spPr>
          <a:xfrm>
            <a:off x="6858000" y="3357720"/>
            <a:ext cx="1209600" cy="7333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3" descr="sailboat"/>
          <p:cNvPicPr/>
          <p:nvPr/>
        </p:nvPicPr>
        <p:blipFill>
          <a:blip r:embed="rId4"/>
          <a:stretch/>
        </p:blipFill>
        <p:spPr>
          <a:xfrm flipH="1">
            <a:off x="785880" y="4572000"/>
            <a:ext cx="1719360" cy="133668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33" descr="j0354669"/>
          <p:cNvPicPr/>
          <p:nvPr/>
        </p:nvPicPr>
        <p:blipFill>
          <a:blip r:embed="rId5"/>
          <a:stretch/>
        </p:blipFill>
        <p:spPr>
          <a:xfrm>
            <a:off x="5286240" y="4286160"/>
            <a:ext cx="112392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7" name=""/>
          <p:cNvGraphicFramePr/>
          <p:nvPr/>
        </p:nvGraphicFramePr>
        <p:xfrm>
          <a:off x="1071720" y="428760"/>
          <a:ext cx="6715080" cy="5678280"/>
        </p:xfrm>
        <a:graphic>
          <a:graphicData uri="http://schemas.openxmlformats.org/drawingml/2006/table">
            <a:tbl>
              <a:tblPr/>
              <a:tblGrid>
                <a:gridCol w="6715080"/>
              </a:tblGrid>
              <a:tr h="662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5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Части реч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мя существительное               Предлог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мя прилагательное      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лаго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lares"/>
          <p:cNvPicPr/>
          <p:nvPr/>
        </p:nvPicPr>
        <p:blipFill>
          <a:blip r:embed="rId1"/>
          <a:stretch/>
        </p:blipFill>
        <p:spPr>
          <a:xfrm>
            <a:off x="2548080" y="1176480"/>
            <a:ext cx="4047840" cy="404784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3"/>
          <p:cNvSpPr/>
          <p:nvPr/>
        </p:nvSpPr>
        <p:spPr>
          <a:xfrm>
            <a:off x="611280" y="836640"/>
            <a:ext cx="1512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4"/>
          <p:cNvSpPr/>
          <p:nvPr/>
        </p:nvSpPr>
        <p:spPr>
          <a:xfrm>
            <a:off x="5867280" y="1484280"/>
            <a:ext cx="2952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има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3492360" y="1413000"/>
            <a:ext cx="1871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уш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395280" y="4797360"/>
            <a:ext cx="1512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3851280" y="836640"/>
            <a:ext cx="129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ш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8"/>
          <p:cNvSpPr/>
          <p:nvPr/>
        </p:nvSpPr>
        <p:spPr>
          <a:xfrm>
            <a:off x="468360" y="1484280"/>
            <a:ext cx="1800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тр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9"/>
          <p:cNvSpPr/>
          <p:nvPr/>
        </p:nvSpPr>
        <p:spPr>
          <a:xfrm>
            <a:off x="6084720" y="836640"/>
            <a:ext cx="2521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кура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0"/>
          <p:cNvSpPr/>
          <p:nvPr/>
        </p:nvSpPr>
        <p:spPr>
          <a:xfrm>
            <a:off x="6877080" y="4724280"/>
            <a:ext cx="1873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го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1"/>
          <p:cNvSpPr/>
          <p:nvPr/>
        </p:nvSpPr>
        <p:spPr>
          <a:xfrm>
            <a:off x="0" y="645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2"/>
          <p:cNvSpPr/>
          <p:nvPr/>
        </p:nvSpPr>
        <p:spPr>
          <a:xfrm>
            <a:off x="0" y="0"/>
            <a:ext cx="29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мя существ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5"/>
          <p:cNvSpPr/>
          <p:nvPr/>
        </p:nvSpPr>
        <p:spPr>
          <a:xfrm>
            <a:off x="5796000" y="0"/>
            <a:ext cx="29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мя прилаг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7"/>
          <p:cNvSpPr/>
          <p:nvPr/>
        </p:nvSpPr>
        <p:spPr>
          <a:xfrm>
            <a:off x="2916360" y="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лаго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21"/>
          <p:cNvSpPr/>
          <p:nvPr/>
        </p:nvSpPr>
        <p:spPr>
          <a:xfrm>
            <a:off x="6227640" y="429264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реч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22"/>
          <p:cNvSpPr/>
          <p:nvPr/>
        </p:nvSpPr>
        <p:spPr>
          <a:xfrm>
            <a:off x="0" y="393372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мя числ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25"/>
          <p:cNvSpPr/>
          <p:nvPr/>
        </p:nvSpPr>
        <p:spPr>
          <a:xfrm>
            <a:off x="0" y="4005360"/>
            <a:ext cx="2843280" cy="7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26"/>
          <p:cNvSpPr/>
          <p:nvPr/>
        </p:nvSpPr>
        <p:spPr>
          <a:xfrm>
            <a:off x="6156360" y="4221000"/>
            <a:ext cx="2843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27"/>
          <p:cNvSpPr/>
          <p:nvPr/>
        </p:nvSpPr>
        <p:spPr>
          <a:xfrm>
            <a:off x="6588000" y="5157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8"/>
          <p:cNvSpPr/>
          <p:nvPr/>
        </p:nvSpPr>
        <p:spPr>
          <a:xfrm>
            <a:off x="179280" y="2852640"/>
            <a:ext cx="22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ает предм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31"/>
          <p:cNvSpPr/>
          <p:nvPr/>
        </p:nvSpPr>
        <p:spPr>
          <a:xfrm>
            <a:off x="6084720" y="227664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32"/>
          <p:cNvSpPr/>
          <p:nvPr/>
        </p:nvSpPr>
        <p:spPr>
          <a:xfrm>
            <a:off x="6012000" y="2781360"/>
            <a:ext cx="22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ает признак пред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33"/>
          <p:cNvSpPr/>
          <p:nvPr/>
        </p:nvSpPr>
        <p:spPr>
          <a:xfrm>
            <a:off x="2987640" y="22766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дел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34"/>
          <p:cNvSpPr/>
          <p:nvPr/>
        </p:nvSpPr>
        <p:spPr>
          <a:xfrm>
            <a:off x="2987640" y="2852640"/>
            <a:ext cx="22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ает действие пред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35"/>
          <p:cNvSpPr/>
          <p:nvPr/>
        </p:nvSpPr>
        <p:spPr>
          <a:xfrm>
            <a:off x="179280" y="5157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торы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36"/>
          <p:cNvSpPr/>
          <p:nvPr/>
        </p:nvSpPr>
        <p:spPr>
          <a:xfrm>
            <a:off x="324000" y="2205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то? 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37"/>
          <p:cNvSpPr/>
          <p:nvPr/>
        </p:nvSpPr>
        <p:spPr>
          <a:xfrm>
            <a:off x="5580000" y="5589720"/>
            <a:ext cx="35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ает признак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38"/>
          <p:cNvSpPr/>
          <p:nvPr/>
        </p:nvSpPr>
        <p:spPr>
          <a:xfrm>
            <a:off x="0" y="5589720"/>
            <a:ext cx="37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ает порядок при счё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39"/>
          <p:cNvSpPr/>
          <p:nvPr/>
        </p:nvSpPr>
        <p:spPr>
          <a:xfrm>
            <a:off x="108000" y="5300640"/>
            <a:ext cx="35272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40"/>
          <p:cNvSpPr/>
          <p:nvPr/>
        </p:nvSpPr>
        <p:spPr>
          <a:xfrm>
            <a:off x="5867280" y="5229360"/>
            <a:ext cx="327672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9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142" nodeType="clickEffect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645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645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1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646"/>
                    </p:tgtEl>
                  </p:cond>
                </p:stCondLst>
                <p:childTnLst>
                  <p:par>
                    <p:cTn id="154" nodeType="clickEffect" fill="hold">
                      <p:stCondLst>
                        <p:cond evt="onClick">
                          <p:tgtEl>
                            <p:spTgt spid="646"/>
                          </p:tgtEl>
                        </p:cond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7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15:15:50Z</dcterms:created>
  <dc:creator>User</dc:creator>
  <dc:description/>
  <dc:language>en-US</dc:language>
  <cp:lastModifiedBy>Максим Черкасов</cp:lastModifiedBy>
  <dcterms:modified xsi:type="dcterms:W3CDTF">2019-04-18T07:45:40Z</dcterms:modified>
  <cp:revision>26</cp:revision>
  <dc:subject/>
  <dc:title>Слайд 1</dc:title>
</cp:coreProperties>
</file>