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7.gif" ContentType="image/gif"/>
  <Override PartName="/ppt/media/image7.png" ContentType="image/png"/>
  <Override PartName="/ppt/media/image8.gif" ContentType="image/gif"/>
  <Override PartName="/ppt/media/image13.gif" ContentType="image/gif"/>
  <Override PartName="/ppt/media/image26.gif" ContentType="image/gif"/>
  <Override PartName="/ppt/media/image6.png" ContentType="image/png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media/image5.png" ContentType="image/png"/>
  <Override PartName="/ppt/media/image25.gif" ContentType="image/gif"/>
  <Override PartName="/ppt/media/image30.gif" ContentType="image/gif"/>
  <Override PartName="/ppt/media/image31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0610-413C-4F95-9D14-195DBA6DA9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7CD5-82FB-4FAA-A103-1E801CEFFA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то мы делали для того, чтобы определить в какую группу записать сло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36EF-E3CA-4F5B-90A5-E04DE4747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чему эти слова никуда не включи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не знаем, к какой группе их отнести, они не подходят к данным частям ре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тайте их ещё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б эти словах? - Как их можно назват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одим курсор на слово. На каждой группой слов наведите курсор – появится название группы. Под группой – характер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5C7-C850-4C03-A787-33526E35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B3C-A999-4222-A8A8-33E0513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F3BBA-5586-4A32-99F8-25C93351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F738A-9C19-4350-817C-A8AE2C99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10DD9-6483-4774-8D96-A44D1373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38C40-90F0-4F88-8330-0BE6CCFE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FDE3E-FCFC-4FB8-A894-AC341DF3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82911-AD7D-41AF-95C5-464F8C73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21AC7-0C59-4769-8583-7BC35931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78BA6-36AC-4ADC-A066-32228EF8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EC022-D59A-406A-89E8-61D375D1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594E5-DA96-4459-8962-B2D4637E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7DC-07EF-4DA3-9215-EA6ECD18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A4E0E-9556-45B1-B0A2-9518482C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0B4A4-D92B-4DC9-9836-B673A287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E65C4-992C-418C-97C2-C3131EA5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AAC59-5A1A-483F-B638-E8E6839E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6A1AD-F2C7-4504-A57B-5EAFABB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0A176-BB9A-40AE-A5DC-E76AC90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F6BBC-C395-42D5-8FAA-E5D80C44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86F94-9EED-492E-A039-2DBF3A47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F5D51-7039-4637-A16D-2169C170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5A502-85D8-46A4-8C44-F5A16647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76C-137F-4DD3-A162-6BE3DB20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F945E-FC6C-4CA7-A92B-F1CE7AD6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E47D2-C92B-41E5-816A-7F0E7EB2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77438-D5C4-40FD-A521-5ACDFF36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09C30-66F9-496C-BDEF-061E6266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4BBB8-25BC-4960-A502-B2A3509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09F5A-6764-4164-86A5-7F44A500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C10E2-3E95-4F39-B01B-FB2728CB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6F0E2-4682-4D06-AB15-76F572C8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7C092-2E9F-4585-A73C-099B938D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24727-01CE-468C-BD4C-9EBD8E77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9A5D-ADBF-4735-BDC9-03E54F74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F0BF0-F177-4B4D-8E91-CEA1C374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C6F4A-EFA4-486C-8338-3BDA68D3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A3A95-DC44-43B0-B329-A7712BDB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571A-E8DA-4A3E-A1FA-333F3EC5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D683-4BE6-4A46-BFDE-28357CD7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CCDC-F2D2-45C9-8270-860CDFC4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7834-29D8-455E-8D05-CE39D4F0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DDF6-B2BD-4946-9FE3-64CE02CA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7B04-6520-48D5-83E4-B25075A9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B4A-41AA-426E-BF19-15589C1C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907-DB43-42AA-8B4A-564569E9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4DA8-3A7E-4A9C-89DC-24ABCE2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96CC-D4BD-42B7-97B2-0407336C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BA10-416D-472A-B724-0B48EF98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DBB8-35F1-4961-B888-FEA55F98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875B-ED21-49E6-AC9E-BBE14D97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ED29E-112A-486A-B65A-15DCC39D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6F6D-813F-42A6-A04E-3F21B9FA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D785-F3B6-4B0F-8D0E-B49CA0C8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1477-DB19-4A15-8E49-6B1851BF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AD4-40DB-4273-8A2D-0E9B24C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0853-EC98-42E1-A9D4-E32C22DF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F273-8F15-4199-AB0A-8D44D295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09E6D-5FD3-4384-9C34-8D50DDB6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7D42-EC71-4DE8-BC4D-CD4F0BCD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FE10-6410-439F-9D6A-9E7134D0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17CA-53DA-44D3-80D8-D18978D9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2E30-D890-4858-B90E-CEAD65B5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E077-A16C-48E3-9E47-BC01DB76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501D-B89C-4A84-8144-7DD0B2E4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AE2A3-E7A1-4A03-AC10-C990D43F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A2D-75E1-4F93-96E3-50BB322C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C92B-D1E7-480E-9CA2-1BFE55AE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462DE-1E5B-4A77-82F0-83BEC93E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DCB6D-533A-4981-9BAA-694BB60A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FB3DF-63C3-40E1-90E1-37C93876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C6EA-E945-4E68-AF18-D5C1859E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05CC-5C01-496C-BF9F-46653AF0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19C1A-84B7-4E97-ABA2-709E4385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FBA0-BB44-4539-98E2-7009ECAE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C278F-E1E6-45CD-82C1-942E7CFF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D5E29-914A-45E9-973A-52FA62B5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5CD-1932-40BD-A408-F6E697E4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C92C1-EB96-4F89-A692-59689524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89793-E7BB-4695-98EF-7473AAC6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A0EF-1BFD-432C-9291-B9761BEF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440DD-819E-4606-80A8-931CF6DB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BC337-AF6A-418B-8D67-52529288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FF6AA-D305-4BD3-9DE7-B47EB55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4046D-373E-44A4-A6EC-6AC1F71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1732-DC70-4377-AB5D-68DCFBEF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6DFA-C3E2-4A20-A558-AEDF628D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7676-CE95-42DA-80B0-D1D35C04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63A-FE35-429A-9EDD-2DAFB400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F9D29-5581-4CB8-9583-E13EB011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38BA6-AEEC-44CD-9092-D2C1593B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B07ED-A9FA-4186-B2DB-298EDEFE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4A634-C98C-4799-990A-5D7474DE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DDB0-3C45-4AB2-B5FE-B155B20F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8242F-60D0-4036-A1D5-B663FE79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61DC-0A05-45A0-B133-E73AE57D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0F67C-79B8-4E1D-BF7D-E4774FBD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F63BC-D185-49CE-89E5-75EDD53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68CF2-B381-4A32-ABD0-7BFA3B17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53D-9737-4011-8853-BBCC965B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CC748-C6A7-4F21-B9A3-E5BB1B8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CE1D4-09C6-4564-A48C-7487BF6C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6C4C6-EAE6-4084-B42F-12451B12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2D064-0CAF-4BCF-803D-ACB08CFC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8DA97-E172-46B4-A732-B6A9E9BB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73EBB-8411-487E-A425-A2A73571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32973-BE8F-4CC5-8E34-EA2C505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666B4-8890-4445-8123-08EE8EFD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77945-6AFC-4D8D-95DC-499CAC5A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1389E-42C6-4FCF-B4B0-83561256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99E-3783-4F0F-8121-C8E37CCA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6475D-3EE2-459A-9778-314EC7F5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5A31-FEC1-458F-8EE0-A050688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D4F2A-2582-4492-BDF8-B09031FF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B1729-E434-4339-BC0D-0AA96F75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673EA-F853-437D-B3D1-C9D8D643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7442A-F0DF-4291-A613-AED68FEA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00BA0-3492-4A3E-BE0F-3A8C635D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F964-0834-44D0-9D17-AC34B19B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3BE30-EF14-4CE0-BA5E-D2E89708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A9B70-D242-4CA8-95A5-723BDB10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54E-6D67-4346-B4F2-55F93AF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9ED8A-F458-4B3E-8F6C-FDCB8984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053C6-2770-437E-BC62-B50F9AA4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EEE58-712E-44A5-B4ED-E4D13A67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3F7A8-3F8C-4E3F-A15C-5123A6A1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54081-3F1F-4C69-9C3C-CF32BA63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FB106-4465-4241-99FD-7BD568FF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FB146-A660-45C4-A688-2939E956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4E874-13DD-410C-8E86-EFA5210E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34B09-0658-454B-88C9-A30B1329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C55D9-0006-4C36-B6B0-4C4D4E21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B5EA-3683-440E-B0DF-87665F49103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4889-1D64-48BC-8AA6-8A0A76D6A67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"Образовательный портал Мой университет - www.moi-universitet.ru. факультет "Реформа образования"www.edu-reforma.ru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70AF-491B-4EA6-9D0B-78815F9EB3B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83D8-6B4B-47F0-9981-8910C1774F5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C7D2-B483-4792-876E-A62EE5C6562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461B-AFF8-4F6A-ADCD-8923ABFFB9B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7AF-5DEE-4D7B-890F-C554114F8234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3C03-38F5-4793-AF11-022279CEC00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0E4-0E7D-4440-B160-E8044820927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A241-D7D2-47F3-BF9F-51B5D534105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D33D-7130-4363-B03E-07C7CEDAC5F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Прямоугольник 3" descr=""/>
          <p:cNvPicPr/>
          <p:nvPr/>
        </p:nvPicPr>
        <p:blipFill>
          <a:blip r:embed="rId1"/>
          <a:stretch/>
        </p:blipFill>
        <p:spPr>
          <a:xfrm>
            <a:off x="2646360" y="1427040"/>
            <a:ext cx="4424400" cy="1017720"/>
          </a:xfrm>
          <a:prstGeom prst="rect">
            <a:avLst/>
          </a:prstGeom>
          <a:ln w="0">
            <a:noFill/>
          </a:ln>
        </p:spPr>
      </p:pic>
      <p:sp>
        <p:nvSpPr>
          <p:cNvPr id="584" name="TextBox 4"/>
          <p:cNvSpPr/>
          <p:nvPr/>
        </p:nvSpPr>
        <p:spPr>
          <a:xfrm>
            <a:off x="2394000" y="378936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касов М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0" y="0"/>
          <a:ext cx="7072200" cy="3071880"/>
        </p:xfrm>
        <a:graphic>
          <a:graphicData uri="http://schemas.openxmlformats.org/drawingml/2006/table">
            <a:tbl>
              <a:tblPr/>
              <a:tblGrid>
                <a:gridCol w="7072200"/>
              </a:tblGrid>
              <a:tr h="307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Числи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лько?    Который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редметов  или порядок предметов при их счёт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8" name="Picture 19" descr="21"/>
          <p:cNvPicPr/>
          <p:nvPr/>
        </p:nvPicPr>
        <p:blipFill>
          <a:blip r:embed="rId1"/>
          <a:stretch/>
        </p:blipFill>
        <p:spPr>
          <a:xfrm>
            <a:off x="7072200" y="500040"/>
            <a:ext cx="1695600" cy="22147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" descr="AG00511_"/>
          <p:cNvPicPr/>
          <p:nvPr/>
        </p:nvPicPr>
        <p:blipFill>
          <a:blip r:embed="rId2"/>
          <a:stretch/>
        </p:blipFill>
        <p:spPr>
          <a:xfrm>
            <a:off x="2214720" y="3643200"/>
            <a:ext cx="3571560" cy="25718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3" descr="184"/>
          <p:cNvPicPr/>
          <p:nvPr/>
        </p:nvPicPr>
        <p:blipFill>
          <a:blip r:embed="rId3"/>
          <a:stretch/>
        </p:blipFill>
        <p:spPr>
          <a:xfrm>
            <a:off x="571680" y="2928960"/>
            <a:ext cx="769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071720" y="714240"/>
          <a:ext cx="7358040" cy="1892520"/>
        </p:xfrm>
        <a:graphic>
          <a:graphicData uri="http://schemas.openxmlformats.org/drawingml/2006/table">
            <a:tbl>
              <a:tblPr/>
              <a:tblGrid>
                <a:gridCol w="7358040"/>
              </a:tblGrid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Нареч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? Где? Куда? Откуда? Когда?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 дейст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2" name="Picture 33" descr="a4e76a7daa978006a3440b1d18a4795f"/>
          <p:cNvPicPr/>
          <p:nvPr/>
        </p:nvPicPr>
        <p:blipFill>
          <a:blip r:embed="rId1"/>
          <a:stretch/>
        </p:blipFill>
        <p:spPr>
          <a:xfrm>
            <a:off x="6286680" y="257184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1c4f28dc7b2032595545ed7545800529"/>
          <p:cNvPicPr/>
          <p:nvPr/>
        </p:nvPicPr>
        <p:blipFill>
          <a:blip r:embed="rId2"/>
          <a:stretch/>
        </p:blipFill>
        <p:spPr>
          <a:xfrm>
            <a:off x="428760" y="4357800"/>
            <a:ext cx="3571920" cy="21193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4" descr="2"/>
          <p:cNvPicPr/>
          <p:nvPr/>
        </p:nvPicPr>
        <p:blipFill>
          <a:blip r:embed="rId3"/>
          <a:stretch/>
        </p:blipFill>
        <p:spPr>
          <a:xfrm>
            <a:off x="285840" y="2928960"/>
            <a:ext cx="2733480" cy="13572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6" descr="ag00032_"/>
          <p:cNvPicPr/>
          <p:nvPr/>
        </p:nvPicPr>
        <p:blipFill>
          <a:blip r:embed="rId4"/>
          <a:stretch/>
        </p:blipFill>
        <p:spPr>
          <a:xfrm>
            <a:off x="4000680" y="2786040"/>
            <a:ext cx="1963440" cy="1909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ag00005_"/>
          <p:cNvPicPr/>
          <p:nvPr/>
        </p:nvPicPr>
        <p:blipFill>
          <a:blip r:embed="rId5"/>
          <a:stretch/>
        </p:blipFill>
        <p:spPr>
          <a:xfrm>
            <a:off x="6019920" y="442908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"/>
          <p:cNvGraphicFramePr/>
          <p:nvPr/>
        </p:nvGraphicFramePr>
        <p:xfrm>
          <a:off x="642960" y="500040"/>
          <a:ext cx="7786800" cy="478620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504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и реч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существительное                     Предл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прилага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гол             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Числительно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Наречие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8" name=""/>
          <p:cNvGraphicFramePr/>
          <p:nvPr/>
        </p:nvGraphicFramePr>
        <p:xfrm>
          <a:off x="357120" y="714240"/>
          <a:ext cx="8501040" cy="557244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557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,  РОТ,  РАЗЕВАЙ,  ЧУЖОЙ,  ШИРОКО, 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АВАЙ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данных слов  составьте  пословицу и  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уровен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данных слов  составьте  пословицу  и определи, какой частью речи является каждое сло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прилагательному подберите однокоренное слово, которое являлось бы существитель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4"/>
          <p:cNvSpPr/>
          <p:nvPr/>
        </p:nvSpPr>
        <p:spPr>
          <a:xfrm>
            <a:off x="714240" y="373320"/>
            <a:ext cx="5643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гадайте загадк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за стол среди берё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открытым не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гощает он в мор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тиц зерном и хлебом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"/>
          <p:cNvPicPr/>
          <p:nvPr/>
        </p:nvPicPr>
        <p:blipFill>
          <a:blip r:embed="rId1"/>
          <a:stretch/>
        </p:blipFill>
        <p:spPr>
          <a:xfrm>
            <a:off x="1785960" y="342900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587" name="TextBox 5"/>
          <p:cNvSpPr/>
          <p:nvPr/>
        </p:nvSpPr>
        <p:spPr>
          <a:xfrm>
            <a:off x="5000760" y="27147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М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10" descr=""/>
          <p:cNvPicPr/>
          <p:nvPr/>
        </p:nvPicPr>
        <p:blipFill>
          <a:blip r:embed="rId1"/>
          <a:stretch/>
        </p:blipFill>
        <p:spPr>
          <a:xfrm>
            <a:off x="928800" y="428760"/>
            <a:ext cx="5972040" cy="4976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"/>
          <p:cNvPicPr/>
          <p:nvPr/>
        </p:nvPicPr>
        <p:blipFill>
          <a:blip r:embed="rId2"/>
          <a:stretch/>
        </p:blipFill>
        <p:spPr>
          <a:xfrm>
            <a:off x="928800" y="335772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3"/>
          <a:srcRect l="14421" t="2456" r="-1008" b="0"/>
          <a:stretch/>
        </p:blipFill>
        <p:spPr>
          <a:xfrm rot="17576400">
            <a:off x="5317560" y="173160"/>
            <a:ext cx="1485720" cy="167184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10" descr=""/>
          <p:cNvPicPr/>
          <p:nvPr/>
        </p:nvPicPr>
        <p:blipFill>
          <a:blip r:embed="rId4"/>
          <a:srcRect l="15743" t="0" r="20655" b="0"/>
          <a:stretch/>
        </p:blipFill>
        <p:spPr>
          <a:xfrm>
            <a:off x="6429240" y="3071880"/>
            <a:ext cx="1000440" cy="15714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11"/>
          <p:cNvSpPr/>
          <p:nvPr/>
        </p:nvSpPr>
        <p:spPr>
          <a:xfrm>
            <a:off x="4000680" y="4864680"/>
            <a:ext cx="48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мя существ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5" descr="lares"/>
          <p:cNvPicPr/>
          <p:nvPr/>
        </p:nvPicPr>
        <p:blipFill>
          <a:blip r:embed="rId1"/>
          <a:stretch/>
        </p:blipFill>
        <p:spPr>
          <a:xfrm>
            <a:off x="2548080" y="1176480"/>
            <a:ext cx="4047840" cy="40478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16"/>
          <p:cNvSpPr/>
          <p:nvPr/>
        </p:nvSpPr>
        <p:spPr>
          <a:xfrm>
            <a:off x="1476360" y="1268280"/>
            <a:ext cx="676908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7"/>
          <p:cNvSpPr/>
          <p:nvPr/>
        </p:nvSpPr>
        <p:spPr>
          <a:xfrm>
            <a:off x="1692360" y="1052640"/>
            <a:ext cx="67690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. задай к слову вопр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определи, что обозначает сло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. назови часть ре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8"/>
          <p:cNvSpPr/>
          <p:nvPr/>
        </p:nvSpPr>
        <p:spPr>
          <a:xfrm>
            <a:off x="3851280" y="5013360"/>
            <a:ext cx="172872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2701080" y="0"/>
            <a:ext cx="41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</a:rPr>
              <a:t>алгорит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1"/>
          <p:cNvSpPr/>
          <p:nvPr/>
        </p:nvSpPr>
        <p:spPr>
          <a:xfrm>
            <a:off x="1428840" y="285840"/>
            <a:ext cx="45720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итель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8"/>
          <p:cNvPicPr/>
          <p:nvPr/>
        </p:nvPicPr>
        <p:blipFill>
          <a:blip r:embed="rId1"/>
          <a:stretch/>
        </p:blipFill>
        <p:spPr>
          <a:xfrm>
            <a:off x="428760" y="2286000"/>
            <a:ext cx="2592360" cy="1494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8" descr="2"/>
          <p:cNvPicPr/>
          <p:nvPr/>
        </p:nvPicPr>
        <p:blipFill>
          <a:blip r:embed="rId2"/>
          <a:stretch/>
        </p:blipFill>
        <p:spPr>
          <a:xfrm>
            <a:off x="4357800" y="2081160"/>
            <a:ext cx="1500120" cy="18748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4" descr="0129c77b338f822a93d5c9540c35c8a6"/>
          <p:cNvPicPr/>
          <p:nvPr/>
        </p:nvPicPr>
        <p:blipFill>
          <a:blip r:embed="rId3"/>
          <a:stretch/>
        </p:blipFill>
        <p:spPr>
          <a:xfrm>
            <a:off x="7215120" y="314316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7" descr="a17cb1a412eb1792e60c984d535e4cde"/>
          <p:cNvPicPr/>
          <p:nvPr/>
        </p:nvPicPr>
        <p:blipFill>
          <a:blip r:embed="rId4"/>
          <a:stretch/>
        </p:blipFill>
        <p:spPr>
          <a:xfrm>
            <a:off x="7358040" y="357120"/>
            <a:ext cx="1495440" cy="250056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1" descr="fb8d00d7f44134da8dc886627e55ade1"/>
          <p:cNvPicPr/>
          <p:nvPr/>
        </p:nvPicPr>
        <p:blipFill>
          <a:blip r:embed="rId5"/>
          <a:stretch/>
        </p:blipFill>
        <p:spPr>
          <a:xfrm>
            <a:off x="1071720" y="4071960"/>
            <a:ext cx="2357280" cy="2571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animal75"/>
          <p:cNvPicPr/>
          <p:nvPr/>
        </p:nvPicPr>
        <p:blipFill>
          <a:blip r:embed="rId6"/>
          <a:stretch/>
        </p:blipFill>
        <p:spPr>
          <a:xfrm>
            <a:off x="4929120" y="4572000"/>
            <a:ext cx="1857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1285920" y="357120"/>
          <a:ext cx="6858000" cy="18925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Имя  прилагательно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? Какая? Какое? Каки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знак 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6" name="Picture 8" descr="4c5b8f986382f15f91973cdd776a138c"/>
          <p:cNvPicPr/>
          <p:nvPr/>
        </p:nvPicPr>
        <p:blipFill>
          <a:blip r:embed="rId1"/>
          <a:stretch/>
        </p:blipFill>
        <p:spPr>
          <a:xfrm>
            <a:off x="785880" y="2571840"/>
            <a:ext cx="1428840" cy="1085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7" descr="521245980fcf8191c0082378ba038394"/>
          <p:cNvPicPr/>
          <p:nvPr/>
        </p:nvPicPr>
        <p:blipFill>
          <a:blip r:embed="rId2"/>
          <a:stretch/>
        </p:blipFill>
        <p:spPr>
          <a:xfrm>
            <a:off x="1214280" y="4643280"/>
            <a:ext cx="1333800" cy="13338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9" descr="2ed289bfe88d1f4c332b5e9791f4305b"/>
          <p:cNvPicPr/>
          <p:nvPr/>
        </p:nvPicPr>
        <p:blipFill>
          <a:blip r:embed="rId3"/>
          <a:stretch/>
        </p:blipFill>
        <p:spPr>
          <a:xfrm>
            <a:off x="4071960" y="3786120"/>
            <a:ext cx="1333440" cy="13017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33b44212315acfbd4949c2cba89ef4fb"/>
          <p:cNvPicPr/>
          <p:nvPr/>
        </p:nvPicPr>
        <p:blipFill>
          <a:blip r:embed="rId4"/>
          <a:stretch/>
        </p:blipFill>
        <p:spPr>
          <a:xfrm>
            <a:off x="7215120" y="49291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c09015259d45d2768413ee4edd7a8743"/>
          <p:cNvPicPr/>
          <p:nvPr/>
        </p:nvPicPr>
        <p:blipFill>
          <a:blip r:embed="rId5"/>
          <a:stretch/>
        </p:blipFill>
        <p:spPr>
          <a:xfrm>
            <a:off x="6143760" y="271476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785880" y="357120"/>
          <a:ext cx="7643880" cy="228600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2286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Глаго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делать? Что сделать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йствие 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2" name="Picture 5" descr="1300f1f15dd4f5a23d5d5cf40879c350"/>
          <p:cNvPicPr/>
          <p:nvPr/>
        </p:nvPicPr>
        <p:blipFill>
          <a:blip r:embed="rId1"/>
          <a:stretch/>
        </p:blipFill>
        <p:spPr>
          <a:xfrm>
            <a:off x="571680" y="3071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bbede0006c530d485ca772fc67e59d7f"/>
          <p:cNvPicPr/>
          <p:nvPr/>
        </p:nvPicPr>
        <p:blipFill>
          <a:blip r:embed="rId2"/>
          <a:stretch/>
        </p:blipFill>
        <p:spPr>
          <a:xfrm>
            <a:off x="3214800" y="3357720"/>
            <a:ext cx="1089000" cy="18144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9" descr="15a4"/>
          <p:cNvPicPr/>
          <p:nvPr/>
        </p:nvPicPr>
        <p:blipFill>
          <a:blip r:embed="rId3"/>
          <a:stretch/>
        </p:blipFill>
        <p:spPr>
          <a:xfrm>
            <a:off x="6858000" y="3357720"/>
            <a:ext cx="1209600" cy="7333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3" descr="sailboat"/>
          <p:cNvPicPr/>
          <p:nvPr/>
        </p:nvPicPr>
        <p:blipFill>
          <a:blip r:embed="rId4"/>
          <a:stretch/>
        </p:blipFill>
        <p:spPr>
          <a:xfrm flipH="1">
            <a:off x="785880" y="4572000"/>
            <a:ext cx="1719360" cy="13366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3" descr="j0354669"/>
          <p:cNvPicPr/>
          <p:nvPr/>
        </p:nvPicPr>
        <p:blipFill>
          <a:blip r:embed="rId5"/>
          <a:stretch/>
        </p:blipFill>
        <p:spPr>
          <a:xfrm>
            <a:off x="5286240" y="4286160"/>
            <a:ext cx="11239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1071720" y="428760"/>
          <a:ext cx="6715080" cy="5678280"/>
        </p:xfrm>
        <a:graphic>
          <a:graphicData uri="http://schemas.openxmlformats.org/drawingml/2006/table">
            <a:tbl>
              <a:tblPr/>
              <a:tblGrid>
                <a:gridCol w="6715080"/>
              </a:tblGrid>
              <a:tr h="662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Части реч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существительное               Предлог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я прилагательное    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го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lares"/>
          <p:cNvPicPr/>
          <p:nvPr/>
        </p:nvPicPr>
        <p:blipFill>
          <a:blip r:embed="rId1"/>
          <a:stretch/>
        </p:blipFill>
        <p:spPr>
          <a:xfrm>
            <a:off x="2548080" y="1176480"/>
            <a:ext cx="4047840" cy="40478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611280" y="83664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5867280" y="1484280"/>
            <a:ext cx="295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492360" y="1413000"/>
            <a:ext cx="1871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ш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395280" y="4797360"/>
            <a:ext cx="151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3851280" y="836640"/>
            <a:ext cx="12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468360" y="1484280"/>
            <a:ext cx="180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т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084720" y="836640"/>
            <a:ext cx="252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ку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6877080" y="4724280"/>
            <a:ext cx="1873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0" y="6453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5796000" y="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2916360" y="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лаг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6227640" y="4292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Нареч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2"/>
          <p:cNvSpPr/>
          <p:nvPr/>
        </p:nvSpPr>
        <p:spPr>
          <a:xfrm>
            <a:off x="0" y="39337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мя чис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5"/>
          <p:cNvSpPr/>
          <p:nvPr/>
        </p:nvSpPr>
        <p:spPr>
          <a:xfrm>
            <a:off x="0" y="4005360"/>
            <a:ext cx="28432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6"/>
          <p:cNvSpPr/>
          <p:nvPr/>
        </p:nvSpPr>
        <p:spPr>
          <a:xfrm>
            <a:off x="6156360" y="4221000"/>
            <a:ext cx="2843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7"/>
          <p:cNvSpPr/>
          <p:nvPr/>
        </p:nvSpPr>
        <p:spPr>
          <a:xfrm>
            <a:off x="658800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8"/>
          <p:cNvSpPr/>
          <p:nvPr/>
        </p:nvSpPr>
        <p:spPr>
          <a:xfrm>
            <a:off x="179280" y="285264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31"/>
          <p:cNvSpPr/>
          <p:nvPr/>
        </p:nvSpPr>
        <p:spPr>
          <a:xfrm>
            <a:off x="6084720" y="227664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32"/>
          <p:cNvSpPr/>
          <p:nvPr/>
        </p:nvSpPr>
        <p:spPr>
          <a:xfrm>
            <a:off x="6012000" y="278136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2987640" y="2276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дел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4"/>
          <p:cNvSpPr/>
          <p:nvPr/>
        </p:nvSpPr>
        <p:spPr>
          <a:xfrm>
            <a:off x="2987640" y="2852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действие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5"/>
          <p:cNvSpPr/>
          <p:nvPr/>
        </p:nvSpPr>
        <p:spPr>
          <a:xfrm>
            <a:off x="179280" y="51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тор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324000" y="2205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7"/>
          <p:cNvSpPr/>
          <p:nvPr/>
        </p:nvSpPr>
        <p:spPr>
          <a:xfrm>
            <a:off x="5580000" y="5589720"/>
            <a:ext cx="35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ризнак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8"/>
          <p:cNvSpPr/>
          <p:nvPr/>
        </p:nvSpPr>
        <p:spPr>
          <a:xfrm>
            <a:off x="0" y="5589720"/>
            <a:ext cx="37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ает порядок при счё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9"/>
          <p:cNvSpPr/>
          <p:nvPr/>
        </p:nvSpPr>
        <p:spPr>
          <a:xfrm>
            <a:off x="108000" y="5300640"/>
            <a:ext cx="35272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0"/>
          <p:cNvSpPr/>
          <p:nvPr/>
        </p:nvSpPr>
        <p:spPr>
          <a:xfrm>
            <a:off x="5867280" y="5229360"/>
            <a:ext cx="3276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15:15:50Z</dcterms:created>
  <dc:creator>User</dc:creator>
  <dc:description/>
  <dc:language>en-US</dc:language>
  <cp:lastModifiedBy>Максим Черкасов</cp:lastModifiedBy>
  <dcterms:modified xsi:type="dcterms:W3CDTF">2019-04-18T07:45:40Z</dcterms:modified>
  <cp:revision>26</cp:revision>
  <dc:subject/>
  <dc:title>Слайд 1</dc:title>
</cp:coreProperties>
</file>