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D75-D6DF-434E-AA09-B159E6B1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B69-5DA6-4553-8FF9-201952C9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A4A-F5FC-4621-B2AC-FC40DB6C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969-71CF-4CF6-B02A-76EC1A47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6AC3-2E82-46A3-BE44-2203CC5E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DC83-5542-4E53-8567-2711FE26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8F5E-5B10-452A-B7B2-253E021E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EB4A-9C2B-4278-A3AE-7663D902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C7EF-87F3-4F2A-9CC8-9561477B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6EA8-7C76-4C87-B79E-F7DD46CF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3A93-2D94-46E4-AC63-43D511B4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B23-358D-49C4-A608-89EFB467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BA5E-9835-44EA-913A-0FD02CB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C95D-B364-426B-B99F-32AF12D9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90F3-1DE8-4F72-834D-E92C9565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6D73-40AC-4EFF-BB87-4A42AED5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2635-77C5-4874-923F-22E041CF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004-5FAB-44D4-8545-4F86E8DF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AF4-2C9D-4B74-9825-931A6271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431-57D7-47F3-84F9-9F9C7370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DC3-CB32-41CA-8F1A-3CD31AAE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E9F-D00A-4D34-8392-BA88F4F0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3D7-EED4-443F-9CD8-5301357E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FA5-2CB4-4950-8642-B01418C2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BB3E-9793-458B-850C-6976486F87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CD80-89C4-4342-903A-D1E7223DED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Тема урока: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 rot="21433800">
            <a:off x="379440" y="1527120"/>
            <a:ext cx="8512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икие и домашние животные</a:t>
            </a:r>
            <a:endParaRPr b="1" lang="en-US" sz="6600" spc="1" strike="noStrike">
              <a:ln w="93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848720" cy="24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Times New Roman"/>
              </a:rPr>
              <a:t>ЗНАТЬ: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различия групп животных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- отличительные признаки домашних и диких животных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136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200"/>
                </a:solidFill>
                <a:latin typeface="Times New Roman"/>
              </a:rPr>
              <a:t>УМЕТЬ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личать диких животных от домашни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вать характеристику каждой групп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пределять животных на групп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848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Животные, которые сами добывают себе пищу, защищаются от врагов, сами устраивают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  себе жильё, выводят потомство, называются</a:t>
            </a:r>
            <a:r>
              <a:rPr b="1" i="1" lang="en-US" sz="4400" spc="-1" strike="noStrike">
                <a:solidFill>
                  <a:srgbClr val="0033cc"/>
                </a:solidFill>
                <a:latin typeface="Comic Sans MS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ff0066"/>
                </a:solidFill>
                <a:latin typeface="Comic Sans MS"/>
              </a:rPr>
              <a:t>      </a:t>
            </a: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диким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Животные, которых     разводят люди, кормят и защищают их, строят для них жилища, заботятся об их потомстве, называются</a:t>
            </a:r>
            <a:br>
              <a:rPr sz="4800"/>
            </a:br>
            <a:r>
              <a:rPr b="1" lang="en-US" sz="5400" spc="-1" strike="noStrike">
                <a:solidFill>
                  <a:srgbClr val="a50021"/>
                </a:solidFill>
                <a:latin typeface="Comic Sans MS"/>
              </a:rPr>
              <a:t>домашним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00"/>
                </a:solidFill>
                <a:latin typeface="Comic Sans MS"/>
              </a:rPr>
              <a:t>Верблюд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1116000" y="963720"/>
            <a:ext cx="712800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47640" y="189000"/>
            <a:ext cx="540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винья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676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380880"/>
            <a:ext cx="8229600" cy="12956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140000" y="1676520"/>
            <a:ext cx="431640" cy="31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170028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844640"/>
            <a:ext cx="3657600" cy="1295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1844640"/>
            <a:ext cx="3581280" cy="1295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057400" y="609480"/>
            <a:ext cx="518148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Impact"/>
              </a:rPr>
              <a:t>ЖИВОТНЫЕ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4360" y="220500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е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24360" y="2060640"/>
            <a:ext cx="2286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кие</a:t>
            </a:r>
            <a:endParaRPr b="1" lang="en-US" sz="4800" spc="1" strike="noStrike">
              <a:ln w="2844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3924720" y="306864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в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1280" y="3429000"/>
            <a:ext cx="18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4005360"/>
            <a:ext cx="17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ю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4292640"/>
            <a:ext cx="21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4653000"/>
            <a:ext cx="19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ш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5373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4941720"/>
            <a:ext cx="17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59 0.00231 L -0.33959 0.00231 E">
                                      <p:cBhvr>
                                        <p:cTn id="34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0.00231 L 0.26389 0.00231 E">
                                      <p:cBhvr>
                                        <p:cTn id="3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53 0 L 0.29253 0 E">
                                      <p:cBhvr>
                                        <p:cTn id="4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09 -0.00903 L -0.34809 -0.00903 E">
                                      <p:cBhvr>
                                        <p:cTn id="46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465 -0.00879 L -0.37465 -0.00879 E">
                                      <p:cBhvr>
                                        <p:cTn id="54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7 -0.0088 L 0.27917 -0.0088 E">
                                      <p:cBhvr>
                                        <p:cTn id="5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8 -0.00879 L -0.3618 -0.00879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1676520"/>
            <a:ext cx="2514600" cy="281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маш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828800"/>
            <a:ext cx="2743200" cy="2743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152280"/>
            <a:ext cx="2514600" cy="64771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ясо, жи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жа, яй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х, пе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ёд, вос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к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х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нспор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35268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68709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322360" cy="1752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987640" y="907920"/>
            <a:ext cx="2265480" cy="1752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95280" y="2781360"/>
            <a:ext cx="2259000" cy="1871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rcRect l="16903" t="0" r="-1405" b="0"/>
          <a:stretch/>
        </p:blipFill>
        <p:spPr>
          <a:xfrm>
            <a:off x="2987640" y="2781360"/>
            <a:ext cx="23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435640" y="907920"/>
            <a:ext cx="2376360" cy="1729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35640" y="2781360"/>
            <a:ext cx="2376360" cy="1871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5435640" y="4724280"/>
            <a:ext cx="2521080" cy="1854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2987640" y="4797360"/>
            <a:ext cx="22082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02:59Z</dcterms:created>
  <dc:creator>Света</dc:creator>
  <dc:description/>
  <dc:language>en-US</dc:language>
  <cp:lastModifiedBy>светик</cp:lastModifiedBy>
  <dcterms:modified xsi:type="dcterms:W3CDTF">2010-05-16T13:51:47Z</dcterms:modified>
  <cp:revision>8</cp:revision>
  <dc:subject/>
  <dc:title>  Дикие и домашние животные </dc:title>
</cp:coreProperties>
</file>