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A81-3281-4BB5-B53A-E231128B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9BB-F05B-4A1A-BA04-F23BB754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8AE-111A-4B00-A703-4F782D5B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CDA-A21B-4BB0-8B0D-8ABA6497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11FB-61BF-4D8A-9492-4F0854B5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08C-800F-40F4-A83F-F976CE5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4014-E540-48AE-94AB-3EE4FF40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D60-7852-4202-8673-DE6240B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72CF-395C-435D-997F-FD150373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4589-2018-45DB-B16C-A60FE987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D28-40FA-4D91-98A6-9005835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AC6-C790-4AC5-A7AC-39500F4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F90E-AF4D-4743-A41F-93260CF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D35-C978-43DB-A89F-1D43AD1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44C-181C-4274-B716-82667766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DBC4-6798-4E37-96FF-F7D57A82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71D5-FB1D-41AF-B757-B3C8E359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8B9-33BE-468F-AD27-F2F0E754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F63-EE09-45B6-89FF-8BD4DFF7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E5C-01B7-485E-9FFB-AF073EC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809-1351-491A-93AE-4A2A1C0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FB4-02D0-4A66-B14C-62768DA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853-41F9-4A5C-9B0A-F548F90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4DF-41F2-4E63-B084-C1F5652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5CE-3092-4AE0-A313-5B91F9037E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C754-BD85-40D8-9E3C-61C03D40E7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Тема урока: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 rot="21433800">
            <a:off x="379440" y="1527120"/>
            <a:ext cx="8512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кие и домашние животные</a:t>
            </a:r>
            <a:endParaRPr b="1" lang="en-US" sz="66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24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Times New Roman"/>
              </a:rPr>
              <a:t>ЗНАТЬ: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различия групп животных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- отличительные признаки домашних и диких животных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Times New Roman"/>
              </a:rPr>
              <a:t>УМЕТЬ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личать диких животных от домашни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вать характеристику каждой групп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ять животных на групп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Животные, которые сами добывают себе пищу, защищаются от врагов, сами устраивают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себе жильё, выводят потомство, называются</a:t>
            </a: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диким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Животные, которых     разводят люди, кормят и защищают их, строят для них жилища, заботятся об их потомстве, называются</a:t>
            </a:r>
            <a:br>
              <a:rPr sz="4800"/>
            </a:b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домашним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Comic Sans MS"/>
              </a:rPr>
              <a:t>Верблю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116000" y="963720"/>
            <a:ext cx="7128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47640" y="18900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инья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676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229600" cy="12956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40000" y="1676520"/>
            <a:ext cx="431640" cy="31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700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844640"/>
            <a:ext cx="3657600" cy="1295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1844640"/>
            <a:ext cx="3581280" cy="1295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7400" y="609480"/>
            <a:ext cx="51814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ЖИВОТНЫ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360" y="2205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24360" y="206064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ие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3924720" y="306864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3429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4005360"/>
            <a:ext cx="17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4292640"/>
            <a:ext cx="21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65300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537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494172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9 0.00231 L -0.33959 0.00231 E">
                                      <p:cBhvr>
                                        <p:cTn id="3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0231 L 0.26389 0.00231 E">
                                      <p:cBhvr>
                                        <p:cTn id="3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0 L 0.29253 0 E">
                                      <p:cBhvr>
                                        <p:cTn id="4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903 L -0.34809 -0.00903 E">
                                      <p:cBhvr>
                                        <p:cTn id="4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465 -0.00879 L -0.37465 -0.00879 E">
                                      <p:cBhvr>
                                        <p:cTn id="5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-0.0088 L 0.27917 -0.0088 E">
                                      <p:cBhvr>
                                        <p:cTn id="5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-0.00879 L -0.3618 -0.00879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676520"/>
            <a:ext cx="2514600" cy="281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828800"/>
            <a:ext cx="2743200" cy="2743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152280"/>
            <a:ext cx="2514600" cy="6477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, жи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жа, яй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х,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ёд, вос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к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пор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322360" cy="1752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265480" cy="175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2259000" cy="187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rcRect l="16903" t="0" r="-1405" b="0"/>
          <a:stretch/>
        </p:blipFill>
        <p:spPr>
          <a:xfrm>
            <a:off x="2987640" y="2781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237636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35640" y="278136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435640" y="4724280"/>
            <a:ext cx="2521080" cy="185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2987640" y="4797360"/>
            <a:ext cx="220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2:59Z</dcterms:created>
  <dc:creator>Света</dc:creator>
  <dc:description/>
  <dc:language>en-US</dc:language>
  <cp:lastModifiedBy>светик</cp:lastModifiedBy>
  <dcterms:modified xsi:type="dcterms:W3CDTF">2010-05-16T13:51:47Z</dcterms:modified>
  <cp:revision>8</cp:revision>
  <dc:subject/>
  <dc:title>  Дикие и домашние животные </dc:title>
</cp:coreProperties>
</file>