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wmf" ContentType="image/x-wmf"/>
  <Override PartName="/ppt/media/image6.gif" ContentType="image/gif"/>
  <Override PartName="/ppt/media/image11.gif" ContentType="image/gif"/>
  <Override PartName="/ppt/media/image1.wmf" ContentType="image/x-wmf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7.gif" ContentType="image/gif"/>
  <Override PartName="/ppt/media/image8.gif" ContentType="image/gif"/>
  <Override PartName="/ppt/media/image2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B6B1-B6D7-4D63-8279-0FF438410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E506-4264-4826-AEF1-FFC248CE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7313-5094-4073-ACD7-D046EE015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C24E-38ED-4917-BB4C-90F2051F4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D04E-A523-4F92-88CE-99C8FF774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EFEC-3189-4241-AB12-C8A7A549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93D6-F67C-4707-8414-C704634D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750C-E0AA-42E5-801D-862B8541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8A8B-2351-4BFB-B36E-2581C51A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EDE8-B3A5-445A-B123-31717DD0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966B-D3F1-4999-9649-4908ED14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6761-C8A8-499A-A8D8-A849B37F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8E2E-F1EB-4648-9AEB-C58E38C6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B5DB-B97B-4609-8011-ADFA5645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7CC5-E328-413C-BBFB-8AF5D574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7734-6662-4B0D-ACE4-ADD71E71F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7802-3939-454D-9BA2-075092816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A15F-9108-42D4-BEF8-FDF43EB5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DD4F-3711-42B8-9D80-8009720D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2A96-440A-484E-8D76-2327DDFD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941F-F2AA-460E-9BAB-50006D03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4746-4EF6-4E40-B3DE-65EA137A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FFB5-EC34-44CB-9B95-9EC94736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12D7-D0E7-45B8-86B3-876278F8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660A-79EC-4C93-A456-89DF8A1455CA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9044-E20E-41B5-B898-47D41EF99C8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52280" y="1600200"/>
            <a:ext cx="792504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Я русский бы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cc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учил только за то ...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cc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28600" y="0"/>
            <a:ext cx="73915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нтеллектуальный марафон 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С + домашнее животное с мягкой пушистой шерстью = ?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4495320"/>
            <a:ext cx="7386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2f1311"/>
                </a:solidFill>
                <a:latin typeface="Arial Black"/>
              </a:rPr>
              <a:t>Скот </a:t>
            </a:r>
            <a:endParaRPr b="0" lang="en-US" sz="9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274320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"/>
              </a:rPr>
              <a:t>Часть – Ь + ушко </a:t>
            </a:r>
            <a:br>
              <a:rPr sz="6600"/>
            </a:br>
            <a:r>
              <a:rPr b="1" lang="en-US" sz="6600" spc="-1" strike="noStrike">
                <a:solidFill>
                  <a:srgbClr val="000066"/>
                </a:solidFill>
                <a:latin typeface="Arial"/>
              </a:rPr>
              <a:t>– О + А = ?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3352680"/>
            <a:ext cx="7162920" cy="27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астушка 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27160"/>
            <a:ext cx="7848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Arial"/>
              </a:rPr>
              <a:t>Кар + то + фельдшер – дшер = ?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0880" y="3581280"/>
            <a:ext cx="73915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Картофель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7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b51f"/>
                </a:solidFill>
                <a:latin typeface="Arial"/>
              </a:rPr>
              <a:t>Седьмой тур</a:t>
            </a: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«Юмористическая викторина»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3537000" cy="4419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1920" y="226800"/>
            <a:ext cx="754380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lang="en-US" sz="5400" spc="-1" strike="noStrike">
                <a:solidFill>
                  <a:srgbClr val="800000"/>
                </a:solidFill>
                <a:latin typeface="Arial"/>
              </a:rPr>
              <a:t>Я русский бы выучил только за то…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за то, что он помогает нам общаться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за то, что он помогает нам правильно выражать свои мысли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за то, что на нём говорили великие люди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за то, что это язык моего народа и моей страны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04920" y="228600"/>
            <a:ext cx="73911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!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976400" y="2362320"/>
            <a:ext cx="41353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78487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0033cc"/>
                </a:solidFill>
                <a:latin typeface="Arial"/>
              </a:rPr>
              <a:t>О великий, могучий, правдивый и свободный русский язык!”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2f1311"/>
                </a:solidFill>
                <a:latin typeface="Arial"/>
              </a:rPr>
              <a:t>И. С. Тургене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i="1" lang="en-US" sz="4000" spc="-1" strike="noStrike">
                <a:solidFill>
                  <a:srgbClr val="0033cc"/>
                </a:solidFill>
                <a:latin typeface="Arial"/>
              </a:rPr>
              <a:t>Русский язык – настоящий, сильный, где нужно-строгий, где нужно – страстный, где нужно – бойкий и живой”.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2f1311"/>
                </a:solidFill>
                <a:latin typeface="Arial"/>
              </a:rPr>
              <a:t>Л. Н. Толсто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b51f"/>
                </a:solidFill>
                <a:latin typeface="Arial"/>
              </a:rPr>
              <a:t>Первый тур 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50888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e58c6"/>
                </a:solidFill>
                <a:latin typeface="Times New Roman"/>
              </a:rPr>
              <a:t>команда 2 класса «А» -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15bb31"/>
                </a:solidFill>
                <a:latin typeface="Times New Roman"/>
              </a:rPr>
              <a:t>«Знатоки»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e58c6"/>
                </a:solidFill>
                <a:latin typeface="Times New Roman"/>
              </a:rPr>
              <a:t>команда 2 класса «Б» -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15bb31"/>
                </a:solidFill>
                <a:latin typeface="Times New Roman"/>
              </a:rPr>
              <a:t>«Грамотеи»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e58c6"/>
                </a:solidFill>
                <a:latin typeface="Times New Roman"/>
              </a:rPr>
              <a:t>команда 2 класса «В»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15bb31"/>
                </a:solidFill>
                <a:latin typeface="Times New Roman"/>
              </a:rPr>
              <a:t>«Умники»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09480" y="914400"/>
            <a:ext cx="6934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Узнай название команд»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914400" cy="12189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80880" y="3352680"/>
            <a:ext cx="914400" cy="12193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457200" y="5029200"/>
            <a:ext cx="893880" cy="1219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1b51f"/>
                </a:solidFill>
                <a:latin typeface="Arial"/>
              </a:rPr>
              <a:t>Второй тур</a:t>
            </a: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85800" y="838080"/>
            <a:ext cx="67057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«Разминка»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1371600" y="1828800"/>
            <a:ext cx="5257800" cy="4319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90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1b51f"/>
                </a:solidFill>
                <a:latin typeface="Arial"/>
              </a:rPr>
              <a:t>Третий тур 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7386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Крок_дил живёт в пещере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Запирает на  _очь двери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Зажигает во_емь свечек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И стрекоче_, как кузн_чик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Почему же днем тогда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Не _трекочет _икогда?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Друзь_, из букв, которых н_т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Легко сос_авит_ _ ответ!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838080"/>
            <a:ext cx="7315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Отгадку в тетрадку» 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ipe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98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98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98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98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98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98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98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b51f"/>
                </a:solidFill>
                <a:latin typeface="Arial"/>
              </a:rPr>
              <a:t>Четвёртый тур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838080"/>
            <a:ext cx="7238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«Словесная перестрелка» 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3967200" cy="41907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9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1b51f"/>
                </a:solidFill>
                <a:latin typeface="Arial"/>
              </a:rPr>
              <a:t>Пятый тур </a:t>
            </a:r>
            <a:br>
              <a:rPr sz="4000"/>
            </a:br>
            <a:r>
              <a:rPr b="1" lang="en-US" sz="4000" spc="-1" strike="noStrike">
                <a:solidFill>
                  <a:srgbClr val="f1b51f"/>
                </a:solidFill>
                <a:latin typeface="Arial"/>
              </a:rPr>
              <a:t>Конкурс капитанов 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09480" y="1676520"/>
            <a:ext cx="6934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«Наборщик» 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3276720"/>
            <a:ext cx="72388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РАММАТИКА</a:t>
            </a:r>
            <a:endParaRPr b="1" lang="en-US" sz="54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9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b51f"/>
                </a:solidFill>
                <a:latin typeface="Arial"/>
              </a:rPr>
              <a:t>Шестой тур 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1311"/>
                </a:solidFill>
                <a:latin typeface="Arial"/>
              </a:rPr>
              <a:t>Ежи – и + е + вика = ягода 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66"/>
                </a:solidFill>
                <a:latin typeface="Arial"/>
              </a:rPr>
              <a:t>ЕЖЕВИКА</a:t>
            </a:r>
            <a:endParaRPr b="0" lang="en-US" sz="8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52280" y="838080"/>
            <a:ext cx="7467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Грамматическая арифметика» 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in" orient="ver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Кабан – ан + лук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= ?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2971800"/>
            <a:ext cx="76500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2f1311"/>
                </a:solidFill>
                <a:latin typeface="Monotype Corsiva"/>
              </a:rPr>
              <a:t>Каблук </a:t>
            </a:r>
            <a:endParaRPr b="0" lang="en-US" sz="15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1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98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02-04T16:19:59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