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1.wmf" ContentType="image/x-wmf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7.gif" ContentType="image/gif"/>
  <Override PartName="/ppt/media/image8.gif" ContentType="image/gi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39C-F019-40AF-A66F-B0BB60B1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B83-EC6D-4C79-B774-EC7CF582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757-EF39-4E65-9A63-19A4878B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596-2024-4FD7-B57C-3A535B8E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C058-7E73-4014-B401-D2DAB364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653D-F9A5-46C2-8871-33252493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FFC0-5BA4-42D8-8F39-5D47362C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9B8D-711E-4C7A-A481-6987A685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8315-3164-46E3-AA64-61FFAE43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C6B9-3DEA-4094-B0A0-3FFDB2F6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381F-71B3-4B69-B108-E2D8306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D71-D170-455B-93B3-037A30D2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05B3-BC2F-428F-98E0-12EB310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159A-C826-41C8-9274-02C6393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7AE3-B26A-4CFE-B373-76FCEBC8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0F00-0FC0-4AC5-87B4-12231172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A622-BB0C-4801-896F-71957D1E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3FE-90FF-4873-88F9-FB460695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A9C-E7CC-4F93-B52D-BB3CB7A8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D15-8902-4BAF-84E9-1129842C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284-30EB-4C80-9402-3EBB08C6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554-5107-438A-A6CD-4BC5EA0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F7A-2F8E-45F4-951F-7E99C3D8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79A-3AD4-4D14-A19D-16B3DEB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9802-6CCA-4417-9199-56326089F01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493D-A2B9-4B4B-8551-3D6084FAE9F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52280" y="1600200"/>
            <a:ext cx="7925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Я русский б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учил только за то ...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0"/>
            <a:ext cx="73915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ллектуальный марафон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С + домашнее животное с мягкой пушистой шерстью = ?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449532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f1311"/>
                </a:solidFill>
                <a:latin typeface="Arial Black"/>
              </a:rPr>
              <a:t>Скот 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27432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Часть – Ь + ушко 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– О + А = ?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3352680"/>
            <a:ext cx="716292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тушка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848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Кар + то + фельдшер – дшер = ?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880" y="3581280"/>
            <a:ext cx="7391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ртофе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51f"/>
                </a:solidFill>
                <a:latin typeface="Arial"/>
              </a:rPr>
              <a:t>Седьмой тур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«Юмористическая викторина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3537000" cy="4419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226800"/>
            <a:ext cx="75438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Я русский бы выучил только за то…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 то, что он помогает нам общаться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 то, что он помогает нам правильно выражать свои мысли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 то, что на нём говорили великие люди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 то, что это язык моего народа и моей стран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228600"/>
            <a:ext cx="7391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76400" y="2362320"/>
            <a:ext cx="4135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848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О великий, могучий, правдивый и свободный русский язык!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И. С. Тургене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Русский язык – настоящий, сильный, где нужно-строгий, где нужно – страстный, где нужно – бойкий и живой”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Л. Н. Толст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51f"/>
                </a:solidFill>
                <a:latin typeface="Arial"/>
              </a:rPr>
              <a:t>Первый тур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5088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e58c6"/>
                </a:solidFill>
                <a:latin typeface="Times New Roman"/>
              </a:rPr>
              <a:t>команда 2 класса «А» -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15bb31"/>
                </a:solidFill>
                <a:latin typeface="Times New Roman"/>
              </a:rPr>
              <a:t>«Знатоки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e58c6"/>
                </a:solidFill>
                <a:latin typeface="Times New Roman"/>
              </a:rPr>
              <a:t>команда 2 класса «Б» -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15bb31"/>
                </a:solidFill>
                <a:latin typeface="Times New Roman"/>
              </a:rPr>
              <a:t>«Грамотеи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e58c6"/>
                </a:solidFill>
                <a:latin typeface="Times New Roman"/>
              </a:rPr>
              <a:t>команда 2 класса «В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15bb31"/>
                </a:solidFill>
                <a:latin typeface="Times New Roman"/>
              </a:rPr>
              <a:t>«Умники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914400"/>
            <a:ext cx="693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Узнай название команд»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" y="5029200"/>
            <a:ext cx="893880" cy="121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b51f"/>
                </a:solidFill>
                <a:latin typeface="Arial"/>
              </a:rPr>
              <a:t>Второй тур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838080"/>
            <a:ext cx="6705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«Разминка»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371600" y="1828800"/>
            <a:ext cx="525780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b51f"/>
                </a:solidFill>
                <a:latin typeface="Arial"/>
              </a:rPr>
              <a:t>Третий тур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86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Крок_дил живёт в пещер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Запирает на  _очь двери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Зажигает во_емь свече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И стрекоче_, как кузн_чик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Почему же днем тог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Не _трекочет _икогда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Друзь_, из букв, которых н_т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Легко сос_авит_ _ ответ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8380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Отгадку в тетрадку»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51f"/>
                </a:solidFill>
                <a:latin typeface="Arial"/>
              </a:rPr>
              <a:t>Четвёртый тур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838080"/>
            <a:ext cx="723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«Словесная перестрелка» 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396720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b51f"/>
                </a:solidFill>
                <a:latin typeface="Arial"/>
              </a:rPr>
              <a:t>Пятый тур </a:t>
            </a:r>
            <a:br>
              <a:rPr sz="4000"/>
            </a:br>
            <a:r>
              <a:rPr b="1" lang="en-US" sz="4000" spc="-1" strike="noStrike">
                <a:solidFill>
                  <a:srgbClr val="f1b51f"/>
                </a:solidFill>
                <a:latin typeface="Arial"/>
              </a:rPr>
              <a:t>Конкурс капитанов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480" y="167652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борщик»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3276720"/>
            <a:ext cx="7238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ММАТИКА</a:t>
            </a:r>
            <a:endParaRPr b="1" lang="en-US" sz="5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51f"/>
                </a:solidFill>
                <a:latin typeface="Arial"/>
              </a:rPr>
              <a:t>Шестой тур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Ежи – и + е + вика = ягода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66"/>
                </a:solidFill>
                <a:latin typeface="Arial"/>
              </a:rPr>
              <a:t>ЕЖЕВИКА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2280" y="838080"/>
            <a:ext cx="7467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Грамматическая арифметика»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Кабан – ан + лук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7650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2f1311"/>
                </a:solidFill>
                <a:latin typeface="Monotype Corsiva"/>
              </a:rPr>
              <a:t>Каблук </a:t>
            </a:r>
            <a:endParaRPr b="0" lang="en-US" sz="15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2-04T16:19:5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