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23.wmf" ContentType="image/x-wmf"/>
  <Override PartName="/ppt/media/image9.gif" ContentType="image/gif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13.jpeg" ContentType="image/jpeg"/>
  <Override PartName="/ppt/media/image25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24.gif" ContentType="image/gif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8E7-7BA7-4329-8D02-ED4B30DA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8C3-342E-4B74-9F40-570F4A0A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1A8-C83F-45E1-AB59-A3C2D966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652-5C28-4D1A-90D0-FA7924E3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E43D-8076-4B27-AF1C-13C082A9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D03A-7D41-4C6D-A553-97BA298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4B06-B42F-4E6B-B17B-2A08C6C9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EF7D-4940-48E7-B300-A4720598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7AF8-8D61-45BB-89A2-E0430FD7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8BAD-8B41-45EC-9E85-C5FCD53D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F7D6-CCBD-4730-9DF4-BBFFB5A8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BA1-2C37-4C92-82E5-81CFFF71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FE65-49E5-4A72-A37C-C7AA11E0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E81B-2F62-4545-88CB-C500C34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AB67-8DC9-4975-9B1C-AFAB42CD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134D-4AA0-42FB-92F9-6692DDC4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4911-CB8A-4548-BDD6-8DEF5862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9439-BB79-443E-B5A3-B2657B9F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4A25-347D-4CFB-A8D8-E14978CB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533E0-01AD-47FA-B626-81E0AE7E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40F6-4142-4EB7-96DE-D1C0C035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1909-C873-4188-B698-C6F4F7FE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D58-DE7F-4139-B451-15342929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14A5-A939-4853-9DFB-9DEB0B2C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411A-35E4-4F0A-99AD-D43D5D8D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8FCF-3A11-44C1-AF0D-973DE4E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A115-C057-4DBF-861E-7E4BF6E9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E162-1CC6-4AAD-B4EC-2B5C5254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732A-B7BD-458B-9840-BF961BC3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3AA5-1788-4F64-B1BD-9BF05A86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3F3-FD2D-4303-9B1F-9D71B740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79C-DD62-47E7-B6B0-7E6A0A99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6F3-21C7-417C-8BA8-E8D73475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A1A-3CB0-4162-A7CF-258CBA3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26F-A06F-47F1-A24D-FE44AB0F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7803-B2CF-4731-B9DD-6EB8ED5B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B9AE-F2BA-4392-85AC-9CAF7C3C8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3ABC-9DE1-433B-AC43-16B2288CBCC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B5E6-2DF9-4D49-82A1-D3C65E51FED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hyperlink" Target="http://www.google.ru/imgres?imgurl=http://www.rubik-kubik.ru/content/goods/647/meshok2.jpg&amp;imgrefurl=http://www.rubik-kubik.ru/goods/647/&amp;h=300&amp;w=300&amp;sz=25&amp;tbnid=1WVckD5gPdqLTM::&amp;tbnh=116&amp;tbnw=116&amp;prev=/images%3Fq%3D%25D0%259A%25D0%25B0%25D1%2580%25D1%2582%25D0%25B8%25D0%25BD%25D0%25BA%25D0%25B8%2B%25D0%25BC%25D0%25B5%25D1%2588%25D0%25BE%25D0%25BA&amp;hl=ru&amp;usg=__pLNqgpLPiG42LYDlQ39uHoRUBUM=&amp;ei=UOoGSorSOZOlsAbNsZ22CA&amp;sa=X&amp;oi=image_result&amp;resnum=4&amp;ct=image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3816360" cy="2595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067280" y="836640"/>
            <a:ext cx="47545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т в сапогах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360" y="3933720"/>
            <a:ext cx="3816360" cy="16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арль Перро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541840" y="2781360"/>
            <a:ext cx="2855880" cy="386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26920" y="549360"/>
            <a:ext cx="777744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роверь кроссворд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45440" cy="57326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2340000" y="1125360"/>
            <a:ext cx="3885840" cy="2590560"/>
            <a:chOff x="2340000" y="1125360"/>
            <a:chExt cx="3885840" cy="2590560"/>
          </a:xfrm>
        </p:grpSpPr>
        <p:sp>
          <p:nvSpPr>
            <p:cNvPr id="279" name=""/>
            <p:cNvSpPr/>
            <p:nvPr/>
          </p:nvSpPr>
          <p:spPr>
            <a:xfrm>
              <a:off x="3311640" y="112536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0692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528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59280" y="144900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8292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59280" y="112536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35280" y="112536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87640" y="1773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0220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7856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5456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30560" y="1449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59280" y="177300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35280" y="1773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1640" y="1773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59280" y="2420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9280" y="209700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35280" y="2097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11640" y="2097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87640" y="2097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5456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3056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0692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8292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59280" y="2744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1164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528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78560" y="2420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3056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0692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82920" y="2744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82920" y="306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59280" y="3068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3528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4560" y="306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30560" y="306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06920" y="306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6364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8764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1164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292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59280" y="339228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3056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692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40000" y="3392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л да уд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се хорошо, что хорошо конча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лупый киснет, а умный все промысл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аукнется, так и откликне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6920" y="115920"/>
            <a:ext cx="763272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бери пословицы</a:t>
            </a:r>
            <a:endParaRPr b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f91"/>
            </a:gs>
            <a:gs pos="100000">
              <a:srgbClr val="c6fee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00"/>
                </a:solidFill>
                <a:latin typeface="Times New Roman"/>
              </a:rPr>
              <a:t>Вывод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3743280" cy="4525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</a:rPr>
              <a:t>Добро побеждает зло.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Дружба помога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835520" cy="34844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784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Как хорошо, что дружба есть на све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Она, как воздух нам с тобой нуж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Так пусть шагает дружба по планете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Пускай, как солнце, светит нам о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Н. Добронравов</a:t>
            </a: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2627280" y="3284640"/>
            <a:ext cx="3095640" cy="2808360"/>
          </a:xfrm>
          <a:prstGeom prst="sun">
            <a:avLst>
              <a:gd name="adj" fmla="val 25000"/>
            </a:avLst>
          </a:prstGeom>
          <a:solidFill>
            <a:srgbClr val="f9f92d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машнее задани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31928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любую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азку Ш. Перр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исовать кадры к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льм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чинить свою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лшебную сказку 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жб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7717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79280" y="189000"/>
            <a:ext cx="770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!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4176720" cy="4176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275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7848720" cy="5655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971640" y="115920"/>
            <a:ext cx="71294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следство отца 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55640" y="0"/>
            <a:ext cx="763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бери предметы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973520" cy="2140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780000" y="1568520"/>
            <a:ext cx="1944360" cy="1779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588000" y="1341360"/>
            <a:ext cx="1851120" cy="227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1760760" cy="2908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http://www.rubik-kubik.ru/goods/647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03640" y="3645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http://www.ooo.kiev.ua/comsume/wheat.htm"/>
          <p:cNvPicPr/>
          <p:nvPr/>
        </p:nvPicPr>
        <p:blipFill>
          <a:blip r:embed="rId7"/>
          <a:stretch/>
        </p:blipFill>
        <p:spPr>
          <a:xfrm>
            <a:off x="6012000" y="3941640"/>
            <a:ext cx="273672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3164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м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я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олевский гарде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00720" y="3522600"/>
            <a:ext cx="4041720" cy="2911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00720" y="333360"/>
            <a:ext cx="40384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80000" y="907560"/>
            <a:ext cx="3456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ы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4360" y="2781360"/>
            <a:ext cx="3095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ЛЮДОЕД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39640" y="189000"/>
            <a:ext cx="338472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468360" y="4522680"/>
            <a:ext cx="3382920" cy="2146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21108600">
            <a:off x="3744720" y="2689200"/>
            <a:ext cx="1828800" cy="52380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130680 h 523800"/>
              <a:gd name="textAreaBottom" fmla="*/ 393120 h 523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014000">
            <a:off x="3710160" y="3839760"/>
            <a:ext cx="1869840" cy="501840"/>
          </a:xfrm>
          <a:custGeom>
            <a:avLst/>
            <a:gdLst>
              <a:gd name="textAreaLeft" fmla="*/ 233640 w 1869840"/>
              <a:gd name="textAreaRight" fmla="*/ 1636200 w 1869840"/>
              <a:gd name="textAreaTop" fmla="*/ 125280 h 501840"/>
              <a:gd name="textAreaBottom" fmla="*/ 376560 h 501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1898640" cy="2899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626920" y="549360"/>
            <a:ext cx="62658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ХОДЧИ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М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Ж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НИМАТЕ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ИТРЫЙ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НИВЫЙ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ЛЬНОВИ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А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СТОЙЧ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195640" y="981000"/>
            <a:ext cx="2016000" cy="1152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195640" y="2060280"/>
            <a:ext cx="2592360" cy="360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195640" y="2637000"/>
            <a:ext cx="2160360" cy="71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3141720"/>
            <a:ext cx="16556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3716280"/>
            <a:ext cx="24476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95640" y="4149720"/>
            <a:ext cx="1655640" cy="719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95640" y="4941720"/>
            <a:ext cx="1800000" cy="1079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16000" y="189000"/>
            <a:ext cx="684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Собери план"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24000" y="1052640"/>
          <a:ext cx="8569080" cy="5688000"/>
        </p:xfrm>
        <a:graphic>
          <a:graphicData uri="http://schemas.openxmlformats.org/drawingml/2006/table">
            <a:tbl>
              <a:tblPr/>
              <a:tblGrid>
                <a:gridCol w="911160"/>
                <a:gridCol w="7657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ч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адьб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арки корол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насл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остях у людо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к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ство короля с маркизом де Карабас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красный зам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гатства маркиза де Караба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 txBox="1"/>
          <p:nvPr/>
        </p:nvSpPr>
        <p:spPr>
          <a:xfrm>
            <a:off x="1116000" y="189000"/>
            <a:ext cx="684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Собери план"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1052640"/>
          <a:ext cx="8713800" cy="5684760"/>
        </p:xfrm>
        <a:graphic>
          <a:graphicData uri="http://schemas.openxmlformats.org/drawingml/2006/table">
            <a:tbl>
              <a:tblPr/>
              <a:tblGrid>
                <a:gridCol w="863640"/>
                <a:gridCol w="785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ч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8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адьб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арки корол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насл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гостях у Людое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к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мство короля с маркизом де Карабас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красный зам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гатства маркиза де Караба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4788000" cy="6093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859280" y="764640"/>
            <a:ext cx="4392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ивотное, в котор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доед превратился в первый раз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Часть наследства, котор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сталось старшему брат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Часть наследств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сталась среднему бра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Животное, в котор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доед превратился 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орой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Какое имя придумал сво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зяину Кот в сапога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Кто первым попался в меш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т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 Кто сказал королю, что по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адлежат марки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бас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 Каких птиц преподнёс в д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олю ко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00000" y="189000"/>
            <a:ext cx="784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гадай кроссворд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0" y="765000"/>
            <a:ext cx="3885840" cy="2590560"/>
            <a:chOff x="0" y="765000"/>
            <a:chExt cx="3885840" cy="2590560"/>
          </a:xfrm>
        </p:grpSpPr>
        <p:sp>
          <p:nvSpPr>
            <p:cNvPr id="231" name=""/>
            <p:cNvSpPr/>
            <p:nvPr/>
          </p:nvSpPr>
          <p:spPr>
            <a:xfrm>
              <a:off x="971640" y="765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6692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9528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19280" y="1088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292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19280" y="76500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95280" y="76500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7640" y="1412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6220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3856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1456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560" y="1088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19280" y="1412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95280" y="1412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71640" y="1412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19280" y="206028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19280" y="173664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5280" y="1736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71640" y="1736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7640" y="173664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456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9056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6692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4292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19280" y="238428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164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28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38560" y="2060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9056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6692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42920" y="2384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2920" y="2708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19280" y="270828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28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14560" y="2708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0560" y="2708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6920" y="270828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364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764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7164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19280" y="3031920"/>
              <a:ext cx="323640" cy="32364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56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6692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3031920"/>
              <a:ext cx="323640" cy="32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09-05-10T08:48:30Z</dcterms:modified>
  <cp:revision>32</cp:revision>
  <dc:subject/>
  <dc:title>PowerPoint Presentation</dc:title>
</cp:coreProperties>
</file>