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23.wmf" ContentType="image/x-wmf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13.jpeg" ContentType="image/jpeg"/>
  <Override PartName="/ppt/media/image25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24.gif" ContentType="image/gif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4DD-8424-491B-9E18-BC8E3023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A03-D74F-4B4C-9E74-8AB819AD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471-A59C-42C2-BB48-337DABA9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96B-BB8D-475C-83B9-ED450135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B0DF-5CA1-41C0-A8C3-4EF0EDCA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1726-63A9-46FF-ABD8-E3CEBF1F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5D37-7C40-4E60-8B18-B3B486B6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CD5F-2FD1-40B3-B860-681B9C24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DCFE-AD95-4CEF-B7D7-78F3DBE9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AA1B-3B64-4524-9BCF-5FBF07D4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E573-73B3-48D3-AF43-935F68B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0D4-B313-44DE-B0DF-FCDE4D2A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DCCF-91C0-420A-8094-F8EBF24B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7408-FD42-47A4-950F-007BCCD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AC50-CD1F-4A89-A664-2243056E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9302-F1DB-46B3-BE3F-56DD954D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0B96-1B91-41BD-90A7-3D278971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176C-F621-4E2E-B6D5-E5824A89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CF270-35E6-4C9F-A616-F99A160D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84BB-DD99-47B5-A243-D5E9220F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8EAF-6A79-4A78-B2D7-3DB52A3D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8AEF2-22BB-491B-BCAD-FAFFE205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D22-361B-4689-BE29-C432FCCC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F47C-84A7-4DBE-86D3-36470E74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DFF5-8719-486D-B935-4B74A772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5AAF-D66C-47EE-AC7F-C83791C1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CF88-0EE0-448A-964C-EB5DB610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055A-5A1B-4295-8DD2-C8A698E4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D74F-66D0-4896-91AC-C84C02EF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99ED-2329-4897-A3E0-5C74C33F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49B-B091-4CAB-B529-DE6359CD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528-1BAC-4205-B0BB-ED26D88A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CC4-8CED-4199-87F8-8BF8D511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264-A8B2-47DB-AD56-06035D87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F0B-2BD1-40C1-9663-07F0FCB8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2D0-E2CF-4BCC-AD0B-62B14273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E1D8-86C3-4792-AF6E-8C570EBD2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EFD1-801E-4BE1-ACFA-804A562F591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82B1-8A71-4FD4-86CC-CEC456340B6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hyperlink" Target="http://www.google.ru/imgres?imgurl=http://www.rubik-kubik.ru/content/goods/647/meshok2.jpg&amp;imgrefurl=http://www.rubik-kubik.ru/goods/647/&amp;h=300&amp;w=300&amp;sz=25&amp;tbnid=1WVckD5gPdqLTM::&amp;tbnh=116&amp;tbnw=116&amp;prev=/images%3Fq%3D%25D0%259A%25D0%25B0%25D1%2580%25D1%2582%25D0%25B8%25D0%25BD%25D0%25BA%25D0%25B8%2B%25D0%25BC%25D0%25B5%25D1%2588%25D0%25BE%25D0%25BA&amp;hl=ru&amp;usg=__pLNqgpLPiG42LYDlQ39uHoRUBUM=&amp;ei=UOoGSorSOZOlsAbNsZ22CA&amp;sa=X&amp;oi=image_result&amp;resnum=4&amp;ct=image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816360" cy="2595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067280" y="836640"/>
            <a:ext cx="47545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 в сапогах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4360" y="3933720"/>
            <a:ext cx="3816360" cy="16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арль Перро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5541840" y="2781360"/>
            <a:ext cx="2855880" cy="3867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26920" y="549360"/>
            <a:ext cx="777744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роверь кроссворд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45440" cy="57326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2340000" y="1125360"/>
            <a:ext cx="3885840" cy="2590560"/>
            <a:chOff x="2340000" y="1125360"/>
            <a:chExt cx="3885840" cy="2590560"/>
          </a:xfrm>
        </p:grpSpPr>
        <p:sp>
          <p:nvSpPr>
            <p:cNvPr id="279" name=""/>
            <p:cNvSpPr/>
            <p:nvPr/>
          </p:nvSpPr>
          <p:spPr>
            <a:xfrm>
              <a:off x="3311640" y="112536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0692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528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59280" y="144900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8292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59280" y="112536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35280" y="112536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87640" y="1773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0220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7856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5456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3056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59280" y="177300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35280" y="1773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1640" y="1773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59280" y="2420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9280" y="209700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35280" y="2097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11640" y="2097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87640" y="2097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54560" y="2420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30560" y="2420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06920" y="2420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82920" y="2420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59280" y="2744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11640" y="2744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5280" y="2744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78560" y="2420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30560" y="2744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06920" y="2744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82920" y="2744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82920" y="306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59280" y="3068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3528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4560" y="306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30560" y="306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06920" y="306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6364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8764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1164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292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59280" y="339228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3056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692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4000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л да у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се хорошо, что хорошо конча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лупый киснет, а умный все промысл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аукнется, так и откликн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26920" y="115920"/>
            <a:ext cx="763272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бери пословицы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f91"/>
            </a:gs>
            <a:gs pos="100000">
              <a:srgbClr val="c6fee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00"/>
                </a:solidFill>
                <a:latin typeface="Times New Roman"/>
              </a:rPr>
              <a:t>Вывод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3743280" cy="4525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</a:rPr>
              <a:t>Добро побеждает зло.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Дружба помога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835520" cy="34844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7848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Как хорошо, что дружба есть на свет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Она, как воздух нам с тобой нуж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Так пусть шагает дружба по планет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ускай, как солнце, светит нам о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Н. Добронравов</a:t>
            </a: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2627280" y="3284640"/>
            <a:ext cx="3095640" cy="2808360"/>
          </a:xfrm>
          <a:prstGeom prst="sun">
            <a:avLst>
              <a:gd name="adj" fmla="val 25000"/>
            </a:avLst>
          </a:prstGeom>
          <a:solidFill>
            <a:srgbClr val="f9f92d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машнее задани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3192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любую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азку Ш. Перр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исовать кадры к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льм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чинить свою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лшебную сказку 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жб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7717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79280" y="189000"/>
            <a:ext cx="7705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работу!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275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7848720" cy="5655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971640" y="115920"/>
            <a:ext cx="71294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следство отца 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55640" y="0"/>
            <a:ext cx="763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бери предметы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973520" cy="2140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780000" y="1568520"/>
            <a:ext cx="1944360" cy="1779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588000" y="1341360"/>
            <a:ext cx="1851120" cy="227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760760" cy="2908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http://www.rubik-kubik.ru/goods/647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3640" y="3645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http://www.ooo.kiev.ua/comsume/wheat.htm"/>
          <p:cNvPicPr/>
          <p:nvPr/>
        </p:nvPicPr>
        <p:blipFill>
          <a:blip r:embed="rId7"/>
          <a:stretch/>
        </p:blipFill>
        <p:spPr>
          <a:xfrm>
            <a:off x="6012000" y="3941640"/>
            <a:ext cx="273672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3164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м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ря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олевский гардер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00720" y="3522600"/>
            <a:ext cx="4041720" cy="2911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500720" y="333360"/>
            <a:ext cx="40384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80000" y="907560"/>
            <a:ext cx="3456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ы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4360" y="2781360"/>
            <a:ext cx="3095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ЛЮДОЕД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39640" y="189000"/>
            <a:ext cx="338472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68360" y="4522680"/>
            <a:ext cx="3382920" cy="2146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21108600">
            <a:off x="3744720" y="2689200"/>
            <a:ext cx="1828800" cy="52380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130680 h 523800"/>
              <a:gd name="textAreaBottom" fmla="*/ 393120 h 523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014000">
            <a:off x="3710160" y="3839760"/>
            <a:ext cx="1869840" cy="501840"/>
          </a:xfrm>
          <a:custGeom>
            <a:avLst/>
            <a:gdLst>
              <a:gd name="textAreaLeft" fmla="*/ 233640 w 1869840"/>
              <a:gd name="textAreaRight" fmla="*/ 1636200 w 1869840"/>
              <a:gd name="textAreaTop" fmla="*/ 125280 h 501840"/>
              <a:gd name="textAreaBottom" fmla="*/ 376560 h 50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898640" cy="2899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626920" y="549360"/>
            <a:ext cx="6265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ХОДЧИ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Ж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НИМ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ИТРЫЙ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НИВЫ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ЛЬНОВИ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А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СТОЙЧ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195640" y="981000"/>
            <a:ext cx="2016000" cy="1152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195640" y="2060280"/>
            <a:ext cx="2592360" cy="360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195640" y="2637000"/>
            <a:ext cx="2160360" cy="71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3141720"/>
            <a:ext cx="16556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716280"/>
            <a:ext cx="24476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95640" y="4149720"/>
            <a:ext cx="1655640" cy="719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95640" y="4941720"/>
            <a:ext cx="1800000" cy="1079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116000" y="189000"/>
            <a:ext cx="6840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Собери план"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24000" y="1052640"/>
          <a:ext cx="8569080" cy="5688000"/>
        </p:xfrm>
        <a:graphic>
          <a:graphicData uri="http://schemas.openxmlformats.org/drawingml/2006/table">
            <a:tbl>
              <a:tblPr/>
              <a:tblGrid>
                <a:gridCol w="911160"/>
                <a:gridCol w="7657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ч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адьб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арки корол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насл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остях у людое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к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ство короля с маркизом де Карабас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красный зам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гатства маркиза де Караба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 txBox="1"/>
          <p:nvPr/>
        </p:nvSpPr>
        <p:spPr>
          <a:xfrm>
            <a:off x="1116000" y="189000"/>
            <a:ext cx="6840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Собери план"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1052640"/>
          <a:ext cx="8713800" cy="5684760"/>
        </p:xfrm>
        <a:graphic>
          <a:graphicData uri="http://schemas.openxmlformats.org/drawingml/2006/table">
            <a:tbl>
              <a:tblPr/>
              <a:tblGrid>
                <a:gridCol w="863640"/>
                <a:gridCol w="785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ч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адьб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арки корол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насл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остях у Людое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к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ство короля с маркизом де Карабас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красный зам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гатства маркиза де Караба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4788000" cy="6093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859280" y="764640"/>
            <a:ext cx="4392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ивотное, в котор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доед превратился в первый раз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Часть наследства, котор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сталось старшему брат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Часть наследств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сталась среднему бра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Животное, в котор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доед превратился 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ой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Какое имя придумал сво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зяину Кот в сапога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Кто первым попался в меш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т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Кто сказал королю, что по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надлежат марки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бас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 Каких птиц преподнёс в 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ролю ко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00000" y="189000"/>
            <a:ext cx="784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гадай кроссворд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765000"/>
            <a:ext cx="3885840" cy="2590560"/>
            <a:chOff x="0" y="765000"/>
            <a:chExt cx="3885840" cy="2590560"/>
          </a:xfrm>
        </p:grpSpPr>
        <p:sp>
          <p:nvSpPr>
            <p:cNvPr id="231" name=""/>
            <p:cNvSpPr/>
            <p:nvPr/>
          </p:nvSpPr>
          <p:spPr>
            <a:xfrm>
              <a:off x="971640" y="765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6692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9528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19280" y="1088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4292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19280" y="76500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95280" y="765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7640" y="1412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6220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3856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56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056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19280" y="1412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95280" y="1412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71640" y="1412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19280" y="206028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19280" y="1736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5280" y="1736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71640" y="1736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640" y="1736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14560" y="2060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90560" y="2060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66920" y="2060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42920" y="2060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9280" y="238428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1640" y="2384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280" y="2384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38560" y="2060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0560" y="2384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66920" y="2384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42920" y="2384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2920" y="2708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19280" y="270828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528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14560" y="2708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90560" y="2708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6920" y="2708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364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764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7164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19280" y="303192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56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6692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09-05-10T08:48:30Z</dcterms:modified>
  <cp:revision>32</cp:revision>
  <dc:subject/>
  <dc:title>PowerPoint Presentation</dc:title>
</cp:coreProperties>
</file>