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56E-6196-427F-BD71-A01841E4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815-8480-4E02-866F-F65DD29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6C0-1526-48CF-90C8-4B2F1ECC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15A-105A-4C87-9146-3673C1FD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538-16D6-4313-B861-D9736CAE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7C9-CAAC-44D7-B8B4-188D2C8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C12-D044-4A6D-B6C5-AF5F46D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44C-E2B1-4AE0-8538-5065206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97D-46E0-4BF3-973E-AF12E93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581-85E7-46A8-851D-B82EBF3D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6B4-CA4E-4C34-A41D-AB594623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DD2-9D86-41BF-9CD8-2CF1487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D4E9-BDB6-40D9-B0C0-65C11CE7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Bookman Old Style"/>
              </a:rPr>
              <a:t>Лес</a:t>
            </a: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5400" spc="-1" strike="noStrike">
                <a:solidFill>
                  <a:srgbClr val="008000"/>
                </a:solidFill>
                <a:latin typeface="Bookman Old Style"/>
              </a:rPr>
              <a:t>– наш </a:t>
            </a:r>
            <a:br>
              <a:rPr sz="5400"/>
            </a:br>
            <a:r>
              <a:rPr b="0" lang="en-US" sz="5400" spc="-1" strike="noStrike">
                <a:solidFill>
                  <a:srgbClr val="008000"/>
                </a:solidFill>
                <a:latin typeface="Bookman Old Style"/>
              </a:rPr>
              <a:t>зелёный дру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9200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56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Звери, птицы, лес и 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месте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дружная семья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681200"/>
            <a:ext cx="83516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«Угадай – 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1600" y="2349360"/>
            <a:ext cx="3465360" cy="374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645000" cy="410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98100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f0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«Да - нет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519200"/>
            <a:ext cx="8136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«Самый внимательны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4321080" cy="471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1990800" cy="2278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0120" y="1268280"/>
            <a:ext cx="2111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«Эстафета лесных сюрпри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79912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8:45:19Z</dcterms:created>
  <dc:creator>Sveta</dc:creator>
  <dc:description/>
  <dc:language>en-US</dc:language>
  <cp:lastModifiedBy>Sveta</cp:lastModifiedBy>
  <dcterms:modified xsi:type="dcterms:W3CDTF">2008-04-24T19:20:36Z</dcterms:modified>
  <cp:revision>2</cp:revision>
  <dc:subject/>
  <dc:title>Лес – наш  зелёный друг </dc:title>
</cp:coreProperties>
</file>