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gif" ContentType="image/gif"/>
  <Override PartName="/ppt/media/image10.gif" ContentType="image/gif"/>
  <Override PartName="/ppt/media/image6.jpeg" ContentType="image/jpeg"/>
  <Override PartName="/ppt/media/image11.jpeg" ContentType="image/jpeg"/>
  <Override PartName="/ppt/media/image7.gif" ContentType="image/gif"/>
  <Override PartName="/ppt/media/image8.gif" ContentType="image/gif"/>
  <Override PartName="/ppt/media/image9.gif" ContentType="image/gif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1CC-4007-42C8-A9F7-C253681D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AA5-3B45-4822-B1D9-6FA46506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9CA-573E-43F2-9A6D-78ED90AA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F08-5BE7-48C6-89DC-DBFF93AD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568-8EC6-4DA8-B609-1D16D10E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CC3-2920-4F1D-81C2-DDC80052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5D0-650F-4498-A6E7-152D2E9D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D9E-7DC0-470D-A322-8458F0CD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BFD-5BEA-4296-8A8D-29F8D68E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7A6-0D25-4EED-BAEC-78E012AF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202-417E-42EB-B7AD-85051425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6D2-FE94-4AE3-82D5-379D1DD1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B867-0DC0-4C38-85B0-3BDE65202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Bookman Old Style"/>
              </a:rPr>
              <a:t>Лес</a:t>
            </a:r>
            <a:r>
              <a:rPr b="0" lang="en-US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5400" spc="-1" strike="noStrike">
                <a:solidFill>
                  <a:srgbClr val="008000"/>
                </a:solidFill>
                <a:latin typeface="Bookman Old Style"/>
              </a:rPr>
              <a:t>– наш </a:t>
            </a:r>
            <a:br>
              <a:rPr sz="5400"/>
            </a:br>
            <a:r>
              <a:rPr b="0" lang="en-US" sz="5400" spc="-1" strike="noStrike">
                <a:solidFill>
                  <a:srgbClr val="008000"/>
                </a:solidFill>
                <a:latin typeface="Bookman Old Style"/>
              </a:rPr>
              <a:t>зелёный дру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92000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569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Звери, птицы, лес и я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месте 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дружная семья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681200"/>
            <a:ext cx="83516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«Угадай – ка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1600" y="2349360"/>
            <a:ext cx="3465360" cy="374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3645000" cy="4104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32000" y="981000"/>
            <a:ext cx="280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6f0f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Игр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«Да - нет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1519200"/>
            <a:ext cx="8136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Arial"/>
              </a:rPr>
              <a:t>«Самый внимательны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4321080" cy="471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300720" y="1413000"/>
            <a:ext cx="2627280" cy="2627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1990800" cy="2278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30120" y="1268280"/>
            <a:ext cx="21114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«Эстафета лесных сюрпри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600360" cy="381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3672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1347840"/>
            <a:ext cx="79912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8:45:19Z</dcterms:created>
  <dc:creator>Sveta</dc:creator>
  <dc:description/>
  <dc:language>en-US</dc:language>
  <cp:lastModifiedBy>Sveta</cp:lastModifiedBy>
  <dcterms:modified xsi:type="dcterms:W3CDTF">2008-04-24T19:20:36Z</dcterms:modified>
  <cp:revision>2</cp:revision>
  <dc:subject/>
  <dc:title>Лес – наш  зелёный друг </dc:title>
</cp:coreProperties>
</file>