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EBC-17D8-4440-9276-18C78975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696-A46A-48FA-9B26-473C407E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72A-7466-4C7F-8608-F760CA1E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A47-EA17-444C-8687-3629DC3C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7FFC-0DD7-48AC-B255-EFD5D63C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17A4-094E-4BDC-9E1C-F769F5C3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AE3C-AD5F-4EA7-8C59-5F6F3855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BCE1-80BF-4FE0-85F8-1FCE404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2063-6601-4592-AED3-FEBA9402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2D93-03D3-48C0-A2E5-FD5CA754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71C4-B112-4E74-AC78-0539435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316-C273-4141-B0D9-7BD024B8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3FE8-7FD7-4A97-9B6F-1072C001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FB9B-2EAF-4395-989E-5CFB5999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3AD3-E4C9-4145-9393-10FEE7EC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A8F9-0AF5-4F3C-BC12-401AE8E0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F134-2A31-4241-98DA-FB27073F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207-CCFD-4013-A226-AE61C2AF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E66-E769-4D75-8F06-7A01E9C1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3DF-D256-4CC8-A662-1EA4132C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700-9DAA-4045-8D35-9E618DE3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BEE-A86C-4E3C-9A4C-B2982BF5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AF3-5678-45AF-AC16-0AF26E7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82D-6693-4114-8308-8E33C05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E47B-F50D-40A3-8826-F7C4423425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AAF2-B1DA-4A31-80BD-178148AD16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395280" y="1268280"/>
            <a:ext cx="756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и права и обязанности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руководитель Криммель Л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Дети, не достигшие 18 лет являются несовершеннолетними. Несовершеннолетние не могут в полной мере осуществлять  самостоятельно свои пра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тад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от рождения до 14 лет(малолетни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от 14 лет до 18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468360" y="404640"/>
            <a:ext cx="755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а несовершеннолетни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олучаете паспор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аво постоянно рабо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В России введено обязательное основное среднее образование с обязательной государственной аттестац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484360" y="549360"/>
            <a:ext cx="3167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4 лет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Учащиеся несут ответственность з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орчу имущества школ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арушение дисциплины в шко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Имеют прав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а получение полного бесплатного среднего образ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395280" y="26028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6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оложения из Устава школ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6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35280" y="476280"/>
            <a:ext cx="388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3708360" y="2133720"/>
            <a:ext cx="15112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1692360" y="404640"/>
            <a:ext cx="51116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1557360"/>
          <a:ext cx="8829720" cy="4910040"/>
        </p:xfrm>
        <a:graphic>
          <a:graphicData uri="http://schemas.openxmlformats.org/drawingml/2006/table">
            <a:tbl>
              <a:tblPr/>
              <a:tblGrid>
                <a:gridCol w="682560"/>
                <a:gridCol w="628560"/>
                <a:gridCol w="627120"/>
                <a:gridCol w="625680"/>
                <a:gridCol w="625320"/>
                <a:gridCol w="627120"/>
                <a:gridCol w="628560"/>
                <a:gridCol w="623880"/>
                <a:gridCol w="628560"/>
                <a:gridCol w="625680"/>
                <a:gridCol w="625320"/>
                <a:gridCol w="628920"/>
                <a:gridCol w="625320"/>
                <a:gridCol w="627120"/>
              </a:tblGrid>
              <a:tr h="993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WordArt 535"/>
          <p:cNvSpPr txBox="1"/>
          <p:nvPr/>
        </p:nvSpPr>
        <p:spPr>
          <a:xfrm>
            <a:off x="1403280" y="1700280"/>
            <a:ext cx="3333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4" name="WordArt 537"/>
          <p:cNvSpPr txBox="1"/>
          <p:nvPr/>
        </p:nvSpPr>
        <p:spPr>
          <a:xfrm>
            <a:off x="1979640" y="1773360"/>
            <a:ext cx="2570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539"/>
          <p:cNvSpPr txBox="1"/>
          <p:nvPr/>
        </p:nvSpPr>
        <p:spPr>
          <a:xfrm>
            <a:off x="2627280" y="1773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WordArt 541"/>
          <p:cNvSpPr txBox="1"/>
          <p:nvPr/>
        </p:nvSpPr>
        <p:spPr>
          <a:xfrm>
            <a:off x="3348000" y="177336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543"/>
          <p:cNvSpPr txBox="1"/>
          <p:nvPr/>
        </p:nvSpPr>
        <p:spPr>
          <a:xfrm>
            <a:off x="3924360" y="177336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WordArt 545"/>
          <p:cNvSpPr txBox="1"/>
          <p:nvPr/>
        </p:nvSpPr>
        <p:spPr>
          <a:xfrm>
            <a:off x="4572000" y="1773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WordArt 547"/>
          <p:cNvSpPr txBox="1"/>
          <p:nvPr/>
        </p:nvSpPr>
        <p:spPr>
          <a:xfrm>
            <a:off x="5292720" y="1773360"/>
            <a:ext cx="23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WordArt 549"/>
          <p:cNvSpPr txBox="1"/>
          <p:nvPr/>
        </p:nvSpPr>
        <p:spPr>
          <a:xfrm>
            <a:off x="5867280" y="177336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WordArt 551"/>
          <p:cNvSpPr txBox="1"/>
          <p:nvPr/>
        </p:nvSpPr>
        <p:spPr>
          <a:xfrm>
            <a:off x="6443640" y="1773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WordArt 553"/>
          <p:cNvSpPr txBox="1"/>
          <p:nvPr/>
        </p:nvSpPr>
        <p:spPr>
          <a:xfrm>
            <a:off x="7093080" y="184464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WordArt 555"/>
          <p:cNvSpPr txBox="1"/>
          <p:nvPr/>
        </p:nvSpPr>
        <p:spPr>
          <a:xfrm>
            <a:off x="7740720" y="1844640"/>
            <a:ext cx="20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WordArt 557"/>
          <p:cNvSpPr txBox="1"/>
          <p:nvPr/>
        </p:nvSpPr>
        <p:spPr>
          <a:xfrm>
            <a:off x="8317080" y="1844640"/>
            <a:ext cx="23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Основной документ удостоверяющий лично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Кто такие малолет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Кто такие несовершеннолетние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Что такое Конститу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Что такое пра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Что такое обязанно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700360" y="260280"/>
            <a:ext cx="345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000080">
                        <a:alpha val="50196"/>
                      </a:srgbClr>
                    </a:gs>
                    <a:gs pos="100000">
                      <a:srgbClr val="00003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000080">
                      <a:alpha val="50196"/>
                    </a:srgbClr>
                  </a:gs>
                  <a:gs pos="100000">
                    <a:srgbClr val="00003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1042920" y="260280"/>
            <a:ext cx="66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ЕНДАРЬ ПРАВОВЫХ ДАТ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2010 – 2020гг. – Международное десятилетие мира и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ненасилия в интересах детей плане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1 июня – Международный день защиты де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4 июня - Международный день детей – жертв агресс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20 ноября – Всемирный день прав ребё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10 декабря – День прав челов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12 декабря – День Конституции Российской Федерации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900000" y="620640"/>
            <a:ext cx="73249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рогие  дети!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своё будущее мы все в ответе.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684360" y="3357720"/>
            <a:ext cx="7372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а и обязанности свои знайте,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орошими людьми вырастайте!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ство с основными нормативно- правовыми документа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зать единство прав и обязанност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питывать чувство ответственности, гражда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2411280" y="333360"/>
            <a:ext cx="2952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: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692360" y="2349360"/>
            <a:ext cx="6408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частье всего мира не сто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 одной слезы ребёнка.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4716360" y="5084640"/>
            <a:ext cx="3514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.М.Достоев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Picture 6" descr="94BFAB95"/>
          <p:cNvPicPr/>
          <p:nvPr/>
        </p:nvPicPr>
        <p:blipFill>
          <a:blip r:embed="rId1"/>
          <a:srcRect l="41915" t="17307" r="20325" b="13463"/>
          <a:stretch/>
        </p:blipFill>
        <p:spPr>
          <a:xfrm>
            <a:off x="0" y="115920"/>
            <a:ext cx="23749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раво – это совокупность установленных и охраняемых государственной властью норм и правил, которые регулируют отношения между людьми. 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(Ожег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2050920" y="189000"/>
            <a:ext cx="51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99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право?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99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468360" y="5013360"/>
            <a:ext cx="7991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чем нужно знать какие-то права людям?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онституция 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Декларация прав человека- 20 ноября 1959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онвенция о правах человека – 15 сентября 199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900000" y="260280"/>
            <a:ext cx="685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авовые документ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Обязанности – это круг действий, возложенных на кого- то и обязательных для выпол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900000" y="620640"/>
            <a:ext cx="705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обязанности?</a:t>
            </a:r>
            <a:endParaRPr b="0" lang="en-US" sz="1800" spc="1" strike="noStrike">
              <a:ln w="12600">
                <a:solidFill>
                  <a:srgbClr val="66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В 1959 году 20 ноябр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Генеральная Ассамблея ООН провозгласила нормативно- правовой доку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971640" y="260280"/>
            <a:ext cx="676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кларация прав человека</a:t>
            </a:r>
            <a:endParaRPr b="0" lang="en-US" sz="1800" spc="1" strike="noStrike">
              <a:ln w="19080">
                <a:solidFill>
                  <a:srgbClr val="66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719360"/>
            <a:ext cx="4537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ыла прин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0 ноября 1989 года, вступила в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5 сентября 1990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826920" y="33336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венция о правах ребёнка</a:t>
            </a:r>
            <a:endParaRPr b="0" lang="en-US" sz="1800" spc="1" strike="noStrike">
              <a:ln w="19080">
                <a:solidFill>
                  <a:srgbClr val="6600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" descr="D7AB723B"/>
          <p:cNvPicPr/>
          <p:nvPr/>
        </p:nvPicPr>
        <p:blipFill>
          <a:blip r:embed="rId1"/>
          <a:srcRect l="1355" t="34490" r="34313" b="7755"/>
          <a:stretch/>
        </p:blipFill>
        <p:spPr>
          <a:xfrm>
            <a:off x="4427640" y="1773360"/>
            <a:ext cx="4537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 1 "ребенком  является каждое человеческое существо до достижения 18-летнего возраст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 6 "каждый ребенок имеет право на жизн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7 "с момента рождения ребенок имеет право на имя и на приобретение гражданства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13 "ребенок имеет право свободно выражать свое мнени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 14 ."ребенок имеет право на свободу мысли, совести и рели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28 . "ребенок имеет право на образовани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28. "государства- участники Конвенции  обеспечивают, чтобы ни один ребенок не был, подвергнут пыткам или  другим жестоким, бесчеловечным или унижающим достоинство видам обращения и наказания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 31. "Каждый ребенок имеет право на отдых и досуг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7:52:26Z</dcterms:created>
  <dc:creator>HELLBOY</dc:creator>
  <dc:description/>
  <dc:language>en-US</dc:language>
  <cp:lastModifiedBy>User</cp:lastModifiedBy>
  <dcterms:modified xsi:type="dcterms:W3CDTF">2019-04-10T08:29:30Z</dcterms:modified>
  <cp:revision>17</cp:revision>
  <dc:subject/>
  <dc:title>Слайд 1</dc:title>
</cp:coreProperties>
</file>