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41F-0AAA-48D1-B619-FF9D8D88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AFE7-2140-47AD-8D94-DC654668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9ED-7DC4-4451-AFE5-0B2B001F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8B7-7A16-471A-A4DD-C636DA05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1F93-8D3B-479E-A859-D5237ECF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EA01-699A-4C35-B577-13C294D9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2890-9E84-4A1A-99AF-C0545D5E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098B-E985-451E-BEB8-C10F1328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0E7E-53A2-44B0-9BD8-D36E04B9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678E-373A-4516-9639-E2F7CDBD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88E4-FFF5-4ED1-A426-33C012BD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8C8-22A2-41E6-89A5-B0B43954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B66E-5512-46C7-8B39-209FD595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79C6-A096-43D2-A65F-68AD81FF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627E-FA1F-4F96-B400-BBEBAF36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883D-53FA-46BD-AC62-E9760052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83EE-FE98-4F91-BCD7-01D9CA28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11D-211D-4235-8473-9B0CF6C8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B18-50DA-46C7-B8CC-D9CAF767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AD3-D1C4-4E56-9355-3BEB85ED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561-C981-4B20-99FC-39FFF4EA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997-A5F7-4E9C-8C45-21BA1568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28B-A7E8-4206-BD36-79B47871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374-2A0C-4508-AE33-92B37412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0947-CFB3-46F9-8A7D-9AB5F718A8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A530-2B42-43A6-87D5-44C3BDDE88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395280" y="1268280"/>
            <a:ext cx="756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и права и обязанности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руководитель Криммель Л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Дети, не достигшие 18 лет являются несовершеннолетними. Несовершеннолетние не могут в полной мере осуществлять  самостоятельно свои пра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Стад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от рождения до 14 лет(малолетни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от 14 лет до 18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468360" y="404640"/>
            <a:ext cx="755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а несовершеннолетни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олучаете паспор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аво постоянно рабо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В России введено обязательное основное среднее образование с обязательной государственной аттестаци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2484360" y="549360"/>
            <a:ext cx="3167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4 лет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Учащиеся несут ответственность з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орчу имущества школ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нарушение дисциплины в шко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Имеют прав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на получение полного бесплатного среднего образ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395280" y="260280"/>
            <a:ext cx="756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6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оложения из Устава школ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6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835280" y="476280"/>
            <a:ext cx="388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3708360" y="2133720"/>
            <a:ext cx="15112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1692360" y="404640"/>
            <a:ext cx="51116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ссворд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0" y="1557360"/>
          <a:ext cx="8829720" cy="4910040"/>
        </p:xfrm>
        <a:graphic>
          <a:graphicData uri="http://schemas.openxmlformats.org/drawingml/2006/table">
            <a:tbl>
              <a:tblPr/>
              <a:tblGrid>
                <a:gridCol w="682560"/>
                <a:gridCol w="628560"/>
                <a:gridCol w="627120"/>
                <a:gridCol w="625680"/>
                <a:gridCol w="625320"/>
                <a:gridCol w="627120"/>
                <a:gridCol w="628560"/>
                <a:gridCol w="623880"/>
                <a:gridCol w="628560"/>
                <a:gridCol w="625680"/>
                <a:gridCol w="625320"/>
                <a:gridCol w="628920"/>
                <a:gridCol w="625320"/>
                <a:gridCol w="627120"/>
              </a:tblGrid>
              <a:tr h="993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WordArt 535"/>
          <p:cNvSpPr txBox="1"/>
          <p:nvPr/>
        </p:nvSpPr>
        <p:spPr>
          <a:xfrm>
            <a:off x="1403280" y="1700280"/>
            <a:ext cx="33336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4" name="WordArt 537"/>
          <p:cNvSpPr txBox="1"/>
          <p:nvPr/>
        </p:nvSpPr>
        <p:spPr>
          <a:xfrm>
            <a:off x="1979640" y="1773360"/>
            <a:ext cx="25704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WordArt 539"/>
          <p:cNvSpPr txBox="1"/>
          <p:nvPr/>
        </p:nvSpPr>
        <p:spPr>
          <a:xfrm>
            <a:off x="2627280" y="1773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WordArt 541"/>
          <p:cNvSpPr txBox="1"/>
          <p:nvPr/>
        </p:nvSpPr>
        <p:spPr>
          <a:xfrm>
            <a:off x="3348000" y="1773360"/>
            <a:ext cx="24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WordArt 543"/>
          <p:cNvSpPr txBox="1"/>
          <p:nvPr/>
        </p:nvSpPr>
        <p:spPr>
          <a:xfrm>
            <a:off x="3924360" y="1773360"/>
            <a:ext cx="26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WordArt 545"/>
          <p:cNvSpPr txBox="1"/>
          <p:nvPr/>
        </p:nvSpPr>
        <p:spPr>
          <a:xfrm>
            <a:off x="4572000" y="1773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WordArt 547"/>
          <p:cNvSpPr txBox="1"/>
          <p:nvPr/>
        </p:nvSpPr>
        <p:spPr>
          <a:xfrm>
            <a:off x="5292720" y="1773360"/>
            <a:ext cx="23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WordArt 549"/>
          <p:cNvSpPr txBox="1"/>
          <p:nvPr/>
        </p:nvSpPr>
        <p:spPr>
          <a:xfrm>
            <a:off x="5867280" y="177336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WordArt 551"/>
          <p:cNvSpPr txBox="1"/>
          <p:nvPr/>
        </p:nvSpPr>
        <p:spPr>
          <a:xfrm>
            <a:off x="6443640" y="1773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WordArt 553"/>
          <p:cNvSpPr txBox="1"/>
          <p:nvPr/>
        </p:nvSpPr>
        <p:spPr>
          <a:xfrm>
            <a:off x="7093080" y="184464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WordArt 555"/>
          <p:cNvSpPr txBox="1"/>
          <p:nvPr/>
        </p:nvSpPr>
        <p:spPr>
          <a:xfrm>
            <a:off x="7740720" y="1844640"/>
            <a:ext cx="20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WordArt 557"/>
          <p:cNvSpPr txBox="1"/>
          <p:nvPr/>
        </p:nvSpPr>
        <p:spPr>
          <a:xfrm>
            <a:off x="8317080" y="1844640"/>
            <a:ext cx="237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80"/>
                </a:solidFill>
                <a:latin typeface="Arial"/>
              </a:rPr>
              <a:t>Основной документ удостоверяющий личнос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80"/>
                </a:solidFill>
                <a:latin typeface="Arial"/>
              </a:rPr>
              <a:t>Кто такие малолетни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80"/>
                </a:solidFill>
                <a:latin typeface="Arial"/>
              </a:rPr>
              <a:t>Кто такие несовершеннолетние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80"/>
                </a:solidFill>
                <a:latin typeface="Arial"/>
              </a:rPr>
              <a:t>Что такое Конститу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80"/>
                </a:solidFill>
                <a:latin typeface="Arial"/>
              </a:rPr>
              <a:t>Что такое прав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80"/>
                </a:solidFill>
                <a:latin typeface="Arial"/>
              </a:rPr>
              <a:t>Что такое обязаннос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700360" y="260280"/>
            <a:ext cx="3456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000080">
                        <a:alpha val="50196"/>
                      </a:srgbClr>
                    </a:gs>
                    <a:gs pos="100000">
                      <a:srgbClr val="00003b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000080">
                      <a:alpha val="50196"/>
                    </a:srgbClr>
                  </a:gs>
                  <a:gs pos="100000">
                    <a:srgbClr val="00003b"/>
                  </a:gs>
                </a:gsLst>
                <a:lin ang="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4"/>
          <p:cNvSpPr txBox="1"/>
          <p:nvPr/>
        </p:nvSpPr>
        <p:spPr>
          <a:xfrm>
            <a:off x="1042920" y="260280"/>
            <a:ext cx="66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ЛЕНДАРЬ ПРАВОВЫХ ДАТ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80"/>
                </a:solidFill>
                <a:latin typeface="Arial"/>
              </a:rPr>
              <a:t>2010 – 2020гг. – Международное десятилетие мира и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</a:rPr>
              <a:t>ненасилия в интересах детей плане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80"/>
                </a:solidFill>
                <a:latin typeface="Arial"/>
              </a:rPr>
              <a:t>1 июня – Международный день защиты дет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80"/>
                </a:solidFill>
                <a:latin typeface="Arial"/>
              </a:rPr>
              <a:t>4 июня - Международный день детей – жертв агресс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80"/>
                </a:solidFill>
                <a:latin typeface="Arial"/>
              </a:rPr>
              <a:t>20 ноября – Всемирный день прав ребё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80"/>
                </a:solidFill>
                <a:latin typeface="Arial"/>
              </a:rPr>
              <a:t>10 декабря – День прав челове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80"/>
                </a:solidFill>
                <a:latin typeface="Arial"/>
              </a:rPr>
              <a:t>12 декабря – День Конституции Российской Федерации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5"/>
          <p:cNvSpPr txBox="1"/>
          <p:nvPr/>
        </p:nvSpPr>
        <p:spPr>
          <a:xfrm>
            <a:off x="900000" y="620640"/>
            <a:ext cx="73249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рогие  дети!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 своё будущее мы все в ответе.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684360" y="3357720"/>
            <a:ext cx="737208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а и обязанности свои знайте,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орошими людьми вырастайте!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комство с основными нормативно- правовыми документа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зать единство прав и обязанносте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питывать чувство ответственности, гражда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4"/>
          <p:cNvSpPr txBox="1"/>
          <p:nvPr/>
        </p:nvSpPr>
        <p:spPr>
          <a:xfrm>
            <a:off x="2411280" y="333360"/>
            <a:ext cx="295272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: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692360" y="2349360"/>
            <a:ext cx="6408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частье всего мира не сто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и одной слезы ребёнка.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4716360" y="5084640"/>
            <a:ext cx="35146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.М.Достоевск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6" name="Picture 6" descr="94BFAB95"/>
          <p:cNvPicPr/>
          <p:nvPr/>
        </p:nvPicPr>
        <p:blipFill>
          <a:blip r:embed="rId1"/>
          <a:srcRect l="41915" t="17307" r="20325" b="13463"/>
          <a:stretch/>
        </p:blipFill>
        <p:spPr>
          <a:xfrm>
            <a:off x="0" y="115920"/>
            <a:ext cx="23749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Право – это совокупность установленных и охраняемых государственной властью норм и правил, которые регулируют отношения между людьми. </a:t>
            </a: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 (Ожег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2050920" y="189000"/>
            <a:ext cx="518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99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такое право?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99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468360" y="5013360"/>
            <a:ext cx="7991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чем нужно знать какие-то права людям?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онституция 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Декларация прав человека- 20 ноября 1959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Конвенция о правах человека – 15 сентября 199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900000" y="260280"/>
            <a:ext cx="685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cc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авовые документ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cc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Обязанности – это круг действий, возложенных на кого- то и обязательных для выполн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900000" y="620640"/>
            <a:ext cx="705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33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такое обязанности?</a:t>
            </a:r>
            <a:endParaRPr b="0" lang="en-US" sz="1800" spc="1" strike="noStrike">
              <a:ln w="12600">
                <a:solidFill>
                  <a:srgbClr val="660033"/>
                </a:solidFill>
                <a:miter/>
              </a:ln>
              <a:solidFill>
                <a:srgbClr val="a5002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В 1959 году 20 ноябр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Генеральная Ассамблея ООН провозгласила нормативно- правовой доку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4"/>
          <p:cNvSpPr txBox="1"/>
          <p:nvPr/>
        </p:nvSpPr>
        <p:spPr>
          <a:xfrm>
            <a:off x="971640" y="260280"/>
            <a:ext cx="676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00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кларация прав человека</a:t>
            </a:r>
            <a:endParaRPr b="0" lang="en-US" sz="1800" spc="1" strike="noStrike">
              <a:ln w="19080">
                <a:solidFill>
                  <a:srgbClr val="6600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1719360"/>
            <a:ext cx="4537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Была прин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20 ноября 1989 года, вступила в си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5 сентября 1990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826920" y="33336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венция о правах ребёнка</a:t>
            </a:r>
            <a:endParaRPr b="0" lang="en-US" sz="1800" spc="1" strike="noStrike">
              <a:ln w="19080">
                <a:solidFill>
                  <a:srgbClr val="660033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5" descr="D7AB723B"/>
          <p:cNvPicPr/>
          <p:nvPr/>
        </p:nvPicPr>
        <p:blipFill>
          <a:blip r:embed="rId1"/>
          <a:srcRect l="1355" t="34490" r="34313" b="7755"/>
          <a:stretch/>
        </p:blipFill>
        <p:spPr>
          <a:xfrm>
            <a:off x="4427640" y="1773360"/>
            <a:ext cx="4537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. 1 "ребенком  является каждое человеческое существо до достижения 18-летнего возраст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. 6 "каждый ребенок имеет право на жизн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.7 "с момента рождения ребенок имеет право на имя и на приобретение гражданства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.13 "ребенок имеет право свободно выражать свое мнени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. 14 ."ребенок имеет право на свободу мысли, совести и рели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.28 . "ребенок имеет право на образовани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.28. "государства- участники Конвенции  обеспечивают, чтобы ни один ребенок не был, подвергнут пыткам или  другим жестоким, бесчеловечным или унижающим достоинство видам обращения и наказания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Ст. 31. "Каждый ребенок имеет право на отдых и досуг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7:52:26Z</dcterms:created>
  <dc:creator>HELLBOY</dc:creator>
  <dc:description/>
  <dc:language>en-US</dc:language>
  <cp:lastModifiedBy>User</cp:lastModifiedBy>
  <dcterms:modified xsi:type="dcterms:W3CDTF">2019-04-10T08:29:30Z</dcterms:modified>
  <cp:revision>17</cp:revision>
  <dc:subject/>
  <dc:title>Слайд 1</dc:title>
</cp:coreProperties>
</file>