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5DC-06CE-4537-8A5F-48A1A369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09A-08E7-40B9-9075-7D3B33F6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590-275D-4EB7-8203-5E4B92DD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003-4038-488E-AD8A-B24D512E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654-D028-42C2-9321-1ED142A9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A00-02B6-4C41-96DF-38D219C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6ECE-B306-45FD-8B77-5BF7535D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073-93E7-4768-AE7F-DCA6753E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AF4-41FD-45BD-A2E8-74B427F5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D89-CAAC-4118-9AC7-E4225EA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591-6E46-48A8-9F33-98436CA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3D5-F28C-4841-9FDF-151D2FE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8607-4C62-43B3-9BB2-51C326B22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6496200" y="3867120"/>
            <a:ext cx="2647800" cy="299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993240" y="1457280"/>
            <a:ext cx="7608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ПАСХА 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Tahoma"/>
              </a:rPr>
              <a:t>радость нам несёт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 Обычай обмениваться на Пасху красным яйцом, очень давний.                                           Христос дал нам жизнь, а яйцо – это знак жизни. Все христиане и приветствуют друг друга красным яйцом как знаком веч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187280" y="333360"/>
            <a:ext cx="741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подарить на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5913360" y="1700280"/>
            <a:ext cx="3051360" cy="39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Arial"/>
              </a:rPr>
              <a:t>Мария Магдалина пришла к римскому императору Тиверию. С собой она принесла простое куриное яйцо. Но когда Мария стала говорить Тиверию о том, что Иисус Христос воскрес, император только рассмеялся: «Это также невозможно, как твоему белому яйцу  превратиться в красно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539640" y="260280"/>
            <a:ext cx="784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чему мы на Пасху красим яйца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580000" y="2924280"/>
            <a:ext cx="3240000" cy="16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cc0000"/>
                </a:solidFill>
                <a:latin typeface="Times New Roman"/>
              </a:rPr>
              <a:t>И не успел Тиверий закончить фразу, как яйцо в руках Марии Магдалины стало совершенно красным.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612720" y="2852640"/>
            <a:ext cx="5111640" cy="383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59305 7.40741E-007 E">
                                      <p:cBhvr>
                                        <p:cTn id="13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9514 -0.00394 E">
                                      <p:cBhvr>
                                        <p:cTn id="13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7786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 пасхальные вечера девушки капали в крутой кипяток сырое яйцо – каждая по три капли. Фигурки, которые при этом получались, предвещали женскую судьбу, удачное ли будет замужество, богат ли будет дом, хороши л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900000" y="692280"/>
            <a:ext cx="518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хальное гадани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284720" y="4437000"/>
            <a:ext cx="457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Девушки внимательно рассматривали пасхальное яйцо в разрезе: чем ближе желток к краю белка, тем ближе замужество; чем ярче желток – тем удачнее брак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4427640" y="3645000"/>
            <a:ext cx="46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хальная примет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331776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2418840"/>
            <a:ext cx="604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рапанки – красят в темный цвет и узор на скорлупу наносят острым предм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16000" y="1557360"/>
            <a:ext cx="46083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Крашенки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т слова кра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крашенки"/>
          <p:cNvPicPr/>
          <p:nvPr/>
        </p:nvPicPr>
        <p:blipFill>
          <a:blip r:embed="rId1"/>
          <a:stretch/>
        </p:blipFill>
        <p:spPr>
          <a:xfrm>
            <a:off x="539640" y="119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драпанки"/>
          <p:cNvPicPr/>
          <p:nvPr/>
        </p:nvPicPr>
        <p:blipFill>
          <a:blip r:embed="rId2"/>
          <a:stretch/>
        </p:blipFill>
        <p:spPr>
          <a:xfrm>
            <a:off x="6588000" y="2224080"/>
            <a:ext cx="2159280" cy="1565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987640" y="3860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Крапанки – от украинского слова «крапать», то есть покрывать каплям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24000" y="515772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Писанки – это искусно расписанные пасхальные яйца. Украинские писанки – настоящие произведения народного искусств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539640" y="333360"/>
            <a:ext cx="828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цветные пасхальные яйц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9" descr="крапанки"/>
          <p:cNvPicPr/>
          <p:nvPr/>
        </p:nvPicPr>
        <p:blipFill>
          <a:blip r:embed="rId3"/>
          <a:stretch/>
        </p:blipFill>
        <p:spPr>
          <a:xfrm>
            <a:off x="539640" y="3789360"/>
            <a:ext cx="180036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писанки"/>
          <p:cNvPicPr/>
          <p:nvPr/>
        </p:nvPicPr>
        <p:blipFill>
          <a:blip r:embed="rId4"/>
          <a:stretch/>
        </p:blipFill>
        <p:spPr>
          <a:xfrm>
            <a:off x="6588000" y="5229360"/>
            <a:ext cx="1943280" cy="13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616040" y="25956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МАТЕРИАЛЫ и ОБОРУД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042920" y="816840"/>
            <a:ext cx="7704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Для работы понадобятся: краски (гуашь), хорошие кисти №№ 1,2,3, спичечный коробок, клей ПВА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Чтобы расписать писанку, необходимо отобрать хорошие  яйца с шероховатой скорлупой. Гладкая поверхность плохо красится. Можно раскрасить и деревянное яйц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начала яйцо моют в теплой воде с питьевой содой, снимают грязь, и на пару минут опускают в воду, в которую добавлено 2-3 столовых ложки уксуса. Потом яйца просушивают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6" descr="jajtsa79"/>
          <p:cNvPicPr/>
          <p:nvPr/>
        </p:nvPicPr>
        <p:blipFill>
          <a:blip r:embed="rId3"/>
          <a:stretch/>
        </p:blipFill>
        <p:spPr>
          <a:xfrm>
            <a:off x="179280" y="4724280"/>
            <a:ext cx="1559160" cy="198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116000" y="40464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оспись выполняется в следующем порядке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Сваренное яйцо необходимо положить в открытый спичечный коробок - так будет удобнее краси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Затем красками наносят узор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Он должен просохнуть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Раскрашенное яичко нужно покрыть клеем ПВА, размешанным с водой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8" descr="d784fb6478b9"/>
          <p:cNvPicPr/>
          <p:nvPr/>
        </p:nvPicPr>
        <p:blipFill>
          <a:blip r:embed="rId3"/>
          <a:stretch/>
        </p:blipFill>
        <p:spPr>
          <a:xfrm>
            <a:off x="3635280" y="4005360"/>
            <a:ext cx="2021040" cy="25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c117c32d744и"/>
          <p:cNvPicPr/>
          <p:nvPr/>
        </p:nvPicPr>
        <p:blipFill>
          <a:blip r:embed="rId4"/>
          <a:stretch/>
        </p:blipFill>
        <p:spPr>
          <a:xfrm>
            <a:off x="5435640" y="3789360"/>
            <a:ext cx="1965240" cy="275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5"/>
          <a:stretch/>
        </p:blipFill>
        <p:spPr>
          <a:xfrm>
            <a:off x="1042920" y="3789360"/>
            <a:ext cx="2438640" cy="2682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484360" y="476280"/>
            <a:ext cx="48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76360" y="2492280"/>
            <a:ext cx="763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c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О каком православном празднике мы сегодня говорили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2.Что вам особенно запомнилось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3. Что вы сделаете доброго 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	</a:t>
            </a:r>
            <a:r>
              <a:rPr b="1" lang="ru-RU" sz="3000" spc="-1" strike="noStrike">
                <a:solidFill>
                  <a:srgbClr val="cc0000"/>
                </a:solidFill>
                <a:latin typeface="Arial Black"/>
              </a:rPr>
              <a:t>для своих близких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pash02"/>
          <p:cNvPicPr/>
          <p:nvPr/>
        </p:nvPicPr>
        <p:blipFill>
          <a:blip r:embed="rId1"/>
          <a:stretch/>
        </p:blipFill>
        <p:spPr>
          <a:xfrm>
            <a:off x="0" y="0"/>
            <a:ext cx="124308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3"/>
          <p:cNvSpPr txBox="1"/>
          <p:nvPr/>
        </p:nvSpPr>
        <p:spPr>
          <a:xfrm>
            <a:off x="3059280" y="620640"/>
            <a:ext cx="23526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8120" y="211284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1.  Пасха – весенний праздник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63920" y="2833560"/>
            <a:ext cx="58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2.  Мы должны стараться быть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добрыми, любить друг друга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546200" y="3860640"/>
            <a:ext cx="45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3.  Пасхальное яйцо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 Black"/>
              </a:rPr>
              <a:t>символизирует жизнь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94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44360" y="4724280"/>
            <a:ext cx="3996000" cy="2469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самый главный православный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праздник; его также называют Святое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Христово Воскресение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788000" y="1959120"/>
            <a:ext cx="4113000" cy="5637960"/>
          </a:xfrm>
          <a:prstGeom prst="rect">
            <a:avLst/>
          </a:prstGeom>
          <a:solidFill>
            <a:srgbClr val="99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cc0000"/>
                </a:solidFill>
                <a:uFillTx/>
                <a:latin typeface="Arial Black"/>
              </a:rPr>
              <a:t>Пасхальное яйцо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—это куриное яйцо ,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окрашенное в красный или другой цвет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на праздник Пасхи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Это символ Воскресения Христ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ществует традиция изготавливать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сувенирные пасхальные яйца из дерева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cc0000"/>
                </a:solidFill>
                <a:latin typeface="Arial Black"/>
              </a:rPr>
              <a:t>или другого материала.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187280" y="1341360"/>
            <a:ext cx="6840720" cy="28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12000" y="260280"/>
            <a:ext cx="488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cc"/>
                </a:solidFill>
                <a:latin typeface="Arial Black"/>
              </a:rPr>
              <a:t>Пасху радостно встречаем!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2" descr="jajtsa01"/>
          <p:cNvPicPr/>
          <p:nvPr/>
        </p:nvPicPr>
        <p:blipFill>
          <a:blip r:embed="rId1"/>
          <a:stretch/>
        </p:blipFill>
        <p:spPr>
          <a:xfrm rot="2759400">
            <a:off x="1338840" y="1693080"/>
            <a:ext cx="1368720" cy="519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d3b1a7435a6"/>
          <p:cNvPicPr/>
          <p:nvPr/>
        </p:nvPicPr>
        <p:blipFill>
          <a:blip r:embed="rId2"/>
          <a:stretch/>
        </p:blipFill>
        <p:spPr>
          <a:xfrm>
            <a:off x="1692360" y="2235240"/>
            <a:ext cx="2232000" cy="177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eva75"/>
          <p:cNvPicPr/>
          <p:nvPr/>
        </p:nvPicPr>
        <p:blipFill>
          <a:blip r:embed="rId3"/>
          <a:stretch/>
        </p:blipFill>
        <p:spPr>
          <a:xfrm>
            <a:off x="3924360" y="1876320"/>
            <a:ext cx="1374840" cy="20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ac321b48db4"/>
          <p:cNvPicPr/>
          <p:nvPr/>
        </p:nvPicPr>
        <p:blipFill>
          <a:blip r:embed="rId4"/>
          <a:stretch/>
        </p:blipFill>
        <p:spPr>
          <a:xfrm>
            <a:off x="5545080" y="2092320"/>
            <a:ext cx="1979640" cy="1900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324000" y="4525920"/>
            <a:ext cx="8424720" cy="228852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Black"/>
              </a:rPr>
              <a:t>ПАСХА  – это воскресение, оживление, победа жизни над смертью. Воскресение происходит в природе. Как бы ни было холодно зимой, она закончится и придет весна. После ночи обязательно наступает рассвет – это тоже воскресение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071520" y="720"/>
            <a:ext cx="5664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Аполлон Николаевич Майков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всюду благовест гудит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з всех церквей народ валит.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ря глядит уже с небес…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полей уж снят покров снегов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реки рвутся из оков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зеленеет ближний лес...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Христос воскрес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т просыпается земля,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одеваются поля,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на идет, полна чуд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ристос воскрес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lilia06"/>
          <p:cNvPicPr/>
          <p:nvPr/>
        </p:nvPicPr>
        <p:blipFill>
          <a:blip r:embed="rId3"/>
          <a:stretch/>
        </p:blipFill>
        <p:spPr>
          <a:xfrm>
            <a:off x="2195640" y="5686560"/>
            <a:ext cx="439236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1"/>
          <p:cNvPicPr/>
          <p:nvPr/>
        </p:nvPicPr>
        <p:blipFill>
          <a:blip r:embed="rId4"/>
          <a:stretch/>
        </p:blipFill>
        <p:spPr>
          <a:xfrm>
            <a:off x="250920" y="2781360"/>
            <a:ext cx="2797200" cy="324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age003"/>
          <p:cNvPicPr/>
          <p:nvPr/>
        </p:nvPicPr>
        <p:blipFill>
          <a:blip r:embed="rId1"/>
          <a:stretch/>
        </p:blipFill>
        <p:spPr>
          <a:xfrm>
            <a:off x="5003640" y="260280"/>
            <a:ext cx="393552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59" name="Picture 5" descr="Krest"/>
          <p:cNvPicPr/>
          <p:nvPr/>
        </p:nvPicPr>
        <p:blipFill>
          <a:blip r:embed="rId2"/>
          <a:stretch/>
        </p:blipFill>
        <p:spPr>
          <a:xfrm>
            <a:off x="250920" y="260280"/>
            <a:ext cx="4394160" cy="5977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1535760" y="638172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«Распят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254200" y="6408720"/>
            <a:ext cx="31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оскресение Христов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619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 всем городам и деревням,  ставят несколько тысяч бочек и котлов с вареными яйцами, окрашенными в разные  цвета. Некоторые из них позолоченные и посеребренные. Прохожие покупают их. При встрече  здороваются и говорят: «Христос Воскресе!», дают друг другу яйца, цел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971640" y="476280"/>
            <a:ext cx="75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ли на Руси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5" descr="khristovanie"/>
          <p:cNvPicPr/>
          <p:nvPr/>
        </p:nvPicPr>
        <p:blipFill>
          <a:blip r:embed="rId1"/>
          <a:stretch/>
        </p:blipFill>
        <p:spPr>
          <a:xfrm>
            <a:off x="684360" y="1413000"/>
            <a:ext cx="3375000" cy="482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asha"/>
          <p:cNvPicPr/>
          <p:nvPr/>
        </p:nvPicPr>
        <p:blipFill>
          <a:blip r:embed="rId1"/>
          <a:stretch/>
        </p:blipFill>
        <p:spPr>
          <a:xfrm>
            <a:off x="3059280" y="1557360"/>
            <a:ext cx="3600360" cy="2700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4338720"/>
            <a:ext cx="8435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разднование   Пасхи  продолжается  сорок  дней   –   ровно столько, сколько  Христос  являлся  своим  ученикам  после Воскресения.  В  течение  сорока дней Пасхи, а особенно на первой неделе – ходят, друг к другу в гости, дарят крашеные яйца и куличи, играют в пасхальны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755640" y="33336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аздновать Пасху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ll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826920" y="404640"/>
            <a:ext cx="781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ый вкусный кулич.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443120" y="1989000"/>
            <a:ext cx="470052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улич – это сладкий, сдобный, пасхальный хлеб. Для его приготовления тесто замешивают в ночь с четверга на пятницу. Весь день в пятницу пекут, а в ночь с субботы на воскресенье – освяща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1187280" y="180972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2060280"/>
            <a:ext cx="475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Традиционным пасхальным блюдом является пасха – это творог со сметаной или сливками, спрессованный в виде усеченной пирамидки. На боковых ее сторонах изображается крест и буквы «ХВ», что означает Христос Воск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cake1"/>
          <p:cNvPicPr/>
          <p:nvPr/>
        </p:nvPicPr>
        <p:blipFill>
          <a:blip r:embed="rId1"/>
          <a:stretch/>
        </p:blipFill>
        <p:spPr>
          <a:xfrm>
            <a:off x="5508720" y="1773360"/>
            <a:ext cx="3497040" cy="4103640"/>
          </a:xfrm>
          <a:prstGeom prst="rect">
            <a:avLst/>
          </a:prstGeom>
          <a:ln w="0">
            <a:noFill/>
          </a:ln>
        </p:spPr>
      </p:pic>
      <p:sp>
        <p:nvSpPr>
          <p:cNvPr id="74" name="WordArt 4"/>
          <p:cNvSpPr txBox="1"/>
          <p:nvPr/>
        </p:nvSpPr>
        <p:spPr>
          <a:xfrm>
            <a:off x="1258920" y="333360"/>
            <a:ext cx="6842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ая вкусная пасх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EGN</dc:creator>
  <dc:description/>
  <dc:language>en-US</dc:language>
  <cp:lastModifiedBy>Admin</cp:lastModifiedBy>
  <dcterms:modified xsi:type="dcterms:W3CDTF">2019-04-18T13:11:59Z</dcterms:modified>
  <cp:revision>46</cp:revision>
  <dc:subject/>
  <dc:title>Пасха</dc:title>
</cp:coreProperties>
</file>