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AB0-2EAB-4B06-8338-14A543D2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734-A7C3-45D8-BC33-6088DCF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2FC-6A85-4CAE-BEE8-3F534B48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233-2AB3-47A6-B0EA-6B1908F0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118-534E-409A-9B46-A13A05F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653-5E8E-4B83-9F17-3C5E25A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DDB-D3AE-432D-BE7D-FB78A3E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AAD-0F92-485B-B187-7620BF2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4C0-7218-4ABA-9F76-B51D2B89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D4D-D1AD-4DE3-8D59-4076140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3D0-8C6A-46F1-B2B2-538CE93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86D-5B6A-42E5-87C2-6305EDD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D3A-CA39-428C-9983-D417529FF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993240" y="1457280"/>
            <a:ext cx="760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радость нам несёт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7786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 пасхальные вечера девушки капали в крутой кипяток сырое яйцо – каждая по три капли. Фигурки, которые при этом получались, предвещали женскую судьбу, удачное ли будет замужество, богат ли будет дом, хороши л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00000" y="692280"/>
            <a:ext cx="518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хальное гадани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284720" y="4437000"/>
            <a:ext cx="457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Девушки внимательно рассматривали пасхальное яйцо в разрезе: чем ближе желток к краю белка, тем ближе замужество; чем ярче желток – тем удачнее брак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4427640" y="3645000"/>
            <a:ext cx="46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хальная примет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31776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616040" y="25956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АТЕРИАЛЫ и ОБОРУД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42920" y="816840"/>
            <a:ext cx="770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Для работы понадобятся: краски (гуашь), хорошие кисти №№ 1,2,3, спичечный коробок, клей ПВ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Чтобы расписать писанку, необходимо отобрать хорошие  яйца с шероховатой скорлупой. Гладкая поверхность плохо красится. Можно раскрасить и деревянное яйц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 яйцо моют в теплой воде с питьевой содой, снимают грязь, и на пару минут опускают в воду, в которую добавлено 2-3 столовых ложки уксуса. Потом яйца просушивают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6" descr="jajtsa79"/>
          <p:cNvPicPr/>
          <p:nvPr/>
        </p:nvPicPr>
        <p:blipFill>
          <a:blip r:embed="rId3"/>
          <a:stretch/>
        </p:blipFill>
        <p:spPr>
          <a:xfrm>
            <a:off x="179280" y="4724280"/>
            <a:ext cx="1559160" cy="198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11600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оспись выполняется в следующем порядке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Сваренное яйцо необходимо положить в открытый спичечный коробок - так будет удобнее краси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Затем красками наносят узор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Он должен просохну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Раскрашенное яичко нужно покрыть клеем ПВА, размешанным с водой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8" descr="d784fb6478b9"/>
          <p:cNvPicPr/>
          <p:nvPr/>
        </p:nvPicPr>
        <p:blipFill>
          <a:blip r:embed="rId3"/>
          <a:stretch/>
        </p:blipFill>
        <p:spPr>
          <a:xfrm>
            <a:off x="3635280" y="4005360"/>
            <a:ext cx="202104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c117c32d744и"/>
          <p:cNvPicPr/>
          <p:nvPr/>
        </p:nvPicPr>
        <p:blipFill>
          <a:blip r:embed="rId4"/>
          <a:stretch/>
        </p:blipFill>
        <p:spPr>
          <a:xfrm>
            <a:off x="5435640" y="3789360"/>
            <a:ext cx="1965240" cy="27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243864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44360" y="4724280"/>
            <a:ext cx="399600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788000" y="1959120"/>
            <a:ext cx="4113000" cy="5637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071520" y="72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lilia06"/>
          <p:cNvPicPr/>
          <p:nvPr/>
        </p:nvPicPr>
        <p:blipFill>
          <a:blip r:embed="rId3"/>
          <a:stretch/>
        </p:blipFill>
        <p:spPr>
          <a:xfrm>
            <a:off x="2195640" y="5686560"/>
            <a:ext cx="439236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"/>
          <p:cNvPicPr/>
          <p:nvPr/>
        </p:nvPicPr>
        <p:blipFill>
          <a:blip r:embed="rId4"/>
          <a:stretch/>
        </p:blipFill>
        <p:spPr>
          <a:xfrm>
            <a:off x="250920" y="278136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9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74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Admin</cp:lastModifiedBy>
  <dcterms:modified xsi:type="dcterms:W3CDTF">2019-04-18T13:11:59Z</dcterms:modified>
  <cp:revision>46</cp:revision>
  <dc:subject/>
  <dc:title>Пасха</dc:title>
</cp:coreProperties>
</file>