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gif" ContentType="image/gif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7.png" ContentType="image/png"/>
  <Override PartName="/ppt/media/image27.gif" ContentType="image/gif"/>
  <Override PartName="/ppt/media/image11.gif" ContentType="image/gif"/>
  <Override PartName="/ppt/media/image6.gif" ContentType="image/gif"/>
  <Override PartName="/ppt/media/image5.png" ContentType="image/png"/>
  <Override PartName="/ppt/media/image4.png" ContentType="image/png"/>
  <Override PartName="/ppt/media/image24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3C7-E21F-4A26-BDC2-438D722B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C243-6D95-4053-8C73-C785FB86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0FB-6A6F-486B-B922-B0D41CE5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77C-C3B8-47C4-92F7-12615216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BE17-FC12-4AD9-ACFA-F927587E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EF52-D060-43CD-8E89-8C4D5A73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7EAD-1F26-4AB7-8666-4E778888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1AE3-3A8E-4E75-881A-B40BA229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BF04-85AF-422F-95BC-FEF6764F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D5E5-9D56-4EDB-BD9A-6AB77058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4A8C-0CE9-455F-A4E2-EB726D33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5E69-3350-463D-BE6C-82B59F35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8FE2-CD36-4EC9-B75E-7FB8ACFF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EB99-A82B-46F9-A1B5-634C9F57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01D0-B9AB-4AA7-9219-EC941EF2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1868-5D9A-4171-B615-1933CBB9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3947-1701-492C-9AEC-3F8E8061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BBB15-30CE-4162-B641-F41B6704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1E52E-673B-4B48-851A-F455F0B9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E1F15-5FDF-4112-B064-95297A78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EF274-8D84-4C7C-977A-4DCA443A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CE6CF-8A34-4233-AA07-48CCBD93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AA7-B165-4591-AA88-A5F195D2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05D1D-D50E-4950-BE18-2A846ED5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2F0C7-2DED-4B4A-AA95-7C4A8A6C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84C35-998D-4D8A-9C70-BD46A432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5AFB4-C2B5-40B6-B928-8EA0FFE2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3DFE2-0535-4A85-8257-4E0B7D55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9F85C-1BE7-405F-BF97-71E32054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66CF2-99D0-4C3D-929F-AAFD101C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D13C6-A682-4F94-9D13-927EE527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89FE0-D7E4-4F9C-8E45-69B77A30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21EB8-73B4-4482-912A-503B3548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E298-0E42-45FB-AACD-8BBCA929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82313-5D13-413C-8027-70357BBB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59976-963D-4525-B587-D8EDEFA7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E089A-8F24-4540-AE97-86C01D12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88429-843D-4865-A923-6B1BC46F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12738-88AB-471D-8B79-79F20E17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79DB1-83A5-4639-9B15-DA51DB33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3D8C1-8053-49E7-8766-4AD8FC48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5D2C0-EA81-4ED4-8931-A011F565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8186F-310B-4859-B5CB-B0E95C8F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6E780-9527-4525-9F59-962B765F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6FB-664F-4832-AB4A-6C0F9C57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B9280-6C3B-4A88-B2CA-045BECF4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55014-021F-4D3C-851E-899AB3CF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DA9D9-5BD5-4EE4-AA54-7106F9D8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76F6B-1B57-435C-B09A-F5BDEE1D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2D997-DF03-4282-B602-1A967470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0FBB9-5BB0-4D55-B04F-D4277A45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E4782-7764-4418-9294-0082D1BA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28A17-915A-4F80-8DE1-61CA36A2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E502B-4934-4969-A9BE-7A1C41AB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6AFC1-F44D-4782-8739-056C9785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D99-6B54-46F2-B411-16944206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A6CA9-B2DE-4129-8F12-4B42083D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01F74-A201-42AF-BB76-AE83E97C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2B14F-D0DE-4895-9853-EDBEF07C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CE175-0AFE-4C8B-89DB-0C1FE98F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4026F-1AD0-40E3-8120-2152A69F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E25D2-194F-4F36-B95A-543E3350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18A7D-0A54-48CA-ADED-6A464059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26CCD-6BDD-45CF-BE51-0E8358EA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F5C4D-AB5A-4280-85F7-81A7059C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B7B8A-DB9F-4876-BC4F-D9916F7C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BA7-3AA9-4793-8848-5DB09C4E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D62EE-ACFF-408A-A73B-1590C304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B27B4-8F81-49C2-82B4-9DC795DE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0EAD1-C59D-4420-A159-50EB86F9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333E7-5F1E-4AAB-997B-84B630BB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045F2-AB0D-4AD0-B917-D689E1B0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50ABB-613F-43DD-9D92-EF8BEC35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000C0-1B63-437D-8F6C-5901EA70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AD201-D34B-4ECA-BAE7-D241C2FE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A91F1-2C3D-4F21-A54E-1C52CCD9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46864-88F3-4A66-8D66-972BF0E9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FBB9-41E4-488C-949D-F1BD6A52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33EAE-6294-44EC-96C9-A450E4AC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6061F-6D09-4BA9-9F96-70B8E3C5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28DA7-C1BB-4B00-83D5-5D3F5285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BD11F-EEED-4249-BE71-D8689C1A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79BBA-2B28-4E75-8172-D8B6F34B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EC57D-3AD7-4C85-9649-9EF3E29B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064C4-79D1-4ABF-B433-D2639AAB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6428F-D085-4D2F-868C-EDC9F6C2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E78F2-E4FC-46B5-8C4B-65FA8E11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AB735-B6A2-4BB4-9EBA-5EA32088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566-7EA4-492F-AD06-0F331A9B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5C0E1-8DCF-4D64-9F7C-4D0ED2C5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73B6B-3BBE-4F61-BFA9-E9D346C6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08238-AAE6-4F6D-9FF3-C51D54F4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ABD1F-7603-4AC5-A6B1-79DB0347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A145F-9A21-4A2E-9047-2294E858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ABAB9-B8EE-4747-9758-DF947C8E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C5260-DFC2-4BB5-89E8-89BD1668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7F50-4DB9-4405-91AE-F56EBEE9A2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002A-18AF-4CA0-BEDA-862C66F6DEDF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7B2E-0508-4A58-8CBD-BB78C34171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A260-504A-4465-883D-FBF3E5A8E96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4737-0E5C-460D-920C-29AA247056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BB13-3D4D-4EF8-B7B0-C156C2E5AF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B1D9-468B-41C7-8390-3C1CC5842D18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30FC-4148-435D-AF05-BD93D9157152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749160" y="109440"/>
            <a:ext cx="8145720" cy="4065840"/>
          </a:xfrm>
          <a:prstGeom prst="rect">
            <a:avLst/>
          </a:prstGeom>
          <a:ln w="0">
            <a:noFill/>
          </a:ln>
        </p:spPr>
      </p:pic>
      <p:pic>
        <p:nvPicPr>
          <p:cNvPr id="346" name="Rectangle 3" descr=""/>
          <p:cNvPicPr/>
          <p:nvPr/>
        </p:nvPicPr>
        <p:blipFill>
          <a:blip r:embed="rId2"/>
          <a:stretch/>
        </p:blipFill>
        <p:spPr>
          <a:xfrm>
            <a:off x="1828800" y="3638520"/>
            <a:ext cx="643716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5" descr="F:\НАСЕКОМЫЕ 2\26.png"/>
          <p:cNvPicPr/>
          <p:nvPr/>
        </p:nvPicPr>
        <p:blipFill>
          <a:blip r:embed="rId1"/>
          <a:stretch/>
        </p:blipFill>
        <p:spPr>
          <a:xfrm>
            <a:off x="6588000" y="4933800"/>
            <a:ext cx="2108160" cy="1924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F:\НАСЕКОМЫЕ 2\28.png"/>
          <p:cNvPicPr/>
          <p:nvPr/>
        </p:nvPicPr>
        <p:blipFill>
          <a:blip r:embed="rId2"/>
          <a:stretch/>
        </p:blipFill>
        <p:spPr>
          <a:xfrm>
            <a:off x="3924360" y="5084640"/>
            <a:ext cx="1871640" cy="1597320"/>
          </a:xfrm>
          <a:prstGeom prst="rect">
            <a:avLst/>
          </a:prstGeom>
          <a:ln w="0">
            <a:noFill/>
          </a:ln>
        </p:spPr>
      </p:pic>
      <p:pic>
        <p:nvPicPr>
          <p:cNvPr id="349" name="Rectangle 2" descr=""/>
          <p:cNvPicPr/>
          <p:nvPr/>
        </p:nvPicPr>
        <p:blipFill>
          <a:blip r:embed="rId3"/>
          <a:stretch/>
        </p:blipFill>
        <p:spPr>
          <a:xfrm>
            <a:off x="450720" y="201600"/>
            <a:ext cx="8242560" cy="8589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25056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о время прогулки весной дети увидели насекомых. Реакция ребят была неоднозначной. Часть детей выразили радость и неподдельный интерес, другие - испугались. Были и такие ребята, которые предложили уничтожить насекомых. Мнения разделились. В ходе беседы выяснилось, что знания дошкольников о насекомых очень скудные. Таким образом, возникла проблема: «Нужны ли насекомые? Пользу или вред они приносят?» Участие детей в проекте позволит сформировать представления о насекомых, их пользе или вреде; развить творческие способности и поисковую деятельность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1" name="Picture 2" descr="http://lisyonok.ucoz.ru/animashki/insect/984.gif"/>
          <p:cNvPicPr/>
          <p:nvPr/>
        </p:nvPicPr>
        <p:blipFill>
          <a:blip r:embed="rId4"/>
          <a:stretch/>
        </p:blipFill>
        <p:spPr>
          <a:xfrm>
            <a:off x="971640" y="5373720"/>
            <a:ext cx="1296720" cy="112716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оугольник 6"/>
          <p:cNvSpPr/>
          <p:nvPr/>
        </p:nvSpPr>
        <p:spPr>
          <a:xfrm>
            <a:off x="324000" y="83664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а экологического воспитания дошкольника относится к числу коренных проблем теории воспитания и имеет первостепенное значение для воспитательной работы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F:\НАСЕКОМЫЕ 2\19.png"/>
          <p:cNvPicPr/>
          <p:nvPr/>
        </p:nvPicPr>
        <p:blipFill>
          <a:blip r:embed="rId1"/>
          <a:stretch/>
        </p:blipFill>
        <p:spPr>
          <a:xfrm>
            <a:off x="6659640" y="115920"/>
            <a:ext cx="1917720" cy="15541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п проекта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ткосрочный, групповой, исследовательский и с элементами творчества для детей 4-5 лет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ительность работы над проектом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месяц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проек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формирование у детей представлений о жизни насекомых, гуманное отношение к окружающей среде и стремление проявлять заботу о сохранении природы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5" name="Picture 2" descr="http://lisyonok.ucoz.ru/animashki/insect/1018.gif"/>
          <p:cNvPicPr/>
          <p:nvPr/>
        </p:nvPicPr>
        <p:blipFill>
          <a:blip r:embed="rId2"/>
          <a:stretch/>
        </p:blipFill>
        <p:spPr>
          <a:xfrm>
            <a:off x="468360" y="5084640"/>
            <a:ext cx="1224000" cy="1297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http://lisyonok.ucoz.ru/animashki/insect/1020.gif"/>
          <p:cNvPicPr/>
          <p:nvPr/>
        </p:nvPicPr>
        <p:blipFill>
          <a:blip r:embed="rId3"/>
          <a:stretch/>
        </p:blipFill>
        <p:spPr>
          <a:xfrm>
            <a:off x="7164360" y="4653000"/>
            <a:ext cx="1152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"/>
          <p:cNvSpPr/>
          <p:nvPr/>
        </p:nvSpPr>
        <p:spPr>
          <a:xfrm>
            <a:off x="324000" y="846720"/>
            <a:ext cx="8424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дачи проекта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-Формировать реалистическое представление об окружающей нас природе,  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желание стать другом природы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-беречь и охранять ее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- формировать у детей элементарные представления о насекомых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абочка, муравей, жук, пчела, кузнечик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их строении, способах передвижения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оспитывать бережное отношение к живому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развивать эмоциональную отзывчивость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формировать навыки исследовательск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8" name="Picture 3" descr="http://lisyonok.ucoz.ru/animashki/insect/1004.gif"/>
          <p:cNvPicPr/>
          <p:nvPr/>
        </p:nvPicPr>
        <p:blipFill>
          <a:blip r:embed="rId1"/>
          <a:stretch/>
        </p:blipFill>
        <p:spPr>
          <a:xfrm>
            <a:off x="395280" y="4724280"/>
            <a:ext cx="1728720" cy="1873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http://lisyonok.ucoz.ru/animashki/insect/1005.gif"/>
          <p:cNvPicPr/>
          <p:nvPr/>
        </p:nvPicPr>
        <p:blipFill>
          <a:blip r:embed="rId2"/>
          <a:stretch/>
        </p:blipFill>
        <p:spPr>
          <a:xfrm>
            <a:off x="7164360" y="5013360"/>
            <a:ext cx="1584360" cy="1655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http://lisyonok.ucoz.ru/animashki/insect/1008.gif"/>
          <p:cNvPicPr/>
          <p:nvPr/>
        </p:nvPicPr>
        <p:blipFill>
          <a:blip r:embed="rId3"/>
          <a:stretch/>
        </p:blipFill>
        <p:spPr>
          <a:xfrm>
            <a:off x="611280" y="0"/>
            <a:ext cx="761760" cy="923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9" descr="http://lisyonok.ucoz.ru/animashki/insect/1037.gif"/>
          <p:cNvPicPr/>
          <p:nvPr/>
        </p:nvPicPr>
        <p:blipFill>
          <a:blip r:embed="rId4"/>
          <a:stretch/>
        </p:blipFill>
        <p:spPr>
          <a:xfrm>
            <a:off x="4067280" y="5157720"/>
            <a:ext cx="1800000" cy="1511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1" descr="http://lisyonok.ucoz.ru/animashki/insect/1041.gif"/>
          <p:cNvPicPr/>
          <p:nvPr/>
        </p:nvPicPr>
        <p:blipFill>
          <a:blip r:embed="rId5"/>
          <a:stretch/>
        </p:blipFill>
        <p:spPr>
          <a:xfrm>
            <a:off x="7451640" y="260280"/>
            <a:ext cx="11527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F:\НАСЕКОМЫЕ 2\18.png"/>
          <p:cNvPicPr/>
          <p:nvPr/>
        </p:nvPicPr>
        <p:blipFill>
          <a:blip r:embed="rId1"/>
          <a:stretch/>
        </p:blipFill>
        <p:spPr>
          <a:xfrm>
            <a:off x="971640" y="5300640"/>
            <a:ext cx="2031840" cy="16984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F:\НАСЕКОМЫЕ 2\25.png"/>
          <p:cNvPicPr/>
          <p:nvPr/>
        </p:nvPicPr>
        <p:blipFill>
          <a:blip r:embed="rId2"/>
          <a:stretch/>
        </p:blipFill>
        <p:spPr>
          <a:xfrm>
            <a:off x="6588000" y="5013360"/>
            <a:ext cx="2417760" cy="19321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F:\НАСЕКОМЫЕ 2\22.png"/>
          <p:cNvPicPr/>
          <p:nvPr/>
        </p:nvPicPr>
        <p:blipFill>
          <a:blip r:embed="rId3"/>
          <a:stretch/>
        </p:blipFill>
        <p:spPr>
          <a:xfrm>
            <a:off x="7451640" y="-171360"/>
            <a:ext cx="1862280" cy="18478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"/>
          <p:cNvSpPr/>
          <p:nvPr/>
        </p:nvSpPr>
        <p:spPr>
          <a:xfrm>
            <a:off x="395280" y="25560"/>
            <a:ext cx="820908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Ожидаемые результаты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1. У детей проявится ярко выраженный интерес к объектам природы - насекомым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2. Научатся различать и называть насекомых: бабочку, муравья, жука, пчелу, кузнечика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3. Будут знать о пользе или вреде, которую приносят людям и растениям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4.Научатся составлять описательный рассказ о насекомом с использованием опорной схемы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5. Ребята будут бережно относиться к природе, будут стремиться к правильному поведению по отношению к насекомым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6. У ребят сформируется стремление к исследованию объектов природы, они научатся делать выводы, устанавливать причинно-следственные связи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7. Дети будут уверенно отличать и называть характерные признаки разных насекомых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8. У ребят будет сформировано представление о том, что нельзя делить насекомых на полезных и вредных, и тем более, руководствоваться этим в своих поступках по отношению к ним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395280" y="3506040"/>
            <a:ext cx="84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9. К экологическому проекту будут привлечены родители. Экологическое просвещение родителей даст большой плюс в экологическом воспитании детей детского са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395280" y="4106880"/>
            <a:ext cx="8497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дукт проектной деятельности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дбор иллюстративного материала по теме, разработка занятий, картотека дидактических игр, подбор стихов и загадок о насекомых, рассказ детьми о каком-либо насекомом по схеме, фотографии досугов, выставка детских работ «Милые букашечки », коллаж: «Эти удивительные насекомые», викторина: «Что мы знаем о насекомых», консультация для родителей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F:\НАСЕКОМЫЕ 2\19.png"/>
          <p:cNvPicPr/>
          <p:nvPr/>
        </p:nvPicPr>
        <p:blipFill>
          <a:blip r:embed="rId1"/>
          <a:stretch/>
        </p:blipFill>
        <p:spPr>
          <a:xfrm>
            <a:off x="6875640" y="115920"/>
            <a:ext cx="1917360" cy="15541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2"/>
          <p:cNvSpPr/>
          <p:nvPr/>
        </p:nvSpPr>
        <p:spPr>
          <a:xfrm>
            <a:off x="611280" y="722880"/>
            <a:ext cx="79930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Этапы реализации проекта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1) Подготовительный этап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: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дбор иллюстративного материала, энциклопедических книг и художественных произведений. Разучивание с детьми стихотворений, загадок, пальчиковых игр, физ. минуток, подвижных игр по теме. Подбор музыкальных произведений. Изготовление настольных игр (разрезные картинки, раскраски). Разработка занятий и бесед о насекомых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2) Основной этап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: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работа с детьм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: проведение занятий по теме «Насекомые». Чтение и разучивание стихотворений, песенок, пальчиковых игр, загадок. Прослушивание и обсуждение музыкальных произведений. Чтение книг о насекомых. Наблюдения на прогулке. Рассматривание и беседы по теме. Создание условий для изобразительной деятельности детей. Изготовление поделок и творческих работ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Работа с родителями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: привлечение родителей к подбору иллюстративного материала и энциклопедических книг вместе с детьми; организация выставки детских работ «Милые букашечки», консультация на тему: «Воспитание у детей любви к родной природе», изготовление фотоальбома о насекомых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3) Заключительный этап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: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оформление творческой выставки: «Милые букашечки», проведение викторины для детей: «Что мы знаем о насекомых?», коллаж: «Эти удивительные насекомые»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Picture 7" descr="F:\НАСЕКОМЫЕ 2\24.png"/>
          <p:cNvPicPr/>
          <p:nvPr/>
        </p:nvPicPr>
        <p:blipFill>
          <a:blip r:embed="rId2"/>
          <a:stretch/>
        </p:blipFill>
        <p:spPr>
          <a:xfrm>
            <a:off x="324000" y="5373720"/>
            <a:ext cx="1295280" cy="1317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F:\НАСЕКОМЫЕ 2\21.png"/>
          <p:cNvPicPr/>
          <p:nvPr/>
        </p:nvPicPr>
        <p:blipFill>
          <a:blip r:embed="rId3"/>
          <a:stretch/>
        </p:blipFill>
        <p:spPr>
          <a:xfrm>
            <a:off x="6732720" y="5084640"/>
            <a:ext cx="1857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1042920" y="342720"/>
            <a:ext cx="705816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ИСКИ И ПУТИ ПРЕОДОЛЕНИЯ РИСКОВ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иски при реализации проекта: 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1. Недостаточная информационная компетентность педагога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2. Нежелание детей ознакомления с насекомыми непривлекательного (пугающего) вида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3. Незаинтересованность родителей.  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Пути преодоления рисков: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                                                                                         1. Консультирование по теме проекта, изучение литературы и пособий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2. Подбор необходимого материала: методических пособий, иллюстраций, потешек для минимизации детского страха перед определёнными насекомым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3.Провести необходимую работу с родителям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4" name="Picture 3" descr="бабочка, анимашка"/>
          <p:cNvPicPr/>
          <p:nvPr/>
        </p:nvPicPr>
        <p:blipFill>
          <a:blip r:embed="rId1"/>
          <a:stretch/>
        </p:blipFill>
        <p:spPr>
          <a:xfrm>
            <a:off x="6827760" y="4863960"/>
            <a:ext cx="1779840" cy="1927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бабочка, анимашка"/>
          <p:cNvPicPr/>
          <p:nvPr/>
        </p:nvPicPr>
        <p:blipFill>
          <a:blip r:embed="rId2"/>
          <a:stretch/>
        </p:blipFill>
        <p:spPr>
          <a:xfrm>
            <a:off x="1096920" y="4900680"/>
            <a:ext cx="1268280" cy="19335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пчела показывает жало, анимашка, анимация"/>
          <p:cNvPicPr/>
          <p:nvPr/>
        </p:nvPicPr>
        <p:blipFill>
          <a:blip r:embed="rId3"/>
          <a:stretch/>
        </p:blipFill>
        <p:spPr>
          <a:xfrm>
            <a:off x="7596360" y="115920"/>
            <a:ext cx="1296720" cy="1368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жук крутится, анимашка"/>
          <p:cNvPicPr/>
          <p:nvPr/>
        </p:nvPicPr>
        <p:blipFill>
          <a:blip r:embed="rId4"/>
          <a:stretch/>
        </p:blipFill>
        <p:spPr>
          <a:xfrm>
            <a:off x="324000" y="189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3"/>
          <p:cNvSpPr/>
          <p:nvPr/>
        </p:nvSpPr>
        <p:spPr>
          <a:xfrm flipV="1">
            <a:off x="250920" y="9234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611280" y="752040"/>
            <a:ext cx="75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Times New Roman"/>
                <a:ea typeface="Calibri"/>
              </a:rPr>
              <a:t>Экологически ориентированная активность позволит дошкольникам овладеть умением целесообразно вести себя в природе. Дети накопят нравственно-ценностный опыт отношения к миру, что придаст их деятельности гуманный характе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0" name="Picture 3" descr="летающая бабочка, анимашка"/>
          <p:cNvPicPr/>
          <p:nvPr/>
        </p:nvPicPr>
        <p:blipFill>
          <a:blip r:embed="rId1"/>
          <a:stretch/>
        </p:blipFill>
        <p:spPr>
          <a:xfrm>
            <a:off x="3132000" y="4653000"/>
            <a:ext cx="2880000" cy="2089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мухи, анимашка"/>
          <p:cNvPicPr/>
          <p:nvPr/>
        </p:nvPicPr>
        <p:blipFill>
          <a:blip r:embed="rId2"/>
          <a:stretch/>
        </p:blipFill>
        <p:spPr>
          <a:xfrm>
            <a:off x="2843280" y="189000"/>
            <a:ext cx="20160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50720" y="706320"/>
            <a:ext cx="8296560" cy="3378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жук танцует, анимашка"/>
          <p:cNvPicPr/>
          <p:nvPr/>
        </p:nvPicPr>
        <p:blipFill>
          <a:blip r:embed="rId2"/>
          <a:stretch/>
        </p:blipFill>
        <p:spPr>
          <a:xfrm>
            <a:off x="3348000" y="4049640"/>
            <a:ext cx="237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3T17:30:59Z</dcterms:created>
  <dc:creator>User</dc:creator>
  <dc:description/>
  <dc:language>en-US</dc:language>
  <cp:lastModifiedBy>User</cp:lastModifiedBy>
  <dcterms:modified xsi:type="dcterms:W3CDTF">2018-02-05T19:35:15Z</dcterms:modified>
  <cp:revision>33</cp:revision>
  <dc:subject/>
  <dc:title>Слайд 1</dc:title>
</cp:coreProperties>
</file>