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7.png" ContentType="image/png"/>
  <Override PartName="/ppt/media/image27.gif" ContentType="image/gif"/>
  <Override PartName="/ppt/media/image11.gif" ContentType="image/gif"/>
  <Override PartName="/ppt/media/image6.gif" ContentType="image/gif"/>
  <Override PartName="/ppt/media/image5.png" ContentType="image/png"/>
  <Override PartName="/ppt/media/image4.png" ContentType="image/png"/>
  <Override PartName="/ppt/media/image24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E84-4D09-4D40-82B6-F8E40098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D68-C828-4D34-AE11-FF09F86A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A27-AA53-4012-9453-F2F4D479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4C7-82ED-4A11-84D1-A92A9A17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53BA-0102-4D95-BA37-F633BC8F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AD45-26F5-4851-8329-1DE87B83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293F-55A2-4326-9A5C-161923CE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3EC5-7EBC-4ECD-B3BE-DB3FA14B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8CB3-D092-4D48-9D18-3E3BCED1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44B8-BC1E-47DD-8A3A-A454DE13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8495-E712-40A8-80D6-47504E4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BEF-FBF8-4F2F-83F5-3F6A1939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EA6A-6A75-44A3-8C9F-985E32F7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D118-BD9F-40C4-A103-66F0D5BA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8A6F-6868-406C-9F6A-355286B5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3F4A-15D2-4544-8D86-3669B792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DDFF-A1F6-4368-8587-EC5C0B90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B3DF-C267-4EB3-94B0-463569F9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596A-E00E-45B9-B2D4-D52F22AC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9580-65C7-4A44-BAF6-2AABE765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013E-2C6D-4803-9131-ECDE1DD8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C699-501E-4C9B-86C0-76DDCC61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6FB-CCD8-4C83-90AC-D16C81FE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7720-5F4B-4877-A2C6-5DD2C8BB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294E-EA0B-4CD4-BC3F-6368A82A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7B49-4551-4B82-A56F-1720DAE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3710-64CE-4798-ADF5-77BBBE51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F4C1-69FA-45AA-8D29-59A68E99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2E73-5214-4D32-8D78-60178054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A7C4-FB99-488C-9EDC-02AE26D5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6C323-EF40-443A-AD4F-F2C62113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BD084-EBC3-4945-BDE0-DD459793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54CF3-C6CB-4753-AC05-544D0CB4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A82-0AC7-402D-84F0-008B294B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30D2-F100-4C1D-A0D7-27668EE6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5F568-3092-4E06-A6EB-80ED0C88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1E14-AD58-4C21-A954-902D8927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A94F-4F08-404A-A593-F1E571D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EA3A-A26C-4153-8599-3744D64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96343-2303-4C2E-8FEA-6DCC302A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A003-5F62-4B80-AC72-E9918DAD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AC35-01AA-4151-9551-560D8001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942A0-AD5B-40A0-AFAF-DF1652A4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49B1-50A1-4D1B-8AB9-0C07B940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880-D3B3-47C2-BA42-C997DF02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A01C7-6F41-410A-BFC9-52B95ADF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B641B-4AA8-4E32-B483-6523B8F7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7541-65EF-414E-9605-2EEE1ED9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4582F-65DB-4082-81FB-B1BA8380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62344-0374-4FB5-A654-6414AF97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1111A-CE21-467A-9D01-C37CA9E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19AC4-85D9-40B3-8FC2-9A1F82C2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AB288-B31C-4546-ABDF-4531DB6D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AC210-1821-45EB-A687-EFEBE298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5D67-84A3-49C0-9BE2-CF2E6EA9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83F-E806-4AF9-A9BA-B5066C7C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C4820-461E-4891-A8A0-31C364AC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585EE-4940-498D-80F0-0E72ABD8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70796-DBE5-4652-B339-B02001E0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FB23C-958D-4D78-9009-719FC9EF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C1F91-40F6-4CD6-859E-958B7B3F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C7601-B2AB-48D6-B351-19DE29CC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9B3E-AC20-4C04-B5AC-9D3FD7F3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3D4BA-B4EC-4B5D-85CF-437B6E35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2FCE-1F43-4108-981D-5300AB6A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EFB39-16CE-41A8-BF6A-F414D219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15F-08CD-430C-8B97-CC7648B2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35742-3339-47F3-9329-F7E04B3A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6E043-C556-4110-8C8B-C8188CFB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5BA41-F482-4288-873C-2AF5FD84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33AFF-E74C-41BF-A177-8FC377B8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104AA-0F8F-46DA-9C9C-B4F8F4DB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C10BD-B850-4D7B-B44C-9ECF816C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9F05E-F96F-4FBA-A5EF-E1852134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7298E-4FEE-4B76-84C2-A9A958B5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8CAC5-5B89-437A-99C1-1F00F8C8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85574-2D52-4A19-BD43-99A4B434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B27-C561-4BA4-8D5D-FACBF5D9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CD8EA-B7C1-4062-8227-00A98922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E3F3F-CEE0-487A-807B-75BF2FAF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C21F7-0C43-45A6-BDCF-96EB509E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88B29-8D4E-41DC-8572-ADBE411B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7D319-4325-44BA-8ACB-0B641635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FDB4B-E760-4B0B-85E4-4B1F4095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0EC93-5B11-400C-9D1C-6FC5942E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67CCE-3AD9-4331-9CF9-9CED0DC5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72FF7-3ED9-4C2F-8D60-0F231EF3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553F0-70B1-4B23-9BC8-5A1FE938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8C9-54D0-4D28-B61C-29733816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B4AA-BBB6-4077-87CD-BCE5B08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49652-9577-4CFB-9614-178C3FEC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8B9A5-45C5-4451-B252-2C411F96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262DD-2F08-44F9-8D2F-6D9E8A82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A9735-24FC-4CED-8056-3F7DB6C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B2EC4-0A46-454C-B9E5-95F99C37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1F6A2-917C-48AB-97A8-BF2C621F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F9EE-5E28-4A4C-AF6A-67AD78E4BD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FB96-CC0E-4E84-957E-2EFCFBE0443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9C55-7577-419F-83CB-95FC602800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8268-E776-4F7A-96D9-A7C8D6A88C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7779-4091-4ED5-89A5-D233E2381E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61EC-7F3F-4977-8FC4-2FDEF7C487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4DCB-F733-4566-B450-B221270621A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F67A-E665-4AEA-97B8-457F115D12A5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749160" y="109440"/>
            <a:ext cx="8145720" cy="406584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3" descr=""/>
          <p:cNvPicPr/>
          <p:nvPr/>
        </p:nvPicPr>
        <p:blipFill>
          <a:blip r:embed="rId2"/>
          <a:stretch/>
        </p:blipFill>
        <p:spPr>
          <a:xfrm>
            <a:off x="1828800" y="3638520"/>
            <a:ext cx="64371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5" descr="F:\НАСЕКОМЫЕ 2\26.png"/>
          <p:cNvPicPr/>
          <p:nvPr/>
        </p:nvPicPr>
        <p:blipFill>
          <a:blip r:embed="rId1"/>
          <a:stretch/>
        </p:blipFill>
        <p:spPr>
          <a:xfrm>
            <a:off x="6588000" y="4933800"/>
            <a:ext cx="2108160" cy="1924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F:\НАСЕКОМЫЕ 2\28.png"/>
          <p:cNvPicPr/>
          <p:nvPr/>
        </p:nvPicPr>
        <p:blipFill>
          <a:blip r:embed="rId2"/>
          <a:stretch/>
        </p:blipFill>
        <p:spPr>
          <a:xfrm>
            <a:off x="3924360" y="5084640"/>
            <a:ext cx="1871640" cy="159732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2" descr=""/>
          <p:cNvPicPr/>
          <p:nvPr/>
        </p:nvPicPr>
        <p:blipFill>
          <a:blip r:embed="rId3"/>
          <a:stretch/>
        </p:blipFill>
        <p:spPr>
          <a:xfrm>
            <a:off x="450720" y="201600"/>
            <a:ext cx="8242560" cy="858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5056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о время прогулки весной дети увидели насекомых. Реакция ребят была неоднозначной. Часть детей выразили радость и неподдельный интерес, другие - испугались. Были и такие ребята, которые предложили уничтожить насекомых. Мнения разделились. В ходе беседы выяснилось, что знания дошкольников о насекомых очень скудные. Таким образом, возникла проблема: «Нужны ли насекомые? Пользу или вред они приносят?» Участие детей в проекте позволит сформировать представления о насекомых, их пользе или вреде; развить творческие способности и поисковую деятельность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2" descr="http://lisyonok.ucoz.ru/animashki/insect/984.gif"/>
          <p:cNvPicPr/>
          <p:nvPr/>
        </p:nvPicPr>
        <p:blipFill>
          <a:blip r:embed="rId4"/>
          <a:stretch/>
        </p:blipFill>
        <p:spPr>
          <a:xfrm>
            <a:off x="971640" y="5373720"/>
            <a:ext cx="1296720" cy="11271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6"/>
          <p:cNvSpPr/>
          <p:nvPr/>
        </p:nvSpPr>
        <p:spPr>
          <a:xfrm>
            <a:off x="324000" y="83664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 экологического воспитания дошкольника относится к числу коренных проблем теории воспитания и имеет первостепенное значение для воспитательной работ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F:\НАСЕКОМЫЕ 2\19.png"/>
          <p:cNvPicPr/>
          <p:nvPr/>
        </p:nvPicPr>
        <p:blipFill>
          <a:blip r:embed="rId1"/>
          <a:stretch/>
        </p:blipFill>
        <p:spPr>
          <a:xfrm>
            <a:off x="6659640" y="115920"/>
            <a:ext cx="1917720" cy="1554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проекта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косрочный, групповой, исследовательский и с элементами творчества для детей 4-5 лет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ительность работы над проекто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еся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формирование у детей представлений о жизни насекомых, гуманное отношение к окружающей среде и стремление проявлять заботу о сохранении природы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2" descr="http://lisyonok.ucoz.ru/animashki/insect/1018.gif"/>
          <p:cNvPicPr/>
          <p:nvPr/>
        </p:nvPicPr>
        <p:blipFill>
          <a:blip r:embed="rId2"/>
          <a:stretch/>
        </p:blipFill>
        <p:spPr>
          <a:xfrm>
            <a:off x="468360" y="5084640"/>
            <a:ext cx="1224000" cy="1297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http://lisyonok.ucoz.ru/animashki/insect/1020.gif"/>
          <p:cNvPicPr/>
          <p:nvPr/>
        </p:nvPicPr>
        <p:blipFill>
          <a:blip r:embed="rId3"/>
          <a:stretch/>
        </p:blipFill>
        <p:spPr>
          <a:xfrm>
            <a:off x="7164360" y="4653000"/>
            <a:ext cx="1152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324000" y="846720"/>
            <a:ext cx="8424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 проект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-Формировать реалистическое представление об окружающей нас природе,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лание стать другом природы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-беречь и охранять ее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- формировать у детей элементарные представления о насекомых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абочка, муравей, жук, пчела, кузнечик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х строении, способах передвижения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оспитывать бережное отношение к живому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азвивать эмоциональную отзывчивость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ормировать навыки исследовательск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3" descr="http://lisyonok.ucoz.ru/animashki/insect/1004.gif"/>
          <p:cNvPicPr/>
          <p:nvPr/>
        </p:nvPicPr>
        <p:blipFill>
          <a:blip r:embed="rId1"/>
          <a:stretch/>
        </p:blipFill>
        <p:spPr>
          <a:xfrm>
            <a:off x="395280" y="4724280"/>
            <a:ext cx="1728720" cy="1873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http://lisyonok.ucoz.ru/animashki/insect/1005.gif"/>
          <p:cNvPicPr/>
          <p:nvPr/>
        </p:nvPicPr>
        <p:blipFill>
          <a:blip r:embed="rId2"/>
          <a:stretch/>
        </p:blipFill>
        <p:spPr>
          <a:xfrm>
            <a:off x="7164360" y="5013360"/>
            <a:ext cx="1584360" cy="1655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http://lisyonok.ucoz.ru/animashki/insect/1008.gif"/>
          <p:cNvPicPr/>
          <p:nvPr/>
        </p:nvPicPr>
        <p:blipFill>
          <a:blip r:embed="rId3"/>
          <a:stretch/>
        </p:blipFill>
        <p:spPr>
          <a:xfrm>
            <a:off x="611280" y="0"/>
            <a:ext cx="761760" cy="923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http://lisyonok.ucoz.ru/animashki/insect/1037.gif"/>
          <p:cNvPicPr/>
          <p:nvPr/>
        </p:nvPicPr>
        <p:blipFill>
          <a:blip r:embed="rId4"/>
          <a:stretch/>
        </p:blipFill>
        <p:spPr>
          <a:xfrm>
            <a:off x="4067280" y="515772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1" descr="http://lisyonok.ucoz.ru/animashki/insect/1041.gif"/>
          <p:cNvPicPr/>
          <p:nvPr/>
        </p:nvPicPr>
        <p:blipFill>
          <a:blip r:embed="rId5"/>
          <a:stretch/>
        </p:blipFill>
        <p:spPr>
          <a:xfrm>
            <a:off x="7451640" y="26028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F:\НАСЕКОМЫЕ 2\18.png"/>
          <p:cNvPicPr/>
          <p:nvPr/>
        </p:nvPicPr>
        <p:blipFill>
          <a:blip r:embed="rId1"/>
          <a:stretch/>
        </p:blipFill>
        <p:spPr>
          <a:xfrm>
            <a:off x="971640" y="5300640"/>
            <a:ext cx="2031840" cy="1698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F:\НАСЕКОМЫЕ 2\25.png"/>
          <p:cNvPicPr/>
          <p:nvPr/>
        </p:nvPicPr>
        <p:blipFill>
          <a:blip r:embed="rId2"/>
          <a:stretch/>
        </p:blipFill>
        <p:spPr>
          <a:xfrm>
            <a:off x="6588000" y="5013360"/>
            <a:ext cx="2417760" cy="1932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F:\НАСЕКОМЫЕ 2\22.png"/>
          <p:cNvPicPr/>
          <p:nvPr/>
        </p:nvPicPr>
        <p:blipFill>
          <a:blip r:embed="rId3"/>
          <a:stretch/>
        </p:blipFill>
        <p:spPr>
          <a:xfrm>
            <a:off x="7451640" y="-171360"/>
            <a:ext cx="1862280" cy="18478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395280" y="25560"/>
            <a:ext cx="82090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Ожидаемые результаты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1. У детей проявится ярко выраженный интерес к объектам природы - насекомым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Научатся различать и называть насекомых: бабочку, муравья, жука, пчелу, кузнечика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3. Будут знать о пользе или вреде, которую приносят людям и растениям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4.Научатся составлять описательный рассказ о насекомом с использованием опорной схемы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5. Ребята будут бережно относиться к природе, будут стремиться к правильному поведению по отношению к насекомым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6. У ребят сформируется стремление к исследованию объектов природы, они научатся делать выводы, устанавливать причинно-следственные связи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7. Дети будут уверенно отличать и называть характерные признаки разных насекомых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8. У ребят будет сформировано представление о том, что нельзя делить насекомых на полезных и вредных, и тем более, руководствоваться этим в своих поступках по отношению к ним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395280" y="350604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9. К экологическому проекту будут привлечены родители. Экологическое просвещение родителей даст большой плюс в экологическом воспитании детей детского са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395280" y="4106880"/>
            <a:ext cx="8497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дукт проектной деятельности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дбор иллюстративного материала по теме, разработка занятий, картотека дидактических игр, подбор стихов и загадок о насекомых, рассказ детьми о каком-либо насекомом по схеме, фотографии досугов, выставка детских работ «Милые букашечки », коллаж: «Эти удивительные насекомые», викторина: «Что мы знаем о насекомых», консультация для родителе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F:\НАСЕКОМЫЕ 2\19.png"/>
          <p:cNvPicPr/>
          <p:nvPr/>
        </p:nvPicPr>
        <p:blipFill>
          <a:blip r:embed="rId1"/>
          <a:stretch/>
        </p:blipFill>
        <p:spPr>
          <a:xfrm>
            <a:off x="6875640" y="115920"/>
            <a:ext cx="1917360" cy="1554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2"/>
          <p:cNvSpPr/>
          <p:nvPr/>
        </p:nvSpPr>
        <p:spPr>
          <a:xfrm>
            <a:off x="611280" y="722880"/>
            <a:ext cx="7993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Этапы реализации проекта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1) Подготовительный этап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: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дбор иллюстративного материала, энциклопедических книг и художественных произведений. Разучивание с детьми стихотворений, загадок, пальчиковых игр, физ. минуток, подвижных игр по теме. Подбор музыкальных произведений. Изготовление настольных игр (разрезные картинки, раскраски). Разработка занятий и бесед о насекомых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2) Основной этап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: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работа с деть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: проведение занятий по теме «Насекомые». Чтение и разучивание стихотворений, песенок, пальчиковых игр, загадок. Прослушивание и обсуждение музыкальных произведений. Чтение книг о насекомых. Наблюдения на прогулке. Рассматривание и беседы по теме. Создание условий для изобразительной деятельности детей. Изготовление поделок и творческих работ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Работа с родителя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: привлечение родителей к подбору иллюстративного материала и энциклопедических книг вместе с детьми; организация выставки детских работ «Милые букашечки», консультация на тему: «Воспитание у детей любви к родной природе», изготовление фотоальбома о насекомых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3) Заключительный этап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: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оформление творческой выставки: «Милые букашечки», проведение викторины для детей: «Что мы знаем о насекомых?», коллаж: «Эти удивительные насекомые»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7" descr="F:\НАСЕКОМЫЕ 2\24.png"/>
          <p:cNvPicPr/>
          <p:nvPr/>
        </p:nvPicPr>
        <p:blipFill>
          <a:blip r:embed="rId2"/>
          <a:stretch/>
        </p:blipFill>
        <p:spPr>
          <a:xfrm>
            <a:off x="324000" y="5373720"/>
            <a:ext cx="1295280" cy="1317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F:\НАСЕКОМЫЕ 2\21.png"/>
          <p:cNvPicPr/>
          <p:nvPr/>
        </p:nvPicPr>
        <p:blipFill>
          <a:blip r:embed="rId3"/>
          <a:stretch/>
        </p:blipFill>
        <p:spPr>
          <a:xfrm>
            <a:off x="6732720" y="5084640"/>
            <a:ext cx="1857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1042920" y="342720"/>
            <a:ext cx="70581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ИСКИ И ПУТИ ПРЕОДОЛЕНИЯ РИСКОВ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иски при реализации проекта: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1. Недостаточная информационная компетентность педагога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Нежелание детей ознакомления с насекомыми непривлекательного (пугающего) вида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3. Незаинтересованность родителей.  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ути преодоления рисков: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                                                                            1. Консультирование по теме проекта, изучение литературы и пособий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Подбор необходимого материала: методических пособий, иллюстраций, потешек для минимизации детского страха перед определёнными насекомы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3.Провести необходимую работу с родителя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4" name="Picture 3" descr="бабочка, анимашка"/>
          <p:cNvPicPr/>
          <p:nvPr/>
        </p:nvPicPr>
        <p:blipFill>
          <a:blip r:embed="rId1"/>
          <a:stretch/>
        </p:blipFill>
        <p:spPr>
          <a:xfrm>
            <a:off x="6827760" y="4863960"/>
            <a:ext cx="1779840" cy="1927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бабочка, анимашка"/>
          <p:cNvPicPr/>
          <p:nvPr/>
        </p:nvPicPr>
        <p:blipFill>
          <a:blip r:embed="rId2"/>
          <a:stretch/>
        </p:blipFill>
        <p:spPr>
          <a:xfrm>
            <a:off x="1096920" y="4900680"/>
            <a:ext cx="1268280" cy="1933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пчела показывает жало, анимашка, анимация"/>
          <p:cNvPicPr/>
          <p:nvPr/>
        </p:nvPicPr>
        <p:blipFill>
          <a:blip r:embed="rId3"/>
          <a:stretch/>
        </p:blipFill>
        <p:spPr>
          <a:xfrm>
            <a:off x="7596360" y="115920"/>
            <a:ext cx="1296720" cy="1368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жук крутится, анимашка"/>
          <p:cNvPicPr/>
          <p:nvPr/>
        </p:nvPicPr>
        <p:blipFill>
          <a:blip r:embed="rId4"/>
          <a:stretch/>
        </p:blipFill>
        <p:spPr>
          <a:xfrm>
            <a:off x="32400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3"/>
          <p:cNvSpPr/>
          <p:nvPr/>
        </p:nvSpPr>
        <p:spPr>
          <a:xfrm flipV="1">
            <a:off x="250920" y="9234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611280" y="75204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Calibri"/>
              </a:rPr>
              <a:t>Экологически ориентированная активность позволит дошкольникам овладеть умением целесообразно вести себя в природе. Дети накопят нравственно-ценностный опыт отношения к миру, что придаст их деятельности гуманный характ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Picture 3" descr="летающая бабочка, анимашка"/>
          <p:cNvPicPr/>
          <p:nvPr/>
        </p:nvPicPr>
        <p:blipFill>
          <a:blip r:embed="rId1"/>
          <a:stretch/>
        </p:blipFill>
        <p:spPr>
          <a:xfrm>
            <a:off x="3132000" y="4653000"/>
            <a:ext cx="2880000" cy="2089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мухи, анимашка"/>
          <p:cNvPicPr/>
          <p:nvPr/>
        </p:nvPicPr>
        <p:blipFill>
          <a:blip r:embed="rId2"/>
          <a:stretch/>
        </p:blipFill>
        <p:spPr>
          <a:xfrm>
            <a:off x="2843280" y="189000"/>
            <a:ext cx="2016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0720" y="706320"/>
            <a:ext cx="8296560" cy="3378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жук танцует, анимашка"/>
          <p:cNvPicPr/>
          <p:nvPr/>
        </p:nvPicPr>
        <p:blipFill>
          <a:blip r:embed="rId2"/>
          <a:stretch/>
        </p:blipFill>
        <p:spPr>
          <a:xfrm>
            <a:off x="3348000" y="4049640"/>
            <a:ext cx="237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3T17:30:59Z</dcterms:created>
  <dc:creator>User</dc:creator>
  <dc:description/>
  <dc:language>en-US</dc:language>
  <cp:lastModifiedBy>User</cp:lastModifiedBy>
  <dcterms:modified xsi:type="dcterms:W3CDTF">2018-02-05T19:35:15Z</dcterms:modified>
  <cp:revision>33</cp:revision>
  <dc:subject/>
  <dc:title>Слайд 1</dc:title>
</cp:coreProperties>
</file>