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FA9-A054-4BEB-85CD-B3BD5D1E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1EF-96C5-45B6-884F-175F5F6D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3C4-3424-4BBC-B7D7-997E759F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7707-5C63-4B46-B073-D8DED111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630E-2264-497C-8753-A3196B98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517E-DE41-401B-B604-F4D6BEAD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E977-5EC9-497A-A279-2E705E96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35D8-7881-4985-AE43-FD8E92B8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88D4-4D80-4380-8A8E-4C55F794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0CA8-4A07-4DDF-A155-F6BCA428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46B5-41F6-4E58-BEF8-7B74DD98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6C6-2AB2-4132-A56A-BF9D1BFE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8C0B-CDF6-4B87-A4BA-A288EFD7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0712-7C2F-41CB-BE1D-A5085632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D3FE-6015-4C38-AAA8-B7C29C8B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4586-84CB-41A7-B055-83573760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1E7A-21F2-4EC6-BB6A-DFABE0AF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5B44B-311D-46D3-8AE7-D18BF300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AF882-A80F-4A91-953E-CB1F3401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AE4B4-D2E0-46F0-A424-CEBA5DF5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4C88F-6A73-450D-9F66-8292E4D6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66FB9-296E-412A-BFFB-4A41F771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722-2FFC-4700-98B9-AC24B821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F34D9-48BA-4761-8D5B-679C2D17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DAD2-6B3D-44B3-AD04-63351A62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4C7AF-208E-4C98-BDF3-C21632A7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26785-6B90-4263-8EE1-4D9F3060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99840-CF2B-4BF7-9C09-433C1B9D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2221E-9C85-4BE8-B3B0-1591550E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E2BD0-F0D4-4926-9ADA-305F100E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EC08D-8F94-498B-9926-7C9EC64B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68348-4CC4-48D6-8F4D-1F992BB5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3E904-DCFA-4A9B-9DE4-92D998A5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9BB9-6273-4F5F-9E35-E2D944E2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1835E-6E9D-47FF-92A3-3DF12459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69124-F709-4568-9F52-6A26ECEC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65551-18B3-4247-A17B-9F1ACF9A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DE0BC-39ED-47E9-9E92-CFFD4C06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9B69A-3BDF-4BF9-B76F-E6CEFE1E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90068-0F96-45A8-9A35-2FD801AB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411B7-326B-4712-B8C7-23AB29A4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29F97-D96C-4FAC-8027-6F45883B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6060A-F372-46F8-A76B-B34D2295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54F-FE0E-460F-A70A-3099E1A8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4338-F712-4F5D-966E-D40AF7AE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E0C-1CA0-46A1-AD16-E11DC4EE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18A-CA7D-4994-AB4D-6373BCE1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68D-B61D-48B6-8629-6455807E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6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1B77-BB74-4614-A58D-8F2D54E6F02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6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4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121C-8858-4A8F-B4A8-AFFE84392E0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6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3BAE-D6BE-4391-BA55-162E3C62F9D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6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7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4DB1-C7B0-4C87-8FC4-9604071D578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000" y="2263680"/>
            <a:ext cx="6840360" cy="112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rebuchet MS"/>
              </a:rPr>
              <a:t>Влияние РППС на сохранение здоровья дошкольников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68360" y="4967280"/>
            <a:ext cx="251928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Calibri"/>
              </a:rPr>
              <a:t>Воспитатели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Calibri"/>
              </a:rPr>
              <a:t>Шахова О.Ю., Шершнева М.О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Picture 5" descr="цветок"/>
          <p:cNvPicPr/>
          <p:nvPr/>
        </p:nvPicPr>
        <p:blipFill>
          <a:blip r:embed="rId1"/>
          <a:stretch/>
        </p:blipFill>
        <p:spPr>
          <a:xfrm>
            <a:off x="38160" y="155520"/>
            <a:ext cx="2089080" cy="1646280"/>
          </a:xfrm>
          <a:prstGeom prst="rect">
            <a:avLst/>
          </a:prstGeom>
          <a:ln w="0">
            <a:noFill/>
          </a:ln>
        </p:spPr>
      </p:pic>
      <p:sp>
        <p:nvSpPr>
          <p:cNvPr id="226" name="Заголовок 1"/>
          <p:cNvSpPr/>
          <p:nvPr/>
        </p:nvSpPr>
        <p:spPr>
          <a:xfrm>
            <a:off x="2916360" y="189000"/>
            <a:ext cx="46083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 Light"/>
                <a:ea typeface="Times New Roman"/>
              </a:rPr>
              <a:t>ГБДОУ детский сад №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 Light"/>
                <a:ea typeface="Times New Roman"/>
              </a:rPr>
              <a:t>Красногвардейского райо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 Light"/>
                <a:ea typeface="Times New Roman"/>
              </a:rPr>
              <a:t>Санкт-Петербур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дзаголовок 2"/>
          <p:cNvSpPr/>
          <p:nvPr/>
        </p:nvSpPr>
        <p:spPr>
          <a:xfrm>
            <a:off x="2050920" y="6149880"/>
            <a:ext cx="563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Calibri Light"/>
              </a:rPr>
              <a:t>Санкт-Петер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Calibri Light"/>
              </a:rPr>
              <a:t>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3" descr=""/>
          <p:cNvPicPr/>
          <p:nvPr/>
        </p:nvPicPr>
        <p:blipFill>
          <a:blip r:embed="rId2"/>
          <a:stretch/>
        </p:blipFill>
        <p:spPr>
          <a:xfrm>
            <a:off x="5867280" y="3646440"/>
            <a:ext cx="20894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Заголовок 1"/>
          <p:cNvSpPr/>
          <p:nvPr/>
        </p:nvSpPr>
        <p:spPr>
          <a:xfrm>
            <a:off x="324000" y="274680"/>
            <a:ext cx="43192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rebuchet MS"/>
              </a:rPr>
              <a:t>Характеристика РПП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rebuchet MS"/>
              </a:rPr>
              <a:t>физкультурно-оздоровительной направле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одержимое 2"/>
          <p:cNvSpPr/>
          <p:nvPr/>
        </p:nvSpPr>
        <p:spPr>
          <a:xfrm>
            <a:off x="179280" y="1528920"/>
            <a:ext cx="4032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Trebuchet MS"/>
              </a:rPr>
              <a:t>Насыщ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Trebuchet MS"/>
              </a:rPr>
              <a:t>Трансформируем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Trebuchet MS"/>
              </a:rPr>
              <a:t>Полифункцион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Trebuchet MS"/>
              </a:rPr>
              <a:t>Вариа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Trebuchet MS"/>
              </a:rPr>
              <a:t>Доступ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Trebuchet MS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rebuchet MS"/>
              </a:rPr>
              <a:t>Среда должна стимулировать физическую активность детей, присущее им желание двигаться, познавать и побуждать к подвижным и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4302000" y="3005280"/>
            <a:ext cx="47340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Основная цель дошкольного учреждения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охрана и укрепление физического и психического здоровья детей, формирование привычки к здоровому образу жизни, развитие физических качеств и совершенствование двигательных навыков у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5" descr=""/>
          <p:cNvPicPr/>
          <p:nvPr/>
        </p:nvPicPr>
        <p:blipFill>
          <a:blip r:embed="rId1"/>
          <a:stretch/>
        </p:blipFill>
        <p:spPr>
          <a:xfrm>
            <a:off x="3865680" y="4737240"/>
            <a:ext cx="3181320" cy="21142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6" descr=""/>
          <p:cNvPicPr/>
          <p:nvPr/>
        </p:nvPicPr>
        <p:blipFill>
          <a:blip r:embed="rId2"/>
          <a:stretch/>
        </p:blipFill>
        <p:spPr>
          <a:xfrm>
            <a:off x="5016600" y="487440"/>
            <a:ext cx="330516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Заголовок 1"/>
          <p:cNvSpPr/>
          <p:nvPr/>
        </p:nvSpPr>
        <p:spPr>
          <a:xfrm>
            <a:off x="250920" y="189000"/>
            <a:ext cx="37814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rebuchet MS"/>
              </a:rPr>
              <a:t>ФОРМИРОВАНИЕ ДВИГАТЕЛЬНЫХ НАВЫ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rebuchet MS"/>
              </a:rPr>
              <a:t>В ДОШКОЛЬНОМ ВОЗРА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одержимое 2"/>
          <p:cNvSpPr/>
          <p:nvPr/>
        </p:nvSpPr>
        <p:spPr>
          <a:xfrm>
            <a:off x="108000" y="1278000"/>
            <a:ext cx="425772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buClr>
                <a:srgbClr val="99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Trebuchet MS"/>
              </a:rPr>
              <a:t>В младшей группе</a:t>
            </a:r>
            <a:r>
              <a:rPr b="0" lang="ru-RU" sz="16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дети активно двигаются, часто упражняются в ходьбе, беге, прыжках, ползании и лазании, катании, бросании и ловле предм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99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Trebuchet MS"/>
              </a:rPr>
              <a:t>В средней группе </a:t>
            </a: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детям интересны сложные движения и двигательные задания, требующие проявления скорости, ловкости и точности выпол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99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Trebuchet MS"/>
              </a:rPr>
              <a:t>В старшей группе </a:t>
            </a: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дети овладевают сложными видами движений, различными способами и техниками их выпол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99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Trebuchet MS"/>
              </a:rPr>
              <a:t>В подготовительной группе </a:t>
            </a: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дети способны к продолжительной двигательной деятельности, имеют представления о ценности здоров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3" descr=""/>
          <p:cNvPicPr/>
          <p:nvPr/>
        </p:nvPicPr>
        <p:blipFill>
          <a:blip r:embed="rId1"/>
          <a:stretch/>
        </p:blipFill>
        <p:spPr>
          <a:xfrm>
            <a:off x="4554360" y="627120"/>
            <a:ext cx="2249640" cy="16635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"/>
          <p:cNvPicPr/>
          <p:nvPr/>
        </p:nvPicPr>
        <p:blipFill>
          <a:blip r:embed="rId2"/>
          <a:stretch/>
        </p:blipFill>
        <p:spPr>
          <a:xfrm>
            <a:off x="4657680" y="3584520"/>
            <a:ext cx="4297320" cy="3144960"/>
          </a:xfrm>
          <a:prstGeom prst="rect">
            <a:avLst/>
          </a:prstGeom>
          <a:ln w="0">
            <a:noFill/>
          </a:ln>
        </p:spPr>
      </p:pic>
      <p:sp>
        <p:nvSpPr>
          <p:cNvPr id="239" name="Заголовок 1"/>
          <p:cNvSpPr/>
          <p:nvPr/>
        </p:nvSpPr>
        <p:spPr>
          <a:xfrm>
            <a:off x="5580000" y="2637000"/>
            <a:ext cx="24480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rebuchet MS"/>
              </a:rPr>
              <a:t>РАСПОРЯДОК ДНЯ В ДЕТСКОМ С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Заголовок 1"/>
          <p:cNvSpPr/>
          <p:nvPr/>
        </p:nvSpPr>
        <p:spPr>
          <a:xfrm>
            <a:off x="179280" y="260280"/>
            <a:ext cx="41767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rebuchet MS"/>
              </a:rPr>
              <a:t>ПРИНЦИПЫ ОБОРУ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rebuchet MS"/>
              </a:rPr>
              <a:t>ДЕТСКИХ ПО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одержимое 2"/>
          <p:cNvSpPr/>
          <p:nvPr/>
        </p:nvSpPr>
        <p:spPr>
          <a:xfrm>
            <a:off x="108000" y="981000"/>
            <a:ext cx="4319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99"/>
                </a:solidFill>
                <a:latin typeface="Trebuchet MS"/>
              </a:rPr>
              <a:t>Обеспечение здорового образа жизни и физическ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99"/>
                </a:solidFill>
                <a:latin typeface="Trebuchet MS"/>
              </a:rPr>
              <a:t>Обеспечение воспитания и развития ребёнка в условиях детского сооб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99"/>
                </a:solidFill>
                <a:latin typeface="Trebuchet MS"/>
              </a:rPr>
              <a:t>Обеспечения педагогического процесса в условиях общественного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99"/>
                </a:solidFill>
                <a:latin typeface="Trebuchet MS"/>
              </a:rPr>
              <a:t>Надежность и безопас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99"/>
                </a:solidFill>
                <a:latin typeface="Trebuchet MS"/>
              </a:rPr>
              <a:t>Гигиеническое соответ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99"/>
                </a:solidFill>
                <a:latin typeface="Trebuchet MS"/>
              </a:rPr>
              <a:t>Эргономическое соответ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99"/>
                </a:solidFill>
                <a:latin typeface="Trebuchet MS"/>
              </a:rPr>
              <a:t>Вариативность (удобство и комфортность в использован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99"/>
                </a:solidFill>
                <a:latin typeface="Trebuchet MS"/>
              </a:rPr>
              <a:t>Комплектование (принцип гарнитур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1" descr=""/>
          <p:cNvPicPr/>
          <p:nvPr/>
        </p:nvPicPr>
        <p:blipFill>
          <a:blip r:embed="rId1"/>
          <a:stretch/>
        </p:blipFill>
        <p:spPr>
          <a:xfrm>
            <a:off x="4943520" y="-85680"/>
            <a:ext cx="2054160" cy="2146320"/>
          </a:xfrm>
          <a:prstGeom prst="rect">
            <a:avLst/>
          </a:prstGeom>
          <a:ln w="0">
            <a:noFill/>
          </a:ln>
        </p:spPr>
      </p:pic>
      <p:sp>
        <p:nvSpPr>
          <p:cNvPr id="243" name="Заголовок 1"/>
          <p:cNvSpPr/>
          <p:nvPr/>
        </p:nvSpPr>
        <p:spPr>
          <a:xfrm>
            <a:off x="5013360" y="1905120"/>
            <a:ext cx="3816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rebuchet MS"/>
              </a:rPr>
              <a:t>ПЕРЕЧЕНЬ ФИЗКУЛЬТУРНОГО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одержимое 2"/>
          <p:cNvSpPr/>
          <p:nvPr/>
        </p:nvSpPr>
        <p:spPr>
          <a:xfrm>
            <a:off x="5013360" y="2728800"/>
            <a:ext cx="395280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rebuchet MS"/>
              </a:rPr>
              <a:t>султанчики, ленточки, флаж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rebuchet MS"/>
              </a:rPr>
              <a:t>бубен, музыкальный молоточ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rebuchet MS"/>
              </a:rPr>
              <a:t>игра «Дартс» (с шариками на липучка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rebuchet MS"/>
              </a:rPr>
              <a:t>ракетки с мячиками на липуч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rebuchet MS"/>
              </a:rPr>
              <a:t>напольные и подвесные кольцебро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rebuchet MS"/>
              </a:rPr>
              <a:t>игра «Городки», кегли, гантели (по два-три набора, из пластмасс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rebuchet MS"/>
              </a:rPr>
              <a:t>поролоновые и матерчатые мя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rebuchet MS"/>
              </a:rPr>
              <a:t>две-три скакалки, шн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rebuchet MS"/>
              </a:rPr>
              <a:t>два-три мешочка весом 200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rebuchet MS"/>
              </a:rPr>
              <a:t>два-три обру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rebuchet MS"/>
              </a:rPr>
              <a:t>оздоровительно-профилактическая дорожка (стопы-следы, ткань и материалы разной фактуры, массажные коврики и п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7" descr=""/>
          <p:cNvPicPr/>
          <p:nvPr/>
        </p:nvPicPr>
        <p:blipFill>
          <a:blip r:embed="rId2"/>
          <a:stretch/>
        </p:blipFill>
        <p:spPr>
          <a:xfrm>
            <a:off x="407880" y="4091040"/>
            <a:ext cx="35355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Заголовок 1"/>
          <p:cNvSpPr/>
          <p:nvPr/>
        </p:nvSpPr>
        <p:spPr>
          <a:xfrm>
            <a:off x="468360" y="404640"/>
            <a:ext cx="6346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одержимое 2"/>
          <p:cNvSpPr/>
          <p:nvPr/>
        </p:nvSpPr>
        <p:spPr>
          <a:xfrm>
            <a:off x="108000" y="1098720"/>
            <a:ext cx="439272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rebuchet MS"/>
              </a:rPr>
              <a:t>ОЗДОРОВИТЕЛЬНАЯ 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аэрация помещ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прогул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физические упражн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умы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формирование культурно-гигиенических навы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организация 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водные, воздушные и солнечные процед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лечебно-профилактическое сопрово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Рисунок 1" descr=""/>
          <p:cNvPicPr/>
          <p:nvPr/>
        </p:nvPicPr>
        <p:blipFill>
          <a:blip r:embed="rId1"/>
          <a:stretch/>
        </p:blipFill>
        <p:spPr>
          <a:xfrm>
            <a:off x="5072040" y="884160"/>
            <a:ext cx="3486240" cy="22496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4"/>
          <p:cNvSpPr/>
          <p:nvPr/>
        </p:nvSpPr>
        <p:spPr>
          <a:xfrm>
            <a:off x="539640" y="19836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Направления деятельности педагога по физическому воспитанию и  развитию до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одержимое 2"/>
          <p:cNvSpPr/>
          <p:nvPr/>
        </p:nvSpPr>
        <p:spPr>
          <a:xfrm>
            <a:off x="5076720" y="3033720"/>
            <a:ext cx="381636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rebuchet MS"/>
              </a:rPr>
              <a:t>ОБРАЗОВАТЕЛЬНАЯ 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утренняя гимнас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гимнастика после с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физкультурные минутки и пау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подвижные игры и физические упражнения, двигательные задания, спортивные игры и упраж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занятия по физическому развит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самостоятельная двигательная 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физкультурные праздники и развлечения, спортивные досуги и Дни здоровья, соревнования и эстафеты, канику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Рисунок 6" descr=""/>
          <p:cNvPicPr/>
          <p:nvPr/>
        </p:nvPicPr>
        <p:blipFill>
          <a:blip r:embed="rId2"/>
          <a:stretch/>
        </p:blipFill>
        <p:spPr>
          <a:xfrm>
            <a:off x="701640" y="3992400"/>
            <a:ext cx="34624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0:57:40Z</dcterms:created>
  <dc:creator>Елена</dc:creator>
  <dc:description/>
  <dc:language>en-US</dc:language>
  <cp:lastModifiedBy>Даша Лось</cp:lastModifiedBy>
  <cp:lastPrinted>2017-08-28T16:00:19Z</cp:lastPrinted>
  <dcterms:modified xsi:type="dcterms:W3CDTF">2019-04-18T15:10:30Z</dcterms:modified>
  <cp:revision>111</cp:revision>
  <dc:subject/>
  <dc:title>МЕТОДИЧЕСКОЕ ОБЪЕДИНЕНИЕ ДЛЯ ВОСПИТАТЕЛЕЙ ПО СОЦИАЛЬНО-ЛИЧНОСТНОМУ РАЗВИТИЮ 2011-2012 УЧЕБНЫЙ ГОД</dc:title>
</cp:coreProperties>
</file>