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962-4317-4585-8208-F92632D3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F7C-1ECA-4B41-8FF8-627698DB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372-528E-4624-9180-F78CF54C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3FE-5D99-45B7-84F2-8B6C2F0D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F9DF-711E-4F24-9CC8-427E4408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5BAA-A880-4B8C-82DC-BBDCB1EF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C2C7-52CB-43B7-BF3A-CD659E6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450F-6C5C-42AC-9C92-7047B3F6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CEDA-041E-46AF-A7E6-19841403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EB01-3F2F-4233-99CC-A9FC3810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DD1C-C20C-4993-A40E-BD98EE93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DF1-86A5-48E6-BB7B-9CC4E0CB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71F8-F525-49A4-BF1F-3083BD3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67E-0382-4FE4-8555-28DB7175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B13B-F271-4F91-B904-A298F32B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43F9-161A-41C6-9E4D-9D0BACF0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AB22-4EA6-4AF8-9220-3BC3963A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58A1-862F-456A-97B6-3508732A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B220-CAD5-4EAB-A766-792ED4D7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E584-8FC9-4AEC-9506-2F377F1C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D365-2699-4D9B-9C04-B50B7C52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8742E-79FA-4468-851D-968C3A8E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353-39CC-42AD-8813-858429D6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988A-F613-4784-A138-349ACED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8114C-8532-4091-B069-A62BEDC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640D8-D864-4899-9002-71B7DEBA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CDBA-51E1-4871-A742-E487BC7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CF9E-81DF-48A3-981A-95146039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1A50-1C79-432E-A005-F8888E39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9D70-D836-42EF-9DA8-DF584526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CCBBE-2A05-43E4-96E5-82C1DB32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3763-715E-49F2-A8D3-25C5CA9A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9481-B0FD-4938-A63A-C5EEC996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BEE-66B3-4FD4-9438-B8E1720D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9250-DCAF-4E61-A8CD-269A9371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8ED1-140F-4E65-9D21-6622751E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5E09-7E0C-4779-BD69-F3C7449A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651F-0441-4870-B672-B1794DD0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EF00-565F-4C8E-B0EA-D6992961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EBFC8-FA0F-4436-ACA6-C951FCF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1E8D-CEED-4551-B958-C4915168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D625-8073-4495-A4B6-53EF9972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5B63C-D38D-4C4C-A150-FFE8837A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99F-350B-4CE6-8121-CC6B5C8A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3C2-6610-471A-8125-20E27DEB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127-24D8-4F22-AC4E-81CC6D33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E17-C1B9-4EB7-B7EF-07F60E89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099-92C9-4EAC-8F7F-36CAED25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3833-E3D1-4D1D-972A-BF8F5242228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BD4C-C8A2-44F6-8BA7-BB00012B03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E635-1C60-4CD4-82E5-DEE887FB015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6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99A8-AAF5-4E93-A9AB-7220283008D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263680"/>
            <a:ext cx="6840360" cy="112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rebuchet MS"/>
              </a:rPr>
              <a:t>Влияние РППС на сохранение здоровья дошкольников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68360" y="4967280"/>
            <a:ext cx="251928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Воспитател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Шахова О.Ю., Шершнева М.О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5" descr="цветок"/>
          <p:cNvPicPr/>
          <p:nvPr/>
        </p:nvPicPr>
        <p:blipFill>
          <a:blip r:embed="rId1"/>
          <a:stretch/>
        </p:blipFill>
        <p:spPr>
          <a:xfrm>
            <a:off x="38160" y="155520"/>
            <a:ext cx="208908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Заголовок 1"/>
          <p:cNvSpPr/>
          <p:nvPr/>
        </p:nvSpPr>
        <p:spPr>
          <a:xfrm>
            <a:off x="2916360" y="189000"/>
            <a:ext cx="46083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ГБДОУ детский сад №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Красногвардейск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 Light"/>
                <a:ea typeface="Times New Roman"/>
              </a:rPr>
              <a:t>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дзаголовок 2"/>
          <p:cNvSpPr/>
          <p:nvPr/>
        </p:nvSpPr>
        <p:spPr>
          <a:xfrm>
            <a:off x="2050920" y="6149880"/>
            <a:ext cx="563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 Light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 Light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3" descr=""/>
          <p:cNvPicPr/>
          <p:nvPr/>
        </p:nvPicPr>
        <p:blipFill>
          <a:blip r:embed="rId2"/>
          <a:stretch/>
        </p:blipFill>
        <p:spPr>
          <a:xfrm>
            <a:off x="5867280" y="3646440"/>
            <a:ext cx="2089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Заголовок 1"/>
          <p:cNvSpPr/>
          <p:nvPr/>
        </p:nvSpPr>
        <p:spPr>
          <a:xfrm>
            <a:off x="324000" y="274680"/>
            <a:ext cx="43192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rebuchet MS"/>
              </a:rPr>
              <a:t>Характеристика РПП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rebuchet MS"/>
              </a:rPr>
              <a:t>физкультурно-оздоровительной направл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одержимое 2"/>
          <p:cNvSpPr/>
          <p:nvPr/>
        </p:nvSpPr>
        <p:spPr>
          <a:xfrm>
            <a:off x="179280" y="1528920"/>
            <a:ext cx="4032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Насыщ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Трансформируем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Полифункцион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Вариа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Доступ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rebuchet MS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rebuchet MS"/>
              </a:rPr>
              <a:t>Среда должна стимулировать физическую активность детей, присущее им желание двигаться, познавать и побуждать к подвижным и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4302000" y="3005280"/>
            <a:ext cx="47340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Основная цель дошкольного учреждения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охрана и укрепление физического и психического здоровья детей, формирование привычки к здоровому образу жизни, развитие физических качеств и совершенствование двигательных навыков у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5" descr=""/>
          <p:cNvPicPr/>
          <p:nvPr/>
        </p:nvPicPr>
        <p:blipFill>
          <a:blip r:embed="rId1"/>
          <a:stretch/>
        </p:blipFill>
        <p:spPr>
          <a:xfrm>
            <a:off x="3865680" y="4737240"/>
            <a:ext cx="3181320" cy="21142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"/>
          <p:cNvPicPr/>
          <p:nvPr/>
        </p:nvPicPr>
        <p:blipFill>
          <a:blip r:embed="rId2"/>
          <a:stretch/>
        </p:blipFill>
        <p:spPr>
          <a:xfrm>
            <a:off x="5016600" y="487440"/>
            <a:ext cx="33051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Заголовок 1"/>
          <p:cNvSpPr/>
          <p:nvPr/>
        </p:nvSpPr>
        <p:spPr>
          <a:xfrm>
            <a:off x="250920" y="189000"/>
            <a:ext cx="37814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rebuchet MS"/>
              </a:rPr>
              <a:t>ФОРМИРОВАНИЕ ДВИГАТЕЛЬНЫХ НАВЫ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rebuchet MS"/>
              </a:rPr>
              <a:t>В ДОШКОЛЬНОМ ВОЗРА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одержимое 2"/>
          <p:cNvSpPr/>
          <p:nvPr/>
        </p:nvSpPr>
        <p:spPr>
          <a:xfrm>
            <a:off x="108000" y="1278000"/>
            <a:ext cx="425772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buClr>
                <a:srgbClr val="99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Trebuchet MS"/>
              </a:rPr>
              <a:t>В младшей группе</a:t>
            </a:r>
            <a:r>
              <a:rPr b="0" lang="ru-RU" sz="16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дети активно двигаются, часто упражняются в ходьбе, беге, прыжках, ползании и лазании, катании, бросании и ловле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99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Trebuchet MS"/>
              </a:rPr>
              <a:t>В средней группе </a:t>
            </a: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детям интересны сложные движения и двигательные задания, требующие проявления скорости, ловкости и точности 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99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Trebuchet MS"/>
              </a:rPr>
              <a:t>В старшей группе </a:t>
            </a: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дети овладевают сложными видами движений, различными способами и техниками их 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99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Trebuchet MS"/>
              </a:rPr>
              <a:t>В подготовительной группе </a:t>
            </a: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дети способны к продолжительной двигательной деятельности, имеют представления о ценности здоров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tretch/>
        </p:blipFill>
        <p:spPr>
          <a:xfrm>
            <a:off x="4554360" y="627120"/>
            <a:ext cx="2249640" cy="16635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2"/>
          <a:stretch/>
        </p:blipFill>
        <p:spPr>
          <a:xfrm>
            <a:off x="4657680" y="3584520"/>
            <a:ext cx="4297320" cy="3144960"/>
          </a:xfrm>
          <a:prstGeom prst="rect">
            <a:avLst/>
          </a:prstGeom>
          <a:ln w="0">
            <a:noFill/>
          </a:ln>
        </p:spPr>
      </p:pic>
      <p:sp>
        <p:nvSpPr>
          <p:cNvPr id="239" name="Заголовок 1"/>
          <p:cNvSpPr/>
          <p:nvPr/>
        </p:nvSpPr>
        <p:spPr>
          <a:xfrm>
            <a:off x="5580000" y="2637000"/>
            <a:ext cx="24480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Trebuchet MS"/>
              </a:rPr>
              <a:t>РАСПОРЯДОК ДНЯ В ДЕТСКОМ С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Заголовок 1"/>
          <p:cNvSpPr/>
          <p:nvPr/>
        </p:nvSpPr>
        <p:spPr>
          <a:xfrm>
            <a:off x="179280" y="260280"/>
            <a:ext cx="41767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rebuchet MS"/>
              </a:rPr>
              <a:t>ПРИНЦИПЫ ОБОРУД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rebuchet MS"/>
              </a:rPr>
              <a:t>ДЕТСКИХ ПО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одержимое 2"/>
          <p:cNvSpPr/>
          <p:nvPr/>
        </p:nvSpPr>
        <p:spPr>
          <a:xfrm>
            <a:off x="108000" y="981000"/>
            <a:ext cx="4319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Обеспечение здорового образа жизни и физическ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Обеспечение воспитания и развития ребёнка в условиях детского со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Обеспечения педагогического процесса в условиях общественного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Надежность и 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Гигиеническое соответ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Эргономическое соответ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Вариативность (удобство и комфортность в использован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99"/>
                </a:solidFill>
                <a:latin typeface="Trebuchet MS"/>
              </a:rPr>
              <a:t>Комплектование (принцип гарниту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1" descr=""/>
          <p:cNvPicPr/>
          <p:nvPr/>
        </p:nvPicPr>
        <p:blipFill>
          <a:blip r:embed="rId1"/>
          <a:stretch/>
        </p:blipFill>
        <p:spPr>
          <a:xfrm>
            <a:off x="4943520" y="-85680"/>
            <a:ext cx="2054160" cy="2146320"/>
          </a:xfrm>
          <a:prstGeom prst="rect">
            <a:avLst/>
          </a:prstGeom>
          <a:ln w="0">
            <a:noFill/>
          </a:ln>
        </p:spPr>
      </p:pic>
      <p:sp>
        <p:nvSpPr>
          <p:cNvPr id="243" name="Заголовок 1"/>
          <p:cNvSpPr/>
          <p:nvPr/>
        </p:nvSpPr>
        <p:spPr>
          <a:xfrm>
            <a:off x="5013360" y="1905120"/>
            <a:ext cx="3816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rebuchet MS"/>
              </a:rPr>
              <a:t>ПЕРЕЧЕНЬ ФИЗКУЛЬТУРНОГО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5013360" y="2728800"/>
            <a:ext cx="395280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султанчики, ленточки, флаж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бубен, музыкальный молоточ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игра «Дартс» (с шариками на липучк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ракетки с мячиками на липуч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напольные и подвесные кольцеб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игра «Городки», кегли, гантели (по два-три набора, из пластмасс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поролоновые и матерчатые мя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две-три скакалки, шн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два-три мешочка весом 20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два-три обру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rebuchet MS"/>
              </a:rPr>
              <a:t>оздоровительно-профилактическая дорожка (стопы-следы, ткань и материалы разной фактуры, массажные коврики и п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7" descr=""/>
          <p:cNvPicPr/>
          <p:nvPr/>
        </p:nvPicPr>
        <p:blipFill>
          <a:blip r:embed="rId2"/>
          <a:stretch/>
        </p:blipFill>
        <p:spPr>
          <a:xfrm>
            <a:off x="407880" y="4091040"/>
            <a:ext cx="35355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Заголовок 1"/>
          <p:cNvSpPr/>
          <p:nvPr/>
        </p:nvSpPr>
        <p:spPr>
          <a:xfrm>
            <a:off x="468360" y="404640"/>
            <a:ext cx="6346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одержимое 2"/>
          <p:cNvSpPr/>
          <p:nvPr/>
        </p:nvSpPr>
        <p:spPr>
          <a:xfrm>
            <a:off x="108000" y="1098720"/>
            <a:ext cx="439272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rebuchet MS"/>
              </a:rPr>
              <a:t>ОЗДОРОВИ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аэрация по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прогул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физические упраж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умы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формирование культурно-гигиенических навы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организация 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водные, воздушные и солнечные процед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лечебно-профилактическое сопрово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5072040" y="884160"/>
            <a:ext cx="3486240" cy="22496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539640" y="19836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аправления деятельности педагога по физическому воспитанию и  развитию до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одержимое 2"/>
          <p:cNvSpPr/>
          <p:nvPr/>
        </p:nvSpPr>
        <p:spPr>
          <a:xfrm>
            <a:off x="5076720" y="3033720"/>
            <a:ext cx="3816360" cy="36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Trebuchet MS"/>
              </a:rPr>
              <a:t>ОБРАЗОВ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утренняя гимнас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гимнастика после с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физкультурные минутки и пау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подвижные игры и физические упражнения, двигательные задания, спортивные игры и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занятия по физическому разви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самостоятельная двиг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rebuchet MS"/>
              </a:rPr>
              <a:t>физкультурные праздники и развлечения, спортивные досуги и Дни здоровья, соревнования и эстафеты, канику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6" descr=""/>
          <p:cNvPicPr/>
          <p:nvPr/>
        </p:nvPicPr>
        <p:blipFill>
          <a:blip r:embed="rId2"/>
          <a:stretch/>
        </p:blipFill>
        <p:spPr>
          <a:xfrm>
            <a:off x="701640" y="3992400"/>
            <a:ext cx="3462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0:57:40Z</dcterms:created>
  <dc:creator>Елена</dc:creator>
  <dc:description/>
  <dc:language>en-US</dc:language>
  <cp:lastModifiedBy>Даша Лось</cp:lastModifiedBy>
  <cp:lastPrinted>2017-08-28T16:00:19Z</cp:lastPrinted>
  <dcterms:modified xsi:type="dcterms:W3CDTF">2019-04-18T15:10:30Z</dcterms:modified>
  <cp:revision>111</cp:revision>
  <dc:subject/>
  <dc:title>МЕТОДИЧЕСКОЕ ОБЪЕДИНЕНИЕ ДЛЯ ВОСПИТАТЕЛЕЙ ПО СОЦИАЛЬНО-ЛИЧНОСТНОМУ РАЗВИТИЮ 2011-2012 УЧЕБНЫЙ ГОД</dc:title>
</cp:coreProperties>
</file>