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gif" ContentType="image/gif"/>
  <Override PartName="/ppt/media/image23.jpeg" ContentType="image/jpeg"/>
  <Override PartName="/ppt/media/image27.gif" ContentType="image/gif"/>
  <Override PartName="/ppt/media/image22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6.jpeg" ContentType="image/jpeg"/>
  <Override PartName="/ppt/media/image33.jpeg" ContentType="image/jpeg"/>
  <Override PartName="/ppt/media/image2.gif" ContentType="image/gif"/>
  <Override PartName="/ppt/media/image8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26.jpeg" ContentType="image/jpeg"/>
  <Override PartName="/ppt/media/image32.jpeg" ContentType="image/jpeg"/>
  <Override PartName="/ppt/media/image29.gif" ContentType="image/gif"/>
  <Override PartName="/ppt/media/image9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3.gif" ContentType="image/gif"/>
  <Override PartName="/ppt/media/image4.jpeg" ContentType="image/jpeg"/>
  <Override PartName="/ppt/media/image25.jpeg" ContentType="image/jpe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16.gif" ContentType="image/gif"/>
  <Override PartName="/ppt/media/image17.gif" ContentType="image/gif"/>
  <Override PartName="/ppt/media/camera.wav" ContentType="audio/x-wav"/>
  <Override PartName="/ppt/media/image18.gif" ContentType="image/gif"/>
  <Override PartName="/ppt/media/image1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DE2-B04C-4DCF-8902-11ABF50F5E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AFA5-4E8D-4481-B0DA-8C2D36B37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AF4-DB2D-4E57-8303-033ADB872E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14B-65E3-4CCA-B050-A4A77F3986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C29-56F9-4E74-BC97-10D2A2FD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3E4-D7BC-4957-BB60-73418AA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D0A-BF1B-4A26-9D77-F1B76F58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6E8-8BCE-4CE3-BAD9-BC86B162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90F3-01FA-4D53-B3A3-7427C778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4D20-6065-4F44-82E0-66D2DC4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C8B3-11A3-4B6C-A01B-3539841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299B-E89F-4A7A-B488-8E11490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FF9A-53F0-4254-9EDE-5F46316A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7E8D-542C-4418-8820-3D9FF69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D1F2-1D9A-4BEA-A5BE-5BD1892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82D-4E76-4390-BBEB-F795C460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78C-F75D-4030-9E84-68A6CBC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B5B5-0049-4102-900A-EAB0AC8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8CBD-AB0F-4CC0-A21F-DCC008E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1889-EB70-47DC-9E08-54FCE96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DE1-F74C-49D0-A4D0-FF26326E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79A94-EFC3-478A-BD80-3D151857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385C1-F6D9-470C-BF43-414844C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F3058-8B27-43FE-9CEF-2094092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89F10-3047-4362-BB90-CD84C29E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50BE4-04A0-4362-A30D-32BF2A22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30A-A7F4-45A0-B3EC-E40850C4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9821D-34A1-407C-B769-190F39C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1BBC-9369-4353-9E75-002768A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4E788-8FF8-488F-9F13-7D002811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6812A-F527-4E99-9B79-91AB2A6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45030-BB76-41AF-BA93-F1E0661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780D7-D512-49AF-A989-48481E94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0AB5-0199-4C8C-B2ED-2CCFC331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D95D-07E4-48A9-AE2B-2F88378F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9BEB-F4C7-4126-B107-14B35E16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CF4F-F05E-4FD5-85A0-C9B1B38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5C3-9B52-4EE5-A2D7-5AF53803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D8A4-0D4A-424F-A884-723AA5C8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B14F-1C8A-4D14-8808-E501AB2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08BF-6B42-44DC-A22D-4F27BEDC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221C-AAA3-4FF0-A623-F82C6F3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4DC9-A4D8-40ED-8329-102B423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83D5B-6653-4770-878C-942B11D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3BFA-3A69-4726-B814-E4B01939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DB8C-FF18-4E8F-8EC7-8BD5C673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50D0-6590-4AD1-9007-AF35282F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5BBFE-A4EC-4145-BA2F-0CDC3D4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E0C-0743-4E20-A0BC-2E0D897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3C368-C39D-4B1A-9348-21F3F712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A92AD-ADE9-4506-9FF2-600EA234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F11C0-9556-470C-A03B-35223DB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79D9E-77E7-4C3B-9E25-79BF555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8D11D-05AB-46C2-91D1-CC415E3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D3EC4-B97E-4178-B5B7-A234A76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F2E9B-1ADB-4710-B1E7-5CD4949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086E4-FDBB-48DC-A821-A720704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F0E89-CB40-4EE8-B191-9E3084B9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DA46B-1CCA-4592-B2C8-F66DAE2E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FC8-C2B4-44AC-B1FA-5451ACC1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237C5-AE5D-443B-AED1-BAAF7C53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4D55A-0694-4FF6-9C54-3D1FCD75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ED6D3-E124-42DA-9911-3489E6E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B5654-3C9E-4472-8B71-3F2C0FAC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34499-FFA9-4FCC-8713-2BDE1748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BC4EE-D82B-4681-AA85-2350B97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2712A-1A21-4532-B875-46C2E6A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808E3-DE1C-4C86-8B95-146831D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1A7AE-EBA1-40F2-A894-DA82A00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84AF6-F06D-4FDC-9151-F59AA44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67D-3DB4-460E-9F8F-C5C8D04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597F5-23B0-420A-9C2F-EF7E933E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6DC19-8F79-45D6-99A1-D821BF5C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5F1B8-AF71-4BF1-BBD1-78875A21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F520B-540E-4AA4-8A21-88A988D7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6A19C-9D89-46AD-ABE9-D24B7ED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45336-6BA0-475B-9374-992EF72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9EE29-FC8B-474F-BCA2-99DADE8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403E8-F196-4482-BDC4-5851A6D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A7239-018F-4C5C-A120-CE0B5584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4BD47-C668-4E1A-9BBA-2C7A307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1F7-2AF3-4FA7-ABC7-5FF8624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44768-D657-4057-AA28-24FB228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CE7B8-E4AD-4BAD-B605-88BB7FC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CFFC7-DF33-4DD3-998B-071BA3F9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3945A-15F8-400B-8687-3845806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9A765-46D3-4CAB-888F-FD894081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A3B-A02B-4FCE-93CB-726B844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33BE-2F44-4B8A-83CE-C2C7BF511C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9EB5-3512-46CD-8071-F49F1B57D0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3074-9597-4B10-8500-B20DC0345C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44AD-3850-489E-B50A-9B535058D1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939-0A64-4430-9F5C-334A6BDBAE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515F-267D-4AD5-AC4E-803DF17DD6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994-B30D-4656-AC57-65E34807A4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ДИВИТЕЛЬНЫЙ ТРАНСПОРТ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C:\Мои документы1\анимации\t14.gif"/>
          <p:cNvPicPr/>
          <p:nvPr/>
        </p:nvPicPr>
        <p:blipFill>
          <a:blip r:embed="rId1"/>
          <a:stretch/>
        </p:blipFill>
        <p:spPr>
          <a:xfrm>
            <a:off x="5364000" y="2671920"/>
            <a:ext cx="2946600" cy="34002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24000" y="364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логия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 flipH="1">
            <a:off x="1285560" y="1643040"/>
            <a:ext cx="2521080" cy="20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5143680" y="1571760"/>
            <a:ext cx="2303280" cy="21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50920" y="4357800"/>
            <a:ext cx="8535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ника – учиться у природы технике завтрашнего дня, которая принесётбольшую пользу человеку и природе, чем техника существующая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6300720" y="53006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24000" y="58053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3564000" y="58053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8959140C"/>
          <p:cNvPicPr/>
          <p:nvPr/>
        </p:nvPicPr>
        <p:blipFill>
          <a:blip r:embed="rId1"/>
          <a:stretch/>
        </p:blipFill>
        <p:spPr>
          <a:xfrm>
            <a:off x="395280" y="333360"/>
            <a:ext cx="3456000" cy="2809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25BBF1FA"/>
          <p:cNvPicPr/>
          <p:nvPr/>
        </p:nvPicPr>
        <p:blipFill>
          <a:blip r:embed="rId2"/>
          <a:stretch/>
        </p:blipFill>
        <p:spPr>
          <a:xfrm>
            <a:off x="4643280" y="2133720"/>
            <a:ext cx="3745080" cy="32814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428760" y="58770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екомые бегают на шести лапах. Роботы ходят на шести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143865A"/>
          <p:cNvPicPr/>
          <p:nvPr/>
        </p:nvPicPr>
        <p:blipFill>
          <a:blip r:embed="rId1"/>
          <a:stretch/>
        </p:blipFill>
        <p:spPr>
          <a:xfrm>
            <a:off x="250920" y="260280"/>
            <a:ext cx="4448160" cy="2592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3A56F78"/>
          <p:cNvPicPr/>
          <p:nvPr/>
        </p:nvPicPr>
        <p:blipFill>
          <a:blip r:embed="rId2"/>
          <a:stretch/>
        </p:blipFill>
        <p:spPr>
          <a:xfrm>
            <a:off x="4932360" y="1628640"/>
            <a:ext cx="3743280" cy="33354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80960" y="5157720"/>
            <a:ext cx="82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олёты могут лететь вперёд и в сторону, а также парить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395280" y="5572080"/>
            <a:ext cx="81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Они способны стартовать и приземляться в люб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3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ДОРОЖНОГО ДВИЖ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Содержимое 3" descr="сч.jpg"/>
          <p:cNvPicPr/>
          <p:nvPr/>
        </p:nvPicPr>
        <p:blipFill>
          <a:blip r:embed="rId1"/>
          <a:stretch/>
        </p:blipFill>
        <p:spPr>
          <a:xfrm>
            <a:off x="1706400" y="1714680"/>
            <a:ext cx="5580360" cy="4184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7" name="Picture 2" descr="C:\Мои документы1\анимации\KIDS01.gif"/>
          <p:cNvPicPr/>
          <p:nvPr/>
        </p:nvPicPr>
        <p:blipFill>
          <a:blip r:embed="rId1"/>
          <a:stretch/>
        </p:blipFill>
        <p:spPr>
          <a:xfrm>
            <a:off x="2714760" y="2428920"/>
            <a:ext cx="3404880" cy="23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Мои документы1\анимации\LUCY1.gif"/>
          <p:cNvPicPr/>
          <p:nvPr/>
        </p:nvPicPr>
        <p:blipFill>
          <a:blip r:embed="rId2"/>
          <a:stretch/>
        </p:blipFill>
        <p:spPr>
          <a:xfrm>
            <a:off x="214200" y="2143080"/>
            <a:ext cx="2357640" cy="3309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:\Мои документы1\анимации\timbo_headstand_md_wht.gif"/>
          <p:cNvPicPr/>
          <p:nvPr/>
        </p:nvPicPr>
        <p:blipFill>
          <a:blip r:embed="rId3"/>
          <a:stretch/>
        </p:blipFill>
        <p:spPr>
          <a:xfrm>
            <a:off x="6786720" y="2214720"/>
            <a:ext cx="164772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2"/>
          <p:cNvSpPr/>
          <p:nvPr/>
        </p:nvSpPr>
        <p:spPr>
          <a:xfrm>
            <a:off x="1214280" y="214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оч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5072040" y="3929040"/>
            <a:ext cx="3143160" cy="25639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5143680" y="1000080"/>
            <a:ext cx="2646360" cy="271476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1571760" y="3929040"/>
            <a:ext cx="2577960" cy="25639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1714680" y="1071720"/>
            <a:ext cx="2357280" cy="26143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8b25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Содержимое 4" descr="ссс.jpg"/>
          <p:cNvPicPr/>
          <p:nvPr/>
        </p:nvPicPr>
        <p:blipFill>
          <a:blip r:embed="rId1"/>
          <a:stretch/>
        </p:blipFill>
        <p:spPr>
          <a:xfrm>
            <a:off x="1747800" y="317196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647960" y="1600200"/>
            <a:ext cx="39956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не удовлетворен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мог работа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учш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доволен собой,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ей работой и окружающи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Овал 5"/>
          <p:cNvSpPr/>
          <p:nvPr/>
        </p:nvSpPr>
        <p:spPr>
          <a:xfrm>
            <a:off x="4786200" y="17859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6"/>
          <p:cNvSpPr/>
          <p:nvPr/>
        </p:nvSpPr>
        <p:spPr>
          <a:xfrm>
            <a:off x="478620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7"/>
          <p:cNvSpPr/>
          <p:nvPr/>
        </p:nvSpPr>
        <p:spPr>
          <a:xfrm>
            <a:off x="4786200" y="4357800"/>
            <a:ext cx="571680" cy="571320"/>
          </a:xfrm>
          <a:prstGeom prst="ellipse">
            <a:avLst/>
          </a:prstGeom>
          <a:solidFill>
            <a:srgbClr val="2c8b25"/>
          </a:solidFill>
          <a:ln w="25560">
            <a:solidFill>
              <a:srgbClr val="2c8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755640" y="2421000"/>
            <a:ext cx="796284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2" name="Picture 16" descr="CОЛНЦЕ"/>
          <p:cNvPicPr/>
          <p:nvPr/>
        </p:nvPicPr>
        <p:blipFill>
          <a:blip r:embed="rId1"/>
          <a:stretch/>
        </p:blipFill>
        <p:spPr>
          <a:xfrm>
            <a:off x="0" y="0"/>
            <a:ext cx="2214720" cy="2222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 (от лат. 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— «через»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rtare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— «нести») — совокупность средств, предназначенных для перемещения людей, грузов из одного места в друго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12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C:\Documents and Settings\Admin\Рабочий стол\90425dca588bc8030d2b07ce3aebea91.gif"/>
          <p:cNvPicPr/>
          <p:nvPr/>
        </p:nvPicPr>
        <p:blipFill>
          <a:blip r:embed="rId1"/>
          <a:stretch/>
        </p:blipFill>
        <p:spPr>
          <a:xfrm>
            <a:off x="2928960" y="3357720"/>
            <a:ext cx="3000240" cy="264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лош.jpg"/>
          <p:cNvPicPr/>
          <p:nvPr/>
        </p:nvPicPr>
        <p:blipFill>
          <a:blip r:embed="rId1"/>
          <a:stretch/>
        </p:blipFill>
        <p:spPr>
          <a:xfrm>
            <a:off x="357120" y="214200"/>
            <a:ext cx="4786560" cy="32814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4" descr="карета.jpg"/>
          <p:cNvPicPr/>
          <p:nvPr/>
        </p:nvPicPr>
        <p:blipFill>
          <a:blip r:embed="rId2"/>
          <a:stretch/>
        </p:blipFill>
        <p:spPr>
          <a:xfrm>
            <a:off x="4429080" y="2714760"/>
            <a:ext cx="4373640" cy="32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авт.jpg"/>
          <p:cNvPicPr/>
          <p:nvPr/>
        </p:nvPicPr>
        <p:blipFill>
          <a:blip r:embed="rId1"/>
          <a:srcRect l="0" t="0" r="0" b="11993"/>
          <a:stretch/>
        </p:blipFill>
        <p:spPr>
          <a:xfrm>
            <a:off x="0" y="857160"/>
            <a:ext cx="2779560" cy="17146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пар.jpg"/>
          <p:cNvPicPr/>
          <p:nvPr/>
        </p:nvPicPr>
        <p:blipFill>
          <a:blip r:embed="rId2"/>
          <a:srcRect l="0" t="0" r="0" b="2737"/>
          <a:stretch/>
        </p:blipFill>
        <p:spPr>
          <a:xfrm>
            <a:off x="3214800" y="214200"/>
            <a:ext cx="2346120" cy="17128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5" descr="сам.jpg"/>
          <p:cNvPicPr/>
          <p:nvPr/>
        </p:nvPicPr>
        <p:blipFill>
          <a:blip r:embed="rId3"/>
          <a:stretch/>
        </p:blipFill>
        <p:spPr>
          <a:xfrm>
            <a:off x="6215040" y="928800"/>
            <a:ext cx="2571840" cy="15825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6" descr="кор.jpg"/>
          <p:cNvPicPr/>
          <p:nvPr/>
        </p:nvPicPr>
        <p:blipFill>
          <a:blip r:embed="rId4"/>
          <a:srcRect l="0" t="0" r="0" b="6252"/>
          <a:stretch/>
        </p:blipFill>
        <p:spPr>
          <a:xfrm>
            <a:off x="428760" y="3571920"/>
            <a:ext cx="2457360" cy="1728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маш к.jpg"/>
          <p:cNvPicPr/>
          <p:nvPr/>
        </p:nvPicPr>
        <p:blipFill>
          <a:blip r:embed="rId5"/>
          <a:srcRect l="0" t="3126" r="0" b="0"/>
          <a:stretch/>
        </p:blipFill>
        <p:spPr>
          <a:xfrm>
            <a:off x="3429000" y="4786200"/>
            <a:ext cx="2359080" cy="17128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верт.jpg"/>
          <p:cNvPicPr/>
          <p:nvPr/>
        </p:nvPicPr>
        <p:blipFill>
          <a:blip r:embed="rId6"/>
          <a:stretch/>
        </p:blipFill>
        <p:spPr>
          <a:xfrm>
            <a:off x="6357960" y="350028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груз.jpg"/>
          <p:cNvPicPr/>
          <p:nvPr/>
        </p:nvPicPr>
        <p:blipFill>
          <a:blip r:embed="rId7"/>
          <a:stretch/>
        </p:blipFill>
        <p:spPr>
          <a:xfrm>
            <a:off x="3357720" y="2643120"/>
            <a:ext cx="25812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АНСПОРТ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-1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ный транспорт — транспорт, использующий естественные   и искусственные водоёмы. Основным транспортным средством является суд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2600" indent="-1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C:\Documents and Settings\Admin\Рабочий стол\7efa1c9b40f42dae316309cf269d1129.gif"/>
          <p:cNvPicPr/>
          <p:nvPr/>
        </p:nvPicPr>
        <p:blipFill>
          <a:blip r:embed="rId1"/>
          <a:stretch/>
        </p:blipFill>
        <p:spPr>
          <a:xfrm>
            <a:off x="500040" y="3929040"/>
            <a:ext cx="2500200" cy="2019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Documents and Settings\Admin\Рабочий стол\ac86b1cce67ff0efa48d5ce1e87ca3cc.gif"/>
          <p:cNvPicPr/>
          <p:nvPr/>
        </p:nvPicPr>
        <p:blipFill>
          <a:blip r:embed="rId2"/>
          <a:stretch/>
        </p:blipFill>
        <p:spPr>
          <a:xfrm>
            <a:off x="3643200" y="4071960"/>
            <a:ext cx="132264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Documents and Settings\Admin\Рабочий стол\945ade7bedea6765fd9fbd136e0b66db.gif"/>
          <p:cNvPicPr/>
          <p:nvPr/>
        </p:nvPicPr>
        <p:blipFill>
          <a:blip r:embed="rId3"/>
          <a:stretch/>
        </p:blipFill>
        <p:spPr>
          <a:xfrm>
            <a:off x="5786280" y="4000680"/>
            <a:ext cx="2490840" cy="193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транспорт — самый быстрый и в то же время самый дорогой вид транспорта. Основная сфера применения воздушного транспорта — пассажирские перевозки на расстояниях свыше тысячи километров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C:\Documents and Settings\Admin\Рабочий стол\0ddf799d9fe49fb6ede4e6cd7663e502.gif"/>
          <p:cNvPicPr/>
          <p:nvPr/>
        </p:nvPicPr>
        <p:blipFill>
          <a:blip r:embed="rId1"/>
          <a:stretch/>
        </p:blipFill>
        <p:spPr>
          <a:xfrm>
            <a:off x="357120" y="4000680"/>
            <a:ext cx="2786040" cy="15508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C:\Documents and Settings\Admin\Рабочий стол\3b0b22008a7c0edf76a219b16dd4c6a5.gif"/>
          <p:cNvPicPr/>
          <p:nvPr/>
        </p:nvPicPr>
        <p:blipFill>
          <a:blip r:embed="rId2"/>
          <a:stretch/>
        </p:blipFill>
        <p:spPr>
          <a:xfrm>
            <a:off x="5715000" y="4286160"/>
            <a:ext cx="3235320" cy="1357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Documents and Settings\Admin\Рабочий стол\4ea8872eea6795356bb1325e353b7c2b.gif"/>
          <p:cNvPicPr/>
          <p:nvPr/>
        </p:nvPicPr>
        <p:blipFill>
          <a:blip r:embed="rId3"/>
          <a:stretch/>
        </p:blipFill>
        <p:spPr>
          <a:xfrm>
            <a:off x="3286080" y="4572000"/>
            <a:ext cx="2311560" cy="2063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ЕМ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5" descr="C:\Documents and Settings\Admin\Рабочий стол\8d7d26cff8cc7e04876b2df2f33c511c.gif"/>
          <p:cNvPicPr/>
          <p:nvPr/>
        </p:nvPicPr>
        <p:blipFill>
          <a:blip r:embed="rId1"/>
          <a:stretch/>
        </p:blipFill>
        <p:spPr>
          <a:xfrm>
            <a:off x="571680" y="1643040"/>
            <a:ext cx="3603600" cy="21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Documents and Settings\Admin\Рабочий стол\ebc5c79523fe79db716df63d1925c168.gif"/>
          <p:cNvPicPr/>
          <p:nvPr/>
        </p:nvPicPr>
        <p:blipFill>
          <a:blip r:embed="rId2"/>
          <a:stretch/>
        </p:blipFill>
        <p:spPr>
          <a:xfrm>
            <a:off x="5000760" y="3143160"/>
            <a:ext cx="3143160" cy="2724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Содержимое 3" descr="авт.jpg"/>
          <p:cNvPicPr/>
          <p:nvPr/>
        </p:nvPicPr>
        <p:blipFill>
          <a:blip r:embed="rId1"/>
          <a:srcRect l="0" t="0" r="0" b="11993"/>
          <a:stretch/>
        </p:blipFill>
        <p:spPr>
          <a:xfrm>
            <a:off x="0" y="857160"/>
            <a:ext cx="2779560" cy="17146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пар.jpg"/>
          <p:cNvPicPr/>
          <p:nvPr/>
        </p:nvPicPr>
        <p:blipFill>
          <a:blip r:embed="rId2"/>
          <a:srcRect l="0" t="0" r="0" b="2737"/>
          <a:stretch/>
        </p:blipFill>
        <p:spPr>
          <a:xfrm>
            <a:off x="3214800" y="214200"/>
            <a:ext cx="2346120" cy="17128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сам.jpg"/>
          <p:cNvPicPr/>
          <p:nvPr/>
        </p:nvPicPr>
        <p:blipFill>
          <a:blip r:embed="rId3"/>
          <a:stretch/>
        </p:blipFill>
        <p:spPr>
          <a:xfrm>
            <a:off x="5929200" y="571680"/>
            <a:ext cx="2571840" cy="15825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6" descr="кор.jpg"/>
          <p:cNvPicPr/>
          <p:nvPr/>
        </p:nvPicPr>
        <p:blipFill>
          <a:blip r:embed="rId4"/>
          <a:srcRect l="0" t="0" r="0" b="6252"/>
          <a:stretch/>
        </p:blipFill>
        <p:spPr>
          <a:xfrm>
            <a:off x="428760" y="3571920"/>
            <a:ext cx="2457360" cy="17287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7" descr="маш к.jpg"/>
          <p:cNvPicPr/>
          <p:nvPr/>
        </p:nvPicPr>
        <p:blipFill>
          <a:blip r:embed="rId5"/>
          <a:srcRect l="0" t="3126" r="0" b="0"/>
          <a:stretch/>
        </p:blipFill>
        <p:spPr>
          <a:xfrm>
            <a:off x="3500280" y="4857840"/>
            <a:ext cx="2359080" cy="171288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8" descr="верт.jpg"/>
          <p:cNvPicPr/>
          <p:nvPr/>
        </p:nvPicPr>
        <p:blipFill>
          <a:blip r:embed="rId6"/>
          <a:stretch/>
        </p:blipFill>
        <p:spPr>
          <a:xfrm>
            <a:off x="6215040" y="2357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9" descr="груз.jpg"/>
          <p:cNvPicPr/>
          <p:nvPr/>
        </p:nvPicPr>
        <p:blipFill>
          <a:blip r:embed="rId7"/>
          <a:stretch/>
        </p:blipFill>
        <p:spPr>
          <a:xfrm>
            <a:off x="3286080" y="2857680"/>
            <a:ext cx="2581200" cy="1712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7-tub-ru.yandex.net/i?id=383723972-70-72&amp;n=21"/>
          <p:cNvPicPr/>
          <p:nvPr/>
        </p:nvPicPr>
        <p:blipFill>
          <a:blip r:embed="rId8"/>
          <a:stretch/>
        </p:blipFill>
        <p:spPr>
          <a:xfrm>
            <a:off x="6357960" y="4714920"/>
            <a:ext cx="228456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ЗЕМ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4" descr="C:\Documents and Settings\Admin\Рабочий стол\cbb01457e8f2210dcd2aa2114e9efea2.gif"/>
          <p:cNvPicPr/>
          <p:nvPr/>
        </p:nvPicPr>
        <p:blipFill>
          <a:blip r:embed="rId1"/>
          <a:stretch/>
        </p:blipFill>
        <p:spPr>
          <a:xfrm>
            <a:off x="1643040" y="1447920"/>
            <a:ext cx="5967360" cy="39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4:25:47Z</dcterms:created>
  <dc:creator>user</dc:creator>
  <dc:description/>
  <dc:language>en-US</dc:language>
  <cp:lastModifiedBy>User</cp:lastModifiedBy>
  <dcterms:modified xsi:type="dcterms:W3CDTF">2019-04-18T08:54:33Z</dcterms:modified>
  <cp:revision>14</cp:revision>
  <dc:subject/>
  <dc:title>Урок изобразительного искусства в 3 «А» классе по программе Б.Н.Неменского Тема:«Удивительный транспорт»</dc:title>
</cp:coreProperties>
</file>