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gif" ContentType="image/gif"/>
  <Override PartName="/ppt/media/image23.jpeg" ContentType="image/jpeg"/>
  <Override PartName="/ppt/media/image27.gif" ContentType="image/gif"/>
  <Override PartName="/ppt/media/image22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6.jpeg" ContentType="image/jpeg"/>
  <Override PartName="/ppt/media/image33.jpeg" ContentType="image/jpeg"/>
  <Override PartName="/ppt/media/image2.gif" ContentType="image/gif"/>
  <Override PartName="/ppt/media/image8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12.gif" ContentType="image/gif"/>
  <Override PartName="/ppt/media/image26.jpeg" ContentType="image/jpeg"/>
  <Override PartName="/ppt/media/image32.jpeg" ContentType="image/jpeg"/>
  <Override PartName="/ppt/media/image29.gif" ContentType="image/gif"/>
  <Override PartName="/ppt/media/image9.jpeg" ContentType="image/jpeg"/>
  <Override PartName="/ppt/media/image3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13.gif" ContentType="image/gif"/>
  <Override PartName="/ppt/media/image4.jpeg" ContentType="image/jpeg"/>
  <Override PartName="/ppt/media/image25.jpeg" ContentType="image/jpeg"/>
  <Override PartName="/ppt/media/image11.jpeg" ContentType="image/jpeg"/>
  <Override PartName="/ppt/media/image1.gif" ContentType="image/gif"/>
  <Override PartName="/ppt/media/image31.jpeg" ContentType="image/jpeg"/>
  <Override PartName="/ppt/media/image14.gif" ContentType="image/gif"/>
  <Override PartName="/ppt/media/image16.gif" ContentType="image/gif"/>
  <Override PartName="/ppt/media/image17.gif" ContentType="image/gif"/>
  <Override PartName="/ppt/media/camera.wav" ContentType="audio/x-wav"/>
  <Override PartName="/ppt/media/image18.gif" ContentType="image/gif"/>
  <Override PartName="/ppt/media/image1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DE7-3B6D-4094-8D63-2951160CCB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2847-E9E7-4F17-8C6F-6245E5D5E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882-43FF-4ED6-B4D6-62D97F9507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A90F-6B6C-40F9-8416-AE32767DF2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9E5-A412-4F29-A465-C11C4B24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643-7B7F-49EC-8CD2-1A6E962D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B42-87BF-47BF-9303-73C00F0F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640-20D3-43DC-B86E-D59CD8AE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195A-1774-4708-950D-3F3D9676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5BD1-52CC-4933-B0BF-113AFC48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48A-AB18-4AB2-9EC1-9B383A4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2BF0-4666-4A74-9D8B-2061FEA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5C60-CDE9-471E-A7A3-6772FA08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8FAB-DDA6-40CF-AA93-02FC717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37E8-2EF5-4627-B9FA-9EDB0D7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F0F-9F30-4693-8C3A-9F7FF61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F2C7-F8D7-4BC8-85A4-130C069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CBD-910F-427A-9A5D-D3AB5117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CC6-2259-468C-B796-51C835AC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AD9-8B23-48E7-835A-484991B8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7D0D-0014-4BFA-88FB-A104A30A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F5B1D-48E1-471D-833D-2338D85F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10AFC-EBD8-40F0-A097-EFBDD395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61316-5FD6-401D-BF6D-5119F45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5CDF0-5411-4263-8FF6-247FEA60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FDC8-61A8-4051-8D5A-954BAFD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1EC-C7E7-441C-BF5E-C859E835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15ABC-A074-4E0D-A323-B328A05B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ED05A-23E5-4BAB-A53B-9E97F26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0C6C3-4C52-406C-81A1-52ABA66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7A5C5-65CD-423B-846D-6DF7DCE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D9ADA-4D58-419D-9BBC-E684C862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901EC-806E-4A0D-991D-1F024869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3AC68-A071-4824-BEE8-2364234A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C554-0FD0-4B3A-B81A-39658394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25FC-F5D3-48D2-A83B-15F23B77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9BB3-4988-4EA9-A894-4E05E27C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350-94CC-4FD8-98AD-6E4E9ADB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79A4-0A19-4257-8B29-D7151C2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4E89-AE3E-430A-BC85-EC7DDB0E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F0A6-2107-4E7D-859F-AFA7EC96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E54BA-2296-4C78-BF2C-589BEFD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4879-A6B6-491B-8AB8-8BFA921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6F6E-8B85-409E-AD9F-3945207E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1F89-0B00-4B09-A824-B0F438A9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DCA5-BCAC-4005-B118-00ABD4D1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E6F6-6DB7-4904-A926-B720AACE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B233C-1B94-4476-857F-0C60F2BD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9A1-1660-4CE4-871B-7468F9D9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41065-ECE2-4DC9-B72E-725F7F67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AC51F2-77AB-427C-B029-3DF722E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82E3B-AA1E-4F65-9521-3B730720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4E165-76D2-4872-A922-E287ABE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677ED-A7F2-492E-91F9-613AC01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6995D-9384-4958-A2A9-52A9183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6E0CE-D2D4-44B7-8B58-64240DD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1313F-B64F-4258-86EF-84D07984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23065-9C9C-452C-9961-C47B0F7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83C137-821C-454C-8825-45785146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CF8-80E7-4E5E-B846-86884D19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BA72E8-12AD-4043-9703-7836E096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CEC5F-D8F8-4228-A9EC-DEFC4A1F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A5403-0C25-41DF-9547-C8A7FA7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AEE4ED-F682-45D1-96CA-46836FF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5DFF0E-8C46-4520-A671-8AE707A3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5EFC9-B299-4048-A55A-D8AB8FC0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E3C6F-7A57-41AF-B9FC-409CB5D5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81623-8552-4FCD-BDE1-4837710E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EA140-4A57-481D-8967-57EF461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6391E-8D92-4175-AB07-56731813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4CF-6F04-4DC1-89CD-4DF58BF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F93A2-BEC4-4499-84D0-E0F244FD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3F3D5-6505-4260-BC06-8836512D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9F8B6-3A42-4EAB-AFE4-78355872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64F56-7EB7-49AF-ADEB-9549856F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A6E1C-6088-446C-8A92-3A4F44E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D6CDF-A7FE-43D4-9AF7-3BB82F3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4D8CF-E0FA-457F-81B8-3E60C402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C4D4D-961B-442C-94C6-AC94CE58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1F868-1885-4359-BB87-2DE4D5B1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19590-3D62-4114-81E1-312899A8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E5F-998D-4B95-B28E-C4634D5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A4A5B-5AAD-46CF-9011-13BBA75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B0A95-441E-4DA9-8297-A4CD2E44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C9E02-A335-4705-A419-81B6909F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AC7C86-F826-41C8-82B8-B28FFBCE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9DCFA-3847-4BEE-A23D-2CC22C95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8B7-BC7A-49F6-B5CE-2DE312D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3076-F220-46C8-A9B2-7818D1E197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6AE6-49EE-4A4C-948D-7CBB268887A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5418-2B7B-457C-81E0-C50A94469F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6555-9108-4059-89F5-57DF02DD6E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8877-98B9-427F-A220-F52A65A049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900D-A414-425C-BE8C-3F23CA5D6C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2D7E-EA98-4E8B-B776-944BDB65A9F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ДИВИТЕЛЬНЫЙ ТРАНСПОРТ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2" descr="C:\Мои документы1\анимации\t14.gif"/>
          <p:cNvPicPr/>
          <p:nvPr/>
        </p:nvPicPr>
        <p:blipFill>
          <a:blip r:embed="rId1"/>
          <a:stretch/>
        </p:blipFill>
        <p:spPr>
          <a:xfrm>
            <a:off x="5364000" y="2671920"/>
            <a:ext cx="2946600" cy="34002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Н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24000" y="364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логия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 flipH="1">
            <a:off x="1285560" y="1643040"/>
            <a:ext cx="2521080" cy="208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"/>
          <p:cNvSpPr/>
          <p:nvPr/>
        </p:nvSpPr>
        <p:spPr>
          <a:xfrm>
            <a:off x="5143680" y="1571760"/>
            <a:ext cx="2303280" cy="21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250920" y="4357800"/>
            <a:ext cx="8535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оника – учиться у природы технике завтрашнего дня, которая принесётбольшую пользу человеку и природе, чем техника существующая сего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6300720" y="530064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24000" y="58053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3564000" y="5805360"/>
            <a:ext cx="183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8959140C"/>
          <p:cNvPicPr/>
          <p:nvPr/>
        </p:nvPicPr>
        <p:blipFill>
          <a:blip r:embed="rId1"/>
          <a:stretch/>
        </p:blipFill>
        <p:spPr>
          <a:xfrm>
            <a:off x="395280" y="333360"/>
            <a:ext cx="3456000" cy="28098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25BBF1FA"/>
          <p:cNvPicPr/>
          <p:nvPr/>
        </p:nvPicPr>
        <p:blipFill>
          <a:blip r:embed="rId2"/>
          <a:stretch/>
        </p:blipFill>
        <p:spPr>
          <a:xfrm>
            <a:off x="4643280" y="2133720"/>
            <a:ext cx="3745080" cy="32814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428760" y="58770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екомые бегают на шести лапах. Роботы ходят на шести но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143865A"/>
          <p:cNvPicPr/>
          <p:nvPr/>
        </p:nvPicPr>
        <p:blipFill>
          <a:blip r:embed="rId1"/>
          <a:stretch/>
        </p:blipFill>
        <p:spPr>
          <a:xfrm>
            <a:off x="250920" y="260280"/>
            <a:ext cx="4448160" cy="2592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3A56F78"/>
          <p:cNvPicPr/>
          <p:nvPr/>
        </p:nvPicPr>
        <p:blipFill>
          <a:blip r:embed="rId2"/>
          <a:stretch/>
        </p:blipFill>
        <p:spPr>
          <a:xfrm>
            <a:off x="4932360" y="1628640"/>
            <a:ext cx="3743280" cy="33354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80960" y="5157720"/>
            <a:ext cx="82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олёты могут лететь вперёд и в сторону, а также парить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395280" y="5572080"/>
            <a:ext cx="81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Они способны стартовать и приземляться в люб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3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ИЛА ДОРОЖНОГО ДВИЖ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Содержимое 3" descr="сч.jpg"/>
          <p:cNvPicPr/>
          <p:nvPr/>
        </p:nvPicPr>
        <p:blipFill>
          <a:blip r:embed="rId1"/>
          <a:stretch/>
        </p:blipFill>
        <p:spPr>
          <a:xfrm>
            <a:off x="1706400" y="1714680"/>
            <a:ext cx="5580360" cy="4184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7" name="Picture 2" descr="C:\Мои документы1\анимации\KIDS01.gif"/>
          <p:cNvPicPr/>
          <p:nvPr/>
        </p:nvPicPr>
        <p:blipFill>
          <a:blip r:embed="rId1"/>
          <a:stretch/>
        </p:blipFill>
        <p:spPr>
          <a:xfrm>
            <a:off x="2714760" y="2428920"/>
            <a:ext cx="3404880" cy="23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Мои документы1\анимации\LUCY1.gif"/>
          <p:cNvPicPr/>
          <p:nvPr/>
        </p:nvPicPr>
        <p:blipFill>
          <a:blip r:embed="rId2"/>
          <a:stretch/>
        </p:blipFill>
        <p:spPr>
          <a:xfrm>
            <a:off x="214200" y="2143080"/>
            <a:ext cx="2357640" cy="3309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C:\Мои документы1\анимации\timbo_headstand_md_wht.gif"/>
          <p:cNvPicPr/>
          <p:nvPr/>
        </p:nvPicPr>
        <p:blipFill>
          <a:blip r:embed="rId3"/>
          <a:stretch/>
        </p:blipFill>
        <p:spPr>
          <a:xfrm>
            <a:off x="6786720" y="2214720"/>
            <a:ext cx="1647720" cy="2857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2"/>
          <p:cNvSpPr/>
          <p:nvPr/>
        </p:nvSpPr>
        <p:spPr>
          <a:xfrm>
            <a:off x="1214280" y="2142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очный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5072040" y="3929040"/>
            <a:ext cx="3143160" cy="25639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5143680" y="1000080"/>
            <a:ext cx="2646360" cy="271476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3" name="Picture 2" descr=""/>
          <p:cNvPicPr/>
          <p:nvPr/>
        </p:nvPicPr>
        <p:blipFill>
          <a:blip r:embed="rId3"/>
          <a:stretch/>
        </p:blipFill>
        <p:spPr>
          <a:xfrm>
            <a:off x="1571760" y="3929040"/>
            <a:ext cx="2577960" cy="25639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1714680" y="1071720"/>
            <a:ext cx="2357280" cy="2614320"/>
          </a:xfrm>
          <a:prstGeom prst="rect">
            <a:avLst/>
          </a:prstGeom>
          <a:ln w="38160">
            <a:solidFill>
              <a:srgbClr val="fe8637"/>
            </a:solidFill>
            <a:miter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8b25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Содержимое 4" descr="ссс.jpg"/>
          <p:cNvPicPr/>
          <p:nvPr/>
        </p:nvPicPr>
        <p:blipFill>
          <a:blip r:embed="rId1"/>
          <a:stretch/>
        </p:blipFill>
        <p:spPr>
          <a:xfrm>
            <a:off x="1747800" y="317196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647960" y="1600200"/>
            <a:ext cx="39956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не удовлетворен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мог работа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учш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доволен собой,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ей работой и окружающи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Овал 5"/>
          <p:cNvSpPr/>
          <p:nvPr/>
        </p:nvSpPr>
        <p:spPr>
          <a:xfrm>
            <a:off x="4786200" y="178596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6"/>
          <p:cNvSpPr/>
          <p:nvPr/>
        </p:nvSpPr>
        <p:spPr>
          <a:xfrm>
            <a:off x="478620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7"/>
          <p:cNvSpPr/>
          <p:nvPr/>
        </p:nvSpPr>
        <p:spPr>
          <a:xfrm>
            <a:off x="4786200" y="4357800"/>
            <a:ext cx="571680" cy="571320"/>
          </a:xfrm>
          <a:prstGeom prst="ellipse">
            <a:avLst/>
          </a:prstGeom>
          <a:solidFill>
            <a:srgbClr val="2c8b25"/>
          </a:solidFill>
          <a:ln w="25560">
            <a:solidFill>
              <a:srgbClr val="2c8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WordArt 2"/>
          <p:cNvSpPr txBox="1"/>
          <p:nvPr/>
        </p:nvSpPr>
        <p:spPr>
          <a:xfrm>
            <a:off x="755640" y="2421000"/>
            <a:ext cx="7962840" cy="16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всем за урок!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2" name="Picture 16" descr="CОЛНЦЕ"/>
          <p:cNvPicPr/>
          <p:nvPr/>
        </p:nvPicPr>
        <p:blipFill>
          <a:blip r:embed="rId1"/>
          <a:stretch/>
        </p:blipFill>
        <p:spPr>
          <a:xfrm>
            <a:off x="0" y="0"/>
            <a:ext cx="2214720" cy="2222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нспорт (от лат. 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ns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— «через» 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ortare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— «нести») — совокупность средств, предназначенных для перемещения людей, грузов из одного места в друго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12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C:\Documents and Settings\Admin\Рабочий стол\90425dca588bc8030d2b07ce3aebea91.gif"/>
          <p:cNvPicPr/>
          <p:nvPr/>
        </p:nvPicPr>
        <p:blipFill>
          <a:blip r:embed="rId1"/>
          <a:stretch/>
        </p:blipFill>
        <p:spPr>
          <a:xfrm>
            <a:off x="2928960" y="3357720"/>
            <a:ext cx="3000240" cy="264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лош.jpg"/>
          <p:cNvPicPr/>
          <p:nvPr/>
        </p:nvPicPr>
        <p:blipFill>
          <a:blip r:embed="rId1"/>
          <a:stretch/>
        </p:blipFill>
        <p:spPr>
          <a:xfrm>
            <a:off x="357120" y="214200"/>
            <a:ext cx="4786560" cy="32814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4" descr="карета.jpg"/>
          <p:cNvPicPr/>
          <p:nvPr/>
        </p:nvPicPr>
        <p:blipFill>
          <a:blip r:embed="rId2"/>
          <a:stretch/>
        </p:blipFill>
        <p:spPr>
          <a:xfrm>
            <a:off x="4429080" y="2714760"/>
            <a:ext cx="4373640" cy="32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авт.jpg"/>
          <p:cNvPicPr/>
          <p:nvPr/>
        </p:nvPicPr>
        <p:blipFill>
          <a:blip r:embed="rId1"/>
          <a:srcRect l="0" t="0" r="0" b="11993"/>
          <a:stretch/>
        </p:blipFill>
        <p:spPr>
          <a:xfrm>
            <a:off x="0" y="857160"/>
            <a:ext cx="2779560" cy="17146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пар.jpg"/>
          <p:cNvPicPr/>
          <p:nvPr/>
        </p:nvPicPr>
        <p:blipFill>
          <a:blip r:embed="rId2"/>
          <a:srcRect l="0" t="0" r="0" b="2737"/>
          <a:stretch/>
        </p:blipFill>
        <p:spPr>
          <a:xfrm>
            <a:off x="3214800" y="214200"/>
            <a:ext cx="2346120" cy="17128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5" descr="сам.jpg"/>
          <p:cNvPicPr/>
          <p:nvPr/>
        </p:nvPicPr>
        <p:blipFill>
          <a:blip r:embed="rId3"/>
          <a:stretch/>
        </p:blipFill>
        <p:spPr>
          <a:xfrm>
            <a:off x="6215040" y="928800"/>
            <a:ext cx="2571840" cy="15825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6" descr="кор.jpg"/>
          <p:cNvPicPr/>
          <p:nvPr/>
        </p:nvPicPr>
        <p:blipFill>
          <a:blip r:embed="rId4"/>
          <a:srcRect l="0" t="0" r="0" b="6252"/>
          <a:stretch/>
        </p:blipFill>
        <p:spPr>
          <a:xfrm>
            <a:off x="428760" y="3571920"/>
            <a:ext cx="2457360" cy="172872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маш к.jpg"/>
          <p:cNvPicPr/>
          <p:nvPr/>
        </p:nvPicPr>
        <p:blipFill>
          <a:blip r:embed="rId5"/>
          <a:srcRect l="0" t="3126" r="0" b="0"/>
          <a:stretch/>
        </p:blipFill>
        <p:spPr>
          <a:xfrm>
            <a:off x="3429000" y="4786200"/>
            <a:ext cx="2359080" cy="171288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верт.jpg"/>
          <p:cNvPicPr/>
          <p:nvPr/>
        </p:nvPicPr>
        <p:blipFill>
          <a:blip r:embed="rId6"/>
          <a:stretch/>
        </p:blipFill>
        <p:spPr>
          <a:xfrm>
            <a:off x="6357960" y="350028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9" descr="груз.jpg"/>
          <p:cNvPicPr/>
          <p:nvPr/>
        </p:nvPicPr>
        <p:blipFill>
          <a:blip r:embed="rId7"/>
          <a:stretch/>
        </p:blipFill>
        <p:spPr>
          <a:xfrm>
            <a:off x="3357720" y="2643120"/>
            <a:ext cx="25812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АНСПОРТА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1420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2600" indent="-1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ный транспорт — транспорт, использующий естественные   и искусственные водоёмы. Основным транспортным средством является судно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2600" indent="-1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C:\Documents and Settings\Admin\Рабочий стол\7efa1c9b40f42dae316309cf269d1129.gif"/>
          <p:cNvPicPr/>
          <p:nvPr/>
        </p:nvPicPr>
        <p:blipFill>
          <a:blip r:embed="rId1"/>
          <a:stretch/>
        </p:blipFill>
        <p:spPr>
          <a:xfrm>
            <a:off x="500040" y="3929040"/>
            <a:ext cx="2500200" cy="2019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C:\Documents and Settings\Admin\Рабочий стол\ac86b1cce67ff0efa48d5ce1e87ca3cc.gif"/>
          <p:cNvPicPr/>
          <p:nvPr/>
        </p:nvPicPr>
        <p:blipFill>
          <a:blip r:embed="rId2"/>
          <a:stretch/>
        </p:blipFill>
        <p:spPr>
          <a:xfrm>
            <a:off x="3643200" y="4071960"/>
            <a:ext cx="1322640" cy="1785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Documents and Settings\Admin\Рабочий стол\945ade7bedea6765fd9fbd136e0b66db.gif"/>
          <p:cNvPicPr/>
          <p:nvPr/>
        </p:nvPicPr>
        <p:blipFill>
          <a:blip r:embed="rId3"/>
          <a:stretch/>
        </p:blipFill>
        <p:spPr>
          <a:xfrm>
            <a:off x="5786280" y="4000680"/>
            <a:ext cx="2490840" cy="1935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душный транспорт — самый быстрый и в то же время самый дорогой вид транспорта. Основная сфера применения воздушного транспорта — пассажирские перевозки на расстояниях свыше тысячи километров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C:\Documents and Settings\Admin\Рабочий стол\0ddf799d9fe49fb6ede4e6cd7663e502.gif"/>
          <p:cNvPicPr/>
          <p:nvPr/>
        </p:nvPicPr>
        <p:blipFill>
          <a:blip r:embed="rId1"/>
          <a:stretch/>
        </p:blipFill>
        <p:spPr>
          <a:xfrm>
            <a:off x="357120" y="4000680"/>
            <a:ext cx="2786040" cy="15508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C:\Documents and Settings\Admin\Рабочий стол\3b0b22008a7c0edf76a219b16dd4c6a5.gif"/>
          <p:cNvPicPr/>
          <p:nvPr/>
        </p:nvPicPr>
        <p:blipFill>
          <a:blip r:embed="rId2"/>
          <a:stretch/>
        </p:blipFill>
        <p:spPr>
          <a:xfrm>
            <a:off x="5715000" y="4286160"/>
            <a:ext cx="3235320" cy="1357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C:\Documents and Settings\Admin\Рабочий стол\4ea8872eea6795356bb1325e353b7c2b.gif"/>
          <p:cNvPicPr/>
          <p:nvPr/>
        </p:nvPicPr>
        <p:blipFill>
          <a:blip r:embed="rId3"/>
          <a:stretch/>
        </p:blipFill>
        <p:spPr>
          <a:xfrm>
            <a:off x="3286080" y="4572000"/>
            <a:ext cx="2311560" cy="2063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ЕМ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5" descr="C:\Documents and Settings\Admin\Рабочий стол\8d7d26cff8cc7e04876b2df2f33c511c.gif"/>
          <p:cNvPicPr/>
          <p:nvPr/>
        </p:nvPicPr>
        <p:blipFill>
          <a:blip r:embed="rId1"/>
          <a:stretch/>
        </p:blipFill>
        <p:spPr>
          <a:xfrm>
            <a:off x="571680" y="1643040"/>
            <a:ext cx="3603600" cy="2143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Documents and Settings\Admin\Рабочий стол\ebc5c79523fe79db716df63d1925c168.gif"/>
          <p:cNvPicPr/>
          <p:nvPr/>
        </p:nvPicPr>
        <p:blipFill>
          <a:blip r:embed="rId2"/>
          <a:stretch/>
        </p:blipFill>
        <p:spPr>
          <a:xfrm>
            <a:off x="5000760" y="3143160"/>
            <a:ext cx="3143160" cy="2724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Содержимое 3" descr="авт.jpg"/>
          <p:cNvPicPr/>
          <p:nvPr/>
        </p:nvPicPr>
        <p:blipFill>
          <a:blip r:embed="rId1"/>
          <a:srcRect l="0" t="0" r="0" b="11993"/>
          <a:stretch/>
        </p:blipFill>
        <p:spPr>
          <a:xfrm>
            <a:off x="0" y="857160"/>
            <a:ext cx="2779560" cy="171468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пар.jpg"/>
          <p:cNvPicPr/>
          <p:nvPr/>
        </p:nvPicPr>
        <p:blipFill>
          <a:blip r:embed="rId2"/>
          <a:srcRect l="0" t="0" r="0" b="2737"/>
          <a:stretch/>
        </p:blipFill>
        <p:spPr>
          <a:xfrm>
            <a:off x="3214800" y="214200"/>
            <a:ext cx="2346120" cy="17128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сам.jpg"/>
          <p:cNvPicPr/>
          <p:nvPr/>
        </p:nvPicPr>
        <p:blipFill>
          <a:blip r:embed="rId3"/>
          <a:stretch/>
        </p:blipFill>
        <p:spPr>
          <a:xfrm>
            <a:off x="5929200" y="571680"/>
            <a:ext cx="2571840" cy="158256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6" descr="кор.jpg"/>
          <p:cNvPicPr/>
          <p:nvPr/>
        </p:nvPicPr>
        <p:blipFill>
          <a:blip r:embed="rId4"/>
          <a:srcRect l="0" t="0" r="0" b="6252"/>
          <a:stretch/>
        </p:blipFill>
        <p:spPr>
          <a:xfrm>
            <a:off x="428760" y="3571920"/>
            <a:ext cx="2457360" cy="172872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7" descr="маш к.jpg"/>
          <p:cNvPicPr/>
          <p:nvPr/>
        </p:nvPicPr>
        <p:blipFill>
          <a:blip r:embed="rId5"/>
          <a:srcRect l="0" t="3126" r="0" b="0"/>
          <a:stretch/>
        </p:blipFill>
        <p:spPr>
          <a:xfrm>
            <a:off x="3500280" y="4857840"/>
            <a:ext cx="2359080" cy="171288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8" descr="верт.jpg"/>
          <p:cNvPicPr/>
          <p:nvPr/>
        </p:nvPicPr>
        <p:blipFill>
          <a:blip r:embed="rId6"/>
          <a:stretch/>
        </p:blipFill>
        <p:spPr>
          <a:xfrm>
            <a:off x="6215040" y="2357280"/>
            <a:ext cx="2303640" cy="172728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9" descr="груз.jpg"/>
          <p:cNvPicPr/>
          <p:nvPr/>
        </p:nvPicPr>
        <p:blipFill>
          <a:blip r:embed="rId7"/>
          <a:stretch/>
        </p:blipFill>
        <p:spPr>
          <a:xfrm>
            <a:off x="3286080" y="2857680"/>
            <a:ext cx="2581200" cy="17128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7-tub-ru.yandex.net/i?id=383723972-70-72&amp;n=21"/>
          <p:cNvPicPr/>
          <p:nvPr/>
        </p:nvPicPr>
        <p:blipFill>
          <a:blip r:embed="rId8"/>
          <a:stretch/>
        </p:blipFill>
        <p:spPr>
          <a:xfrm>
            <a:off x="6357960" y="4714920"/>
            <a:ext cx="2284560" cy="1712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ЗЕМНЫЙ ТРАНСПОРТ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Picture 4" descr="C:\Documents and Settings\Admin\Рабочий стол\cbb01457e8f2210dcd2aa2114e9efea2.gif"/>
          <p:cNvPicPr/>
          <p:nvPr/>
        </p:nvPicPr>
        <p:blipFill>
          <a:blip r:embed="rId1"/>
          <a:stretch/>
        </p:blipFill>
        <p:spPr>
          <a:xfrm>
            <a:off x="1643040" y="1447920"/>
            <a:ext cx="5967360" cy="39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4:25:47Z</dcterms:created>
  <dc:creator>user</dc:creator>
  <dc:description/>
  <dc:language>en-US</dc:language>
  <cp:lastModifiedBy>User</cp:lastModifiedBy>
  <dcterms:modified xsi:type="dcterms:W3CDTF">2019-04-18T08:54:33Z</dcterms:modified>
  <cp:revision>14</cp:revision>
  <dc:subject/>
  <dc:title>Урок изобразительного искусства в 3 «А» классе по программе Б.Н.Неменского Тема:«Удивительный транспорт»</dc:title>
</cp:coreProperties>
</file>