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B33-1122-4B3D-87B5-F3E47BB5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491-280A-4CCF-947E-C782BDEC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8DC-A4BF-41BA-B690-F26A2461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EE8-3942-4C74-9574-6F01676E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837-AE08-41E6-97E6-8D6C5644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8C6-7895-49CE-A712-06E22158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2E5-1DCF-4042-AADA-2EE2D389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5CD-1068-4013-AB72-FDC479D5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BB4-FE1F-4A97-B1F8-50A5DAC1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003-816C-4071-B841-BFDFB383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25B-E13D-450D-840C-EFE2C84F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5F0-D601-4B6A-BD4A-12F94E71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8E1E-597B-4F0B-BCC0-5673E3C13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Times New Roman"/>
              </a:rPr>
              <a:t>МБДОУ «Краснослободский детский сад комбинированного вида «Солнышко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»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ная деятельность на тему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«Творчество без границ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419112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 проекта : Русейкина Валерия, 6 лет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ные руководители: Чугункина Марина Анатольевна, Лютова Юлия Анатоль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сультант: Мещерякова Евгения Михайло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ратор проекта: Сальникова Юли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проекта: Круглова Анастасия, Васильева По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rcRect l="0" t="5880" r="35303" b="0"/>
          <a:stretch/>
        </p:blipFill>
        <p:spPr>
          <a:xfrm>
            <a:off x="228600" y="2514600"/>
            <a:ext cx="281952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3505320" y="2286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почему бы мне не создать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ворческую мастерску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3505320" y="19810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С росписью по ткани мы уже знако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Создали страницу творческой мастерской на сайте детского с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80880" y="1523880"/>
            <a:ext cx="86108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685800" y="1447920"/>
            <a:ext cx="731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62120" y="6248520"/>
            <a:ext cx="1523880" cy="36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1" descr="C:\Users\user\Pictures\скрин творческой мастерской.png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 flipV="1" rot="10800000">
            <a:off x="0" y="6609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ылка на сайт:  http://my-solnyshko.ru/tvorcheskaya-masterskay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ыбрали шабл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2971800" cy="265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5029200" y="1219320"/>
            <a:ext cx="2971800" cy="2655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3048120" y="4191120"/>
            <a:ext cx="28191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нимаем зак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267080" cy="350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4267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60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olorful-child-hand-prints-royalty-free-stock-photo-image-30867285-159849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olorful-child-hand-prints-royalty-free-stock-photo-image-30867285-159849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olorful-child-hand-prints-royalty-free-stock-photo-image-30867285-1598492"/>
          <p:cNvPicPr/>
          <p:nvPr/>
        </p:nvPicPr>
        <p:blipFill>
          <a:blip r:embed="rId4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5"/>
          <a:stretch/>
        </p:blipFill>
        <p:spPr>
          <a:xfrm>
            <a:off x="1219320" y="457200"/>
            <a:ext cx="6400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Увеличиваем до нужных размеров. Обрабатываем в специальной програм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G_20180920_112716"/>
          <p:cNvPicPr/>
          <p:nvPr/>
        </p:nvPicPr>
        <p:blipFill>
          <a:blip r:embed="rId2"/>
          <a:stretch/>
        </p:blipFill>
        <p:spPr>
          <a:xfrm>
            <a:off x="533520" y="2209680"/>
            <a:ext cx="388620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MG_20180920_112824"/>
          <p:cNvPicPr/>
          <p:nvPr/>
        </p:nvPicPr>
        <p:blipFill>
          <a:blip r:embed="rId3"/>
          <a:stretch/>
        </p:blipFill>
        <p:spPr>
          <a:xfrm>
            <a:off x="4800600" y="220968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2590920" y="1676520"/>
            <a:ext cx="39621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осим помочь взросл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4038840" cy="426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4800600" y="533520"/>
            <a:ext cx="4191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5867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носим рисунок на издел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4800600" y="1219320"/>
            <a:ext cx="3276720" cy="2590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609480" y="1066680"/>
            <a:ext cx="3581640" cy="278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4"/>
          <a:stretch/>
        </p:blipFill>
        <p:spPr>
          <a:xfrm>
            <a:off x="609480" y="3962520"/>
            <a:ext cx="3581640" cy="270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5"/>
          <a:stretch/>
        </p:blipFill>
        <p:spPr>
          <a:xfrm>
            <a:off x="4800600" y="3962520"/>
            <a:ext cx="3276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ой подарок для ма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20040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3429000" y="1143000"/>
            <a:ext cx="3048120" cy="3124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6553080" y="114300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4"/>
          <a:stretch/>
        </p:blipFill>
        <p:spPr>
          <a:xfrm>
            <a:off x="2057400" y="4457880"/>
            <a:ext cx="4267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10e09"/>
                </a:solidFill>
                <a:latin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 эксклюзивной сувенирной прод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з предлагаемой 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творческой мастер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ке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 шабло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ть страницу творческой мастерской на сайте дет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корирование готовых шабл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ение 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отовые пода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2438280" cy="426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3124080" y="1143000"/>
            <a:ext cx="2819520" cy="4267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304920" y="5486400"/>
            <a:ext cx="2286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артук для м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124080" y="5486400"/>
            <a:ext cx="28958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утболка для сестр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4"/>
          <a:stretch/>
        </p:blipFill>
        <p:spPr>
          <a:xfrm>
            <a:off x="6172200" y="1143000"/>
            <a:ext cx="2666880" cy="4267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6172200" y="5486400"/>
            <a:ext cx="2666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утболка для па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533520" y="3049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формляем футболки к празд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IMG_20181011_155602"/>
          <p:cNvPicPr/>
          <p:nvPr/>
        </p:nvPicPr>
        <p:blipFill>
          <a:blip r:embed="rId2"/>
          <a:stretch/>
        </p:blipFill>
        <p:spPr>
          <a:xfrm>
            <a:off x="4800600" y="137160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MG_20181011_155449"/>
          <p:cNvPicPr/>
          <p:nvPr/>
        </p:nvPicPr>
        <p:blipFill>
          <a:blip r:embed="rId3"/>
          <a:stretch/>
        </p:blipFill>
        <p:spPr>
          <a:xfrm>
            <a:off x="457200" y="137160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выполнения проекта, мы открыли свою творческую мастерскую по изготовлению эксклюзивных подарков по индивидуальному рисунку клиента.  Получили удовлетворение от проделанной работы и доставили радость заказчик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клю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60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olorful-child-hand-prints-royalty-free-stock-photo-image-30867285-159849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olorful-child-hand-prints-royalty-free-stock-photo-image-30867285-159849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olorful-child-hand-prints-royalty-free-stock-photo-image-30867285-1598492"/>
          <p:cNvPicPr/>
          <p:nvPr/>
        </p:nvPicPr>
        <p:blipFill>
          <a:blip r:embed="rId4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olorful-child-hand-prints-royalty-free-stock-photo-image-30867285-1598492"/>
          <p:cNvPicPr/>
          <p:nvPr/>
        </p:nvPicPr>
        <p:blipFill>
          <a:blip r:embed="rId5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olorful-child-hand-prints-royalty-free-stock-photo-image-30867285-1598492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10e09"/>
                </a:solidFill>
                <a:latin typeface="Times New Roman"/>
              </a:rPr>
              <a:t>Решаемая проблема</a:t>
            </a:r>
            <a:br>
              <a:rPr sz="3200"/>
            </a:br>
            <a:br>
              <a:rPr sz="32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дарок должен быть эксклюзивным, индивидуальным, созданным по желанию покупате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3200" spc="-1" strike="noStrike">
                <a:solidFill>
                  <a:srgbClr val="d10e09"/>
                </a:solidFill>
                <a:latin typeface="Arial"/>
              </a:rPr>
              <a:t>Цель проекта</a:t>
            </a:r>
            <a:br>
              <a:rPr sz="3200"/>
            </a:br>
            <a:br>
              <a:rPr sz="32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здание эксклюзивного подарка по эскизу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ru-RU" sz="1800" spc="-1" strike="noStrike">
                <a:solidFill>
                  <a:srgbClr val="d10e09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10e09"/>
                </a:solidFill>
                <a:latin typeface="Arial"/>
              </a:rPr>
              <a:t>Актуальность проекта</a:t>
            </a:r>
            <a:br>
              <a:rPr sz="28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дукция магазинов нашего города не отличается разнообразием сувениров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Выбрать индивидуальный подарок нелегко. 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ы хотим  создать свою творческую мастерскую изготовления подарков  по индивидуальному эскизу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на должна отвечать всем запросам клиента и экономить его врем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IMG_20180907_132611"/>
          <p:cNvPicPr/>
          <p:nvPr/>
        </p:nvPicPr>
        <p:blipFill>
          <a:blip r:embed="rId2"/>
          <a:stretch/>
        </p:blipFill>
        <p:spPr>
          <a:xfrm>
            <a:off x="304920" y="838080"/>
            <a:ext cx="2819160" cy="236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IMG_20180907_132630"/>
          <p:cNvPicPr/>
          <p:nvPr/>
        </p:nvPicPr>
        <p:blipFill>
          <a:blip r:embed="rId3"/>
          <a:stretch/>
        </p:blipFill>
        <p:spPr>
          <a:xfrm>
            <a:off x="3200400" y="838080"/>
            <a:ext cx="281952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IMG_20180907_132722"/>
          <p:cNvPicPr/>
          <p:nvPr/>
        </p:nvPicPr>
        <p:blipFill>
          <a:blip r:embed="rId4"/>
          <a:stretch/>
        </p:blipFill>
        <p:spPr>
          <a:xfrm>
            <a:off x="6095880" y="838080"/>
            <a:ext cx="2819520" cy="23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IMG_20180907_134135"/>
          <p:cNvPicPr/>
          <p:nvPr/>
        </p:nvPicPr>
        <p:blipFill>
          <a:blip r:embed="rId5"/>
          <a:stretch/>
        </p:blipFill>
        <p:spPr>
          <a:xfrm>
            <a:off x="304920" y="335268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1828800" y="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0880" y="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Выбираем подарок…. Он должен быть не похожий на другие, нести какую-либо информацию, быть индивиду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IMG_20180907_133203"/>
          <p:cNvPicPr/>
          <p:nvPr/>
        </p:nvPicPr>
        <p:blipFill>
          <a:blip r:embed="rId6"/>
          <a:stretch/>
        </p:blipFill>
        <p:spPr>
          <a:xfrm>
            <a:off x="3276720" y="335268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IMG_20180907_133101"/>
          <p:cNvPicPr/>
          <p:nvPr/>
        </p:nvPicPr>
        <p:blipFill>
          <a:blip r:embed="rId7"/>
          <a:stretch/>
        </p:blipFill>
        <p:spPr>
          <a:xfrm>
            <a:off x="6095880" y="3352680"/>
            <a:ext cx="2895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ыбираем подарок по катал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34340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4952880" y="12952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ня заинтересовали футболки с рисун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_20180907_133357_1"/>
          <p:cNvPicPr/>
          <p:nvPr/>
        </p:nvPicPr>
        <p:blipFill>
          <a:blip r:embed="rId2"/>
          <a:stretch/>
        </p:blipFill>
        <p:spPr>
          <a:xfrm>
            <a:off x="304920" y="1447920"/>
            <a:ext cx="380988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G_20180907_133445"/>
          <p:cNvPicPr/>
          <p:nvPr/>
        </p:nvPicPr>
        <p:blipFill>
          <a:blip r:embed="rId3"/>
          <a:stretch/>
        </p:blipFill>
        <p:spPr>
          <a:xfrm>
            <a:off x="4648320" y="1447920"/>
            <a:ext cx="3886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существлять свою идею я начала с посещения фабрики, где нас познакомили с нанесением рисунка на 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SAM_2879"/>
          <p:cNvPicPr/>
          <p:nvPr/>
        </p:nvPicPr>
        <p:blipFill>
          <a:blip r:embed="rId2"/>
          <a:stretch/>
        </p:blipFill>
        <p:spPr>
          <a:xfrm>
            <a:off x="457200" y="1828800"/>
            <a:ext cx="3753000" cy="4038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SAM_2888"/>
          <p:cNvPicPr/>
          <p:nvPr/>
        </p:nvPicPr>
        <p:blipFill>
          <a:blip r:embed="rId3"/>
          <a:stretch/>
        </p:blipFill>
        <p:spPr>
          <a:xfrm>
            <a:off x="4648320" y="1828800"/>
            <a:ext cx="3562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colorful-child-hand-prints-royalty-free-stock-photo-image-30867285-159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оводим анкетирование о создании творческой мастер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G_20180920_113127"/>
          <p:cNvPicPr/>
          <p:nvPr/>
        </p:nvPicPr>
        <p:blipFill>
          <a:blip r:embed="rId2"/>
          <a:stretch/>
        </p:blipFill>
        <p:spPr>
          <a:xfrm>
            <a:off x="457200" y="1523880"/>
            <a:ext cx="3505320" cy="4267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IMG_20180920_113359"/>
          <p:cNvPicPr/>
          <p:nvPr/>
        </p:nvPicPr>
        <p:blipFill>
          <a:blip r:embed="rId3"/>
          <a:stretch/>
        </p:blipFill>
        <p:spPr>
          <a:xfrm>
            <a:off x="4343400" y="1828800"/>
            <a:ext cx="3886200" cy="3962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666880" y="5029200"/>
            <a:ext cx="3962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астерская нужна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7T04:03:40Z</dcterms:created>
  <dc:creator>1</dc:creator>
  <dc:description/>
  <dc:language>en-US</dc:language>
  <cp:lastModifiedBy>user</cp:lastModifiedBy>
  <dcterms:modified xsi:type="dcterms:W3CDTF">2018-10-19T08:51:5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