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FD93-FB10-42EF-97C3-FCCE6309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366E-977C-4B82-9254-0DAC0063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E51A-5DE3-4BE4-8D37-95950051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FA6B-4368-43EC-8A36-32577E6D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94CD-18BC-4D4C-B539-8DE6F569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B315-E1AC-4062-883A-C313FCDD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CB32-5382-49FE-96F3-6BA3CCFD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C190-97F8-447B-B1D6-5CB54E4A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6496-0EEC-4CF4-A2F5-82D8AE4E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85C8-810B-4E8B-BDE3-D6799E50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A5DC-B28E-4D77-8981-093DC461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33D0-DD93-4251-B2E8-FF0E28E7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6D4A-1613-4B65-922D-C04DA09326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Times New Roman"/>
              </a:rPr>
              <a:t>МБДОУ «Краснослободский детский сад комбинированного вида «Солнышко</a:t>
            </a:r>
            <a:r>
              <a:rPr b="0" lang="ru-RU" sz="1600" spc="-1" strike="noStrike">
                <a:solidFill>
                  <a:srgbClr val="333399"/>
                </a:solidFill>
                <a:latin typeface="Times New Roman"/>
              </a:rPr>
              <a:t>»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ектная деятельность на тему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: 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«Творчество без границ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240" y="419112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ководитель проекта : Русейкина Валерия, 6 лет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учные руководители: Чугункина Марина Анатольевна, Лютова Юлия Анатолье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сультант: Мещерякова Евгения Михайло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уратор проекта: Сальникова Юлия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проекта: Круглова Анастасия, Васильева По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rcRect l="0" t="5880" r="35303" b="0"/>
          <a:stretch/>
        </p:blipFill>
        <p:spPr>
          <a:xfrm>
            <a:off x="228600" y="2514600"/>
            <a:ext cx="2819520" cy="3657600"/>
          </a:xfrm>
          <a:prstGeom prst="rect">
            <a:avLst/>
          </a:prstGeom>
          <a:ln w="0">
            <a:noFill/>
          </a:ln>
        </p:spPr>
      </p:pic>
      <p:sp>
        <p:nvSpPr>
          <p:cNvPr id="81" name="TextBox 9"/>
          <p:cNvSpPr/>
          <p:nvPr/>
        </p:nvSpPr>
        <p:spPr>
          <a:xfrm>
            <a:off x="3505320" y="22860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 почему бы мне не создать св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ворческую мастерску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3505320" y="19810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С росписью по ткани мы уже знако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Создали страницу творческой мастерской на сайте детского с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80880" y="1523880"/>
            <a:ext cx="861084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685800" y="1447920"/>
            <a:ext cx="7315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762120" y="6248520"/>
            <a:ext cx="1523880" cy="36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1" descr="C:\Users\user\Pictures\скрин творческой мастерской.png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7"/>
          <p:cNvSpPr/>
          <p:nvPr/>
        </p:nvSpPr>
        <p:spPr>
          <a:xfrm flipV="1" rot="10800000">
            <a:off x="0" y="6609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сылка на сайт:  http://my-solnyshko.ru/tvorcheskaya-masterskay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Выбрали шабло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2971800" cy="2658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3"/>
          <a:stretch/>
        </p:blipFill>
        <p:spPr>
          <a:xfrm>
            <a:off x="5029200" y="1219320"/>
            <a:ext cx="2971800" cy="2655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3048120" y="4191120"/>
            <a:ext cx="28191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ринимаем зака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267080" cy="3505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4648320" y="1447920"/>
            <a:ext cx="4267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6000" spc="-1" strike="noStrike">
                <a:solidFill>
                  <a:srgbClr val="333399"/>
                </a:solidFill>
                <a:latin typeface="Arial"/>
              </a:rPr>
              <a:t>Спасибо за вним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colorful-child-hand-prints-royalty-free-stock-photo-image-30867285-159849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colorful-child-hand-prints-royalty-free-stock-photo-image-30867285-159849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olorful-child-hand-prints-royalty-free-stock-photo-image-30867285-1598492"/>
          <p:cNvPicPr/>
          <p:nvPr/>
        </p:nvPicPr>
        <p:blipFill>
          <a:blip r:embed="rId4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5"/>
          <a:stretch/>
        </p:blipFill>
        <p:spPr>
          <a:xfrm>
            <a:off x="1219320" y="457200"/>
            <a:ext cx="6400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Увеличиваем до нужных размеров. Обрабатываем в специальной програм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IMG_20180920_112716"/>
          <p:cNvPicPr/>
          <p:nvPr/>
        </p:nvPicPr>
        <p:blipFill>
          <a:blip r:embed="rId2"/>
          <a:stretch/>
        </p:blipFill>
        <p:spPr>
          <a:xfrm>
            <a:off x="533520" y="2209680"/>
            <a:ext cx="3886200" cy="327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IMG_20180920_112824"/>
          <p:cNvPicPr/>
          <p:nvPr/>
        </p:nvPicPr>
        <p:blipFill>
          <a:blip r:embed="rId3"/>
          <a:stretch/>
        </p:blipFill>
        <p:spPr>
          <a:xfrm>
            <a:off x="4800600" y="2209680"/>
            <a:ext cx="3505320" cy="3276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9"/>
          <p:cNvSpPr/>
          <p:nvPr/>
        </p:nvSpPr>
        <p:spPr>
          <a:xfrm>
            <a:off x="2590920" y="1676520"/>
            <a:ext cx="39621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Просим помочь взросл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4038840" cy="426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3"/>
          <a:stretch/>
        </p:blipFill>
        <p:spPr>
          <a:xfrm>
            <a:off x="4800600" y="533520"/>
            <a:ext cx="4191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1600200" y="304920"/>
            <a:ext cx="5867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Наносим рисунок на издел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4800600" y="1219320"/>
            <a:ext cx="3276720" cy="2590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3"/>
          <a:stretch/>
        </p:blipFill>
        <p:spPr>
          <a:xfrm>
            <a:off x="609480" y="1066680"/>
            <a:ext cx="3581640" cy="278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4"/>
          <a:stretch/>
        </p:blipFill>
        <p:spPr>
          <a:xfrm>
            <a:off x="609480" y="3962520"/>
            <a:ext cx="3581640" cy="2701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"/>
          <p:cNvPicPr/>
          <p:nvPr/>
        </p:nvPicPr>
        <p:blipFill>
          <a:blip r:embed="rId5"/>
          <a:stretch/>
        </p:blipFill>
        <p:spPr>
          <a:xfrm>
            <a:off x="4800600" y="3962520"/>
            <a:ext cx="3276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Мой подарок для ма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3200400" cy="3124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3429000" y="1143000"/>
            <a:ext cx="3048120" cy="3124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3"/>
          <a:stretch/>
        </p:blipFill>
        <p:spPr>
          <a:xfrm>
            <a:off x="6553080" y="1143000"/>
            <a:ext cx="2590920" cy="3048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4"/>
          <a:stretch/>
        </p:blipFill>
        <p:spPr>
          <a:xfrm>
            <a:off x="2057400" y="4457880"/>
            <a:ext cx="426708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10e09"/>
                </a:solidFill>
                <a:latin typeface="Times New Roman"/>
              </a:rPr>
              <a:t>Задач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иск эксклюзивной сувенирной продук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ализ предлагаемой 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творческой мастер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ке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ор шабло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ть страницу творческой мастерской на сайте детского с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корирование готовых шабл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ение проду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Готовые пода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2438280" cy="4267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3"/>
          <a:stretch/>
        </p:blipFill>
        <p:spPr>
          <a:xfrm>
            <a:off x="3124080" y="1143000"/>
            <a:ext cx="2819520" cy="42670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304920" y="5486400"/>
            <a:ext cx="2286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артук для ма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124080" y="5486400"/>
            <a:ext cx="28958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утболка для сестр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4"/>
          <a:stretch/>
        </p:blipFill>
        <p:spPr>
          <a:xfrm>
            <a:off x="6172200" y="1143000"/>
            <a:ext cx="2666880" cy="42670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"/>
          <p:cNvSpPr/>
          <p:nvPr/>
        </p:nvSpPr>
        <p:spPr>
          <a:xfrm>
            <a:off x="6172200" y="5486400"/>
            <a:ext cx="26668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утболка для па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8"/>
          <p:cNvSpPr/>
          <p:nvPr/>
        </p:nvSpPr>
        <p:spPr>
          <a:xfrm>
            <a:off x="533520" y="30492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Оформляем футболки к празд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IMG_20181011_155602"/>
          <p:cNvPicPr/>
          <p:nvPr/>
        </p:nvPicPr>
        <p:blipFill>
          <a:blip r:embed="rId2"/>
          <a:stretch/>
        </p:blipFill>
        <p:spPr>
          <a:xfrm>
            <a:off x="4800600" y="1371600"/>
            <a:ext cx="3962520" cy="327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IMG_20181011_155449"/>
          <p:cNvPicPr/>
          <p:nvPr/>
        </p:nvPicPr>
        <p:blipFill>
          <a:blip r:embed="rId3"/>
          <a:stretch/>
        </p:blipFill>
        <p:spPr>
          <a:xfrm>
            <a:off x="457200" y="1371600"/>
            <a:ext cx="3962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Заключ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ходе выполнения проекта, мы открыли свою творческую мастерскую по изготовлению эксклюзивных подарков по индивидуальному рисунку клиента.  Получили удовлетворение от проделанной работы и доставили радость заказчик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Заключ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6000" spc="-1" strike="noStrike">
                <a:solidFill>
                  <a:srgbClr val="333399"/>
                </a:solidFill>
                <a:latin typeface="Arial"/>
              </a:rPr>
              <a:t>Спасибо за вним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colorful-child-hand-prints-royalty-free-stock-photo-image-30867285-159849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colorful-child-hand-prints-royalty-free-stock-photo-image-30867285-159849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colorful-child-hand-prints-royalty-free-stock-photo-image-30867285-1598492"/>
          <p:cNvPicPr/>
          <p:nvPr/>
        </p:nvPicPr>
        <p:blipFill>
          <a:blip r:embed="rId4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colorful-child-hand-prints-royalty-free-stock-photo-image-30867285-1598492"/>
          <p:cNvPicPr/>
          <p:nvPr/>
        </p:nvPicPr>
        <p:blipFill>
          <a:blip r:embed="rId5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colorful-child-hand-prints-royalty-free-stock-photo-image-30867285-1598492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0666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10e09"/>
                </a:solidFill>
                <a:latin typeface="Times New Roman"/>
              </a:rPr>
              <a:t>Решаемая проблема</a:t>
            </a:r>
            <a:br>
              <a:rPr sz="3200"/>
            </a:br>
            <a:br>
              <a:rPr sz="32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дарок должен быть эксклюзивным, индивидуальным, созданным по желанию покупател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1" i="1" lang="ru-RU" sz="3200" spc="-1" strike="noStrike">
                <a:solidFill>
                  <a:srgbClr val="d10e09"/>
                </a:solidFill>
                <a:latin typeface="Arial"/>
              </a:rPr>
              <a:t>Цель проекта</a:t>
            </a:r>
            <a:br>
              <a:rPr sz="3200"/>
            </a:br>
            <a:br>
              <a:rPr sz="32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оздание эксклюзивного подарка по эскизу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ru-RU" sz="1800" spc="-1" strike="noStrike">
                <a:solidFill>
                  <a:srgbClr val="d10e09"/>
                </a:solidFill>
                <a:latin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10e09"/>
                </a:solidFill>
                <a:latin typeface="Arial"/>
              </a:rPr>
              <a:t>Актуальность проекта</a:t>
            </a:r>
            <a:br>
              <a:rPr sz="28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одукция магазинов нашего города не отличается разнообразием сувениров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Выбрать индивидуальный подарок нелегко. 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ы хотим  создать свою творческую мастерскую изготовления подарков  по индивидуальному эскизу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на должна отвечать всем запросам клиента и экономить его врем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2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IMG_20180907_132611"/>
          <p:cNvPicPr/>
          <p:nvPr/>
        </p:nvPicPr>
        <p:blipFill>
          <a:blip r:embed="rId2"/>
          <a:stretch/>
        </p:blipFill>
        <p:spPr>
          <a:xfrm>
            <a:off x="304920" y="838080"/>
            <a:ext cx="2819160" cy="2362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IMG_20180907_132630"/>
          <p:cNvPicPr/>
          <p:nvPr/>
        </p:nvPicPr>
        <p:blipFill>
          <a:blip r:embed="rId3"/>
          <a:stretch/>
        </p:blipFill>
        <p:spPr>
          <a:xfrm>
            <a:off x="3200400" y="838080"/>
            <a:ext cx="2819520" cy="2362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IMG_20180907_132722"/>
          <p:cNvPicPr/>
          <p:nvPr/>
        </p:nvPicPr>
        <p:blipFill>
          <a:blip r:embed="rId4"/>
          <a:stretch/>
        </p:blipFill>
        <p:spPr>
          <a:xfrm>
            <a:off x="6095880" y="838080"/>
            <a:ext cx="2819520" cy="237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IMG_20180907_134135"/>
          <p:cNvPicPr/>
          <p:nvPr/>
        </p:nvPicPr>
        <p:blipFill>
          <a:blip r:embed="rId5"/>
          <a:stretch/>
        </p:blipFill>
        <p:spPr>
          <a:xfrm>
            <a:off x="304920" y="3352680"/>
            <a:ext cx="2819160" cy="28195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1828800" y="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80880" y="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Выбираем подарок…. Он должен быть не похожий на другие, нести какую-либо информацию, быть индивиду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IMG_20180907_133203"/>
          <p:cNvPicPr/>
          <p:nvPr/>
        </p:nvPicPr>
        <p:blipFill>
          <a:blip r:embed="rId6"/>
          <a:stretch/>
        </p:blipFill>
        <p:spPr>
          <a:xfrm>
            <a:off x="3276720" y="3352680"/>
            <a:ext cx="2743200" cy="2819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IMG_20180907_133101"/>
          <p:cNvPicPr/>
          <p:nvPr/>
        </p:nvPicPr>
        <p:blipFill>
          <a:blip r:embed="rId7"/>
          <a:stretch/>
        </p:blipFill>
        <p:spPr>
          <a:xfrm>
            <a:off x="6095880" y="3352680"/>
            <a:ext cx="2895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Выбираем подарок по катал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343400" cy="3886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4952880" y="129528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Меня заинтересовали футболки с рисун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MG_20180907_133357_1"/>
          <p:cNvPicPr/>
          <p:nvPr/>
        </p:nvPicPr>
        <p:blipFill>
          <a:blip r:embed="rId2"/>
          <a:stretch/>
        </p:blipFill>
        <p:spPr>
          <a:xfrm>
            <a:off x="304920" y="1447920"/>
            <a:ext cx="3809880" cy="4267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IMG_20180907_133445"/>
          <p:cNvPicPr/>
          <p:nvPr/>
        </p:nvPicPr>
        <p:blipFill>
          <a:blip r:embed="rId3"/>
          <a:stretch/>
        </p:blipFill>
        <p:spPr>
          <a:xfrm>
            <a:off x="4648320" y="1447920"/>
            <a:ext cx="3886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существлять свою идею я начала с посещения фабрики, где нас познакомили с нанесением рисунка на тк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SAM_2879"/>
          <p:cNvPicPr/>
          <p:nvPr/>
        </p:nvPicPr>
        <p:blipFill>
          <a:blip r:embed="rId2"/>
          <a:stretch/>
        </p:blipFill>
        <p:spPr>
          <a:xfrm>
            <a:off x="457200" y="1828800"/>
            <a:ext cx="3753000" cy="4038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SAM_2888"/>
          <p:cNvPicPr/>
          <p:nvPr/>
        </p:nvPicPr>
        <p:blipFill>
          <a:blip r:embed="rId3"/>
          <a:stretch/>
        </p:blipFill>
        <p:spPr>
          <a:xfrm>
            <a:off x="4648320" y="1828800"/>
            <a:ext cx="3562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роводим анкетирование о создании творческой мастер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IMG_20180920_113127"/>
          <p:cNvPicPr/>
          <p:nvPr/>
        </p:nvPicPr>
        <p:blipFill>
          <a:blip r:embed="rId2"/>
          <a:stretch/>
        </p:blipFill>
        <p:spPr>
          <a:xfrm>
            <a:off x="457200" y="1523880"/>
            <a:ext cx="3505320" cy="4267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IMG_20180920_113359"/>
          <p:cNvPicPr/>
          <p:nvPr/>
        </p:nvPicPr>
        <p:blipFill>
          <a:blip r:embed="rId3"/>
          <a:stretch/>
        </p:blipFill>
        <p:spPr>
          <a:xfrm>
            <a:off x="4343400" y="1828800"/>
            <a:ext cx="3886200" cy="39625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2666880" y="5029200"/>
            <a:ext cx="39625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Мастерская нужна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7T04:03:40Z</dcterms:created>
  <dc:creator>1</dc:creator>
  <dc:description/>
  <dc:language>en-US</dc:language>
  <cp:lastModifiedBy>user</cp:lastModifiedBy>
  <dcterms:modified xsi:type="dcterms:W3CDTF">2018-10-19T08:51:58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