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86B-763E-4AB0-B15D-A11083CE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63B-BB46-43AA-BF5A-5044B5BC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665-C0A5-4EFA-A45B-85DA6C30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DCF-DC61-4BB4-A16A-783453C8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D72E-957F-4741-AE02-330129F9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0D57-ED31-46C2-9FFC-34982221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2918-EBF4-4804-9459-0E854E8C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3078-EFDE-4C97-894E-1B6547A2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61B4-AFFE-49C1-AC3C-2F3E7B00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C6DF-BF0D-4F65-92AD-15663A89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BAF5-E9A5-4FBD-AF34-5BAB0D0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D0E-6270-4ADC-A047-36ED084C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3C2-FE81-4AA0-A228-60BF67A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607-D369-4D38-BC2F-B9BEA37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9892-DD72-4F23-B968-2CF263A6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3D17-2DC3-44EC-9E6A-36695DFB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A33A-6E17-4CD2-9BC4-99A950B4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37FB3-5975-4ED7-85D5-4EB9D41A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A68D-4FE0-4E7A-BCD9-32F60EF1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2E3B-E715-40AE-8B0C-E9B69DF0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186D-D2CC-4DD0-95DA-124A35CB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C8305-2167-4B82-AC50-F3AE6D1F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94FC-B9BC-4B41-803E-8E5714B2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057E-BED6-4BA0-9E79-1FE108AC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BDF2-A80C-4A59-B7DE-5CF7385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0BE4-85D9-42BF-B79B-9AF56747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9E27-9B8C-4C5B-88C3-C9596F30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CE3E-7677-491A-B752-03FD6A8A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C5B9-62AF-4CE5-99FA-492EC6DE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E6C9-9F60-4D63-8E6E-9EF7EE0D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D32-07AA-4E4F-B2A2-81DDDB4F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E1E-FF30-49DD-A07A-A9F64DC7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5EE-A1C8-46A2-A5CA-0879B940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F76-E40E-41B7-BA58-D74AF186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45C-81EC-47CB-81B6-2EEF1F3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920-D158-4CFF-AC3B-184C00C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5517-345A-4BB6-BB36-E5AC6B24184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052-9ECB-4C17-8998-8C1BF71D182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65F9-14BD-4494-B040-CC0A288C3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ние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пределите отрывки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уппы и докажите. Назов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, из которых взяты отры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группа:                                     2 групп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920" y="189000"/>
            <a:ext cx="8642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та в группе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д каким произведением работ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авт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равится ли автору время года, описанное в стихотворе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отрабатыва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нравилось ли вам стихотворение? 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00000" y="189000"/>
            <a:ext cx="7272360" cy="11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тог уро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берит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рисовать картину к стихотворению и подготовить выразительное ч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учить стихотворение наизу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чинить стихотворение о зи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1280" y="189000"/>
            <a:ext cx="78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Уж небо осенью дышало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Уж реже солнышко блистало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Короче становился день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Лесов таинственная сень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Monotype Corsiva"/>
              </a:rPr>
              <a:t>С печальным шумом обнажалась …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есяц под косой блестит,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А во лбу звезда горит.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А сама-то величава,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Выступает, будто пава..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…Только месяц показался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н за ним с мольбой погнался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“Месяц, месяц, мой дружок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золоченный рожок!...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ы встаешь во тьме глубокой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руглолицый, светлоокий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, обычай своей любя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Аль откажешь мне в ответе?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 видал ли где на свете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Ты царевны молодой?»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«…Чуть опасность где видна,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Верный сторож, как со сна,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Шевельнется, встрепенется,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К той сторонке обернется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И кричит: “Кири-ку-ку.</a:t>
            </a:r>
            <a:br>
              <a:rPr sz="1500"/>
            </a:br>
            <a:r>
              <a:rPr b="0" lang="ru-RU" sz="1500" spc="-1" strike="noStrike" u="sng">
                <a:solidFill>
                  <a:srgbClr val="000000"/>
                </a:solidFill>
                <a:uFillTx/>
                <a:latin typeface="Arial"/>
              </a:rPr>
              <a:t>Царствуй лежа на боку!»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«… За весной, красой природы,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Лето знойное пройдёт –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 туман и непогоды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сень поздняя несёт…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00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549360"/>
          <a:ext cx="8713800" cy="5959440"/>
        </p:xfrm>
        <a:graphic>
          <a:graphicData uri="http://schemas.openxmlformats.org/drawingml/2006/table">
            <a:tbl>
              <a:tblPr/>
              <a:tblGrid>
                <a:gridCol w="4356720"/>
                <a:gridCol w="4357080"/>
              </a:tblGrid>
              <a:tr h="160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 небо осенью дышало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ж реже солнышко блистало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че становился день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в таинственная сен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ечальным шумом обнажалась …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 под косой блестит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во лбу звезда горит.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сама-то величава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ает, будто пава..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… За весной, красой природы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 знойное пройдёт –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туман и непого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ень поздняя несёт…»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…Только месяц показался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за ним с мольбой погнался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Месяц, месяц, мой дружок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олоченный рожок!...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встаешь во тьме глубокой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лолицый, светлоокий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, обычай своей любя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 откажешь мне в ответе?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идал ли где на свете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царевны молодой?»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 тот год осенняя по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яла долго на дворе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ы ждала, ждала природ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 выпал только в январ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ретье в ночь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…Чуть опасность где видна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ый сторож, как со сна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вельнется, встрепенется,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той сторонке обернется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ричит: “Кири-ку-ку.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рствуй лежа на боку!»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000" y="836280"/>
            <a:ext cx="8351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E:\новое\новое\pushkin_32.jpg"/>
          <p:cNvPicPr/>
          <p:nvPr/>
        </p:nvPicPr>
        <p:blipFill>
          <a:blip r:embed="rId1"/>
          <a:stretch/>
        </p:blipFill>
        <p:spPr>
          <a:xfrm>
            <a:off x="1258920" y="2421000"/>
            <a:ext cx="6408720" cy="426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68360" y="189000"/>
            <a:ext cx="799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ександр Сергеевич Пушкин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197000"/>
            <a:ext cx="8569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В тот год осенняя погода… 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рт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веточные грядки, клум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ры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4360" y="333360"/>
            <a:ext cx="792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ловарная рабо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бота над труднопроизносимыми слов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49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-снув-шись – проснувши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-бе-лев-ший –побелевш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-лан-ные – устла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ис-та-тель-ным – блистательны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побелевший двор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куртины, кровли, забор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на стёклах лёгкие узо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деревья в зимнем сереб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сорок весёлых на дво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ртина 5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мягко устланные горы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имы блистательным ковр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над содержанием 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ерите настро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ставьте логическое уда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ставьте пауз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читайте выразитель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260280"/>
            <a:ext cx="84960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та над выразительным чтением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79280" y="1628280"/>
            <a:ext cx="4464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ча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т год осенняя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яла долго на дв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ы ждала, ждала при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ег выпал только в янв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ретье в н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932000" y="1628280"/>
            <a:ext cx="4211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нувшись ра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кно увидела Тать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утру побелевший дв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тины, кровли и заб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теклах легкие уз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55640" y="4221000"/>
            <a:ext cx="48178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ья в зимнем сереб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рок весёлых на д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ягко устланные 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ы блистательным ков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ярко, все бело кру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390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: соберите части стихотво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95280" y="0"/>
            <a:ext cx="820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бота в паре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5:37:53Z</dcterms:created>
  <dc:creator>светик</dc:creator>
  <dc:description/>
  <dc:language>en-US</dc:language>
  <cp:lastModifiedBy>светик</cp:lastModifiedBy>
  <dcterms:modified xsi:type="dcterms:W3CDTF">2009-10-26T18:25:46Z</dcterms:modified>
  <cp:revision>11</cp:revision>
  <dc:subject/>
  <dc:title>PowerPoint Presentation</dc:title>
</cp:coreProperties>
</file>