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E5D-1F57-4D8B-AECC-E219117C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47A-0298-4FFB-9489-56431774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311-7C70-403C-B258-F0D62309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F14-80B4-4344-83C7-AAE16136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BF19-A669-45BC-AA76-3FCD8F16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8BE7-D05A-4D0B-837B-AD974A6C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1D15-81C0-4E61-BABE-CF74AB10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5FE9-4C18-4AB2-A053-B80234D6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A09C-9DDF-4E8A-B6DC-4B09227F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F90F-BC95-44F2-AE92-BC01B311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64F6-3C7F-438D-BCF7-866BFE4B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4AD-344B-4D16-A8DE-DE02F554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BCFF-13A1-4B1F-95F6-E25B3F9A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8A46-79BB-4A93-9A98-7ADF2619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5732-E226-4243-8C03-0396AD2B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7614-8474-46AF-9AAB-2400711F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0491-43BD-426E-96F4-FC837F19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FFEA-EBF7-4D95-8A6C-7194AC76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7870-5B2C-402C-B0B9-F6B4972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E0E8-8A03-42C5-902E-626E4FF0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BADC-F3A8-4F65-99D1-E1EB66E1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5112-03CD-4324-85E1-AF32464E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DCB-748E-4B05-9956-CE9D5912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04C3-EFD9-4D9F-84BE-2DC49DAF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6D98-62D5-42EC-9A1F-3C263A78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99E2-B23A-424B-A35C-21052E26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C532-E17A-486F-AC02-1930976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F0AB-28A4-42B7-AD0F-4F418783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9B52-1133-461F-B170-2A2FB9F7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1A538-B1F0-4E12-834D-972CEA6C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3FD-4FFF-4AB1-B940-E4CA9DC5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4F1-0936-45F9-8FF6-C519F0F4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A44-48C2-4A14-948C-629062A1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2C6-AF5E-47D4-87CE-D047A54F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109-EA7A-4B2F-A235-5F30ED75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2F8-EC76-4C12-9CE0-A47EAC8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3A72-3776-40CB-8167-A5E5D680922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03C0-D5B6-427E-A6CD-116A2C5E5F9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B186-A9D3-4F72-BA1A-9073F104A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пределите отрывки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ы и докажите. Назов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, из которых взяты отры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группа:                                     2 групп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89000"/>
            <a:ext cx="8642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та в группе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д каким произведением работ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авт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равится ли автору время года, описанное в стихотворе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отрабатыв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равилось ли вам стихотворение? 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00000" y="189000"/>
            <a:ext cx="7272360" cy="11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тог уро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ерит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исовать картину к стихотворению и подготовить выразительное ч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учить стихотворение наизу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чинить стихотворение о зи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1280" y="18900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Уж небо осенью дышало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Уж реже солнышко блистало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Короче становился день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Лесов таинственная сень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С печальным шумом обнажалась …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есяц под косой блестит,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А во лбу звезда горит.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А сама-то величава,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Выступает, будто пава..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…Только месяц показался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н за ним с мольбой погнался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“Месяц, месяц, мой дружок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олоченный рожок!..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ы встаешь во тьме глубокой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углолицый, светлоокий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, обычай своей любя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ль откажешь мне в ответе?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 видал ли где на свете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ы царевны молодой?»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«…Чуть опасность где видна,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Верный сторож, как со сна,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Шевельнется, встрепенется,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К той сторонке обернется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И кричит: “Кири-ку-ку.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Царствуй лежа на боку!»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… За весной, красой природы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ето знойное пройдёт –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 туман и непогоды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сень поздняя несёт…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00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групп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549360"/>
          <a:ext cx="8713800" cy="5959440"/>
        </p:xfrm>
        <a:graphic>
          <a:graphicData uri="http://schemas.openxmlformats.org/drawingml/2006/table">
            <a:tbl>
              <a:tblPr/>
              <a:tblGrid>
                <a:gridCol w="4356720"/>
                <a:gridCol w="4357080"/>
              </a:tblGrid>
              <a:tr h="16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 небо осенью дышало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 реже солнышко блистало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че становился день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в таинственная сен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ечальным шумом обнажалась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 под косой блестит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во лбу звезда горит.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сама-то величава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ет, будто пава..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… За весной, красой природы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знойное пройдёт –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уман и непого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нь поздняя несёт…»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…Только месяц показался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за ним с мольбой погнался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Месяц, месяц, мой дружок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олоченный рожок!...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встаешь во тьме глубокой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олицый, светлоокий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, обычай своей любя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 откажешь мне в ответе?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идал ли где на свете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царевны молодой?»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 тот год осенняя по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яла долго на дворе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ы ждала, ждала природ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 выпал только в январ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ретье в ночь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…Чуть опасность где видна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ый сторож, как со сна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вельнется, встрепенется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той сторонке обернется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ричит: “Кири-ку-ку.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рствуй лежа на боку!»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000" y="836280"/>
            <a:ext cx="8351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E:\новое\новое\pushkin_32.jpg"/>
          <p:cNvPicPr/>
          <p:nvPr/>
        </p:nvPicPr>
        <p:blipFill>
          <a:blip r:embed="rId1"/>
          <a:stretch/>
        </p:blipFill>
        <p:spPr>
          <a:xfrm>
            <a:off x="1258920" y="2421000"/>
            <a:ext cx="6408720" cy="426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68360" y="189000"/>
            <a:ext cx="799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ександр Сергеевич Пушкин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197000"/>
            <a:ext cx="8569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В тот год осенняя погода… 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т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веточные грядки, клум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р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360" y="333360"/>
            <a:ext cx="792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ловарная рабо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бота над труднопроизносимыми слов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49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-снув-шись – проснувши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-бе-лев-ший –побелевш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-лан-ные – устл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лис-та-тель-ным – блистательны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побелевший двор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куртины, кровли, забор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на стёклах лёгкие узо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деревья в зимнем сереб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сорок весёлых на дво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5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мягко устланные гор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имы блистательным ковр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над содержанием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ерите настро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ставьте логическое уда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ставьте пауз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йте выразитель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260280"/>
            <a:ext cx="84960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та над выразительным чтением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79280" y="1628280"/>
            <a:ext cx="4464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ча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т год осенняя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ла долго на дв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ы ждала, ждала при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ег выпал только в янв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ретье в н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32000" y="1628280"/>
            <a:ext cx="4211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нувшись ра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кно увидел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утру побелевший дв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тины, кровли и заб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еклах легкие уз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55640" y="4221000"/>
            <a:ext cx="481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ья в зимнем сереб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ок весёлых на д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ягко устланные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ы блистательным ков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ярко, все бело к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390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: соберите части стихотво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0"/>
            <a:ext cx="820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бота в паре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5:37:53Z</dcterms:created>
  <dc:creator>светик</dc:creator>
  <dc:description/>
  <dc:language>en-US</dc:language>
  <cp:lastModifiedBy>светик</cp:lastModifiedBy>
  <dcterms:modified xsi:type="dcterms:W3CDTF">2009-10-26T18:25:46Z</dcterms:modified>
  <cp:revision>11</cp:revision>
  <dc:subject/>
  <dc:title>PowerPoint Presentation</dc:title>
</cp:coreProperties>
</file>