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9.gif" ContentType="image/gif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3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1EE-E866-4957-B6EA-453A659E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F9D-2A56-49F9-8DB3-3478DCC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80A-FED6-4F06-B427-5FDE9A02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6CB-D32A-4B0F-9DF6-437BE961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D9C-5291-46EA-AAFB-48432336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688-F5AF-4765-8EC3-4BB61F0B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D59-191D-44D7-96AF-25A18E21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F0B-02D5-405B-9D60-A1F4C932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40F-E46B-4C31-9CF6-FAD23AF1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F77-9D1C-4896-BFFE-80E920B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319-25B7-4EE5-89D8-C8D3FC91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664-4104-42D6-A1BA-2927A12D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137-4347-49B0-82C8-A3DEEC36D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C:\Documents and Settings\Елена\Мои документы\Мои рисунки\картинки1\603003.JPG"/>
          <p:cNvPicPr/>
          <p:nvPr/>
        </p:nvPicPr>
        <p:blipFill>
          <a:blip r:embed="rId1"/>
          <a:stretch/>
        </p:blipFill>
        <p:spPr>
          <a:xfrm>
            <a:off x="-5000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9"/>
          <p:cNvSpPr/>
          <p:nvPr/>
        </p:nvSpPr>
        <p:spPr>
          <a:xfrm>
            <a:off x="785880" y="571680"/>
            <a:ext cx="7215120" cy="5451120"/>
          </a:xfrm>
          <a:custGeom>
            <a:avLst/>
            <a:gdLst>
              <a:gd name="textAreaLeft" fmla="*/ 642240 w 7215120"/>
              <a:gd name="textAreaRight" fmla="*/ 6572880 w 7215120"/>
              <a:gd name="textAreaTop" fmla="*/ 642240 h 5451120"/>
              <a:gd name="textAreaBottom" fmla="*/ 4808880 h 5451120"/>
            </a:gdLst>
            <a:ahLst/>
            <a:rect l="textAreaLeft" t="textAreaTop" r="textAreaRight" b="textAreaBottom"/>
            <a:pathLst>
              <a:path w="285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89" y="21600"/>
                </a:lnTo>
                <a:arcTo wR="3600" hR="3600" stAng="10800000" swAng="5400000"/>
                <a:lnTo>
                  <a:pt x="28589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999360" y="932040"/>
            <a:ext cx="7073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Здравствуй, лес, дремучий ле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Полный сказок и чуд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о чем шумишь лист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Ночью темной, грозо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нам шепчешь на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есь в росе, как в сереб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Кто в глуши твоей та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Что за зверь? Какая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Все открой, не ута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roadway"/>
              </a:rPr>
              <a:t>Ты же видишь, мы с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acaciann.mp3" descr=""/>
          <p:cNvPicPr/>
          <p:nvPr/>
        </p:nvPicPr>
        <p:blipFill>
          <a:blip r:embed="rId2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50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95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80" nodeType="afterEffect" fill="hold" presetClass="entr" presetID="8" presetSubtype="32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0"/>
                                      </p:cond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85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4150"/>
                            </p:stCondLst>
                            <p:childTnLst>
                              <p:par>
                                <p:cTn id="89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5" descr="Рисунок3"/>
          <p:cNvPicPr/>
          <p:nvPr/>
        </p:nvPicPr>
        <p:blipFill>
          <a:blip r:embed="rId2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843280" y="189000"/>
            <a:ext cx="608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РУСЫ 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0" y="0"/>
            <a:ext cx="2771640" cy="2158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-181080" y="109800"/>
            <a:ext cx="292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Дом со всех сторон откры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Заходя в зеленый до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Чудеса увидишь в н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9"/>
          <p:cNvSpPr/>
          <p:nvPr/>
        </p:nvSpPr>
        <p:spPr>
          <a:xfrm>
            <a:off x="285840" y="5850000"/>
            <a:ext cx="7765920" cy="10080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ТРАВЯ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1"/>
          <p:cNvSpPr/>
          <p:nvPr/>
        </p:nvSpPr>
        <p:spPr>
          <a:xfrm>
            <a:off x="214200" y="4643280"/>
            <a:ext cx="6623280" cy="1008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КУСТАРНИЧ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4"/>
          <p:cNvSpPr/>
          <p:nvPr/>
        </p:nvSpPr>
        <p:spPr>
          <a:xfrm>
            <a:off x="250920" y="3357720"/>
            <a:ext cx="5607000" cy="100800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КУСТАРНИ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250920" y="2060640"/>
            <a:ext cx="4178160" cy="100800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ДРЕВЕ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5"/>
          <p:cNvSpPr/>
          <p:nvPr/>
        </p:nvSpPr>
        <p:spPr>
          <a:xfrm>
            <a:off x="755640" y="6021360"/>
            <a:ext cx="7704000" cy="58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 flipV="1">
            <a:off x="-5508720" y="1052280"/>
            <a:ext cx="1497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безымянный5"/>
          <p:cNvPicPr/>
          <p:nvPr/>
        </p:nvPicPr>
        <p:blipFill>
          <a:blip r:embed="rId2"/>
          <a:stretch/>
        </p:blipFill>
        <p:spPr>
          <a:xfrm>
            <a:off x="1258920" y="1413000"/>
            <a:ext cx="6626160" cy="4464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539640" y="0"/>
            <a:ext cx="8280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с – это природное сообщ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-491760" y="6021360"/>
            <a:ext cx="102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Monotype Corsiva"/>
                <a:ea typeface="Arial"/>
              </a:rPr>
              <a:t>Все растения и животные тесно связаны между со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25800" y="167472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5280" y="3135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49280" y="450360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598160" y="335772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667640" y="46530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949800" y="15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5"/>
          <p:cNvSpPr txBox="1"/>
          <p:nvPr/>
        </p:nvSpPr>
        <p:spPr>
          <a:xfrm>
            <a:off x="324000" y="260280"/>
            <a:ext cx="5616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ВЕСТИ СЕБЯ В ЛЕС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7" descr="J0231430"/>
          <p:cNvPicPr/>
          <p:nvPr/>
        </p:nvPicPr>
        <p:blipFill>
          <a:blip r:embed="rId2"/>
          <a:stretch/>
        </p:blipFill>
        <p:spPr>
          <a:xfrm>
            <a:off x="6227640" y="189000"/>
            <a:ext cx="2448000" cy="2082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4068720" y="5214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684720" y="1916280"/>
            <a:ext cx="44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убить живые дере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116000" y="2565360"/>
            <a:ext cx="63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водить костры под деревья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771640" y="407664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оставлять банки и бумаг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3492360" y="479736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вать цвет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428720" y="5589720"/>
            <a:ext cx="34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разорять гнез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7"/>
          <p:cNvSpPr/>
          <p:nvPr/>
        </p:nvSpPr>
        <p:spPr>
          <a:xfrm>
            <a:off x="1980720" y="3284640"/>
            <a:ext cx="60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Не брать детенышей зверей дом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J0214918"/>
          <p:cNvPicPr/>
          <p:nvPr/>
        </p:nvPicPr>
        <p:blipFill>
          <a:blip r:embed="rId3"/>
          <a:stretch/>
        </p:blipFill>
        <p:spPr>
          <a:xfrm>
            <a:off x="324000" y="4653000"/>
            <a:ext cx="194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24000" y="476280"/>
            <a:ext cx="8351640" cy="57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Бумага, брошенная в лесу, должна пролежать минимум 3 года, прежде, чем распадётся на составные компон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еталлическая консервная банка должна по тем же причинам пролежать 15 – 2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теклянные банки и бутылки, брошенные в лесу, особенно если они разбиты, превращаются в линзы, что приводит к самовозгоранию лесной подст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250920" y="260280"/>
            <a:ext cx="756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этим стоит задуматься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6" descr="J0076146"/>
          <p:cNvPicPr/>
          <p:nvPr/>
        </p:nvPicPr>
        <p:blipFill>
          <a:blip r:embed="rId2"/>
          <a:stretch/>
        </p:blipFill>
        <p:spPr>
          <a:xfrm>
            <a:off x="971640" y="5734080"/>
            <a:ext cx="4248000" cy="86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J0178115"/>
          <p:cNvPicPr/>
          <p:nvPr/>
        </p:nvPicPr>
        <p:blipFill>
          <a:blip r:embed="rId3"/>
          <a:stretch/>
        </p:blipFill>
        <p:spPr>
          <a:xfrm>
            <a:off x="8172360" y="549360"/>
            <a:ext cx="72396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J0215332"/>
          <p:cNvPicPr/>
          <p:nvPr/>
        </p:nvPicPr>
        <p:blipFill>
          <a:blip r:embed="rId4"/>
          <a:stretch/>
        </p:blipFill>
        <p:spPr>
          <a:xfrm>
            <a:off x="7093080" y="4941720"/>
            <a:ext cx="17906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0" descr="EXPO2577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XPO2517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5"/>
          <p:cNvSpPr/>
          <p:nvPr/>
        </p:nvSpPr>
        <p:spPr>
          <a:xfrm>
            <a:off x="642960" y="442908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до уважать все с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олзающих муравь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парящих в небе ор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J0287349"/>
          <p:cNvPicPr/>
          <p:nvPr/>
        </p:nvPicPr>
        <p:blipFill>
          <a:blip r:embed="rId3"/>
          <a:stretch/>
        </p:blipFill>
        <p:spPr>
          <a:xfrm>
            <a:off x="6084720" y="177336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1285920" y="3571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99"/>
                </a:solidFill>
                <a:latin typeface="Arial"/>
              </a:rPr>
              <a:t>Помните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12859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что видишь вокруг, нах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чень хрупк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ве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28760" y="3429000"/>
            <a:ext cx="43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Поля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357200" y="428760"/>
            <a:ext cx="6429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На одной план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Дружно жили д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Не разоряли гнезда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mbria"/>
              </a:rPr>
              <a:t>Ради нескольких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Не ловили по дубра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mbria"/>
              </a:rPr>
              <a:t>Рыжих белок для заб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Травку не топ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Cambria"/>
              </a:rPr>
              <a:t>Лес не загряз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Все старательно, с ум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Берегли  свой общи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Под названием Зем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ambria"/>
              </a:rPr>
              <a:t>Где живем и ты, и 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4:53:09Z</dcterms:created>
  <dc:creator>C4</dc:creator>
  <dc:description/>
  <dc:language>en-US</dc:language>
  <cp:lastModifiedBy>Максим Черкасов</cp:lastModifiedBy>
  <dcterms:modified xsi:type="dcterms:W3CDTF">2019-04-16T21:34:21Z</dcterms:modified>
  <cp:revision>76</cp:revision>
  <dc:subject/>
  <dc:title>Слайд 1</dc:title>
</cp:coreProperties>
</file>