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9.gif" ContentType="image/gif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3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C8A-9BC7-4A55-A54A-08127940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BC6-25AF-4E2B-A946-0D928A93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A73-0CF2-4D93-A232-58E57000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F8A-F450-4BFC-BDBE-8D707969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B24-3D43-49BF-BE12-57BE0F9D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F69-B9CA-4307-89FE-79326267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C29-E070-4FBC-84D8-55E2307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1E8-B8EF-44C5-B3DF-D5047ABC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3DF-33FA-439F-8C82-A02F36E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825-414B-4CBE-84F6-4BC0FE0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031-74B3-4C54-9058-B2C7E6E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46B-FF20-4532-8A4C-12EFE2B1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3598-BB91-4979-9EF7-28CD2F145D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C:\Documents and Settings\Елена\Мои документы\Мои рисунки\картинки1\603003.JPG"/>
          <p:cNvPicPr/>
          <p:nvPr/>
        </p:nvPicPr>
        <p:blipFill>
          <a:blip r:embed="rId1"/>
          <a:stretch/>
        </p:blipFill>
        <p:spPr>
          <a:xfrm>
            <a:off x="-5000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9"/>
          <p:cNvSpPr/>
          <p:nvPr/>
        </p:nvSpPr>
        <p:spPr>
          <a:xfrm>
            <a:off x="785880" y="571680"/>
            <a:ext cx="7215120" cy="5451120"/>
          </a:xfrm>
          <a:custGeom>
            <a:avLst/>
            <a:gdLst>
              <a:gd name="textAreaLeft" fmla="*/ 642240 w 7215120"/>
              <a:gd name="textAreaRight" fmla="*/ 6572880 w 7215120"/>
              <a:gd name="textAreaTop" fmla="*/ 642240 h 5451120"/>
              <a:gd name="textAreaBottom" fmla="*/ 4808880 h 5451120"/>
            </a:gdLst>
            <a:ahLst/>
            <a:rect l="textAreaLeft" t="textAreaTop" r="textAreaRight" b="textAreaBottom"/>
            <a:pathLst>
              <a:path w="285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989" y="21600"/>
                </a:lnTo>
                <a:arcTo wR="3600" hR="3600" stAng="10800000" swAng="5400000"/>
                <a:lnTo>
                  <a:pt x="28589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999360" y="932040"/>
            <a:ext cx="7073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Здравствуй, лес, дремучий ле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Полный сказок и чуд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Ты о чем шумишь лис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Ночью темной, грозо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Что нам шепчешь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Весь в росе, как в сереб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Кто в глуши твоей та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Что за зверь? Какая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Все открой, не ута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Ты же видишь, мы с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acaciann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50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95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650"/>
                            </p:stCondLst>
                            <p:childTnLst>
                              <p:par>
                                <p:cTn id="80" nodeType="afterEffect" fill="hold" presetClass="entr" presetID="8" presetSubtype="32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2650"/>
                            </p:stCondLst>
                            <p:childTnLst>
                              <p:par>
                                <p:cTn id="85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4150"/>
                            </p:stCondLst>
                            <p:childTnLst>
                              <p:par>
                                <p:cTn id="89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5" descr="Рисунок3"/>
          <p:cNvPicPr/>
          <p:nvPr/>
        </p:nvPicPr>
        <p:blipFill>
          <a:blip r:embed="rId2"/>
          <a:stretch/>
        </p:blipFill>
        <p:spPr>
          <a:xfrm>
            <a:off x="3314880" y="0"/>
            <a:ext cx="5829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2843280" y="189000"/>
            <a:ext cx="60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РУСЫ 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2771640" cy="2158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-181080" y="109800"/>
            <a:ext cx="292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Дом со всех сторон откры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Заходя в зеленый до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Чудеса увидишь в н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9"/>
          <p:cNvSpPr/>
          <p:nvPr/>
        </p:nvSpPr>
        <p:spPr>
          <a:xfrm>
            <a:off x="285840" y="5850000"/>
            <a:ext cx="7765920" cy="1008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ТРАВЯН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1"/>
          <p:cNvSpPr/>
          <p:nvPr/>
        </p:nvSpPr>
        <p:spPr>
          <a:xfrm>
            <a:off x="214200" y="4643280"/>
            <a:ext cx="6623280" cy="10083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КУСТАРНИЧ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4"/>
          <p:cNvSpPr/>
          <p:nvPr/>
        </p:nvSpPr>
        <p:spPr>
          <a:xfrm>
            <a:off x="250920" y="3357720"/>
            <a:ext cx="5607000" cy="100800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КУСТАРНИ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250920" y="2060640"/>
            <a:ext cx="4178160" cy="1008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ДРЕВЕ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xit" presetID="6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1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5"/>
          <p:cNvSpPr/>
          <p:nvPr/>
        </p:nvSpPr>
        <p:spPr>
          <a:xfrm>
            <a:off x="755640" y="6021360"/>
            <a:ext cx="7704000" cy="58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 flipV="1">
            <a:off x="-5508720" y="1052280"/>
            <a:ext cx="1497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безымянный5"/>
          <p:cNvPicPr/>
          <p:nvPr/>
        </p:nvPicPr>
        <p:blipFill>
          <a:blip r:embed="rId2"/>
          <a:stretch/>
        </p:blipFill>
        <p:spPr>
          <a:xfrm>
            <a:off x="1258920" y="1413000"/>
            <a:ext cx="6626160" cy="4464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539640" y="0"/>
            <a:ext cx="8280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с – это природное сообщ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-491760" y="6021360"/>
            <a:ext cx="102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Monotype Corsiva"/>
                <a:ea typeface="Arial"/>
              </a:rPr>
              <a:t>Все растения и животные тесно связаны между с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25800" y="167472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05280" y="3135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49280" y="4503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7598160" y="335772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7667640" y="46530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949800" y="15573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СЕКО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5"/>
          <p:cNvSpPr txBox="1"/>
          <p:nvPr/>
        </p:nvSpPr>
        <p:spPr>
          <a:xfrm>
            <a:off x="324000" y="260280"/>
            <a:ext cx="561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ВЕСТИ СЕБЯ В ЛЕС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7" descr="J0231430"/>
          <p:cNvPicPr/>
          <p:nvPr/>
        </p:nvPicPr>
        <p:blipFill>
          <a:blip r:embed="rId2"/>
          <a:stretch/>
        </p:blipFill>
        <p:spPr>
          <a:xfrm>
            <a:off x="6227640" y="189000"/>
            <a:ext cx="2448000" cy="2082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4068720" y="5214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84720" y="1916280"/>
            <a:ext cx="44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убить живые дере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1116000" y="2565360"/>
            <a:ext cx="63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азводить костры под деревья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771640" y="4076640"/>
            <a:ext cx="50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оставлять банки и бума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3492360" y="479736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вать цве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428720" y="5589720"/>
            <a:ext cx="34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азорять гнез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980720" y="3284640"/>
            <a:ext cx="60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брать детенышей зверей дом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J0214918"/>
          <p:cNvPicPr/>
          <p:nvPr/>
        </p:nvPicPr>
        <p:blipFill>
          <a:blip r:embed="rId3"/>
          <a:stretch/>
        </p:blipFill>
        <p:spPr>
          <a:xfrm>
            <a:off x="324000" y="4653000"/>
            <a:ext cx="19443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4000" y="476280"/>
            <a:ext cx="835164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мага, брошенная в лесу, должна пролежать минимум 3 года, прежде, чем распадётся на составные компон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еталлическая консервная банка должна по тем же причинам пролежать 15 – 2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теклянные банки и бутылки, брошенные в лесу, особенно если они разбиты, превращаются в линзы, что приводит к самовозгоранию лесной подсти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250920" y="260280"/>
            <a:ext cx="7561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 этим стоит задуматься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6" descr="J0076146"/>
          <p:cNvPicPr/>
          <p:nvPr/>
        </p:nvPicPr>
        <p:blipFill>
          <a:blip r:embed="rId2"/>
          <a:stretch/>
        </p:blipFill>
        <p:spPr>
          <a:xfrm>
            <a:off x="971640" y="5734080"/>
            <a:ext cx="4248000" cy="86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J0178115"/>
          <p:cNvPicPr/>
          <p:nvPr/>
        </p:nvPicPr>
        <p:blipFill>
          <a:blip r:embed="rId3"/>
          <a:stretch/>
        </p:blipFill>
        <p:spPr>
          <a:xfrm>
            <a:off x="8172360" y="549360"/>
            <a:ext cx="72396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15332"/>
          <p:cNvPicPr/>
          <p:nvPr/>
        </p:nvPicPr>
        <p:blipFill>
          <a:blip r:embed="rId4"/>
          <a:stretch/>
        </p:blipFill>
        <p:spPr>
          <a:xfrm>
            <a:off x="7093080" y="4941720"/>
            <a:ext cx="17906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0" descr="EXPO2577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EXPO2517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5"/>
          <p:cNvSpPr/>
          <p:nvPr/>
        </p:nvSpPr>
        <p:spPr>
          <a:xfrm>
            <a:off x="642960" y="442908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до уважать все с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ползающих муравь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парящих в небе ор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J0287349"/>
          <p:cNvPicPr/>
          <p:nvPr/>
        </p:nvPicPr>
        <p:blipFill>
          <a:blip r:embed="rId3"/>
          <a:stretch/>
        </p:blipFill>
        <p:spPr>
          <a:xfrm>
            <a:off x="6084720" y="177336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7"/>
          <p:cNvSpPr/>
          <p:nvPr/>
        </p:nvSpPr>
        <p:spPr>
          <a:xfrm>
            <a:off x="1285920" y="3571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Помните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128592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что видишь вокруг,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чень хрупк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ве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28760" y="342900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Поля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357200" y="428760"/>
            <a:ext cx="64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На одной план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Дружно жили д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Не разоряли гнезда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Ради нескольких я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mbria"/>
              </a:rPr>
              <a:t>Не ловили по дубра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mbria"/>
              </a:rPr>
              <a:t>Рыжих белок для заб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Cambria"/>
              </a:rPr>
              <a:t>Травку не топ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Cambria"/>
              </a:rPr>
              <a:t>Лес не загряз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Все старательно, с ум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Берегли  свой общ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Под названием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Где живем и ты, и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4:53:09Z</dcterms:created>
  <dc:creator>C4</dc:creator>
  <dc:description/>
  <dc:language>en-US</dc:language>
  <cp:lastModifiedBy>Максим Черкасов</cp:lastModifiedBy>
  <dcterms:modified xsi:type="dcterms:W3CDTF">2019-04-16T21:34:21Z</dcterms:modified>
  <cp:revision>76</cp:revision>
  <dc:subject/>
  <dc:title>Слайд 1</dc:title>
</cp:coreProperties>
</file>