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2A3E-ED2D-4696-BAD7-921B6ADF5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E97A-F266-4D45-9D16-0C0FFDB2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D364-05DF-4CE2-9B0E-2882468B1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B349-B55C-4127-B75E-2951A87F1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CF35-837B-4F3B-B05B-B549AB8C6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72773-332E-439A-8852-653AF100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A1AE-462B-4BCB-99E6-D562EC09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5DF3-B6BA-4681-989D-7DFD4D00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4122-B1EE-454E-9B0F-61A36BA2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088C-B58E-406F-B73C-FB320C19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FB394-BADF-4E71-AEAB-63781B84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B4B6-D22C-4B32-B36A-DF27E5E1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5307-B09C-4AC0-B63C-816561AD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A4728-4035-4D84-A8EB-EF60A572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D1D3B-9D82-44D1-AD49-6D887358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7A80-47BF-4E12-9D58-FB223D6F3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CD7F-B5B6-468B-9BD1-89378EE69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776E-5EC4-4477-8A1D-D3C41AEC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D66F-4315-4158-92F3-B49451D1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398E-A2A6-4E7D-ACF0-3693B76B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872B-6F25-4964-AB8C-2DF99D82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6DAC-1752-4C09-A2C5-22B31675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87E6-3116-40E0-B934-22571584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E53C-6A9D-4A51-B574-711D47CF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66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66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66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4A51-1E20-423F-A7E5-5AD41A768711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1A0C-2C96-4193-BB8D-DAF0CD846080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619308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Миссия петербургского учителя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8" name="The Beatles - .mp3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28600" y="990720"/>
            <a:ext cx="44956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Судоргина Мираслава Владимировна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год рождения 22 октября 1962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должность: учитель английского языка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образование: высшее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окончила: Южно–Сахалинский Государственный Педагогический институт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диплом: 3</a:t>
            </a:r>
            <a:r>
              <a:rPr b="1" i="1" lang="en-US" sz="1600" spc="-1" strike="noStrike">
                <a:solidFill>
                  <a:srgbClr val="006699"/>
                </a:solidFill>
                <a:latin typeface="Verdana"/>
              </a:rPr>
              <a:t>B </a:t>
            </a: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№376641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специальность: учитель истории   и английского языка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квалификация: учитель средней школы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педагогический стаж: 27 лет (высшая квалификационная категория)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классное руководство с 2008 года (4б класс, эксперимент)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достижения: победитель районного конкурса педагогических достижений в номинации </a:t>
            </a:r>
            <a:r>
              <a:rPr b="1" i="1" lang="en-US" sz="16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Учитель</a:t>
            </a:r>
            <a:r>
              <a:rPr b="1" i="1" lang="en-US" sz="16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2010-2011г.,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Награды: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Почётная грамота Министерства образования и науки Российской Федерации 2011г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Picture 13" descr="DSC09780"/>
          <p:cNvPicPr/>
          <p:nvPr/>
        </p:nvPicPr>
        <p:blipFill>
          <a:blip r:embed="rId1"/>
          <a:stretch/>
        </p:blipFill>
        <p:spPr>
          <a:xfrm>
            <a:off x="4952880" y="990720"/>
            <a:ext cx="3657600" cy="487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Мои школьные университет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65530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1984 год, окончание ЮСГПИ,                               пос. Ново - Александровка,СШ№1, учитель английского языка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;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          организатор внеклассной работы.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3" name="Picture 9" descr=""/>
          <p:cNvPicPr/>
          <p:nvPr/>
        </p:nvPicPr>
        <p:blipFill>
          <a:blip r:embed="rId1"/>
          <a:srcRect l="0" t="-624" r="0" b="0"/>
          <a:stretch/>
        </p:blipFill>
        <p:spPr>
          <a:xfrm>
            <a:off x="0" y="3005280"/>
            <a:ext cx="5105520" cy="3852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"/>
          <p:cNvPicPr/>
          <p:nvPr/>
        </p:nvPicPr>
        <p:blipFill>
          <a:blip r:embed="rId2"/>
          <a:srcRect l="0" t="1446" r="48780" b="7580"/>
          <a:stretch/>
        </p:blipFill>
        <p:spPr>
          <a:xfrm>
            <a:off x="6386400" y="1066680"/>
            <a:ext cx="2757600" cy="579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920"/>
                            </p:stCondLst>
                            <p:childTnLst>
                              <p:par>
                                <p:cTn id="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5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Мои школьные университеты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3809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Г.Петропавловск – Камчатский, 1985 год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257440" y="4266720"/>
            <a:ext cx="38862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Гарнизонная средняя школа №19, учитель географии и труда (у мальчиков)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8" name="Picture 6" descr="Изображение"/>
          <p:cNvPicPr/>
          <p:nvPr/>
        </p:nvPicPr>
        <p:blipFill>
          <a:blip r:embed="rId1"/>
          <a:stretch/>
        </p:blipFill>
        <p:spPr>
          <a:xfrm>
            <a:off x="0" y="3268800"/>
            <a:ext cx="5181480" cy="3589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"/>
          <p:cNvPicPr/>
          <p:nvPr/>
        </p:nvPicPr>
        <p:blipFill>
          <a:blip r:embed="rId2"/>
          <a:stretch/>
        </p:blipFill>
        <p:spPr>
          <a:xfrm>
            <a:off x="4191120" y="762120"/>
            <a:ext cx="4952880" cy="347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920"/>
                            </p:stCondLst>
                            <p:childTnLst>
                              <p:par>
                                <p:cTn id="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420"/>
                            </p:stCondLst>
                            <p:childTnLst>
                              <p:par>
                                <p:cTn id="1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0:19:23Z</dcterms:created>
  <dc:creator>Игорь_Александрович</dc:creator>
  <dc:description/>
  <dc:language>en-US</dc:language>
  <cp:lastModifiedBy>Win7</cp:lastModifiedBy>
  <dcterms:modified xsi:type="dcterms:W3CDTF">2019-04-19T10:22:40Z</dcterms:modified>
  <cp:revision>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