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B58F-6B65-426A-9BCA-EB9EC533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452-C2E3-4FD8-B8BA-843B5AD2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D77-8606-4172-B5DE-BCC195EB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4A7-B654-47BE-8140-0757637B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7260-3C5A-4508-B23B-65864B45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74BE-018F-4FF2-BE70-FFDA17C1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07D4-1A5D-4AAC-A9ED-6D3BC5C7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074C-72CC-4178-97FF-D898810C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F6DB-7B77-48DF-A964-5A7164B1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22F0-46D7-43AF-B38A-C89AFB2D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AF2B-37F1-4DBD-98B5-31C57AF2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C20-522E-40F3-8A5F-FC7BACAD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E4D9-8DCF-4BEA-8623-0E14ACCF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483B-AB4F-4C11-9EA0-2C3CE09B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22C7-7605-483F-BFEC-C99C4D1D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DC7E-0D9E-43F5-9B2C-D4199592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D5C5-23DE-42F4-B2F9-F3F58C1D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26D-583D-46AB-B274-30FE156C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D35-4F0D-4F58-88D2-AD090AD7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A77-B9D9-48CC-A935-FA6D9113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A80-1300-486F-BFEF-D3B638E2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7C8-D465-453B-8E1B-A16C09AB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768-2EBC-4DBD-93A6-B9346B11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44F-F7A6-4FCE-B8E3-040DEDA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B9B0-88BC-4B27-B7CF-EFFF63C1E1F5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D8B0-5B17-406F-A3D4-1CB9843EF5ED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619308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Миссия петербургского учителя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The Beatles - 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удоргина Мираслава Владимировн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год рождения 22 октября 1962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должность: учитель английского язык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образование: высше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окончила: Южно–Сахалинский Государственный Педагогический институ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диплом: 3</a:t>
            </a:r>
            <a:r>
              <a:rPr b="1" i="1" lang="en-US" sz="1600" spc="-1" strike="noStrike">
                <a:solidFill>
                  <a:srgbClr val="006699"/>
                </a:solidFill>
                <a:latin typeface="Verdana"/>
              </a:rPr>
              <a:t>B 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№376641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пециальность: учитель истории   и английского язык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квалификация: учитель средней школы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педагогический стаж: 27 лет (высшая квалификационная категория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классное руководство с 2008 года (4б класс, эксперимент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достижения: победитель районного конкурса педагогических достижений в номинации </a:t>
            </a:r>
            <a:r>
              <a:rPr b="1" i="1" lang="en-US" sz="16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Учитель</a:t>
            </a:r>
            <a:r>
              <a:rPr b="1" i="1" lang="en-US" sz="16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2010-2011г.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аграды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Почётная грамота Министерства образования и науки Российской Федерации 2011г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13" descr="DSC09780"/>
          <p:cNvPicPr/>
          <p:nvPr/>
        </p:nvPicPr>
        <p:blipFill>
          <a:blip r:embed="rId1"/>
          <a:stretch/>
        </p:blipFill>
        <p:spPr>
          <a:xfrm>
            <a:off x="4952880" y="990720"/>
            <a:ext cx="36576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ои школьные университет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6553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1984 год, окончание ЮСГПИ,                               пос. Ново - Александровка,СШ№1, учитель английского языка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;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          организатор внеклассной работы.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rcRect l="0" t="-624" r="0" b="0"/>
          <a:stretch/>
        </p:blipFill>
        <p:spPr>
          <a:xfrm>
            <a:off x="0" y="3005280"/>
            <a:ext cx="5105520" cy="385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2"/>
          <a:srcRect l="0" t="1446" r="48780" b="7580"/>
          <a:stretch/>
        </p:blipFill>
        <p:spPr>
          <a:xfrm>
            <a:off x="6386400" y="1066680"/>
            <a:ext cx="2757600" cy="579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92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Мои школьные университе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Г.Петропавловск – Камчатский, 1985 го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57440" y="4266720"/>
            <a:ext cx="3886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Гарнизонная средняя школа №19, учитель географии и труда (у мальчиков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6" descr="Изображение"/>
          <p:cNvPicPr/>
          <p:nvPr/>
        </p:nvPicPr>
        <p:blipFill>
          <a:blip r:embed="rId1"/>
          <a:stretch/>
        </p:blipFill>
        <p:spPr>
          <a:xfrm>
            <a:off x="0" y="3268800"/>
            <a:ext cx="5181480" cy="3589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"/>
          <p:cNvPicPr/>
          <p:nvPr/>
        </p:nvPicPr>
        <p:blipFill>
          <a:blip r:embed="rId2"/>
          <a:stretch/>
        </p:blipFill>
        <p:spPr>
          <a:xfrm>
            <a:off x="4191120" y="762120"/>
            <a:ext cx="4952880" cy="34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92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42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19:23Z</dcterms:created>
  <dc:creator>Игорь_Александрович</dc:creator>
  <dc:description/>
  <dc:language>en-US</dc:language>
  <cp:lastModifiedBy>Win7</cp:lastModifiedBy>
  <dcterms:modified xsi:type="dcterms:W3CDTF">2019-04-19T10:22:4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