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C93-A04F-4BF2-AFA6-E421A72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6F8-649B-4267-979C-90CA6A0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05B-B5CB-41D4-B810-CD335805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7A0-2E98-450F-B426-953FA5EC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FE6-75A4-4CA1-AE25-DA53F7E2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C9DD-50EA-46DE-928E-D868494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0E1F-0CD6-4005-92B4-D4BBF33B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A210-2198-435E-81AA-3FA1FD0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348D-1978-4A6F-A4E2-B8BE218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F62-6700-4DE7-8F42-C52DD1B3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0795-89AB-47E5-8F14-396064E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BB2-A0F5-4B48-B460-DBE17330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F06-8633-4773-A20C-6B623DD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501-F31C-4A8F-816F-A2C9FFD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F13D-B8AC-48FB-A675-2FF8BE6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47D-1D01-4260-92D3-FB105297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358-32E6-4ADA-A3D5-5B43B6C1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D92-D350-48D4-BCA6-3EDAFF8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57A-12F9-4519-A2EE-F566FC3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D06-EB04-4DB5-89C9-61AE183E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262-8E4D-4F13-A84B-554022C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A1D-322A-4A64-B814-D163CAA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224-472F-4BAE-9E68-3265A4B1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345-4BF0-45EC-BBA0-8841F11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8C5E-F5B1-423C-987C-E741B5DAD9D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5F7-EE1D-443B-B47E-D4ABE54B430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1987год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Амурская область, город Сковородин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арнизонная средняя школа №1, учитель истории и английского язы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3992400"/>
            <a:ext cx="4495680" cy="2865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мама"/>
          <p:cNvPicPr/>
          <p:nvPr/>
        </p:nvPicPr>
        <p:blipFill>
          <a:blip r:embed="rId2"/>
          <a:stretch/>
        </p:blipFill>
        <p:spPr>
          <a:xfrm>
            <a:off x="411480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2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1993 год, Сахалин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.Южно – Сахалинс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имназия №1 и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А.С. Пушкина, учитель англий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1"/>
          <p:cNvPicPr/>
          <p:nvPr/>
        </p:nvPicPr>
        <p:blipFill>
          <a:blip r:embed="rId2"/>
          <a:stretch/>
        </p:blipFill>
        <p:spPr>
          <a:xfrm>
            <a:off x="0" y="3459240"/>
            <a:ext cx="49528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2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2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92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42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1998 год, Сахалин, г.Холмск, Сахалинский техникум отраслевых технологий и сервиса, методист, учи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80060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2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002 год, г.Санкт-Петербург,                  ГОУ СОШ №591, учи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2941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3"/>
          <a:stretch/>
        </p:blipFill>
        <p:spPr>
          <a:xfrm>
            <a:off x="4495680" y="3763800"/>
            <a:ext cx="464832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92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словия педагогической деятельности (сведения о микрорайоне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Школа удалена от основных культурных центров Санкт – Петербурга. Недалеко от школы находится спортивно - развлекательный  комплек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Ледовый дворец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Бассейн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азпром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на Антонова – Овсеенко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Центр Водных видов спорта на ул. Джона Р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. Микрорайон школы начал заселяться с 1990 года, многодетными семьями, живущими в общежития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икрорайон имеет черты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пального района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Адрес ГОУ СОШ№591: правый берег Невы, Весёлый посёлок, пр.Большевиков, дом 28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4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34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84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4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84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34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84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4:0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