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7DF2-714F-4574-965B-C928F80B4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9E9B-4EB0-43F8-B0A6-AB4EFFFB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3870-328F-458C-8210-37A68D2E4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9EF6-17A0-4037-99EA-FF5874E7D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116C-8F56-48AB-9B18-3B877D654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E1AA-2D61-4416-A026-4BD71E0A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F871-C16E-4A26-A897-828AAB3A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7D12-E576-49C3-8B07-688C6C88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32CD-1B10-4FA7-93D0-FA3B7120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547A-1109-489B-9A63-67273B5D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AB51-11DC-44ED-8E3E-C3109600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8617-D8A8-4A42-813F-B69691B5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AF20-C823-4D64-8582-24AC9F06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BD43-E169-442C-ABC7-A14B468D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4AA5-2E0F-4495-B0AB-EAA6F55F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3D22-E586-4ED9-961A-27F02BD0B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4011-F54B-435A-947F-94730517C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55A9-B17B-424B-9864-A8EFD213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5BBF-43A4-454C-8B55-BCB53606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0C03-47A7-4604-BB4E-CC7A5EC1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C330-7E85-462C-BC69-8CDBEADF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34A1-F8BA-4F74-B5BE-E14650CE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8E5E-63D4-490B-9CBF-94B079E9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BAA6-F7F1-467E-8209-B404CC97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66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66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66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E410-76B6-4FDC-825D-BCCEDE03393F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7833-BADF-4693-91E5-854E459B56F5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Мои школьные университет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8915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1987год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Амурская область, город Сковородино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Гарнизонная средняя школа №1, учитель истории и английского языка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0" y="3992400"/>
            <a:ext cx="4495680" cy="2865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мама"/>
          <p:cNvPicPr/>
          <p:nvPr/>
        </p:nvPicPr>
        <p:blipFill>
          <a:blip r:embed="rId2"/>
          <a:stretch/>
        </p:blipFill>
        <p:spPr>
          <a:xfrm>
            <a:off x="4114800" y="3048120"/>
            <a:ext cx="502920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920"/>
                            </p:stCondLst>
                            <p:childTnLst>
                              <p:par>
                                <p:cTn id="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420"/>
                            </p:stCondLst>
                            <p:childTnLst>
                              <p:par>
                                <p:cTn id="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920"/>
                            </p:stCondLst>
                            <p:childTnLst>
                              <p:par>
                                <p:cTn id="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Мои школьные университеты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4800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1993 год, Сахалин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г.Южно – Сахалинск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Гимназия №1 им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А.С. Пушкина, учитель английского язык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1"/>
          <a:stretch/>
        </p:blipFill>
        <p:spPr>
          <a:xfrm>
            <a:off x="4724280" y="137160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1"/>
          <p:cNvPicPr/>
          <p:nvPr/>
        </p:nvPicPr>
        <p:blipFill>
          <a:blip r:embed="rId2"/>
          <a:stretch/>
        </p:blipFill>
        <p:spPr>
          <a:xfrm>
            <a:off x="0" y="3459240"/>
            <a:ext cx="4952880" cy="339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920"/>
                            </p:stCondLst>
                            <p:childTnLst>
                              <p:par>
                                <p:cTn id="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420"/>
                            </p:stCondLst>
                            <p:childTnLst>
                              <p:par>
                                <p:cTn id="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920"/>
                            </p:stCondLst>
                            <p:childTnLst>
                              <p:par>
                                <p:cTn id="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420"/>
                            </p:stCondLst>
                            <p:childTnLst>
                              <p:par>
                                <p:cTn id="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Мои школьные университеты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3886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1998 год, Сахалин, г.Холмск, Сахалинский техникум отраслевых технологий и сервиса, методист, учитель английского язык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7" name="Picture 6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4800600" cy="359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920"/>
                            </p:stCondLst>
                            <p:childTnLst>
                              <p:par>
                                <p:cTn id="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Мои школьные университеты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3886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2002 год, г.Санкт-Петербург,                  ГОУ СОШ №591, учитель английского язык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4419720" y="762120"/>
            <a:ext cx="4419360" cy="2941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"/>
          <p:cNvPicPr/>
          <p:nvPr/>
        </p:nvPicPr>
        <p:blipFill>
          <a:blip r:embed="rId2"/>
          <a:stretch/>
        </p:blipFill>
        <p:spPr>
          <a:xfrm>
            <a:off x="0" y="377208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"/>
          <p:cNvPicPr/>
          <p:nvPr/>
        </p:nvPicPr>
        <p:blipFill>
          <a:blip r:embed="rId3"/>
          <a:stretch/>
        </p:blipFill>
        <p:spPr>
          <a:xfrm>
            <a:off x="4495680" y="3763800"/>
            <a:ext cx="4648320" cy="309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92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Verdana"/>
              </a:rPr>
              <a:t>Условия педагогической деятельности (сведения о микрорайоне)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Школа удалена от основных культурных центров Санкт – Петербурга. Недалеко от школы находится спортивно - развлекательный  комплекс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Ледовый дворец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Бассейн 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Газпром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 на Антонова – Овсеенко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Центр Водных видов спорта на ул. Джона Рид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2. Микрорайон школы начал заселяться с 1990 года, многодетными семьями, живущими в общежитиях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Микрорайон имеет черты 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спального района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Адрес ГОУ СОШ№591: правый берег Невы, Весёлый посёлок, пр.Большевиков, дом 28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84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340"/>
                            </p:stCondLst>
                            <p:childTnLst>
                              <p:par>
                                <p:cTn id="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840"/>
                            </p:stCondLst>
                            <p:childTnLst>
                              <p:par>
                                <p:cTn id="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340"/>
                            </p:stCondLst>
                            <p:childTnLst>
                              <p:par>
                                <p:cTn id="1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840"/>
                            </p:stCondLst>
                            <p:childTnLst>
                              <p:par>
                                <p:cTn id="1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6340"/>
                            </p:stCondLst>
                            <p:childTnLst>
                              <p:par>
                                <p:cTn id="1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6840"/>
                            </p:stCondLst>
                            <p:childTnLst>
                              <p:par>
                                <p:cTn id="1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0:19:23Z</dcterms:created>
  <dc:creator>Игорь_Александрович</dc:creator>
  <dc:description/>
  <dc:language>en-US</dc:language>
  <cp:lastModifiedBy>Win7</cp:lastModifiedBy>
  <dcterms:modified xsi:type="dcterms:W3CDTF">2019-04-19T10:24:09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