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E74A-10A1-4176-AB98-6F215E50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024-8B62-4901-990D-73F7134D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637-DFEB-4A13-AE3C-EA5E55F8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193D-4288-438F-B410-F45327BB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25C-E099-4514-B8E6-448DBEEE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6BD-E13B-414C-A926-FDFC98B5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2E2F-D550-4BE6-94D5-D855A683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BBA4-B2E0-4578-B5DC-AE68C2BB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28E5-C486-41FF-A946-0F065479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891B-DED5-432F-A536-4B4F895A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3AC5-932A-477C-A498-1B325F2F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9DC1-0F85-465F-9A5C-82C95E64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95FB-0242-49EE-8E97-4C7AADFDC1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v10171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843280" y="333360"/>
            <a:ext cx="29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entury"/>
              </a:rPr>
              <a:t>К  В  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484360" y="5229360"/>
            <a:ext cx="37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"/>
              </a:rPr>
              <a:t>по сказк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476360" y="6033960"/>
            <a:ext cx="565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"/>
              </a:rPr>
              <a:t>А. С. Пушк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ру3"/>
          <p:cNvPicPr/>
          <p:nvPr/>
        </p:nvPicPr>
        <p:blipFill>
          <a:blip r:embed="rId2"/>
          <a:stretch/>
        </p:blipFill>
        <p:spPr>
          <a:xfrm rot="20653200">
            <a:off x="179280" y="404280"/>
            <a:ext cx="2062440" cy="2605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7егш"/>
          <p:cNvPicPr/>
          <p:nvPr/>
        </p:nvPicPr>
        <p:blipFill>
          <a:blip r:embed="rId3"/>
          <a:stretch/>
        </p:blipFill>
        <p:spPr>
          <a:xfrm rot="1114800">
            <a:off x="6516360" y="333360"/>
            <a:ext cx="2084400" cy="2768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44 Российского Престола Пленник"/>
          <p:cNvPicPr/>
          <p:nvPr/>
        </p:nvPicPr>
        <p:blipFill>
          <a:blip r:embed="rId4"/>
          <a:stretch/>
        </p:blipFill>
        <p:spPr>
          <a:xfrm>
            <a:off x="2843280" y="1484280"/>
            <a:ext cx="3092400" cy="3865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ждп"/>
          <p:cNvPicPr/>
          <p:nvPr/>
        </p:nvPicPr>
        <p:blipFill>
          <a:blip r:embed="rId5"/>
          <a:stretch/>
        </p:blipFill>
        <p:spPr>
          <a:xfrm rot="20693400">
            <a:off x="395280" y="3357720"/>
            <a:ext cx="1922400" cy="230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ше5"/>
          <p:cNvPicPr/>
          <p:nvPr/>
        </p:nvPicPr>
        <p:blipFill>
          <a:blip r:embed="rId6"/>
          <a:stretch/>
        </p:blipFill>
        <p:spPr>
          <a:xfrm rot="1107000">
            <a:off x="6502320" y="3288960"/>
            <a:ext cx="16160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bv1017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696600" y="475920"/>
            <a:ext cx="710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«Тот уж когти распусти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Клюв кровавый навострил…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боопа"/>
          <p:cNvPicPr/>
          <p:nvPr/>
        </p:nvPicPr>
        <p:blipFill>
          <a:blip r:embed="rId2"/>
          <a:stretch/>
        </p:blipFill>
        <p:spPr>
          <a:xfrm>
            <a:off x="2484360" y="2781360"/>
            <a:ext cx="3888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bv1017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1397160" y="548280"/>
            <a:ext cx="600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«Негде, в тридевятом царст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 тридесятом государст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Жил-был славный царь …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kjr"/>
          <p:cNvPicPr/>
          <p:nvPr/>
        </p:nvPicPr>
        <p:blipFill>
          <a:blip r:embed="rId2"/>
          <a:stretch/>
        </p:blipFill>
        <p:spPr>
          <a:xfrm>
            <a:off x="2484360" y="2924280"/>
            <a:ext cx="38005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bv1017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5"/>
          <p:cNvSpPr txBox="1"/>
          <p:nvPr/>
        </p:nvSpPr>
        <p:spPr>
          <a:xfrm>
            <a:off x="2411280" y="26028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то быстрее?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Picture 22" descr="m,g"/>
          <p:cNvPicPr/>
          <p:nvPr/>
        </p:nvPicPr>
        <p:blipFill>
          <a:blip r:embed="rId2"/>
          <a:stretch/>
        </p:blipFill>
        <p:spPr>
          <a:xfrm>
            <a:off x="1835280" y="189000"/>
            <a:ext cx="5235480" cy="6669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0" descr="f354b96de774"/>
          <p:cNvPicPr/>
          <p:nvPr/>
        </p:nvPicPr>
        <p:blipFill>
          <a:blip r:embed="rId3"/>
          <a:stretch/>
        </p:blipFill>
        <p:spPr>
          <a:xfrm>
            <a:off x="1763640" y="189000"/>
            <a:ext cx="5010120" cy="666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1" descr="skazki_pushkina_skachat_thumb"/>
          <p:cNvPicPr/>
          <p:nvPr/>
        </p:nvPicPr>
        <p:blipFill>
          <a:blip r:embed="rId4"/>
          <a:stretch/>
        </p:blipFill>
        <p:spPr>
          <a:xfrm>
            <a:off x="1187280" y="1052640"/>
            <a:ext cx="6481800" cy="4668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2" descr="4a0c39e2-b791-844c-18b0-2f77af94abf8"/>
          <p:cNvPicPr/>
          <p:nvPr/>
        </p:nvPicPr>
        <p:blipFill>
          <a:blip r:embed="rId5"/>
          <a:stretch/>
        </p:blipFill>
        <p:spPr>
          <a:xfrm>
            <a:off x="1835280" y="189000"/>
            <a:ext cx="4946400" cy="6408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3" descr="49549190_1254802567_9"/>
          <p:cNvPicPr/>
          <p:nvPr/>
        </p:nvPicPr>
        <p:blipFill>
          <a:blip r:embed="rId6"/>
          <a:stretch/>
        </p:blipFill>
        <p:spPr>
          <a:xfrm>
            <a:off x="2195640" y="209520"/>
            <a:ext cx="4543200" cy="6648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5" descr="3411"/>
          <p:cNvPicPr/>
          <p:nvPr/>
        </p:nvPicPr>
        <p:blipFill>
          <a:blip r:embed="rId7"/>
          <a:stretch/>
        </p:blipFill>
        <p:spPr>
          <a:xfrm>
            <a:off x="2268360" y="189000"/>
            <a:ext cx="4557960" cy="6669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6" descr="276-1"/>
          <p:cNvPicPr/>
          <p:nvPr/>
        </p:nvPicPr>
        <p:blipFill>
          <a:blip r:embed="rId8"/>
          <a:stretch/>
        </p:blipFill>
        <p:spPr>
          <a:xfrm>
            <a:off x="2124000" y="189000"/>
            <a:ext cx="4692600" cy="6669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8" descr="nlit-435"/>
          <p:cNvPicPr/>
          <p:nvPr/>
        </p:nvPicPr>
        <p:blipFill>
          <a:blip r:embed="rId9"/>
          <a:stretch/>
        </p:blipFill>
        <p:spPr>
          <a:xfrm>
            <a:off x="2050920" y="189000"/>
            <a:ext cx="49262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bv10171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2843280" y="333360"/>
            <a:ext cx="29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entury"/>
              </a:rPr>
              <a:t>К  В  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484360" y="5229360"/>
            <a:ext cx="37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"/>
              </a:rPr>
              <a:t>по сказк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476360" y="6033960"/>
            <a:ext cx="565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"/>
              </a:rPr>
              <a:t>А. С. Пушк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ру3"/>
          <p:cNvPicPr/>
          <p:nvPr/>
        </p:nvPicPr>
        <p:blipFill>
          <a:blip r:embed="rId2"/>
          <a:stretch/>
        </p:blipFill>
        <p:spPr>
          <a:xfrm rot="20653200">
            <a:off x="179280" y="404280"/>
            <a:ext cx="2062440" cy="2605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7егш"/>
          <p:cNvPicPr/>
          <p:nvPr/>
        </p:nvPicPr>
        <p:blipFill>
          <a:blip r:embed="rId3"/>
          <a:stretch/>
        </p:blipFill>
        <p:spPr>
          <a:xfrm rot="1114800">
            <a:off x="6516360" y="333360"/>
            <a:ext cx="2084400" cy="2768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44 Российского Престола Пленник"/>
          <p:cNvPicPr/>
          <p:nvPr/>
        </p:nvPicPr>
        <p:blipFill>
          <a:blip r:embed="rId4"/>
          <a:stretch/>
        </p:blipFill>
        <p:spPr>
          <a:xfrm>
            <a:off x="2843280" y="1484280"/>
            <a:ext cx="3092400" cy="3865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ждп"/>
          <p:cNvPicPr/>
          <p:nvPr/>
        </p:nvPicPr>
        <p:blipFill>
          <a:blip r:embed="rId5"/>
          <a:stretch/>
        </p:blipFill>
        <p:spPr>
          <a:xfrm rot="20693400">
            <a:off x="395280" y="3357720"/>
            <a:ext cx="1922400" cy="2304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ше5"/>
          <p:cNvPicPr/>
          <p:nvPr/>
        </p:nvPicPr>
        <p:blipFill>
          <a:blip r:embed="rId6"/>
          <a:stretch/>
        </p:blipFill>
        <p:spPr>
          <a:xfrm rot="1107000">
            <a:off x="6502320" y="3288960"/>
            <a:ext cx="16160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bv10171"/>
          <p:cNvPicPr/>
          <p:nvPr/>
        </p:nvPicPr>
        <p:blipFill>
          <a:blip r:embed="rId1"/>
          <a:stretch/>
        </p:blipFill>
        <p:spPr>
          <a:xfrm>
            <a:off x="-60948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5" name="WordArt 5"/>
          <p:cNvSpPr txBox="1"/>
          <p:nvPr/>
        </p:nvSpPr>
        <p:spPr>
          <a:xfrm>
            <a:off x="1403280" y="189000"/>
            <a:ext cx="60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курс капитанов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-360" y="1052640"/>
            <a:ext cx="91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говорила царица, сидя перед зеркальц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-7200" y="1916280"/>
            <a:ext cx="90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каких слов начинается "Сказка о царе Салтане"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-7560" y="2781360"/>
            <a:ext cx="68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приговаривал Балда с укориз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-8640" y="3573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назывался дом, в котором жили 7 богатыр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-9360" y="4292640"/>
            <a:ext cx="741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хом какого ценного зверька торгов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рабельщи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-7920" y="5445000"/>
            <a:ext cx="809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называлась еда, которой кормили Бал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-7560" y="6165720"/>
            <a:ext cx="65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кричал петушок, сидя на спиц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bv1017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6" name="WordArt 5"/>
          <p:cNvSpPr txBox="1"/>
          <p:nvPr/>
        </p:nvSpPr>
        <p:spPr>
          <a:xfrm>
            <a:off x="1692360" y="620640"/>
            <a:ext cx="5257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машнее задание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WordArt 6"/>
          <p:cNvSpPr txBox="1"/>
          <p:nvPr/>
        </p:nvSpPr>
        <p:spPr>
          <a:xfrm>
            <a:off x="1639800" y="3168720"/>
            <a:ext cx="5810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казать сценку из сказ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bv10171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2843280" y="333360"/>
            <a:ext cx="29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entury"/>
              </a:rPr>
              <a:t>К  В  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2484360" y="5229360"/>
            <a:ext cx="37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"/>
              </a:rPr>
              <a:t>по сказк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1476360" y="6033960"/>
            <a:ext cx="565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"/>
              </a:rPr>
              <a:t>А. С. Пушк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1" descr="ру3"/>
          <p:cNvPicPr/>
          <p:nvPr/>
        </p:nvPicPr>
        <p:blipFill>
          <a:blip r:embed="rId2"/>
          <a:stretch/>
        </p:blipFill>
        <p:spPr>
          <a:xfrm rot="20653200">
            <a:off x="179280" y="404280"/>
            <a:ext cx="2062440" cy="2605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7егш"/>
          <p:cNvPicPr/>
          <p:nvPr/>
        </p:nvPicPr>
        <p:blipFill>
          <a:blip r:embed="rId3"/>
          <a:stretch/>
        </p:blipFill>
        <p:spPr>
          <a:xfrm rot="1114800">
            <a:off x="6516360" y="333360"/>
            <a:ext cx="2084400" cy="2768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44 Российского Престола Пленник"/>
          <p:cNvPicPr/>
          <p:nvPr/>
        </p:nvPicPr>
        <p:blipFill>
          <a:blip r:embed="rId4"/>
          <a:stretch/>
        </p:blipFill>
        <p:spPr>
          <a:xfrm>
            <a:off x="2843280" y="1484280"/>
            <a:ext cx="3092400" cy="3865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ждп"/>
          <p:cNvPicPr/>
          <p:nvPr/>
        </p:nvPicPr>
        <p:blipFill>
          <a:blip r:embed="rId5"/>
          <a:stretch/>
        </p:blipFill>
        <p:spPr>
          <a:xfrm rot="20693400">
            <a:off x="395280" y="3357720"/>
            <a:ext cx="1922400" cy="2304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ше5"/>
          <p:cNvPicPr/>
          <p:nvPr/>
        </p:nvPicPr>
        <p:blipFill>
          <a:blip r:embed="rId6"/>
          <a:stretch/>
        </p:blipFill>
        <p:spPr>
          <a:xfrm rot="1107000">
            <a:off x="6502320" y="3288960"/>
            <a:ext cx="16160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bv1017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2" name="WordArt 5"/>
          <p:cNvSpPr txBox="1"/>
          <p:nvPr/>
        </p:nvSpPr>
        <p:spPr>
          <a:xfrm>
            <a:off x="1332000" y="692280"/>
            <a:ext cx="6192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дведение итогов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bv1017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5"/>
          <p:cNvSpPr txBox="1"/>
          <p:nvPr/>
        </p:nvSpPr>
        <p:spPr>
          <a:xfrm>
            <a:off x="1332000" y="1197000"/>
            <a:ext cx="662472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bv10171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95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457200" y="1600200"/>
          <a:ext cx="8229600" cy="46497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8780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Ь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WordArt 274"/>
          <p:cNvSpPr txBox="1"/>
          <p:nvPr/>
        </p:nvSpPr>
        <p:spPr>
          <a:xfrm>
            <a:off x="1692360" y="404640"/>
            <a:ext cx="575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ши кроссворд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Rectangle 277"/>
          <p:cNvSpPr/>
          <p:nvPr/>
        </p:nvSpPr>
        <p:spPr>
          <a:xfrm>
            <a:off x="18144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83"/>
          <p:cNvSpPr/>
          <p:nvPr/>
        </p:nvSpPr>
        <p:spPr>
          <a:xfrm>
            <a:off x="342144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84"/>
          <p:cNvSpPr/>
          <p:nvPr/>
        </p:nvSpPr>
        <p:spPr>
          <a:xfrm>
            <a:off x="2773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85"/>
          <p:cNvSpPr/>
          <p:nvPr/>
        </p:nvSpPr>
        <p:spPr>
          <a:xfrm>
            <a:off x="349452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86"/>
          <p:cNvSpPr/>
          <p:nvPr/>
        </p:nvSpPr>
        <p:spPr>
          <a:xfrm>
            <a:off x="140544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87"/>
          <p:cNvSpPr/>
          <p:nvPr/>
        </p:nvSpPr>
        <p:spPr>
          <a:xfrm>
            <a:off x="140544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0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bv10171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WordArt 6"/>
          <p:cNvSpPr txBox="1"/>
          <p:nvPr/>
        </p:nvSpPr>
        <p:spPr>
          <a:xfrm>
            <a:off x="2268360" y="260280"/>
            <a:ext cx="4392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зминка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Picture 9" descr="ьтввыя"/>
          <p:cNvPicPr/>
          <p:nvPr/>
        </p:nvPicPr>
        <p:blipFill>
          <a:blip r:embed="rId2"/>
          <a:stretch/>
        </p:blipFill>
        <p:spPr>
          <a:xfrm rot="20538600">
            <a:off x="468360" y="1341360"/>
            <a:ext cx="2085840" cy="3005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длгогк"/>
          <p:cNvPicPr/>
          <p:nvPr/>
        </p:nvPicPr>
        <p:blipFill>
          <a:blip r:embed="rId3"/>
          <a:stretch/>
        </p:blipFill>
        <p:spPr>
          <a:xfrm rot="20672400">
            <a:off x="1331640" y="4365360"/>
            <a:ext cx="1992240" cy="2298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ьррк"/>
          <p:cNvPicPr/>
          <p:nvPr/>
        </p:nvPicPr>
        <p:blipFill>
          <a:blip r:embed="rId4"/>
          <a:stretch/>
        </p:blipFill>
        <p:spPr>
          <a:xfrm rot="1105800">
            <a:off x="6227280" y="1628280"/>
            <a:ext cx="2590920" cy="1935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юоенк"/>
          <p:cNvPicPr/>
          <p:nvPr/>
        </p:nvPicPr>
        <p:blipFill>
          <a:blip r:embed="rId5"/>
          <a:stretch/>
        </p:blipFill>
        <p:spPr>
          <a:xfrm rot="1174200">
            <a:off x="5363640" y="3933720"/>
            <a:ext cx="3119760" cy="2433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брркц"/>
          <p:cNvPicPr/>
          <p:nvPr/>
        </p:nvPicPr>
        <p:blipFill>
          <a:blip r:embed="rId6"/>
          <a:stretch/>
        </p:blipFill>
        <p:spPr>
          <a:xfrm>
            <a:off x="3276720" y="1413000"/>
            <a:ext cx="2009520" cy="1876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ну4е"/>
          <p:cNvPicPr/>
          <p:nvPr/>
        </p:nvPicPr>
        <p:blipFill>
          <a:blip r:embed="rId7"/>
          <a:stretch/>
        </p:blipFill>
        <p:spPr>
          <a:xfrm>
            <a:off x="3564000" y="3789360"/>
            <a:ext cx="14097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bv10171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2843280" y="333360"/>
            <a:ext cx="29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entury"/>
              </a:rPr>
              <a:t>К  В  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484360" y="5229360"/>
            <a:ext cx="37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"/>
              </a:rPr>
              <a:t>по сказк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476360" y="6033960"/>
            <a:ext cx="565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entury"/>
              </a:rPr>
              <a:t>А. С. Пушк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ру3"/>
          <p:cNvPicPr/>
          <p:nvPr/>
        </p:nvPicPr>
        <p:blipFill>
          <a:blip r:embed="rId2"/>
          <a:stretch/>
        </p:blipFill>
        <p:spPr>
          <a:xfrm rot="20653200">
            <a:off x="179280" y="404280"/>
            <a:ext cx="2062440" cy="2605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7егш"/>
          <p:cNvPicPr/>
          <p:nvPr/>
        </p:nvPicPr>
        <p:blipFill>
          <a:blip r:embed="rId3"/>
          <a:stretch/>
        </p:blipFill>
        <p:spPr>
          <a:xfrm rot="1114800">
            <a:off x="6516360" y="333360"/>
            <a:ext cx="2084400" cy="2768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44 Российского Престола Пленник"/>
          <p:cNvPicPr/>
          <p:nvPr/>
        </p:nvPicPr>
        <p:blipFill>
          <a:blip r:embed="rId4"/>
          <a:stretch/>
        </p:blipFill>
        <p:spPr>
          <a:xfrm>
            <a:off x="2843280" y="1484280"/>
            <a:ext cx="3092400" cy="3865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ждп"/>
          <p:cNvPicPr/>
          <p:nvPr/>
        </p:nvPicPr>
        <p:blipFill>
          <a:blip r:embed="rId5"/>
          <a:stretch/>
        </p:blipFill>
        <p:spPr>
          <a:xfrm rot="20693400">
            <a:off x="395280" y="3357720"/>
            <a:ext cx="1922400" cy="2304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ше5"/>
          <p:cNvPicPr/>
          <p:nvPr/>
        </p:nvPicPr>
        <p:blipFill>
          <a:blip r:embed="rId6"/>
          <a:stretch/>
        </p:blipFill>
        <p:spPr>
          <a:xfrm rot="1107000">
            <a:off x="6502320" y="3288960"/>
            <a:ext cx="16160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bv101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971640" y="141300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"Горе мне! Попались в с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Оба наших сокол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Горе! Смерть моя пришла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3272400" y="3573360"/>
            <a:ext cx="51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"Сказка о золотом петушке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1619280" y="4365720"/>
            <a:ext cx="60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"Если только жив я буд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Чудный остров навещу..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3416760" y="6021360"/>
            <a:ext cx="47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"Сказка о царе Салтане..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10"/>
          <p:cNvSpPr txBox="1"/>
          <p:nvPr/>
        </p:nvSpPr>
        <p:spPr>
          <a:xfrm>
            <a:off x="2195640" y="333360"/>
            <a:ext cx="4392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гадай сказку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84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bv1017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1403280" y="1125360"/>
            <a:ext cx="66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"Обгони-ка сперва моего бра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Раз, два, три! догоняй-ка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395360" y="2708280"/>
            <a:ext cx="72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"Сказка о попе и о работнике его Балде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258920" y="400536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"Не хочу быть чёрной крестьянко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Хочу быть столбовою дворянкой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199320" y="5613480"/>
            <a:ext cx="48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"Сказка о рыбаке и рыбке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217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bv10171"/>
          <p:cNvPicPr/>
          <p:nvPr/>
        </p:nvPicPr>
        <p:blipFill>
          <a:blip r:embed="rId1"/>
          <a:stretch/>
        </p:blipFill>
        <p:spPr>
          <a:xfrm>
            <a:off x="-18108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5"/>
          <p:cNvSpPr txBox="1"/>
          <p:nvPr/>
        </p:nvSpPr>
        <p:spPr>
          <a:xfrm>
            <a:off x="2124000" y="0"/>
            <a:ext cx="48243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едини героя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704040" y="1268280"/>
            <a:ext cx="51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"Сказка о золотом петушке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191120" y="270828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"Сказка о мёртвой царев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о семи богатырях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4032360" y="4797360"/>
            <a:ext cx="51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"Сказка о царе Салтане, о сыне его славном и могучем богатыре Гвидоне Салтановиче и о прекрасной царевне Лебеди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екнор"/>
          <p:cNvPicPr/>
          <p:nvPr/>
        </p:nvPicPr>
        <p:blipFill>
          <a:blip r:embed="rId2"/>
          <a:stretch/>
        </p:blipFill>
        <p:spPr>
          <a:xfrm>
            <a:off x="0" y="620640"/>
            <a:ext cx="1751040" cy="2181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ю"/>
          <p:cNvPicPr/>
          <p:nvPr/>
        </p:nvPicPr>
        <p:blipFill>
          <a:blip r:embed="rId3"/>
          <a:stretch/>
        </p:blipFill>
        <p:spPr>
          <a:xfrm>
            <a:off x="0" y="3716280"/>
            <a:ext cx="1652760" cy="2952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дле"/>
          <p:cNvPicPr/>
          <p:nvPr/>
        </p:nvPicPr>
        <p:blipFill>
          <a:blip r:embed="rId4"/>
          <a:stretch/>
        </p:blipFill>
        <p:spPr>
          <a:xfrm>
            <a:off x="1835280" y="1989000"/>
            <a:ext cx="2016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bv1017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5"/>
          <p:cNvSpPr txBox="1"/>
          <p:nvPr/>
        </p:nvSpPr>
        <p:spPr>
          <a:xfrm>
            <a:off x="2124000" y="260280"/>
            <a:ext cx="460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зови героя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-108000" y="1717920"/>
            <a:ext cx="54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«Месяц, месяц, мой дружо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озолоченный рожо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Ты встаёшь во тьме глубо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руглолицый, светлоо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, обычай твой люб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Звёзды смотрят на теб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,jtf"/>
          <p:cNvPicPr/>
          <p:nvPr/>
        </p:nvPicPr>
        <p:blipFill>
          <a:blip r:embed="rId2"/>
          <a:stretch/>
        </p:blipFill>
        <p:spPr>
          <a:xfrm>
            <a:off x="5487840" y="1717560"/>
            <a:ext cx="3486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bv10171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1619280" y="411120"/>
            <a:ext cx="51609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Как зовут героя, который превращался то в комара, то в муху, то в шмеля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kljjtfd"/>
          <p:cNvPicPr/>
          <p:nvPr/>
        </p:nvPicPr>
        <p:blipFill>
          <a:blip r:embed="rId2"/>
          <a:stretch/>
        </p:blipFill>
        <p:spPr>
          <a:xfrm>
            <a:off x="2627280" y="2276640"/>
            <a:ext cx="2511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1:18:21Z</dcterms:created>
  <dc:creator>Admin</dc:creator>
  <dc:description/>
  <dc:language>en-US</dc:language>
  <cp:lastModifiedBy>Владимир</cp:lastModifiedBy>
  <dcterms:modified xsi:type="dcterms:W3CDTF">2019-04-19T14:58:35Z</dcterms:modified>
  <cp:revision>11</cp:revision>
  <dc:subject/>
  <dc:title>Слайд 1</dc:title>
</cp:coreProperties>
</file>