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407-4305-49FF-B852-77BFD4A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207-BD1C-4EF6-B5D1-A77B590D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082-A985-4941-B70C-C1BF442E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C3B-C4F7-4160-AA46-5284C1EB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C807-3360-49A0-A87F-5F90B2BD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9830-16DC-4814-8CAF-A519E356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F0E8-92E1-4BC2-90E1-D80A0CAE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A1C2-C472-4B5D-8D72-6AF4A33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B14-B6ED-4069-A94F-62E4C75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566-ADC1-4A7F-828D-CA98AE9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132-8691-4505-A9C7-8A25EFC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AD9-BC98-428B-AE49-382E3F8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8B3D-3E03-47BB-B831-4083862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BF3E-30C7-4F95-BBB8-0F771A2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5B2F-0CDC-4010-80D1-8835EDE2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19F2-1969-4566-A7F4-417B0DF7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5EB-1E04-4386-90CF-9F69DBBF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453-EDFF-433E-A089-F812F07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930-6807-467D-93B2-79815DC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BB9-E913-41B6-BD58-401FDDF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029-9712-4A82-975B-89BF64F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D1A-4C08-4317-AE86-E124885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2DF-499E-45BD-8405-517D010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027-7EB7-4321-8331-DEFB25F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AB4-0768-498A-BE92-ACABC6BA421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28C-B68B-466D-81B9-1C78B3330F2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циальная сред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 школе развито социальное партнёрство, котороё помогает в учеб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анкт – Петербургская Академия постдипломного педагогическо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аучный методический центр Невского райо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обережный и левобережный дом творчества юны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Детский школьный центр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Эруди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ДЮШОР №1,2,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университет телекоммуникаций им. М.А. Бонч-Бруевич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университет сервиса и эконом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педагогический университет им. А.И. Герце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анкт-Петербургский городской Дворец творчества юны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айонные детские библиоте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осветительских организации (музеи С-Пб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отрудничество с ЗЦДЮТ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Зеркальный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с 2010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9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4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44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94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4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94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44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94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44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94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едагогическое кредо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…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асильственное обучение не может быть твёрдым, но то, что с радостью и весельем входит, крепко западает в души внимающим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Василий Велик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-360" y="3124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ё стойкое убеждение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: все изучающие мой предмет не только мнят себя гениями, но и считают таковыми всех остальны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415"/>
          <p:cNvPicPr/>
          <p:nvPr/>
        </p:nvPicPr>
        <p:blipFill>
          <a:blip r:embed="rId1"/>
          <a:stretch/>
        </p:blipFill>
        <p:spPr>
          <a:xfrm>
            <a:off x="3581280" y="3728880"/>
            <a:ext cx="5562720" cy="31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4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4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евиз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как барон Мюнхгаузен, каждый день начинаю с открытия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82276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ображение132"/>
          <p:cNvPicPr/>
          <p:nvPr/>
        </p:nvPicPr>
        <p:blipFill>
          <a:blip r:embed="rId2"/>
          <a:stretch/>
        </p:blipFill>
        <p:spPr>
          <a:xfrm>
            <a:off x="4114800" y="2770200"/>
            <a:ext cx="2898720" cy="40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4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5 принципов Национальной программы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Наша новая школа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уже в школе дети должны получить возможность раскрыть свои способности, подготовиться к жизни      в высокотехнологичном конкретном мир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новые стандарты…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должна быть выстроена система поиска                               и поддержки талантливых людей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охранение в школах лучших педагогов и постоянное повышение                              их квалификац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го содержание шко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здоровье учащих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867280" y="129492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21.01.10 – 22.01.10 г.Санкт-Петербург, Государственный университет                   им. Герце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802560" y="3352680"/>
            <a:ext cx="2341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42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92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42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92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42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92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радигмы в работе учи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ть каждому ребёнку возможность проявить себ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ник – это не кувшин, который мы должны заполнить, а искорка, которую мы должны зажеч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итель учит детей и учиться у них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414"/>
          <p:cNvPicPr/>
          <p:nvPr/>
        </p:nvPicPr>
        <p:blipFill>
          <a:blip r:embed="rId1"/>
          <a:srcRect l="26314" t="0" r="0" b="0"/>
          <a:stretch/>
        </p:blipFill>
        <p:spPr>
          <a:xfrm>
            <a:off x="0" y="3425760"/>
            <a:ext cx="4495680" cy="343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2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2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2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5:2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