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F016-C2C3-43E1-8032-D03823FCB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07DD-9873-45C2-935D-517F1D0D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4392-456B-4F12-B097-6F684BD93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253C-9746-494D-BC11-0FAA1A7BE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F4B9-AF22-4C27-8027-7472144B6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F1F9F-EC08-4334-BE3B-768ABA04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824B-2A19-4C78-A9ED-41C1B366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DA0B-34F9-485E-A16B-21062A33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61F4-F5D8-4657-97FA-674C9293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5B5E-151A-4E96-98D6-07A1F146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8562-CB09-429A-891C-A99628E3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E03A-A2CF-44B5-ABF0-5E0D4754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C52C-9D65-4A3C-847F-E8433814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2E8F-2127-4AB9-A44E-A148440E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9678-9209-4E88-A505-AE62EC22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358A-6DA1-494E-B987-02BA17DE6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F3F2-A5E8-4FBB-9035-3358C3604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8515-39F0-4367-9C3F-BF93696F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6766-BFAF-4D18-B9EF-876718CB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1D8F-B741-4191-A3E2-C8D2E100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37A1-3E72-4CB9-A7C5-5FC4A8D5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3B6F-F127-4CF0-A33D-286D522B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E9BC-0057-48E5-BEC0-03588548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85D3-A8FB-43AE-97DA-5BC74C5D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598A-525C-4D6D-8A29-DB91A6A6E04F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C91A-5F80-47E6-8459-46954C856FC1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0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Социальная среда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В школе развито социальное партнёрство, котороё помогает в учебной деятельност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Санкт – Петербургская Академия постдипломного педагогического образовани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Научный методический центр Невского район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Правобережный и левобережный дом творчества юных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Детский школьный центр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Эруди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СДЮШОР №1,2,3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Государственный университет телекоммуникаций им. М.А. Бонч-Бруевич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Государственный университет сервиса и экономик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Государственный педагогический университет им. А.И. Герцен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Санкт-Петербургский городской Дворец творчества юных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Районные детские библиотек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Просветительских организации (музеи С-Пб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Сотрудничество с ЗЦДЮТ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Зеркальный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с 2010 год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440"/>
                            </p:stCondLst>
                            <p:childTnLst>
                              <p:par>
                                <p:cTn id="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940"/>
                            </p:stCondLst>
                            <p:childTnLst>
                              <p:par>
                                <p:cTn id="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440"/>
                            </p:stCondLst>
                            <p:childTnLst>
                              <p:par>
                                <p:cTn id="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940"/>
                            </p:stCondLst>
                            <p:childTnLst>
                              <p:par>
                                <p:cTn id="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440"/>
                            </p:stCondLst>
                            <p:childTnLst>
                              <p:par>
                                <p:cTn id="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94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44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940"/>
                            </p:stCondLst>
                            <p:childTnLst>
                              <p:par>
                                <p:cTn id="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440"/>
                            </p:stCondLst>
                            <p:childTnLst>
                              <p:par>
                                <p:cTn id="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940"/>
                            </p:stCondLst>
                            <p:childTnLst>
                              <p:par>
                                <p:cTn id="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440"/>
                            </p:stCondLst>
                            <p:childTnLst>
                              <p:par>
                                <p:cTn id="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94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Педагогическое кредо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…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насильственное обучение не может быть твёрдым, но то, что с радостью и весельем входит, крепко западает в души внимающим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Василий Велики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-360" y="31240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Моё стойкое убеждение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: все изучающие мой предмет не только мнят себя гениями, но и считают таковыми всех остальных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2" name="Picture 5" descr="415"/>
          <p:cNvPicPr/>
          <p:nvPr/>
        </p:nvPicPr>
        <p:blipFill>
          <a:blip r:embed="rId1"/>
          <a:stretch/>
        </p:blipFill>
        <p:spPr>
          <a:xfrm>
            <a:off x="3581280" y="3728880"/>
            <a:ext cx="5562720" cy="31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740"/>
                            </p:stCondLst>
                            <p:childTnLst>
                              <p:par>
                                <p:cTn id="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240"/>
                            </p:stCondLst>
                            <p:childTnLst>
                              <p:par>
                                <p:cTn id="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740"/>
                            </p:stCondLst>
                            <p:childTnLst>
                              <p:par>
                                <p:cTn id="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Девиз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Я, как барон Мюнхгаузен, каждый день начинаю с открытия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2822760" cy="4114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Изображение132"/>
          <p:cNvPicPr/>
          <p:nvPr/>
        </p:nvPicPr>
        <p:blipFill>
          <a:blip r:embed="rId2"/>
          <a:stretch/>
        </p:blipFill>
        <p:spPr>
          <a:xfrm>
            <a:off x="4114800" y="2770200"/>
            <a:ext cx="2898720" cy="408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40"/>
                            </p:stCondLst>
                            <p:childTnLst>
                              <p:par>
                                <p:cTn id="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5 принципов Национальной программы 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“</a:t>
            </a: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Наша новая школа</a:t>
            </a: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”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638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уже в школе дети должны получить возможность раскрыть свои способности, подготовиться к жизни      в высокотехнологичном конкретном мир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новые стандарты…</a:t>
            </a: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должна быть выстроена система поиска                               и поддержки талантливых людей</a:t>
            </a: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”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сохранение в школах лучших педагогов и постоянное повышение                              их квалификаций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изменение внутреннего содержание школы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здоровье учащихс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867280" y="1294920"/>
            <a:ext cx="32767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21.01.10 – 22.01.10 г.Санкт-Петербург, Государственный университет                   им. Герцена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6802560" y="3352680"/>
            <a:ext cx="234144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420"/>
                            </p:stCondLst>
                            <p:childTnLst>
                              <p:par>
                                <p:cTn id="1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920"/>
                            </p:stCondLst>
                            <p:childTnLst>
                              <p:par>
                                <p:cTn id="1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420"/>
                            </p:stCondLst>
                            <p:childTnLst>
                              <p:par>
                                <p:cTn id="1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920"/>
                            </p:stCondLst>
                            <p:childTnLst>
                              <p:par>
                                <p:cTn id="1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420"/>
                            </p:stCondLst>
                            <p:childTnLst>
                              <p:par>
                                <p:cTn id="1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920"/>
                            </p:stCondLst>
                            <p:childTnLst>
                              <p:par>
                                <p:cTn id="1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арадигмы в работе учител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839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ать каждому ребёнку возможность проявить себя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”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ченик – это не кувшин, который мы должны заполнить, а искорка, которую мы должны зажечь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”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читель учит детей и учиться у них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”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3" name="Picture 6" descr="414"/>
          <p:cNvPicPr/>
          <p:nvPr/>
        </p:nvPicPr>
        <p:blipFill>
          <a:blip r:embed="rId1"/>
          <a:srcRect l="26314" t="0" r="0" b="0"/>
          <a:stretch/>
        </p:blipFill>
        <p:spPr>
          <a:xfrm>
            <a:off x="0" y="3425760"/>
            <a:ext cx="4495680" cy="3432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920"/>
                            </p:stCondLst>
                            <p:childTnLst>
                              <p:par>
                                <p:cTn id="1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42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920"/>
                            </p:stCondLst>
                            <p:childTnLst>
                              <p:par>
                                <p:cTn id="1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0:19:23Z</dcterms:created>
  <dc:creator>Игорь_Александрович</dc:creator>
  <dc:description/>
  <dc:language>en-US</dc:language>
  <cp:lastModifiedBy>Win7</cp:lastModifiedBy>
  <dcterms:modified xsi:type="dcterms:W3CDTF">2019-04-19T10:25:28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