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950-2A9F-4C94-A259-78B8E8F0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753-FDD9-4392-8A4A-60CD544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8D64-192A-46AB-9742-4FAB9607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A18-1363-491B-84F0-7D5B1540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1A4-54B5-4F82-A8B4-4B1A73EE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052C-D935-4D14-96CF-98E24259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90A-FDB0-4BEF-B98E-E9774C7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65A1-3224-430D-99B9-A922508C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9EF3-0EF0-407D-A91B-E8237B4C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F319-7C9E-4F2A-AC97-6348353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3341-3ED9-41D8-AC59-86D5161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50C-E626-442F-B5DD-D6DE2C54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210-419C-4960-8FE7-95CA1F9C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964-0619-4D2F-860A-E050B5D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DDB-D519-4129-8E67-C2DAE45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FDEA-99B8-422F-9429-DDA38B2E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570-1D05-45C1-8EE4-A6023A34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3A6-A16B-44C1-B64F-7855BD62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523-1A8F-4CA7-B8C8-0FA1AFC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4F8-541F-453D-BCD4-6A903A02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A4B-8748-4178-90FC-175114EF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AC2-BD3D-42F8-A11D-00F2DDA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7BE-13D1-44B7-82D1-52C59D04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04E-99D1-42D5-9635-2FE87C90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43F0-B0E0-4C68-B481-ED15C79D3165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2B37-C33F-418C-9EAD-25DCE56EADB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еждународные связи: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отрудничество с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Teesdale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School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aul Harris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10008"/>
          <p:cNvPicPr/>
          <p:nvPr/>
        </p:nvPicPr>
        <p:blipFill>
          <a:blip r:embed="rId1"/>
          <a:srcRect l="0" t="0" r="0" b="4351"/>
          <a:stretch/>
        </p:blipFill>
        <p:spPr>
          <a:xfrm>
            <a:off x="3962520" y="1832040"/>
            <a:ext cx="5181480" cy="5025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10002"/>
          <p:cNvPicPr/>
          <p:nvPr/>
        </p:nvPicPr>
        <p:blipFill>
          <a:blip r:embed="rId2"/>
          <a:stretch/>
        </p:blipFill>
        <p:spPr>
          <a:xfrm>
            <a:off x="228600" y="274320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7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400800" y="60955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юнь, 2008 го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3" descr="DSC07947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86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Мониторинг успеваемости обучающихс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6" descr="Изображение"/>
          <p:cNvPicPr/>
          <p:nvPr/>
        </p:nvPicPr>
        <p:blipFill>
          <a:blip r:embed="rId1"/>
          <a:stretch/>
        </p:blipFill>
        <p:spPr>
          <a:xfrm>
            <a:off x="228600" y="977760"/>
            <a:ext cx="8610480" cy="58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213000"/>
            <a:ext cx="9144000" cy="1008000"/>
          </a:xfrm>
          <a:prstGeom prst="rect">
            <a:avLst/>
          </a:prstGeom>
          <a:solidFill>
            <a:srgbClr val="cdd9e1"/>
          </a:solidFill>
          <a:ln w="9360">
            <a:solidFill>
              <a:srgbClr val="ebf7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1022"/>
                </a:solidFill>
                <a:latin typeface="Verdana"/>
              </a:rPr>
              <a:t>Ожидаемый результа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98ff"/>
                </a:solidFill>
                <a:latin typeface="Verdana"/>
              </a:rPr>
              <a:t>Социализация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ребёнка через реализацию его творческого потенциала в процессе совместной жизнедеятельнос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solidFill>
            <a:srgbClr val="c8d8e6"/>
          </a:solidFill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41227"/>
                </a:solidFill>
                <a:latin typeface="Verdana"/>
              </a:rPr>
              <a:t>Моя педагогическая мисс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39640" y="126828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Формирование </a:t>
            </a:r>
            <a:r>
              <a:rPr b="1" i="1" lang="ru-RU" sz="3200" spc="-1" strike="noStrike">
                <a:solidFill>
                  <a:srgbClr val="0198ff"/>
                </a:solidFill>
                <a:latin typeface="Verdana"/>
              </a:rPr>
              <a:t>самосознания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ребёнка</a:t>
            </a: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как способности саморегуляции поведения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28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8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8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1859760" y="2275560"/>
            <a:ext cx="5001480" cy="1238760"/>
            <a:chOff x="1859760" y="2275560"/>
            <a:chExt cx="5001480" cy="1238760"/>
          </a:xfrm>
        </p:grpSpPr>
        <p:sp>
          <p:nvSpPr>
            <p:cNvPr id="180" name="AutoShape 3"/>
            <p:cNvSpPr/>
            <p:nvPr/>
          </p:nvSpPr>
          <p:spPr>
            <a:xfrm flipH="1" rot="20264400">
              <a:off x="1834560" y="2787480"/>
              <a:ext cx="2215800" cy="304920"/>
            </a:xfrm>
            <a:prstGeom prst="rightArrow">
              <a:avLst>
                <a:gd name="adj1" fmla="val 50000"/>
                <a:gd name="adj2" fmla="val 181671"/>
              </a:avLst>
            </a:prstGeom>
            <a:noFill/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 flipH="1" rot="12256200">
              <a:off x="4810680" y="2823120"/>
              <a:ext cx="2085840" cy="274320"/>
            </a:xfrm>
            <a:prstGeom prst="rightArrow">
              <a:avLst>
                <a:gd name="adj1" fmla="val 50000"/>
                <a:gd name="adj2" fmla="val 190092"/>
              </a:avLst>
            </a:prstGeom>
            <a:noFill/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 flipH="1" rot="16167000">
              <a:off x="3865320" y="2780280"/>
              <a:ext cx="1223280" cy="215640"/>
            </a:xfrm>
            <a:prstGeom prst="rightArrow">
              <a:avLst>
                <a:gd name="adj1" fmla="val 50000"/>
                <a:gd name="adj2" fmla="val 141820"/>
              </a:avLst>
            </a:prstGeom>
            <a:solidFill>
              <a:srgbClr val="ffffff"/>
            </a:solidFill>
            <a:ln w="9360">
              <a:solidFill>
                <a:srgbClr val="6610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201080" cy="1079640"/>
          </a:xfrm>
          <a:prstGeom prst="rect">
            <a:avLst/>
          </a:prstGeom>
          <a:solidFill>
            <a:srgbClr val="c8d8e6"/>
          </a:solidFill>
          <a:ln w="9360">
            <a:solidFill>
              <a:srgbClr val="ebf7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41227"/>
                </a:solidFill>
                <a:latin typeface="Verdana"/>
              </a:rPr>
              <a:t>Социальное образо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3573000"/>
            <a:ext cx="2665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обу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132000" y="3645000"/>
            <a:ext cx="2808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воспитан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156360" y="3471840"/>
            <a:ext cx="259236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Социально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Verdana"/>
              </a:rPr>
              <a:t>развит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82160" cy="1079640"/>
          </a:xfrm>
          <a:prstGeom prst="rect">
            <a:avLst/>
          </a:prstGeom>
          <a:solidFill>
            <a:srgbClr val="c8d8e6"/>
          </a:solidFill>
          <a:ln w="9360">
            <a:solidFill>
              <a:srgbClr val="741227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41227"/>
                </a:solidFill>
                <a:latin typeface="Verdana"/>
              </a:rPr>
              <a:t>Социальное обучение</a:t>
            </a:r>
            <a:r>
              <a:rPr b="0" lang="ru-RU" sz="4000" spc="-1" strike="noStrike">
                <a:solidFill>
                  <a:srgbClr val="741227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19280" y="1628280"/>
            <a:ext cx="56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рганиз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бслуживан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управлен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рефлек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регуля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Организаторским умения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отрудничеств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Взаимодействи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198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98ff"/>
                </a:solidFill>
                <a:latin typeface="Verdana"/>
              </a:rPr>
              <a:t>Самообразова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6:5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