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599-A6E9-496C-9A13-FF6154DD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C4D-9BD8-4EB7-B423-DA0341A5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EE7C-A0B0-4A06-94D7-BB413814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8935-DB31-496B-88A2-6C625BE7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C51B-7D75-429E-B791-CBB8D0A7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5745-76BB-400A-B66F-9778E94A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0D4B-C59C-45E5-BD5C-A2DE9221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0721-C581-4E26-A665-6BDC85A8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4757-7B80-495E-9D99-960D02C6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1074-3713-421D-A115-AD6D0246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0902-9897-41F0-8305-44E866E3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A8C-7B5A-4256-9C24-DE642C4D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AEA7-362F-4D13-AAEE-DCB99383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7A65-B1F2-4B9D-9DBC-3332E80D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ECDB-9DA5-4491-BCFC-40A33681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F7D5-CE74-4121-B335-B703AF6B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E275-2A8C-4644-9E21-A54B0370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BF70-5E5F-4D1E-BD3A-C69E434E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068-0EA2-4C22-A9EF-439AAEF4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3C4-7CA2-4EF8-96F0-3A1B4CBF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14F-2D79-4344-ACE4-B778D5C3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EFF-4FB0-49D3-B861-E52C25F3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DC4-073C-4280-8729-6ED651DB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CBC-9BE1-43DB-BB4E-1DBF6406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3FC5-3262-4F2E-882F-1A6233DF3F19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8554-B1AC-4607-9FCD-874D048B3F8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Международные связи: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отрудничество с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«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eesdale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School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aul Harris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4" descr="10008"/>
          <p:cNvPicPr/>
          <p:nvPr/>
        </p:nvPicPr>
        <p:blipFill>
          <a:blip r:embed="rId1"/>
          <a:srcRect l="0" t="0" r="0" b="4351"/>
          <a:stretch/>
        </p:blipFill>
        <p:spPr>
          <a:xfrm>
            <a:off x="3962520" y="1832040"/>
            <a:ext cx="5181480" cy="5025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10002"/>
          <p:cNvPicPr/>
          <p:nvPr/>
        </p:nvPicPr>
        <p:blipFill>
          <a:blip r:embed="rId2"/>
          <a:stretch/>
        </p:blipFill>
        <p:spPr>
          <a:xfrm>
            <a:off x="228600" y="2743200"/>
            <a:ext cx="32004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74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24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74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400800" y="6095520"/>
            <a:ext cx="2743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юнь, 2008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3" descr="DSC07947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86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Мониторинг успеваемости обучающихся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4" name="Picture 6" descr="Изображение"/>
          <p:cNvPicPr/>
          <p:nvPr/>
        </p:nvPicPr>
        <p:blipFill>
          <a:blip r:embed="rId1"/>
          <a:stretch/>
        </p:blipFill>
        <p:spPr>
          <a:xfrm>
            <a:off x="228600" y="977760"/>
            <a:ext cx="8610480" cy="581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3213000"/>
            <a:ext cx="9144000" cy="1008000"/>
          </a:xfrm>
          <a:prstGeom prst="rect">
            <a:avLst/>
          </a:prstGeom>
          <a:solidFill>
            <a:srgbClr val="cdd9e1"/>
          </a:solidFill>
          <a:ln w="9360">
            <a:solidFill>
              <a:srgbClr val="ebf7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1022"/>
                </a:solidFill>
                <a:latin typeface="Verdana"/>
              </a:rPr>
              <a:t>Ожидаемый результат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4437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98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198ff"/>
                </a:solidFill>
                <a:latin typeface="Verdana"/>
              </a:rPr>
              <a:t>Социализация</a:t>
            </a: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 ребёнка через реализацию его творческого потенциала в процессе совместной жизнедеятельност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260280"/>
            <a:ext cx="9144000" cy="1081080"/>
          </a:xfrm>
          <a:prstGeom prst="rect">
            <a:avLst/>
          </a:prstGeom>
          <a:solidFill>
            <a:srgbClr val="c8d8e6"/>
          </a:solidFill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41227"/>
                </a:solidFill>
                <a:latin typeface="Verdana"/>
              </a:rPr>
              <a:t>Моя педагогическая мисси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39640" y="126828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Формирование </a:t>
            </a:r>
            <a:r>
              <a:rPr b="1" i="1" lang="ru-RU" sz="3200" spc="-1" strike="noStrike">
                <a:solidFill>
                  <a:srgbClr val="0198ff"/>
                </a:solidFill>
                <a:latin typeface="Verdana"/>
              </a:rPr>
              <a:t>самосознания</a:t>
            </a: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 ребёнка</a:t>
            </a: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как способности саморегуляции поведения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28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8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80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1859760" y="2275560"/>
            <a:ext cx="5001480" cy="1238760"/>
            <a:chOff x="1859760" y="2275560"/>
            <a:chExt cx="5001480" cy="1238760"/>
          </a:xfrm>
        </p:grpSpPr>
        <p:sp>
          <p:nvSpPr>
            <p:cNvPr id="180" name="AutoShape 3"/>
            <p:cNvSpPr/>
            <p:nvPr/>
          </p:nvSpPr>
          <p:spPr>
            <a:xfrm flipH="1" rot="20264400">
              <a:off x="1834560" y="2787480"/>
              <a:ext cx="2215800" cy="304920"/>
            </a:xfrm>
            <a:prstGeom prst="rightArrow">
              <a:avLst>
                <a:gd name="adj1" fmla="val 50000"/>
                <a:gd name="adj2" fmla="val 181671"/>
              </a:avLst>
            </a:prstGeom>
            <a:noFill/>
            <a:ln w="9360">
              <a:solidFill>
                <a:srgbClr val="6610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81" name="AutoShape 4"/>
            <p:cNvSpPr/>
            <p:nvPr/>
          </p:nvSpPr>
          <p:spPr>
            <a:xfrm flipH="1" rot="12256200">
              <a:off x="4810680" y="2823120"/>
              <a:ext cx="2085840" cy="274320"/>
            </a:xfrm>
            <a:prstGeom prst="rightArrow">
              <a:avLst>
                <a:gd name="adj1" fmla="val 50000"/>
                <a:gd name="adj2" fmla="val 190092"/>
              </a:avLst>
            </a:prstGeom>
            <a:noFill/>
            <a:ln w="9360">
              <a:solidFill>
                <a:srgbClr val="6610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82" name="AutoShape 5"/>
            <p:cNvSpPr/>
            <p:nvPr/>
          </p:nvSpPr>
          <p:spPr>
            <a:xfrm flipH="1" rot="16167000">
              <a:off x="3865320" y="2780280"/>
              <a:ext cx="1223280" cy="215640"/>
            </a:xfrm>
            <a:prstGeom prst="rightArrow">
              <a:avLst>
                <a:gd name="adj1" fmla="val 50000"/>
                <a:gd name="adj2" fmla="val 141820"/>
              </a:avLst>
            </a:prstGeom>
            <a:solidFill>
              <a:srgbClr val="ffffff"/>
            </a:solidFill>
            <a:ln w="9360">
              <a:solidFill>
                <a:srgbClr val="6610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99640" y="980640"/>
            <a:ext cx="7201080" cy="1079640"/>
          </a:xfrm>
          <a:prstGeom prst="rect">
            <a:avLst/>
          </a:prstGeom>
          <a:solidFill>
            <a:srgbClr val="c8d8e6"/>
          </a:solidFill>
          <a:ln w="9360">
            <a:solidFill>
              <a:srgbClr val="ebf7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41227"/>
                </a:solidFill>
                <a:latin typeface="Verdana"/>
              </a:rPr>
              <a:t>Социальное образовани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3573000"/>
            <a:ext cx="26654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Социаль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обуч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132000" y="3645000"/>
            <a:ext cx="28083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Социальное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воспитание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6156360" y="3471840"/>
            <a:ext cx="25923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Социальное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развитие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82160" cy="1079640"/>
          </a:xfrm>
          <a:prstGeom prst="rect">
            <a:avLst/>
          </a:prstGeom>
          <a:solidFill>
            <a:srgbClr val="c8d8e6"/>
          </a:solidFill>
          <a:ln w="9360">
            <a:solidFill>
              <a:srgbClr val="741227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41227"/>
                </a:solidFill>
                <a:latin typeface="Verdana"/>
              </a:rPr>
              <a:t>Социальное обучение</a:t>
            </a:r>
            <a:r>
              <a:rPr b="0" lang="ru-RU" sz="4000" spc="-1" strike="noStrike">
                <a:solidFill>
                  <a:srgbClr val="741227"/>
                </a:solidFill>
                <a:latin typeface="Verdana"/>
              </a:rPr>
              <a:t>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619280" y="1628280"/>
            <a:ext cx="5616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98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98ff"/>
                </a:solidFill>
                <a:latin typeface="Verdana"/>
              </a:rPr>
              <a:t>Самоорганизац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198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98ff"/>
                </a:solidFill>
                <a:latin typeface="Verdana"/>
              </a:rPr>
              <a:t>Самообслуживанию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198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98ff"/>
                </a:solidFill>
                <a:latin typeface="Verdana"/>
              </a:rPr>
              <a:t>Самоуправлению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198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98ff"/>
                </a:solidFill>
                <a:latin typeface="Verdana"/>
              </a:rPr>
              <a:t>Саморефлекс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198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98ff"/>
                </a:solidFill>
                <a:latin typeface="Verdana"/>
              </a:rPr>
              <a:t>Саморегуляц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198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98ff"/>
                </a:solidFill>
                <a:latin typeface="Verdana"/>
              </a:rPr>
              <a:t>Организаторским умения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198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98ff"/>
                </a:solidFill>
                <a:latin typeface="Verdana"/>
              </a:rPr>
              <a:t>Сотрудничеств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198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98ff"/>
                </a:solidFill>
                <a:latin typeface="Verdana"/>
              </a:rPr>
              <a:t>Взаимодействию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198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98ff"/>
                </a:solidFill>
                <a:latin typeface="Verdana"/>
              </a:rPr>
              <a:t>Самообразован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0:19:23Z</dcterms:created>
  <dc:creator>Игорь_Александрович</dc:creator>
  <dc:description/>
  <dc:language>en-US</dc:language>
  <cp:lastModifiedBy>Win7</cp:lastModifiedBy>
  <dcterms:modified xsi:type="dcterms:W3CDTF">2019-04-19T10:26:58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