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3.gif" ContentType="image/gif"/>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A3714-F8E9-4A3B-A9F8-4CBCCCBD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3B77-9245-4B5F-9980-38D6350C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B751CB-F32F-4811-9043-A4D339037D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35D5A-4660-4419-B710-7CC410C78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835763-8386-47B2-BC01-1D80A4DBA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05504-1E3E-4E67-BACA-44A7E7A791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BBD887-AEDA-46B4-A61C-01B2061ED2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05B7F-61DB-4354-A805-A20A53AA0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6785E8-C163-4C0E-8B09-DC271D07EF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D5F95-1263-4CC4-8816-E8BFD97013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DEFEFE-CE79-45C6-BC8C-5D22434776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CFD1C3-FB3D-437E-AAC7-29C7CDE163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C60A4-065D-4F45-AA02-68C72EEF1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14C2B4-F63F-48CB-99BA-F7FC6FA37D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D51185-2534-407F-84B2-BFF9E3D369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09ADB1-F57C-4B5D-A45D-4BC3BD4925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47330B-395F-4FA1-8616-8357FC89A6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F8CBDC-22A5-44A9-BE66-15E2F80DA3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818D2-7096-472A-8C2A-DCFDCB7AC5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7256F-67B4-4267-AA86-B57AB8B768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CB3A42-5D6F-4CFB-9233-9626D18FCE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D3B151-BCB2-40D2-B362-DF227FC554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E8F363-78D3-468C-9917-2F39DB47B0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803AE-65D3-4617-BD04-EBB64FD8B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12BF5B-6EC0-4946-917F-E4925F0475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AF5164-45B5-48BC-A7F8-1AF8E7E392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EE69D4-D42B-4105-AC19-14F6C5CE7A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89B260-EFB0-449D-8023-485B5B5CDC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C8BCBA-9D61-4E07-995F-AF60A86E4B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273884-BB0A-40FD-AAB6-BFDEF44BFB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208B1F-4C71-4768-A9A7-9142EE38A4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ECB9F-922F-43B6-97A7-41A485A651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5EF62E-E01F-49FD-8E54-EF3428B01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475C90-B0EC-4849-8504-2E2EA114CD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0A52D-E0A2-4686-B2E5-9EAA06398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1D4580-48A5-46D7-8D8C-8FAC7D168E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1F0C80-711B-49FB-998B-9A09CEF6D7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ADD76D-7F80-4EA7-9B23-1B1977EA2D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1C0B95-DCCA-4CE2-A7DF-12C0665FE6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58CEC3-62E5-4EEB-B34A-5FB1F5B438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1A938F-5547-45E1-B815-976009A955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063B76-4C43-4C56-AA7D-06F75C1381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D0707F-0FB1-4252-BEE8-461CFE97A9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AAC972-9561-4222-A113-995546594B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ECDBC2-7D69-4FDB-B9A2-38EDC93AD1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4444-59A2-45ED-BA38-B9ED7E10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02A397-6639-4AF7-B064-9A606B9D7D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9F2926-2BA4-4A28-A82D-F9D0E071EF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8542A1-2F71-4D8F-B34E-FE07FA1A24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3F0A9C-2B62-4E06-8E4C-0D3D39AB54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2410C7-91E8-4365-8F00-6262BE93B7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53EE0B-9C21-4C57-9CBD-CFF61C154F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669FC5-C67D-4A94-86C0-CE58CC1AC0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1A63E2-184B-4E7D-B68D-C40D2FF87C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0FBA48-2DB3-48C7-B69A-857F2499B2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4848DE-4051-489F-BD2F-26595AFA95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6278B-FA63-46AC-A7E6-F1DBBF1DA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C139DA-D5EF-4018-B73A-8FF24735AF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028CF4-B5C6-44FC-A744-4AF9AE4CCA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8C039B-3DEF-4DBD-B20F-91DD4A874A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BCCA74-07C4-4D2D-8B2A-9B16094AD2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E319FA-A220-473E-A266-EA6F3E3AFE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EE5916-BD0A-45A0-918B-D5DABFF591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188D64-BC3C-49D9-BA4A-B7533C72BA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7B878BE-0DC8-42DB-BFC9-6D6E20E8AE6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0F7BD8-EC04-44E4-BF63-04A60A1D01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F769E3-A0A0-41E4-82D2-3B42BEEFC6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7DBD-E840-4723-AB0D-E9A311C30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F714FB-1854-4D42-A759-CCF0350F6C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9AE918-17D8-4960-AC0F-ECECB7B195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463E77-F26F-486A-9516-09762C9635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C41E85-3B38-466C-9683-3AE1E1A5A6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6AAA97-B6DD-468F-B63D-2C24192AA5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D53F48-85AF-4EE2-AB43-BFA8861E8F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4E87D6-B60E-48B6-9F87-EF45E03023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CC74D6-360C-4982-9503-764AEDEE6A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CC4E0AD-4786-4558-8EF3-AFC20BA04B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24054FD-135E-4E5C-A2DA-8C4A61AC77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D5F16-CDBE-4705-9476-BF0B2B203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4033D8-CCDE-4B98-8786-3120B2C512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728E18-BBA7-439A-8E81-672FF14C18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92476B-0858-4019-9A59-16E821E76A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6C6805-F623-4BF7-9DBF-F0C1F43D4D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7569FA-5809-4076-A371-3F48B5A99F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66EF9E-C14E-4BCA-9776-2083D30C05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66CDFE-AB5C-49B8-972D-29587FD637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7C459A-3A0C-4DA3-ACB1-7F2DB8BA54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D46431-F8E2-4490-B0E1-55DF5B16BE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56BBA0-5099-49BB-A575-8335B3F780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F6D9D-5B6B-45E3-A763-046463CCC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92A0F3-FAE1-4E56-8275-2CBD2B2E72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6426-1E08-40B9-9563-0DFA88F1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22BC4-02E3-45B5-9E27-2F9A6056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4BD9A-1ED5-4366-A899-71603D8E5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8F30-2E4E-40EC-9C58-CA3687F8F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240EB-5EC4-4133-835E-9169A9D2F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61B62-6271-49FE-A29A-46D4829E6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8936C-213C-40A1-A5BE-008F106F1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2F1ABC-8F8C-41AC-B758-A6660D943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8B3AF-08AE-4705-AD7F-8897B25FA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F366F-C440-4641-928F-CC41A0088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524F4-0C4A-4CD6-B883-A2BCC7C55B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7DD24-1616-4EFD-BEB7-A1A517D6C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0284-D00C-4B7F-936B-3CC3B35CE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BED4E-B114-4DD8-866B-CCF59BB13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DB935-8200-4EA4-8E1D-7B680213E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24220-C15A-4E31-BAD5-44C217283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D9CE3-67DB-47F9-A772-5F3364FF9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0452B-016A-4501-958C-45071D326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3E982-8CBD-44FF-85BC-7D82F113D3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7B649-9A06-4CD7-B82B-E01E81CE4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A9F593-3A43-447C-8E5D-5082CF8E9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A3FAA-DB50-4688-B012-4067A302E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2EC84-C530-4BC6-8BF6-E18DA91D0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E13F-6BD4-42AB-BDCB-406E94CE4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A87C8-F7B3-4D20-AD35-B2A61D03A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55D96-2E2C-485A-AFB4-5C91450DB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DD7F8-78FD-4019-9D94-BFEB41749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13071-06FC-48F9-9F9E-017F26D92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7C0B1-680C-4056-9DF4-955CC2386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B6013-080E-4055-9DA5-7EFB3661F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22F41-35D1-4EAF-8BF5-B6DA47B86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E11A3D-E8C3-4822-86DC-E02D2FF522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C00FB-DEDD-464A-AFA9-6D28EEC92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9DE985-7048-4C97-BC3A-B621B57D01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C79E-F00D-43F2-A23B-0349EF8F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F76C5-6254-42CC-B89B-0990990CD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9639A-8A3D-4BA4-9CCD-FB1768385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B70BE-6F7B-40D0-8B84-A0FC9451B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675FF-9DF2-40D6-8D9B-5714C1FD2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34CA9-3E09-43D9-B11E-4E7E29768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EA972-F188-4801-A80B-9956D1BA6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80AF2-144E-490F-9406-930900C06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B0A45-0CBA-455F-946B-A45679AE1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A0843-939B-4751-B3F5-984E00AAC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B2F30F-B47F-4519-8D70-FD4EFD95C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BB2E-EF38-4109-9401-F0CDAF237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B781DA-D1F8-455E-BEDF-464127FE4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7FD044-5D6B-48BE-8D99-423BB18A4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F4A25-971C-492A-85FB-8E826133C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717DD-C00B-4585-B694-4DD0E03C19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BEC8B2-7171-4BA2-AEA0-3918623915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74044-E21C-42C5-A64C-88BF890BB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5556F-1DAB-434F-B340-9C8738D65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8180B-4B93-47BE-BA4D-778029568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6F88F-7E66-4917-B11B-0A7C601A6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70DFF-6E6A-4B7C-AE3C-475179A1B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9DD5-BD59-461E-9B79-1A817C41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04AF7-A887-4CCA-84B0-803AC9A3A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653879-BA4D-4982-98C3-580E01DF1D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EF43AC-6DCA-42E4-B221-40809A8F87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3956F6-7C40-453B-A913-6B8843F0D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975EE-7E35-48C9-A68E-5F39C7C3C3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4A56C6-CE90-4DE9-9668-CF1AB4227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8E64A-4456-41BF-A238-75153AC31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EBB47-0A36-4F3D-9743-3C1DE2827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34A0F-D7F1-4A5C-97D9-4F08FBC72E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6E978-2CDF-4FAC-95B5-C5D39D2CE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1564-57C4-421B-A7A8-46592546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38A21-7DE7-43D8-98E4-B76AA1280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F0E9C-4011-43F6-87EF-B845A4928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00F90-60D3-4CD3-9185-B8C9FA3AAD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5F101E-476B-49C3-A438-BE58E87DD7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858A81-E652-48B3-83ED-5C1DED86D8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3B94B0-BA65-4480-8E97-3E92FF2697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E47A2-95A9-4453-ABA6-9C33177F2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2EA499-C27A-4B31-B6D0-33A81B26EA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35362A-76BC-4284-B8F1-32B6630CA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7A0F5-2FB9-479A-A2EE-78BD1ABC6E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7DB4E-E610-4430-92D8-97C25D45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CA5A31-2D59-4100-B610-F8B88FDD85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4CF78-4725-444F-9108-45F0D9322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27C31-926A-4203-B382-E5AB8B04D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0AD5E-9A5C-4629-9132-050125C3D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4A39C-9242-4DAF-9AAD-1604AD7B19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FA8B56-E96B-4C17-8306-23C16776FA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E650D4-6CF3-42AF-B053-3CBACF1A6F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6A0942-2FDC-419B-A1A9-15DA0F5877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913E9D-1580-49A1-93F4-E8B3C8DC2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3FC0D9-39E4-4551-95E3-DB083273CD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gif"/><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 name="Freeform 4"/>
            <p:cNvSpPr/>
            <p:nvPr/>
          </p:nvSpPr>
          <p:spPr>
            <a:xfrm>
              <a:off x="0" y="2880"/>
              <a:ext cx="2757600" cy="68720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Freeform 6"/>
            <p:cNvSpPr/>
            <p:nvPr/>
          </p:nvSpPr>
          <p:spPr>
            <a:xfrm>
              <a:off x="3048120" y="0"/>
              <a:ext cx="3301920" cy="686412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Freeform 16"/>
            <p:cNvSpPr/>
            <p:nvPr/>
          </p:nvSpPr>
          <p:spPr>
            <a:xfrm>
              <a:off x="0" y="6294240"/>
              <a:ext cx="2757600" cy="6044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CD51-731B-43FF-8B9C-16C6E34293E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4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30" name="PlaceHolder 3"/>
          <p:cNvSpPr>
            <a:spLocks noGrp="1"/>
          </p:cNvSpPr>
          <p:nvPr>
            <p:ph type="dt" idx="28"/>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PlaceHolder 4"/>
          <p:cNvSpPr>
            <a:spLocks noGrp="1"/>
          </p:cNvSpPr>
          <p:nvPr>
            <p:ph type="ftr" idx="29"/>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PlaceHolder 5"/>
          <p:cNvSpPr>
            <a:spLocks noGrp="1"/>
          </p:cNvSpPr>
          <p:nvPr>
            <p:ph type="sldNum" idx="30"/>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DFB9-4753-4A97-929E-2AC891D178C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4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71" name="PlaceHolder 3"/>
          <p:cNvSpPr>
            <a:spLocks noGrp="1"/>
          </p:cNvSpPr>
          <p:nvPr>
            <p:ph type="dt" idx="3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2" name="PlaceHolder 4"/>
          <p:cNvSpPr>
            <a:spLocks noGrp="1"/>
          </p:cNvSpPr>
          <p:nvPr>
            <p:ph type="ftr" idx="3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3" name="PlaceHolder 5"/>
          <p:cNvSpPr>
            <a:spLocks noGrp="1"/>
          </p:cNvSpPr>
          <p:nvPr>
            <p:ph type="sldNum" idx="3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996B-DAFC-4C5E-A0BC-A552C5F46A8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12" name="PlaceHolder 3"/>
          <p:cNvSpPr>
            <a:spLocks noGrp="1"/>
          </p:cNvSpPr>
          <p:nvPr>
            <p:ph type="dt" idx="34"/>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3" name="PlaceHolder 4"/>
          <p:cNvSpPr>
            <a:spLocks noGrp="1"/>
          </p:cNvSpPr>
          <p:nvPr>
            <p:ph type="ftr" idx="35"/>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4" name="PlaceHolder 5"/>
          <p:cNvSpPr>
            <a:spLocks noGrp="1"/>
          </p:cNvSpPr>
          <p:nvPr>
            <p:ph type="sldNum" idx="36"/>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FFDD-5E5D-4426-A831-67050F111FD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53" name="PlaceHolder 3"/>
          <p:cNvSpPr>
            <a:spLocks noGrp="1"/>
          </p:cNvSpPr>
          <p:nvPr>
            <p:ph type="dt" idx="3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4" name="PlaceHolder 4"/>
          <p:cNvSpPr>
            <a:spLocks noGrp="1"/>
          </p:cNvSpPr>
          <p:nvPr>
            <p:ph type="ftr" idx="3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PlaceHolder 5"/>
          <p:cNvSpPr>
            <a:spLocks noGrp="1"/>
          </p:cNvSpPr>
          <p:nvPr>
            <p:ph type="sldNum" idx="3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0CA7-4297-42E4-9137-6A7913F5907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94" name="PlaceHolder 3"/>
          <p:cNvSpPr>
            <a:spLocks noGrp="1"/>
          </p:cNvSpPr>
          <p:nvPr>
            <p:ph type="dt" idx="40"/>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PlaceHolder 4"/>
          <p:cNvSpPr>
            <a:spLocks noGrp="1"/>
          </p:cNvSpPr>
          <p:nvPr>
            <p:ph type="ftr" idx="41"/>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PlaceHolder 5"/>
          <p:cNvSpPr>
            <a:spLocks noGrp="1"/>
          </p:cNvSpPr>
          <p:nvPr>
            <p:ph type="sldNum" idx="42"/>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CE4A-4FA7-43CC-8DAB-A38350CDAD3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6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635" name="PlaceHolder 3"/>
          <p:cNvSpPr>
            <a:spLocks noGrp="1"/>
          </p:cNvSpPr>
          <p:nvPr>
            <p:ph type="dt" idx="43"/>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6" name="PlaceHolder 4"/>
          <p:cNvSpPr>
            <a:spLocks noGrp="1"/>
          </p:cNvSpPr>
          <p:nvPr>
            <p:ph type="ftr" idx="44"/>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7" name="PlaceHolder 5"/>
          <p:cNvSpPr>
            <a:spLocks noGrp="1"/>
          </p:cNvSpPr>
          <p:nvPr>
            <p:ph type="sldNum" idx="45"/>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FB29-945B-4812-94E8-2EB19B786152}" type="slidenum">
              <a:rPr b="0" lang="ru-RU"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Freeform 4"/>
            <p:cNvSpPr/>
            <p:nvPr/>
          </p:nvSpPr>
          <p:spPr>
            <a:xfrm>
              <a:off x="0" y="-11160"/>
              <a:ext cx="2757600" cy="68724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Freeform 16"/>
            <p:cNvSpPr/>
            <p:nvPr/>
          </p:nvSpPr>
          <p:spPr>
            <a:xfrm>
              <a:off x="0" y="3948120"/>
              <a:ext cx="2757600" cy="6048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Rectangle 19"/>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Rectangle 31"/>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99" name="Picture 32" descr="BTZBUL1A"/>
            <p:cNvPicPr/>
            <p:nvPr/>
          </p:nvPicPr>
          <p:blipFill>
            <a:blip r:embed="rId3"/>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9AAF-15EF-4B9D-B74A-C7DEF94087A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43" name="PlaceHolder 3"/>
          <p:cNvSpPr>
            <a:spLocks noGrp="1"/>
          </p:cNvSpPr>
          <p:nvPr>
            <p:ph type="dt" idx="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type="ftr" idx="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PlaceHolder 5"/>
          <p:cNvSpPr>
            <a:spLocks noGrp="1"/>
          </p:cNvSpPr>
          <p:nvPr>
            <p:ph type="sldNum" idx="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00E0-CFF9-4154-ABA7-E1E032AF5A7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84" name="PlaceHolder 3"/>
          <p:cNvSpPr>
            <a:spLocks noGrp="1"/>
          </p:cNvSpPr>
          <p:nvPr>
            <p:ph type="dt" idx="10"/>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4"/>
          <p:cNvSpPr>
            <a:spLocks noGrp="1"/>
          </p:cNvSpPr>
          <p:nvPr>
            <p:ph type="ftr" idx="11"/>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5"/>
          <p:cNvSpPr>
            <a:spLocks noGrp="1"/>
          </p:cNvSpPr>
          <p:nvPr>
            <p:ph type="sldNum" idx="12"/>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E33A-6A87-4F20-A6B7-F476040815C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25" name="PlaceHolder 3"/>
          <p:cNvSpPr>
            <a:spLocks noGrp="1"/>
          </p:cNvSpPr>
          <p:nvPr>
            <p:ph type="dt" idx="13"/>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6" name="PlaceHolder 4"/>
          <p:cNvSpPr>
            <a:spLocks noGrp="1"/>
          </p:cNvSpPr>
          <p:nvPr>
            <p:ph type="ftr" idx="14"/>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5"/>
          <p:cNvSpPr>
            <a:spLocks noGrp="1"/>
          </p:cNvSpPr>
          <p:nvPr>
            <p:ph type="sldNum" idx="15"/>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2223-0FC0-4ED6-B40A-F04ADDEAA8C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66" name="PlaceHolder 3"/>
          <p:cNvSpPr>
            <a:spLocks noGrp="1"/>
          </p:cNvSpPr>
          <p:nvPr>
            <p:ph type="dt" idx="16"/>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7" name="PlaceHolder 4"/>
          <p:cNvSpPr>
            <a:spLocks noGrp="1"/>
          </p:cNvSpPr>
          <p:nvPr>
            <p:ph type="ftr" idx="17"/>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5"/>
          <p:cNvSpPr>
            <a:spLocks noGrp="1"/>
          </p:cNvSpPr>
          <p:nvPr>
            <p:ph type="sldNum" idx="18"/>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E0B7-1DE9-4529-9731-98D348B5CC3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7" name="PlaceHolder 3"/>
          <p:cNvSpPr>
            <a:spLocks noGrp="1"/>
          </p:cNvSpPr>
          <p:nvPr>
            <p:ph type="dt" idx="19"/>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4"/>
          <p:cNvSpPr>
            <a:spLocks noGrp="1"/>
          </p:cNvSpPr>
          <p:nvPr>
            <p:ph type="ftr" idx="20"/>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PlaceHolder 5"/>
          <p:cNvSpPr>
            <a:spLocks noGrp="1"/>
          </p:cNvSpPr>
          <p:nvPr>
            <p:ph type="sldNum" idx="21"/>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DA23-902B-4611-99D8-45B4D9CECC2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48" name="PlaceHolder 3"/>
          <p:cNvSpPr>
            <a:spLocks noGrp="1"/>
          </p:cNvSpPr>
          <p:nvPr>
            <p:ph type="dt" idx="22"/>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4"/>
          <p:cNvSpPr>
            <a:spLocks noGrp="1"/>
          </p:cNvSpPr>
          <p:nvPr>
            <p:ph type="ftr" idx="23"/>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5"/>
          <p:cNvSpPr>
            <a:spLocks noGrp="1"/>
          </p:cNvSpPr>
          <p:nvPr>
            <p:ph type="sldNum" idx="24"/>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5F70-C7A5-4D7D-890F-E104F48E4B0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89" name="PlaceHolder 3"/>
          <p:cNvSpPr>
            <a:spLocks noGrp="1"/>
          </p:cNvSpPr>
          <p:nvPr>
            <p:ph type="dt" idx="25"/>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4"/>
          <p:cNvSpPr>
            <a:spLocks noGrp="1"/>
          </p:cNvSpPr>
          <p:nvPr>
            <p:ph type="ftr" idx="26"/>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5"/>
          <p:cNvSpPr>
            <a:spLocks noGrp="1"/>
          </p:cNvSpPr>
          <p:nvPr>
            <p:ph type="sldNum" idx="27"/>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5BF2-BAB3-4E51-9070-566683BEE52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4" name="Picture 4" descr="SS100315"/>
          <p:cNvPicPr/>
          <p:nvPr/>
        </p:nvPicPr>
        <p:blipFill>
          <a:blip r:embed="rId1">
            <a:lum contrast="10000"/>
          </a:blip>
          <a:stretch/>
        </p:blipFill>
        <p:spPr>
          <a:xfrm>
            <a:off x="250920" y="3500280"/>
            <a:ext cx="4267080" cy="3067200"/>
          </a:xfrm>
          <a:prstGeom prst="rect">
            <a:avLst/>
          </a:prstGeom>
          <a:ln w="0">
            <a:noFill/>
          </a:ln>
        </p:spPr>
      </p:pic>
      <p:sp>
        <p:nvSpPr>
          <p:cNvPr id="675" name="PlaceHolder 1"/>
          <p:cNvSpPr>
            <a:spLocks noGrp="1"/>
          </p:cNvSpPr>
          <p:nvPr>
            <p:ph type="subTitle"/>
          </p:nvPr>
        </p:nvSpPr>
        <p:spPr>
          <a:xfrm>
            <a:off x="2340000" y="4724280"/>
            <a:ext cx="6400800" cy="1679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00066"/>
              </a:solidFill>
              <a:latin typeface="Arial"/>
            </a:endParaRPr>
          </a:p>
        </p:txBody>
      </p:sp>
      <p:pic>
        <p:nvPicPr>
          <p:cNvPr id="676" name="Прямоугольник 4" descr=""/>
          <p:cNvPicPr/>
          <p:nvPr/>
        </p:nvPicPr>
        <p:blipFill>
          <a:blip r:embed="rId2"/>
          <a:stretch/>
        </p:blipFill>
        <p:spPr>
          <a:xfrm>
            <a:off x="3193920" y="1652760"/>
            <a:ext cx="5730840" cy="1571400"/>
          </a:xfrm>
          <a:prstGeom prst="rect">
            <a:avLst/>
          </a:prstGeom>
          <a:ln w="0">
            <a:noFill/>
          </a:ln>
        </p:spPr>
      </p:pic>
      <p:pic>
        <p:nvPicPr>
          <p:cNvPr id="677" name="Прямоугольник 5" descr=""/>
          <p:cNvPicPr/>
          <p:nvPr/>
        </p:nvPicPr>
        <p:blipFill>
          <a:blip r:embed="rId3"/>
          <a:stretch/>
        </p:blipFill>
        <p:spPr>
          <a:xfrm>
            <a:off x="73080" y="554040"/>
            <a:ext cx="8978760" cy="15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29960"/>
            <a:ext cx="7772400" cy="210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имеры приема и передачи информации в живой природе</a:t>
            </a:r>
            <a:endParaRPr b="0" lang="en-US" sz="4400" spc="-1" strike="noStrike">
              <a:solidFill>
                <a:srgbClr val="4d4d4d"/>
              </a:solidFill>
              <a:latin typeface="Arial Black"/>
            </a:endParaRPr>
          </a:p>
        </p:txBody>
      </p:sp>
      <p:sp>
        <p:nvSpPr>
          <p:cNvPr id="708" name="PlaceHolder 2"/>
          <p:cNvSpPr>
            <a:spLocks noGrp="1"/>
          </p:cNvSpPr>
          <p:nvPr>
            <p:ph/>
          </p:nvPr>
        </p:nvSpPr>
        <p:spPr>
          <a:xfrm>
            <a:off x="685800" y="2349000"/>
            <a:ext cx="7772400" cy="3746520"/>
          </a:xfrm>
          <a:prstGeom prst="rect">
            <a:avLst/>
          </a:prstGeom>
          <a:noFill/>
          <a:ln w="0">
            <a:noFill/>
          </a:ln>
        </p:spPr>
        <p:txBody>
          <a:bodyPr anchor="t">
            <a:normAutofit/>
          </a:bodyPr>
          <a:p>
            <a:pPr marL="609480" indent="-609480">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Луговые цветы, испуская ароматы, сообщают насекомым о том, что в чашечках цветов заготовлен нектар, который можно взять.</a:t>
            </a:r>
            <a:endParaRPr b="0" lang="en-US" sz="2800" spc="-1" strike="noStrike">
              <a:solidFill>
                <a:srgbClr val="000066"/>
              </a:solidFill>
              <a:latin typeface="Arial"/>
            </a:endParaRPr>
          </a:p>
          <a:p>
            <a:pPr marL="609480" indent="-609480">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Свет и тепло, которые несут солнечные лучи, указывают растениям, когда надо распускать почки, а когда сбрасывать листья, готовясь к зим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9" name="Прямоугольник 2" descr=""/>
          <p:cNvPicPr/>
          <p:nvPr/>
        </p:nvPicPr>
        <p:blipFill>
          <a:blip r:embed="rId1"/>
          <a:stretch/>
        </p:blipFill>
        <p:spPr>
          <a:xfrm>
            <a:off x="517680" y="2682720"/>
            <a:ext cx="8205480" cy="181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ервоначально люди использовали лишь средства ближней связи – речь, слух, зрение.</a:t>
            </a:r>
            <a:endParaRPr b="0" lang="en-US" sz="2800" spc="-1" strike="noStrike">
              <a:solidFill>
                <a:srgbClr val="000066"/>
              </a:solidFill>
              <a:latin typeface="Arial"/>
            </a:endParaRPr>
          </a:p>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О надвигающейся опасности можно было предупредить криком, правда, его могли услышать на расстоянии всего нескольких сот метров.</a:t>
            </a:r>
            <a:endParaRPr b="0" lang="en-US" sz="2800" spc="-1" strike="noStrike">
              <a:solidFill>
                <a:srgbClr val="000066"/>
              </a:solidFill>
              <a:latin typeface="Arial"/>
            </a:endParaRPr>
          </a:p>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Звук барабана, особенно популярный среди африканских племен, был способен донести сигнал тревоги уже на несколько километров.</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У австралийских аборигенов до сих пор сохранилось специальное слово, означающее «читать дым».</a:t>
            </a:r>
            <a:endParaRPr b="0" lang="en-US" sz="2400" spc="-1" strike="noStrike">
              <a:solidFill>
                <a:srgbClr val="000066"/>
              </a:solidFill>
              <a:latin typeface="Arial"/>
            </a:endParaRPr>
          </a:p>
          <a:p>
            <a:pPr marL="343080" indent="-343080">
              <a:lnSpc>
                <a:spcPct val="8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Известно также применение костровой связи на Кавказе. Дозорные находились на расстоянии прямой видимости на возвышенных местах или башнях. Когда приближалась опасность, сигнальщики, зажигая цепочку костров, предупреждали об этом население. Сигнал, передаваемый от одного дозорного к другому, быстро преодолевал большие расстояния.</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66"/>
                </a:solidFill>
                <a:latin typeface="Arial"/>
              </a:rPr>
              <a:t>	</a:t>
            </a:r>
            <a:r>
              <a:rPr b="0" lang="ru-RU" sz="2700" spc="-1" strike="noStrike">
                <a:solidFill>
                  <a:srgbClr val="000066"/>
                </a:solidFill>
                <a:latin typeface="Arial"/>
              </a:rPr>
              <a:t>Для передачи информации на дальние расстояния использовали гонцов. Иногда гонцы передавали в качестве послания предметы.</a:t>
            </a:r>
            <a:endParaRPr b="0" lang="en-US" sz="2700" spc="-1" strike="noStrike">
              <a:solidFill>
                <a:srgbClr val="000066"/>
              </a:solidFill>
              <a:latin typeface="Arial"/>
            </a:endParaRPr>
          </a:p>
        </p:txBody>
      </p:sp>
      <p:pic>
        <p:nvPicPr>
          <p:cNvPr id="716" name="Picture 4" descr=""/>
          <p:cNvPicPr/>
          <p:nvPr/>
        </p:nvPicPr>
        <p:blipFill>
          <a:blip r:embed="rId1"/>
          <a:stretch/>
        </p:blipFill>
        <p:spPr>
          <a:xfrm>
            <a:off x="4648320" y="1981080"/>
            <a:ext cx="35956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При необходимости передать на большое расстояние более сложное сообщение гонцы заучивали послания наизусть (часто в виде песен).</a:t>
            </a:r>
            <a:endParaRPr b="0" lang="en-US" sz="2400" spc="-1" strike="noStrike">
              <a:solidFill>
                <a:srgbClr val="000066"/>
              </a:solidFill>
              <a:latin typeface="Arial"/>
            </a:endParaRPr>
          </a:p>
          <a:p>
            <a:pPr marL="339480" indent="-3394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С развитием письменности появилось такое средство дальней связи, как почта.</a:t>
            </a:r>
            <a:endParaRPr b="0" lang="en-US" sz="2400" spc="-1" strike="noStrike">
              <a:solidFill>
                <a:srgbClr val="000066"/>
              </a:solidFill>
              <a:latin typeface="Arial"/>
            </a:endParaRPr>
          </a:p>
        </p:txBody>
      </p:sp>
      <p:pic>
        <p:nvPicPr>
          <p:cNvPr id="719" name="Picture 5" descr=""/>
          <p:cNvPicPr/>
          <p:nvPr/>
        </p:nvPicPr>
        <p:blipFill>
          <a:blip r:embed="rId1"/>
          <a:stretch/>
        </p:blipFill>
        <p:spPr>
          <a:xfrm>
            <a:off x="4648320" y="1981080"/>
            <a:ext cx="1541520" cy="1663920"/>
          </a:xfrm>
          <a:prstGeom prst="rect">
            <a:avLst/>
          </a:prstGeom>
          <a:ln w="0">
            <a:noFill/>
          </a:ln>
        </p:spPr>
      </p:pic>
      <p:pic>
        <p:nvPicPr>
          <p:cNvPr id="720" name="Picture 6" descr=""/>
          <p:cNvPicPr/>
          <p:nvPr/>
        </p:nvPicPr>
        <p:blipFill>
          <a:blip r:embed="rId2"/>
          <a:stretch/>
        </p:blipFill>
        <p:spPr>
          <a:xfrm>
            <a:off x="5292720" y="3554280"/>
            <a:ext cx="3625920" cy="25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2" name="PlaceHolder 2"/>
          <p:cNvSpPr>
            <a:spLocks noGrp="1"/>
          </p:cNvSpPr>
          <p:nvPr>
            <p:ph/>
          </p:nvPr>
        </p:nvSpPr>
        <p:spPr>
          <a:xfrm>
            <a:off x="685800" y="1981080"/>
            <a:ext cx="4533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40-х годах </a:t>
            </a:r>
            <a:r>
              <a:rPr b="0" lang="en-US" sz="2800" spc="-1" strike="noStrike">
                <a:solidFill>
                  <a:srgbClr val="000066"/>
                </a:solidFill>
                <a:latin typeface="Arial"/>
              </a:rPr>
              <a:t>XIX </a:t>
            </a:r>
            <a:r>
              <a:rPr b="0" lang="ru-RU" sz="2800" spc="-1" strike="noStrike">
                <a:solidFill>
                  <a:srgbClr val="000066"/>
                </a:solidFill>
                <a:latin typeface="Arial"/>
              </a:rPr>
              <a:t>века русский ученый П.Л. Шиллинг построил в Петербурге телеграфную линию, соединившую Зимний дворец и Генеральный штаб.</a:t>
            </a:r>
            <a:endParaRPr b="0" lang="en-US" sz="2800" spc="-1" strike="noStrike">
              <a:solidFill>
                <a:srgbClr val="000066"/>
              </a:solidFill>
              <a:latin typeface="Arial"/>
            </a:endParaRPr>
          </a:p>
        </p:txBody>
      </p:sp>
      <p:pic>
        <p:nvPicPr>
          <p:cNvPr id="723" name="Picture 4" descr=""/>
          <p:cNvPicPr/>
          <p:nvPr/>
        </p:nvPicPr>
        <p:blipFill>
          <a:blip r:embed="rId1"/>
          <a:stretch/>
        </p:blipFill>
        <p:spPr>
          <a:xfrm>
            <a:off x="5580000" y="1773360"/>
            <a:ext cx="3233880" cy="2084400"/>
          </a:xfrm>
          <a:prstGeom prst="rect">
            <a:avLst/>
          </a:prstGeom>
          <a:ln w="0">
            <a:noFill/>
          </a:ln>
        </p:spPr>
      </p:pic>
      <p:pic>
        <p:nvPicPr>
          <p:cNvPr id="724" name="Picture 6" descr=""/>
          <p:cNvPicPr/>
          <p:nvPr/>
        </p:nvPicPr>
        <p:blipFill>
          <a:blip r:embed="rId2"/>
          <a:stretch/>
        </p:blipFill>
        <p:spPr>
          <a:xfrm>
            <a:off x="5940360" y="4815000"/>
            <a:ext cx="2828880" cy="13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6" name="PlaceHolder 2"/>
          <p:cNvSpPr>
            <a:spLocks noGrp="1"/>
          </p:cNvSpPr>
          <p:nvPr>
            <p:ph/>
          </p:nvPr>
        </p:nvSpPr>
        <p:spPr>
          <a:xfrm>
            <a:off x="685800" y="1981080"/>
            <a:ext cx="4462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1876 году в Америке был изобретен телефон, позволивший использовать для общения не телеграфный код, а человеческий язык.</a:t>
            </a:r>
            <a:endParaRPr b="0" lang="en-US" sz="2800" spc="-1" strike="noStrike">
              <a:solidFill>
                <a:srgbClr val="000066"/>
              </a:solidFill>
              <a:latin typeface="Arial"/>
            </a:endParaRPr>
          </a:p>
        </p:txBody>
      </p:sp>
      <p:pic>
        <p:nvPicPr>
          <p:cNvPr id="727" name="Picture 5" descr=""/>
          <p:cNvPicPr/>
          <p:nvPr/>
        </p:nvPicPr>
        <p:blipFill>
          <a:blip r:embed="rId1"/>
          <a:stretch/>
        </p:blipFill>
        <p:spPr>
          <a:xfrm>
            <a:off x="6907320" y="3429000"/>
            <a:ext cx="162864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9" name="PlaceHolder 2"/>
          <p:cNvSpPr>
            <a:spLocks noGrp="1"/>
          </p:cNvSpPr>
          <p:nvPr>
            <p:ph/>
          </p:nvPr>
        </p:nvSpPr>
        <p:spPr>
          <a:xfrm>
            <a:off x="685800" y="1981080"/>
            <a:ext cx="4462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1895 году русский изобретатель А.С. Попов открыл радиосвязь, не требующую проводов и кабелей.</a:t>
            </a:r>
            <a:endParaRPr b="0" lang="en-US" sz="2800" spc="-1" strike="noStrike">
              <a:solidFill>
                <a:srgbClr val="000066"/>
              </a:solidFill>
              <a:latin typeface="Arial"/>
            </a:endParaRPr>
          </a:p>
        </p:txBody>
      </p:sp>
      <p:pic>
        <p:nvPicPr>
          <p:cNvPr id="730" name="Picture 5" descr=""/>
          <p:cNvPicPr/>
          <p:nvPr/>
        </p:nvPicPr>
        <p:blipFill>
          <a:blip r:embed="rId1"/>
          <a:stretch/>
        </p:blipFill>
        <p:spPr>
          <a:xfrm>
            <a:off x="6084720" y="3841920"/>
            <a:ext cx="2735280" cy="23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2" name="PlaceHolder 2"/>
          <p:cNvSpPr>
            <a:spLocks noGrp="1"/>
          </p:cNvSpPr>
          <p:nvPr>
            <p:ph/>
          </p:nvPr>
        </p:nvSpPr>
        <p:spPr>
          <a:xfrm>
            <a:off x="685440" y="1981080"/>
            <a:ext cx="4894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До 20-х годов </a:t>
            </a:r>
            <a:r>
              <a:rPr b="0" lang="en-US" sz="2800" spc="-1" strike="noStrike">
                <a:solidFill>
                  <a:srgbClr val="000066"/>
                </a:solidFill>
                <a:latin typeface="Arial"/>
              </a:rPr>
              <a:t>XX </a:t>
            </a:r>
            <a:r>
              <a:rPr b="0" lang="ru-RU" sz="2800" spc="-1" strike="noStrike">
                <a:solidFill>
                  <a:srgbClr val="000066"/>
                </a:solidFill>
                <a:latin typeface="Arial"/>
              </a:rPr>
              <a:t>века  для телеграфной и радиосвязи использовался специальный код придуманный французским изобретателем Морзе.</a:t>
            </a:r>
            <a:endParaRPr b="0" lang="en-US" sz="2800" spc="-1" strike="noStrike">
              <a:solidFill>
                <a:srgbClr val="000066"/>
              </a:solidFill>
              <a:latin typeface="Arial"/>
            </a:endParaRPr>
          </a:p>
        </p:txBody>
      </p:sp>
      <p:pic>
        <p:nvPicPr>
          <p:cNvPr id="733" name="Picture 5" descr=""/>
          <p:cNvPicPr/>
          <p:nvPr/>
        </p:nvPicPr>
        <p:blipFill>
          <a:blip r:embed="rId1"/>
          <a:stretch/>
        </p:blipFill>
        <p:spPr>
          <a:xfrm>
            <a:off x="6227640" y="2708280"/>
            <a:ext cx="2648160" cy="35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332000" y="404640"/>
            <a:ext cx="7238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оверка домашнего задания</a:t>
            </a:r>
            <a:endParaRPr b="0" lang="en-US" sz="4400" spc="-1" strike="noStrike">
              <a:solidFill>
                <a:srgbClr val="4d4d4d"/>
              </a:solidFill>
              <a:latin typeface="Arial Black"/>
            </a:endParaRPr>
          </a:p>
        </p:txBody>
      </p:sp>
      <p:sp>
        <p:nvSpPr>
          <p:cNvPr id="679" name="PlaceHolder 2"/>
          <p:cNvSpPr>
            <a:spLocks noGrp="1"/>
          </p:cNvSpPr>
          <p:nvPr>
            <p:ph type="subTitle"/>
          </p:nvPr>
        </p:nvSpPr>
        <p:spPr>
          <a:xfrm>
            <a:off x="539640" y="2205000"/>
            <a:ext cx="8136000" cy="404640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1. Носитель информации – это … </a:t>
            </a:r>
            <a:br>
              <a:rPr sz="3200"/>
            </a:br>
            <a:r>
              <a:rPr b="0" lang="ru-RU" sz="3200" spc="-1" strike="noStrike">
                <a:solidFill>
                  <a:srgbClr val="000066"/>
                </a:solidFill>
                <a:latin typeface="Arial"/>
              </a:rPr>
              <a:t>2. Что служит носителями информации?</a:t>
            </a:r>
            <a:br>
              <a:rPr sz="3200"/>
            </a:br>
            <a:r>
              <a:rPr b="0" lang="ru-RU" sz="3200" spc="-1" strike="noStrike">
                <a:solidFill>
                  <a:srgbClr val="000066"/>
                </a:solidFill>
                <a:latin typeface="Arial"/>
              </a:rPr>
              <a:t>3. Какой носитель информации является </a:t>
            </a:r>
            <a:br>
              <a:rPr sz="3200"/>
            </a:br>
            <a:r>
              <a:rPr b="0" lang="ru-RU" sz="3200" spc="-1" strike="noStrike">
                <a:solidFill>
                  <a:srgbClr val="000066"/>
                </a:solidFill>
                <a:latin typeface="Arial"/>
              </a:rPr>
              <a:t>    основным?</a:t>
            </a:r>
            <a:br>
              <a:rPr sz="3200"/>
            </a:br>
            <a:r>
              <a:rPr b="0" lang="ru-RU" sz="3200" spc="-1" strike="noStrike">
                <a:solidFill>
                  <a:srgbClr val="000066"/>
                </a:solidFill>
                <a:latin typeface="Arial"/>
              </a:rPr>
              <a:t>4. Перечислите свойства бумаги, как </a:t>
            </a:r>
            <a:br>
              <a:rPr sz="3200"/>
            </a:br>
            <a:r>
              <a:rPr b="0" lang="ru-RU" sz="3200" spc="-1" strike="noStrike">
                <a:solidFill>
                  <a:srgbClr val="000066"/>
                </a:solidFill>
                <a:latin typeface="Arial"/>
              </a:rPr>
              <a:t>    носителя информации? </a:t>
            </a:r>
            <a:endParaRPr b="0" lang="en-US" sz="3200" spc="-1" strike="noStrike">
              <a:solidFill>
                <a:srgbClr val="000066"/>
              </a:solidFill>
              <a:latin typeface="Arial"/>
            </a:endParaRPr>
          </a:p>
        </p:txBody>
      </p:sp>
      <p:pic>
        <p:nvPicPr>
          <p:cNvPr id="680" name="Picture 5" descr="BD21298_"/>
          <p:cNvPicPr/>
          <p:nvPr/>
        </p:nvPicPr>
        <p:blipFill>
          <a:blip r:embed="rId1"/>
          <a:stretch/>
        </p:blipFill>
        <p:spPr>
          <a:xfrm>
            <a:off x="8459640" y="3357720"/>
            <a:ext cx="433440" cy="360360"/>
          </a:xfrm>
          <a:prstGeom prst="rect">
            <a:avLst/>
          </a:prstGeom>
          <a:ln w="0">
            <a:noFill/>
          </a:ln>
        </p:spPr>
      </p:pic>
      <p:pic>
        <p:nvPicPr>
          <p:cNvPr id="681" name="Picture 7" descr="BD21298_"/>
          <p:cNvPicPr/>
          <p:nvPr/>
        </p:nvPicPr>
        <p:blipFill>
          <a:blip r:embed="rId2"/>
          <a:stretch/>
        </p:blipFill>
        <p:spPr>
          <a:xfrm>
            <a:off x="3419640" y="4292640"/>
            <a:ext cx="433080" cy="360360"/>
          </a:xfrm>
          <a:prstGeom prst="rect">
            <a:avLst/>
          </a:prstGeom>
          <a:ln w="0">
            <a:noFill/>
          </a:ln>
        </p:spPr>
      </p:pic>
      <p:pic>
        <p:nvPicPr>
          <p:cNvPr id="682" name="Picture 10" descr="BD21298_"/>
          <p:cNvPicPr/>
          <p:nvPr/>
        </p:nvPicPr>
        <p:blipFill>
          <a:blip r:embed="rId3"/>
          <a:stretch/>
        </p:blipFill>
        <p:spPr>
          <a:xfrm>
            <a:off x="7164360" y="2852640"/>
            <a:ext cx="433440" cy="360360"/>
          </a:xfrm>
          <a:prstGeom prst="rect">
            <a:avLst/>
          </a:prstGeom>
          <a:ln w="0">
            <a:noFill/>
          </a:ln>
        </p:spPr>
      </p:pic>
      <p:pic>
        <p:nvPicPr>
          <p:cNvPr id="683" name="Picture 11" descr="BD21298_"/>
          <p:cNvPicPr/>
          <p:nvPr/>
        </p:nvPicPr>
        <p:blipFill>
          <a:blip r:embed="rId4"/>
          <a:stretch/>
        </p:blipFill>
        <p:spPr>
          <a:xfrm>
            <a:off x="5940360" y="5300640"/>
            <a:ext cx="433440" cy="36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5" name="PlaceHolder 2"/>
          <p:cNvSpPr>
            <a:spLocks noGrp="1"/>
          </p:cNvSpPr>
          <p:nvPr>
            <p:ph/>
          </p:nvPr>
        </p:nvSpPr>
        <p:spPr>
          <a:xfrm>
            <a:off x="685800" y="1981080"/>
            <a:ext cx="4965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конце 30-х годов </a:t>
            </a:r>
            <a:r>
              <a:rPr b="0" lang="en-US" sz="2800" spc="-1" strike="noStrike">
                <a:solidFill>
                  <a:srgbClr val="000066"/>
                </a:solidFill>
                <a:latin typeface="Arial"/>
              </a:rPr>
              <a:t>XX </a:t>
            </a:r>
            <a:r>
              <a:rPr b="0" lang="ru-RU" sz="2800" spc="-1" strike="noStrike">
                <a:solidFill>
                  <a:srgbClr val="000066"/>
                </a:solidFill>
                <a:latin typeface="Arial"/>
              </a:rPr>
              <a:t>века был изобретен способ передачи с помощью волн кодированного изображения. Был создан первый телевизор, сначала черно-белый, а затем цветной</a:t>
            </a:r>
            <a:endParaRPr b="0" lang="en-US" sz="2800" spc="-1" strike="noStrike">
              <a:solidFill>
                <a:srgbClr val="000066"/>
              </a:solidFill>
              <a:latin typeface="Arial"/>
            </a:endParaRPr>
          </a:p>
        </p:txBody>
      </p:sp>
      <p:pic>
        <p:nvPicPr>
          <p:cNvPr id="736" name="Picture 5" descr=""/>
          <p:cNvPicPr/>
          <p:nvPr/>
        </p:nvPicPr>
        <p:blipFill>
          <a:blip r:embed="rId1"/>
          <a:stretch/>
        </p:blipFill>
        <p:spPr>
          <a:xfrm>
            <a:off x="6286680" y="1709640"/>
            <a:ext cx="2339640" cy="436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	</a:t>
            </a:r>
            <a:r>
              <a:rPr b="0" lang="ru-RU" sz="2400" spc="-1" strike="noStrike">
                <a:solidFill>
                  <a:srgbClr val="000066"/>
                </a:solidFill>
                <a:latin typeface="Arial"/>
              </a:rPr>
              <a:t>Сегодня кроме вещательного телевидения существует кабельное и спутниковое, появившееся благодаря успехам в освоении космоса.</a:t>
            </a:r>
            <a:br>
              <a:rPr sz="2400"/>
            </a:br>
            <a:r>
              <a:rPr b="0" lang="ru-RU" sz="2400" spc="-1" strike="noStrike">
                <a:solidFill>
                  <a:srgbClr val="000066"/>
                </a:solidFill>
                <a:latin typeface="Arial"/>
              </a:rPr>
              <a:t>Спутниковая связь охватывает всю планету.</a:t>
            </a:r>
            <a:endParaRPr b="0" lang="en-US" sz="2400" spc="-1" strike="noStrike">
              <a:solidFill>
                <a:srgbClr val="000066"/>
              </a:solidFill>
              <a:latin typeface="Arial"/>
            </a:endParaRPr>
          </a:p>
        </p:txBody>
      </p:sp>
      <p:pic>
        <p:nvPicPr>
          <p:cNvPr id="739" name="Picture 4" descr=""/>
          <p:cNvPicPr/>
          <p:nvPr/>
        </p:nvPicPr>
        <p:blipFill>
          <a:blip r:embed="rId1"/>
          <a:stretch/>
        </p:blipFill>
        <p:spPr>
          <a:xfrm>
            <a:off x="4648320" y="1981080"/>
            <a:ext cx="3673440" cy="396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41" name="PlaceHolder 2"/>
          <p:cNvSpPr>
            <a:spLocks noGrp="1"/>
          </p:cNvSpPr>
          <p:nvPr>
            <p:ph/>
          </p:nvPr>
        </p:nvSpPr>
        <p:spPr>
          <a:xfrm>
            <a:off x="685800" y="1981080"/>
            <a:ext cx="4749840" cy="4114800"/>
          </a:xfrm>
          <a:prstGeom prst="rect">
            <a:avLst/>
          </a:prstGeom>
          <a:noFill/>
          <a:ln w="0">
            <a:noFill/>
          </a:ln>
        </p:spPr>
        <p:txBody>
          <a:bodyPr anchor="t">
            <a:normAutofit/>
          </a:bodyPr>
          <a:p>
            <a:pPr marL="343080" indent="-34308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В 1969 году в США начала функционировать первая компьютерная сеть. Она положила начало формированию компьютерной сети Интернет</a:t>
            </a:r>
            <a:endParaRPr b="0" lang="en-US" sz="2400" spc="-1" strike="noStrike">
              <a:solidFill>
                <a:srgbClr val="000066"/>
              </a:solidFill>
              <a:latin typeface="Arial"/>
            </a:endParaRPr>
          </a:p>
          <a:p>
            <a:pPr marL="343080" indent="-34308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Компьютерная сеть – средство оперативного обмена информацией</a:t>
            </a:r>
            <a:endParaRPr b="0" lang="en-US" sz="2400" spc="-1" strike="noStrike">
              <a:solidFill>
                <a:srgbClr val="000066"/>
              </a:solidFill>
              <a:latin typeface="Arial"/>
            </a:endParaRPr>
          </a:p>
        </p:txBody>
      </p:sp>
      <p:pic>
        <p:nvPicPr>
          <p:cNvPr id="742" name="Picture 5" descr=""/>
          <p:cNvPicPr/>
          <p:nvPr/>
        </p:nvPicPr>
        <p:blipFill>
          <a:blip r:embed="rId1"/>
          <a:stretch/>
        </p:blipFill>
        <p:spPr>
          <a:xfrm>
            <a:off x="5867280" y="2997360"/>
            <a:ext cx="3048120" cy="32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одведение итогов</a:t>
            </a:r>
            <a:endParaRPr b="0" lang="en-US" sz="4400" spc="-1" strike="noStrike">
              <a:solidFill>
                <a:srgbClr val="4d4d4d"/>
              </a:solidFill>
              <a:latin typeface="Arial Black"/>
            </a:endParaRPr>
          </a:p>
        </p:txBody>
      </p:sp>
      <p:sp>
        <p:nvSpPr>
          <p:cNvPr id="74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Arial"/>
              </a:rPr>
              <a:t>Сегодня на уроке мы узнал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Как осуществляется передача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источникам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приемнику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информационным каналам.</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ередача информации бывает односторонняя и двусторонняя.</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619280" y="404280"/>
            <a:ext cx="723888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одведение итогов</a:t>
            </a:r>
            <a:endParaRPr b="0" lang="en-US" sz="4400" spc="-1" strike="noStrike">
              <a:solidFill>
                <a:srgbClr val="4d4d4d"/>
              </a:solidFill>
              <a:latin typeface="Arial Black"/>
            </a:endParaRPr>
          </a:p>
        </p:txBody>
      </p:sp>
      <p:sp>
        <p:nvSpPr>
          <p:cNvPr id="746" name="PlaceHolder 2"/>
          <p:cNvSpPr>
            <a:spLocks noGrp="1"/>
          </p:cNvSpPr>
          <p:nvPr>
            <p:ph type="subTitle"/>
          </p:nvPr>
        </p:nvSpPr>
        <p:spPr>
          <a:xfrm>
            <a:off x="1676520" y="1700280"/>
            <a:ext cx="6400800" cy="4551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В качестве закрепления рассмотреть вопросы и задания на странице 23-24 учебника.</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Домашнее задание</a:t>
            </a:r>
            <a:endParaRPr b="0" lang="en-US" sz="4400" spc="-1" strike="noStrike">
              <a:solidFill>
                <a:srgbClr val="4d4d4d"/>
              </a:solidFill>
              <a:latin typeface="Arial Black"/>
            </a:endParaRPr>
          </a:p>
        </p:txBody>
      </p:sp>
      <p:sp>
        <p:nvSpPr>
          <p:cNvPr id="748" name=""/>
          <p:cNvSpPr txBox="1"/>
          <p:nvPr/>
        </p:nvSpPr>
        <p:spPr>
          <a:xfrm>
            <a:off x="684360" y="1916280"/>
            <a:ext cx="7772400" cy="4114800"/>
          </a:xfrm>
          <a:prstGeom prst="rect">
            <a:avLst/>
          </a:prstGeom>
          <a:noFill/>
          <a:ln w="0">
            <a:noFill/>
          </a:ln>
        </p:spPr>
        <p:txBody>
          <a:bodyPr anchor="t">
            <a:normAutofit/>
          </a:bodyPr>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Учебник </a:t>
            </a:r>
            <a:r>
              <a:rPr b="0" lang="en-US" sz="3200" spc="-1" strike="noStrike">
                <a:solidFill>
                  <a:srgbClr val="000066"/>
                </a:solidFill>
                <a:latin typeface="Arial"/>
                <a:ea typeface="Arial"/>
              </a:rPr>
              <a:t>§</a:t>
            </a:r>
            <a:r>
              <a:rPr b="0" lang="ru-RU" sz="3200" spc="-1" strike="noStrike">
                <a:solidFill>
                  <a:srgbClr val="000066"/>
                </a:solidFill>
                <a:latin typeface="Arial"/>
                <a:ea typeface="Arial"/>
              </a:rPr>
              <a:t> 6 – учить</a:t>
            </a:r>
            <a:endParaRPr b="0" lang="en-US" sz="3200" spc="-1" strike="noStrike">
              <a:solidFill>
                <a:srgbClr val="000066"/>
              </a:solidFill>
              <a:latin typeface="Arial"/>
            </a:endParaRPr>
          </a:p>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ea typeface="Arial"/>
              </a:rPr>
              <a:t>Вопросы, № 6(письм)</a:t>
            </a:r>
            <a:endParaRPr b="0" lang="en-US" sz="3200" spc="-1" strike="noStrike">
              <a:solidFill>
                <a:srgbClr val="000066"/>
              </a:solidFill>
              <a:latin typeface="Arial"/>
            </a:endParaRPr>
          </a:p>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c.edu.ru</a:t>
            </a:r>
            <a:r>
              <a:rPr b="0" lang="ru-RU" sz="3200" spc="-1" strike="noStrike">
                <a:solidFill>
                  <a:srgbClr val="000066"/>
                </a:solidFill>
                <a:latin typeface="Arial"/>
              </a:rPr>
              <a:t>, носители информации тренажер(вариант ученика)</a:t>
            </a:r>
            <a:endParaRPr b="0" lang="en-US" sz="3200" spc="-1" strike="noStrike">
              <a:solidFill>
                <a:srgbClr val="000066"/>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оверка домашнего задания</a:t>
            </a:r>
            <a:endParaRPr b="0" lang="en-US" sz="4400" spc="-1" strike="noStrike">
              <a:solidFill>
                <a:srgbClr val="4d4d4d"/>
              </a:solidFill>
              <a:latin typeface="Arial Black"/>
            </a:endParaRPr>
          </a:p>
        </p:txBody>
      </p:sp>
      <p:graphicFrame>
        <p:nvGraphicFramePr>
          <p:cNvPr id="685" name=""/>
          <p:cNvGraphicFramePr/>
          <p:nvPr/>
        </p:nvGraphicFramePr>
        <p:xfrm>
          <a:off x="324000" y="1981080"/>
          <a:ext cx="8569080" cy="4283280"/>
        </p:xfrm>
        <a:graphic>
          <a:graphicData uri="http://schemas.openxmlformats.org/drawingml/2006/table">
            <a:tbl>
              <a:tblPr/>
              <a:tblGrid>
                <a:gridCol w="2855880"/>
                <a:gridCol w="2857320"/>
                <a:gridCol w="28558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Носитель</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ример</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Форма</a:t>
                      </a:r>
                      <a:br>
                        <a:rPr sz="2400"/>
                      </a:br>
                      <a:r>
                        <a:rPr b="1" lang="ru-RU" sz="2400" spc="-1" strike="noStrike">
                          <a:solidFill>
                            <a:srgbClr val="000066"/>
                          </a:solidFill>
                          <a:latin typeface="Times New Roman"/>
                        </a:rPr>
                        <a:t>представления</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Бумага</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исьмо от друг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Текстовая информация</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Табличка с номером дом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Билет на самолет</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Газет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Кинофильм</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686" name="AutoShape 50"/>
          <p:cNvSpPr/>
          <p:nvPr/>
        </p:nvSpPr>
        <p:spPr>
          <a:xfrm>
            <a:off x="971640" y="357336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9537" y="14804"/>
                </a:moveTo>
                <a:arcTo wR="1471" hR="1471" stAng="16200000" swAng="-5400000"/>
                <a:arcTo wR="1471" hR="1471" stAng="10800000" swAng="-5400000"/>
                <a:arcTo wR="1471" hR="1471" stAng="5400000" swAng="-5400000"/>
                <a:arcTo wR="1471" hR="1471" stAng="0" swAng="-5400000"/>
                <a:close/>
              </a:path>
              <a:path fill="darken" w="39074" h="21600">
                <a:moveTo>
                  <a:pt x="20642" y="14281"/>
                </a:moveTo>
                <a:lnTo>
                  <a:pt x="20642" y="12323"/>
                </a:lnTo>
                <a:cubicBezTo>
                  <a:pt x="20642" y="11496"/>
                  <a:pt x="20973" y="10800"/>
                  <a:pt x="21574" y="10800"/>
                </a:cubicBezTo>
                <a:cubicBezTo>
                  <a:pt x="22705" y="10800"/>
                  <a:pt x="23602" y="9434"/>
                  <a:pt x="23602" y="7849"/>
                </a:cubicBezTo>
                <a:cubicBezTo>
                  <a:pt x="23602" y="5534"/>
                  <a:pt x="21748" y="3794"/>
                  <a:pt x="19537" y="3794"/>
                </a:cubicBezTo>
                <a:cubicBezTo>
                  <a:pt x="17326" y="3794"/>
                  <a:pt x="15655" y="5534"/>
                  <a:pt x="15655" y="7849"/>
                </a:cubicBezTo>
                <a:lnTo>
                  <a:pt x="17509" y="7849"/>
                </a:lnTo>
                <a:cubicBezTo>
                  <a:pt x="17509" y="6709"/>
                  <a:pt x="18432" y="5821"/>
                  <a:pt x="19537" y="5821"/>
                </a:cubicBezTo>
                <a:cubicBezTo>
                  <a:pt x="20642" y="5821"/>
                  <a:pt x="21574" y="6709"/>
                  <a:pt x="21574" y="7849"/>
                </a:cubicBezTo>
                <a:cubicBezTo>
                  <a:pt x="21574" y="8589"/>
                  <a:pt x="21104" y="9320"/>
                  <a:pt x="20642" y="9320"/>
                </a:cubicBezTo>
                <a:cubicBezTo>
                  <a:pt x="19537" y="9320"/>
                  <a:pt x="18432" y="10800"/>
                  <a:pt x="18432" y="12323"/>
                </a:cubicBezTo>
                <a:lnTo>
                  <a:pt x="18432"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7" name="AutoShape 54"/>
          <p:cNvSpPr/>
          <p:nvPr/>
        </p:nvSpPr>
        <p:spPr>
          <a:xfrm>
            <a:off x="1008000" y="4257720"/>
            <a:ext cx="1042920" cy="611280"/>
          </a:xfrm>
          <a:custGeom>
            <a:avLst/>
            <a:gdLst>
              <a:gd name="textAreaLeft" fmla="*/ 39600 w 1042920"/>
              <a:gd name="textAreaRight" fmla="*/ 1003320 w 1042920"/>
              <a:gd name="textAreaTop" fmla="*/ 39600 h 611280"/>
              <a:gd name="textAreaBottom" fmla="*/ 571680 h 611280"/>
            </a:gdLst>
            <a:ahLst/>
            <a:rect l="textAreaLeft" t="textAreaTop" r="textAreaRight" b="textAreaBottom"/>
            <a:pathLst>
              <a:path w="36843" h="21600">
                <a:moveTo>
                  <a:pt x="0" y="0"/>
                </a:moveTo>
                <a:lnTo>
                  <a:pt x="36843" y="0"/>
                </a:lnTo>
                <a:lnTo>
                  <a:pt x="36843" y="21600"/>
                </a:lnTo>
                <a:lnTo>
                  <a:pt x="0" y="21600"/>
                </a:lnTo>
                <a:close/>
              </a:path>
              <a:path fill="lightenLess" w="36843" h="21600">
                <a:moveTo>
                  <a:pt x="0" y="0"/>
                </a:moveTo>
                <a:lnTo>
                  <a:pt x="36843" y="0"/>
                </a:lnTo>
                <a:lnTo>
                  <a:pt x="35443" y="1400"/>
                </a:lnTo>
                <a:lnTo>
                  <a:pt x="1400" y="1400"/>
                </a:lnTo>
                <a:close/>
              </a:path>
              <a:path fill="darken" w="36843" h="21600">
                <a:moveTo>
                  <a:pt x="36843" y="0"/>
                </a:moveTo>
                <a:lnTo>
                  <a:pt x="36843" y="21600"/>
                </a:lnTo>
                <a:lnTo>
                  <a:pt x="35443" y="20200"/>
                </a:lnTo>
                <a:lnTo>
                  <a:pt x="35443" y="1400"/>
                </a:lnTo>
                <a:close/>
              </a:path>
              <a:path fill="darkenLess" w="36843" h="21600">
                <a:moveTo>
                  <a:pt x="36843" y="21600"/>
                </a:moveTo>
                <a:lnTo>
                  <a:pt x="0" y="21600"/>
                </a:lnTo>
                <a:lnTo>
                  <a:pt x="1400" y="20200"/>
                </a:lnTo>
                <a:lnTo>
                  <a:pt x="35443" y="20200"/>
                </a:lnTo>
                <a:close/>
              </a:path>
              <a:path fill="lighten" w="36843" h="21600">
                <a:moveTo>
                  <a:pt x="0" y="21600"/>
                </a:moveTo>
                <a:lnTo>
                  <a:pt x="0" y="0"/>
                </a:lnTo>
                <a:lnTo>
                  <a:pt x="1400" y="1400"/>
                </a:lnTo>
                <a:lnTo>
                  <a:pt x="1400" y="20200"/>
                </a:lnTo>
                <a:close/>
              </a:path>
              <a:path fill="darken" w="36843" h="21600">
                <a:moveTo>
                  <a:pt x="18422" y="14804"/>
                </a:moveTo>
                <a:arcTo wR="1471" hR="1471" stAng="16200000" swAng="-5400000"/>
                <a:arcTo wR="1471" hR="1471" stAng="10800000" swAng="-5400000"/>
                <a:arcTo wR="1471" hR="1471" stAng="5400000" swAng="-5400000"/>
                <a:arcTo wR="1471" hR="1471" stAng="0" swAng="-5400000"/>
                <a:close/>
              </a:path>
              <a:path fill="darken" w="36843" h="21600">
                <a:moveTo>
                  <a:pt x="19527" y="14281"/>
                </a:moveTo>
                <a:lnTo>
                  <a:pt x="19527" y="12323"/>
                </a:lnTo>
                <a:cubicBezTo>
                  <a:pt x="19527" y="11496"/>
                  <a:pt x="19858" y="10800"/>
                  <a:pt x="20458" y="10800"/>
                </a:cubicBezTo>
                <a:cubicBezTo>
                  <a:pt x="21590" y="10800"/>
                  <a:pt x="22486" y="9434"/>
                  <a:pt x="22486" y="7849"/>
                </a:cubicBezTo>
                <a:cubicBezTo>
                  <a:pt x="22486" y="5534"/>
                  <a:pt x="20632" y="3794"/>
                  <a:pt x="18422" y="3794"/>
                </a:cubicBezTo>
                <a:cubicBezTo>
                  <a:pt x="16211" y="3794"/>
                  <a:pt x="14540" y="5534"/>
                  <a:pt x="14540" y="7849"/>
                </a:cubicBezTo>
                <a:lnTo>
                  <a:pt x="16394" y="7849"/>
                </a:lnTo>
                <a:cubicBezTo>
                  <a:pt x="16394" y="6709"/>
                  <a:pt x="17316" y="5821"/>
                  <a:pt x="18422" y="5821"/>
                </a:cubicBezTo>
                <a:cubicBezTo>
                  <a:pt x="19527" y="5821"/>
                  <a:pt x="20458" y="6709"/>
                  <a:pt x="20458" y="7849"/>
                </a:cubicBezTo>
                <a:cubicBezTo>
                  <a:pt x="20458" y="8589"/>
                  <a:pt x="19988" y="9320"/>
                  <a:pt x="19527" y="9320"/>
                </a:cubicBezTo>
                <a:cubicBezTo>
                  <a:pt x="18422" y="9320"/>
                  <a:pt x="17316" y="10800"/>
                  <a:pt x="17316" y="12323"/>
                </a:cubicBezTo>
                <a:lnTo>
                  <a:pt x="17316"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8" name="AutoShape 55"/>
          <p:cNvSpPr/>
          <p:nvPr/>
        </p:nvSpPr>
        <p:spPr>
          <a:xfrm>
            <a:off x="1008000" y="494172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9537" y="14804"/>
                </a:moveTo>
                <a:arcTo wR="1471" hR="1471" stAng="16200000" swAng="-5400000"/>
                <a:arcTo wR="1471" hR="1471" stAng="10800000" swAng="-5400000"/>
                <a:arcTo wR="1471" hR="1471" stAng="5400000" swAng="-5400000"/>
                <a:arcTo wR="1471" hR="1471" stAng="0" swAng="-5400000"/>
                <a:close/>
              </a:path>
              <a:path fill="darken" w="39074" h="21600">
                <a:moveTo>
                  <a:pt x="20642" y="14281"/>
                </a:moveTo>
                <a:lnTo>
                  <a:pt x="20642" y="12323"/>
                </a:lnTo>
                <a:cubicBezTo>
                  <a:pt x="20642" y="11496"/>
                  <a:pt x="20973" y="10800"/>
                  <a:pt x="21574" y="10800"/>
                </a:cubicBezTo>
                <a:cubicBezTo>
                  <a:pt x="22705" y="10800"/>
                  <a:pt x="23602" y="9434"/>
                  <a:pt x="23602" y="7849"/>
                </a:cubicBezTo>
                <a:cubicBezTo>
                  <a:pt x="23602" y="5534"/>
                  <a:pt x="21748" y="3794"/>
                  <a:pt x="19537" y="3794"/>
                </a:cubicBezTo>
                <a:cubicBezTo>
                  <a:pt x="17326" y="3794"/>
                  <a:pt x="15655" y="5534"/>
                  <a:pt x="15655" y="7849"/>
                </a:cubicBezTo>
                <a:lnTo>
                  <a:pt x="17509" y="7849"/>
                </a:lnTo>
                <a:cubicBezTo>
                  <a:pt x="17509" y="6709"/>
                  <a:pt x="18432" y="5821"/>
                  <a:pt x="19537" y="5821"/>
                </a:cubicBezTo>
                <a:cubicBezTo>
                  <a:pt x="20642" y="5821"/>
                  <a:pt x="21574" y="6709"/>
                  <a:pt x="21574" y="7849"/>
                </a:cubicBezTo>
                <a:cubicBezTo>
                  <a:pt x="21574" y="8589"/>
                  <a:pt x="21104" y="9320"/>
                  <a:pt x="20642" y="9320"/>
                </a:cubicBezTo>
                <a:cubicBezTo>
                  <a:pt x="19537" y="9320"/>
                  <a:pt x="18432" y="10800"/>
                  <a:pt x="18432" y="12323"/>
                </a:cubicBezTo>
                <a:lnTo>
                  <a:pt x="18432"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9" name="AutoShape 56"/>
          <p:cNvSpPr/>
          <p:nvPr/>
        </p:nvSpPr>
        <p:spPr>
          <a:xfrm>
            <a:off x="971640" y="5661000"/>
            <a:ext cx="1042920" cy="574560"/>
          </a:xfrm>
          <a:custGeom>
            <a:avLst/>
            <a:gdLst>
              <a:gd name="textAreaLeft" fmla="*/ 37080 w 1042920"/>
              <a:gd name="textAreaRight" fmla="*/ 1005840 w 1042920"/>
              <a:gd name="textAreaTop" fmla="*/ 37080 h 574560"/>
              <a:gd name="textAreaBottom" fmla="*/ 537480 h 574560"/>
            </a:gdLst>
            <a:ahLst/>
            <a:rect l="textAreaLeft" t="textAreaTop" r="textAreaRight" b="textAreaBottom"/>
            <a:pathLst>
              <a:path w="39196" h="21600">
                <a:moveTo>
                  <a:pt x="0" y="0"/>
                </a:moveTo>
                <a:lnTo>
                  <a:pt x="39196" y="0"/>
                </a:lnTo>
                <a:lnTo>
                  <a:pt x="39196" y="21600"/>
                </a:lnTo>
                <a:lnTo>
                  <a:pt x="0" y="21600"/>
                </a:lnTo>
                <a:close/>
              </a:path>
              <a:path fill="lightenLess" w="39196" h="21600">
                <a:moveTo>
                  <a:pt x="0" y="0"/>
                </a:moveTo>
                <a:lnTo>
                  <a:pt x="39196" y="0"/>
                </a:lnTo>
                <a:lnTo>
                  <a:pt x="37796" y="1400"/>
                </a:lnTo>
                <a:lnTo>
                  <a:pt x="1400" y="1400"/>
                </a:lnTo>
                <a:close/>
              </a:path>
              <a:path fill="darken" w="39196" h="21600">
                <a:moveTo>
                  <a:pt x="39196" y="0"/>
                </a:moveTo>
                <a:lnTo>
                  <a:pt x="39196" y="21600"/>
                </a:lnTo>
                <a:lnTo>
                  <a:pt x="37796" y="20200"/>
                </a:lnTo>
                <a:lnTo>
                  <a:pt x="37796" y="1400"/>
                </a:lnTo>
                <a:close/>
              </a:path>
              <a:path fill="darkenLess" w="39196" h="21600">
                <a:moveTo>
                  <a:pt x="39196" y="21600"/>
                </a:moveTo>
                <a:lnTo>
                  <a:pt x="0" y="21600"/>
                </a:lnTo>
                <a:lnTo>
                  <a:pt x="1400" y="20200"/>
                </a:lnTo>
                <a:lnTo>
                  <a:pt x="37796" y="20200"/>
                </a:lnTo>
                <a:close/>
              </a:path>
              <a:path fill="lighten" w="39196" h="21600">
                <a:moveTo>
                  <a:pt x="0" y="21600"/>
                </a:moveTo>
                <a:lnTo>
                  <a:pt x="0" y="0"/>
                </a:lnTo>
                <a:lnTo>
                  <a:pt x="1400" y="1400"/>
                </a:lnTo>
                <a:lnTo>
                  <a:pt x="1400" y="20200"/>
                </a:lnTo>
                <a:close/>
              </a:path>
              <a:path fill="darken" w="39196" h="21600">
                <a:moveTo>
                  <a:pt x="19598" y="14804"/>
                </a:moveTo>
                <a:arcTo wR="1471" hR="1471" stAng="16200000" swAng="-5400000"/>
                <a:arcTo wR="1471" hR="1471" stAng="10800000" swAng="-5400000"/>
                <a:arcTo wR="1471" hR="1471" stAng="5400000" swAng="-5400000"/>
                <a:arcTo wR="1471" hR="1471" stAng="0" swAng="-5400000"/>
                <a:close/>
              </a:path>
              <a:path fill="darken" w="39196" h="21600">
                <a:moveTo>
                  <a:pt x="20704" y="14281"/>
                </a:moveTo>
                <a:lnTo>
                  <a:pt x="20704" y="12323"/>
                </a:lnTo>
                <a:cubicBezTo>
                  <a:pt x="20704" y="11496"/>
                  <a:pt x="21034" y="10800"/>
                  <a:pt x="21635" y="10800"/>
                </a:cubicBezTo>
                <a:cubicBezTo>
                  <a:pt x="22766" y="10800"/>
                  <a:pt x="23663" y="9434"/>
                  <a:pt x="23663" y="7849"/>
                </a:cubicBezTo>
                <a:cubicBezTo>
                  <a:pt x="23663" y="5534"/>
                  <a:pt x="21809" y="3794"/>
                  <a:pt x="19598" y="3794"/>
                </a:cubicBezTo>
                <a:cubicBezTo>
                  <a:pt x="17388" y="3794"/>
                  <a:pt x="15716" y="5534"/>
                  <a:pt x="15716" y="7849"/>
                </a:cubicBezTo>
                <a:lnTo>
                  <a:pt x="17570" y="7849"/>
                </a:lnTo>
                <a:cubicBezTo>
                  <a:pt x="17570" y="6709"/>
                  <a:pt x="18493" y="5821"/>
                  <a:pt x="19598" y="5821"/>
                </a:cubicBezTo>
                <a:cubicBezTo>
                  <a:pt x="20704" y="5821"/>
                  <a:pt x="21635" y="6709"/>
                  <a:pt x="21635" y="7849"/>
                </a:cubicBezTo>
                <a:cubicBezTo>
                  <a:pt x="21635" y="8589"/>
                  <a:pt x="21165" y="9320"/>
                  <a:pt x="20704" y="9320"/>
                </a:cubicBezTo>
                <a:cubicBezTo>
                  <a:pt x="19598" y="9320"/>
                  <a:pt x="18493" y="10800"/>
                  <a:pt x="18493" y="12323"/>
                </a:cubicBezTo>
                <a:lnTo>
                  <a:pt x="18493"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16000" y="2038320"/>
            <a:ext cx="7238880" cy="227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Тема урока:</a:t>
            </a:r>
            <a:br>
              <a:rPr sz="4400"/>
            </a:br>
            <a:br>
              <a:rPr sz="4400"/>
            </a:br>
            <a:endParaRPr b="0" lang="en-US" sz="4400" spc="-1" strike="noStrike">
              <a:solidFill>
                <a:srgbClr val="4d4d4d"/>
              </a:solidFill>
              <a:latin typeface="Arial Black"/>
            </a:endParaRPr>
          </a:p>
        </p:txBody>
      </p:sp>
      <p:pic>
        <p:nvPicPr>
          <p:cNvPr id="691" name="Прямоугольник 2" descr=""/>
          <p:cNvPicPr/>
          <p:nvPr/>
        </p:nvPicPr>
        <p:blipFill>
          <a:blip r:embed="rId1"/>
          <a:stretch/>
        </p:blipFill>
        <p:spPr>
          <a:xfrm>
            <a:off x="1285920" y="2792520"/>
            <a:ext cx="65721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ередача информации</a:t>
            </a:r>
            <a:endParaRPr b="0" lang="en-US" sz="4400" spc="-1" strike="noStrike">
              <a:solidFill>
                <a:srgbClr val="4d4d4d"/>
              </a:solidFill>
              <a:latin typeface="Arial Black"/>
            </a:endParaRPr>
          </a:p>
        </p:txBody>
      </p:sp>
      <p:sp>
        <p:nvSpPr>
          <p:cNvPr id="6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Люди постоянно участвуют в процессе передачи информации. Они передают друг другу просьбы, приказы, отчеты, публикуют книги, статьи, рекламные объявления. Передача информации происходит при чтении книг, при просмотре телепередач</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4360" y="475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ередача информации</a:t>
            </a:r>
            <a:endParaRPr b="0" lang="en-US" sz="4400" spc="-1" strike="noStrike">
              <a:solidFill>
                <a:srgbClr val="4d4d4d"/>
              </a:solidFill>
              <a:latin typeface="Arial Black"/>
            </a:endParaRPr>
          </a:p>
        </p:txBody>
      </p:sp>
      <p:sp>
        <p:nvSpPr>
          <p:cNvPr id="695" name="PlaceHolder 2"/>
          <p:cNvSpPr>
            <a:spLocks noGrp="1"/>
          </p:cNvSpPr>
          <p:nvPr>
            <p:ph/>
          </p:nvPr>
        </p:nvSpPr>
        <p:spPr>
          <a:xfrm>
            <a:off x="685800" y="1628280"/>
            <a:ext cx="7772400" cy="27370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Любой</a:t>
            </a:r>
            <a:r>
              <a:rPr b="0" lang="ru-RU" sz="1400" spc="-1" strike="noStrike">
                <a:solidFill>
                  <a:srgbClr val="000066"/>
                </a:solidFill>
                <a:latin typeface="Arial"/>
              </a:rPr>
              <a:t> </a:t>
            </a:r>
            <a:r>
              <a:rPr b="0" lang="ru-RU" sz="1800" spc="-1" strike="noStrike">
                <a:solidFill>
                  <a:srgbClr val="000066"/>
                </a:solidFill>
                <a:latin typeface="Arial"/>
              </a:rPr>
              <a:t>процесс передачи информации упрощенно можно представить следующей схемой:</a:t>
            </a:r>
            <a:endParaRPr b="0" lang="en-US" sz="1800" spc="-1" strike="noStrike">
              <a:solidFill>
                <a:srgbClr val="000066"/>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 передаче информации всегда участвуют две стороны:</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тот, кто передает информацию (</a:t>
            </a:r>
            <a:r>
              <a:rPr b="1" lang="ru-RU" sz="1800" spc="-1" strike="noStrike">
                <a:solidFill>
                  <a:srgbClr val="000066"/>
                </a:solidFill>
                <a:latin typeface="Arial"/>
              </a:rPr>
              <a:t>источник информации</a:t>
            </a:r>
            <a:r>
              <a:rPr b="0" lang="ru-RU" sz="1800" spc="-1" strike="noStrike">
                <a:solidFill>
                  <a:srgbClr val="000066"/>
                </a:solidFill>
                <a:latin typeface="Arial"/>
              </a:rPr>
              <a:t>), </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 </a:t>
            </a:r>
            <a:r>
              <a:rPr b="0" lang="ru-RU" sz="1800" spc="-1" strike="noStrike">
                <a:solidFill>
                  <a:srgbClr val="000066"/>
                </a:solidFill>
                <a:latin typeface="Arial"/>
              </a:rPr>
              <a:t>тот, кто ее получает (</a:t>
            </a:r>
            <a:r>
              <a:rPr b="1" lang="ru-RU" sz="1800" spc="-1" strike="noStrike">
                <a:solidFill>
                  <a:srgbClr val="000066"/>
                </a:solidFill>
                <a:latin typeface="Arial"/>
              </a:rPr>
              <a:t>приемник информации</a:t>
            </a:r>
            <a:r>
              <a:rPr b="0" lang="ru-RU" sz="1800" spc="-1" strike="noStrike">
                <a:solidFill>
                  <a:srgbClr val="000066"/>
                </a:solidFill>
                <a:latin typeface="Arial"/>
              </a:rPr>
              <a:t>)</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Органы чувств человека играют роль биологических </a:t>
            </a:r>
            <a:r>
              <a:rPr b="1" lang="ru-RU" sz="1800" spc="-1" strike="noStrike">
                <a:solidFill>
                  <a:srgbClr val="000066"/>
                </a:solidFill>
                <a:latin typeface="Arial"/>
              </a:rPr>
              <a:t>информационных каналов</a:t>
            </a:r>
            <a:r>
              <a:rPr b="0" lang="ru-RU" sz="1800" spc="-1" strike="noStrike">
                <a:solidFill>
                  <a:srgbClr val="000066"/>
                </a:solidFill>
                <a:latin typeface="Arial"/>
              </a:rPr>
              <a:t>. </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Техническими информационными каналами</a:t>
            </a:r>
            <a:r>
              <a:rPr b="0" lang="ru-RU" sz="1800" spc="-1" strike="noStrike">
                <a:solidFill>
                  <a:srgbClr val="000066"/>
                </a:solidFill>
                <a:latin typeface="Arial"/>
              </a:rPr>
              <a:t> являются телефон, радио, телевидение, компьютер, с помощью которых люди обмениваются информацией. Информационным каналом можно считать письмо или записку.</a:t>
            </a:r>
            <a:endParaRPr b="0" lang="en-US" sz="1800" spc="-1" strike="noStrike">
              <a:solidFill>
                <a:srgbClr val="000066"/>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6" name="Rectangle 7"/>
          <p:cNvSpPr/>
          <p:nvPr/>
        </p:nvSpPr>
        <p:spPr>
          <a:xfrm>
            <a:off x="755640" y="5229360"/>
            <a:ext cx="1728720" cy="1152360"/>
          </a:xfrm>
          <a:prstGeom prst="rect">
            <a:avLst/>
          </a:prstGeom>
          <a:solidFill>
            <a:srgbClr val="00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точник </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и</a:t>
            </a:r>
            <a:endParaRPr b="0" lang="en-US" sz="1800" spc="-1" strike="noStrike">
              <a:solidFill>
                <a:srgbClr val="000066"/>
              </a:solidFill>
              <a:latin typeface="Times New Roman"/>
            </a:endParaRPr>
          </a:p>
        </p:txBody>
      </p:sp>
      <p:sp>
        <p:nvSpPr>
          <p:cNvPr id="697" name="Rectangle 8"/>
          <p:cNvSpPr/>
          <p:nvPr/>
        </p:nvSpPr>
        <p:spPr>
          <a:xfrm>
            <a:off x="6372360" y="5157720"/>
            <a:ext cx="1871640" cy="1152720"/>
          </a:xfrm>
          <a:prstGeom prst="rect">
            <a:avLst/>
          </a:prstGeom>
          <a:solidFill>
            <a:srgbClr val="7dafe1"/>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ник </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и</a:t>
            </a:r>
            <a:endParaRPr b="0" lang="en-US" sz="1800" spc="-1" strike="noStrike">
              <a:solidFill>
                <a:srgbClr val="000066"/>
              </a:solidFill>
              <a:latin typeface="Times New Roman"/>
            </a:endParaRPr>
          </a:p>
        </p:txBody>
      </p:sp>
      <p:sp>
        <p:nvSpPr>
          <p:cNvPr id="698" name="AutoShape 9"/>
          <p:cNvSpPr/>
          <p:nvPr/>
        </p:nvSpPr>
        <p:spPr>
          <a:xfrm>
            <a:off x="2484360" y="5229360"/>
            <a:ext cx="3888000" cy="1008000"/>
          </a:xfrm>
          <a:prstGeom prst="rightArrow">
            <a:avLst>
              <a:gd name="adj1" fmla="val 50000"/>
              <a:gd name="adj2" fmla="val 96429"/>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онный канал</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Характер передачи информации</a:t>
            </a:r>
            <a:endParaRPr b="0" lang="en-US" sz="4400" spc="-1" strike="noStrike">
              <a:solidFill>
                <a:srgbClr val="4d4d4d"/>
              </a:solidFill>
              <a:latin typeface="Arial Black"/>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Arial"/>
              </a:rPr>
              <a:t>Односторонний</a:t>
            </a:r>
            <a:br>
              <a:rPr sz="3600"/>
            </a:br>
            <a:r>
              <a:rPr b="0" i="1" lang="ru-RU" sz="3600" spc="-1" strike="noStrike">
                <a:solidFill>
                  <a:srgbClr val="000066"/>
                </a:solidFill>
                <a:latin typeface="Arial"/>
              </a:rPr>
              <a:t> </a:t>
            </a:r>
            <a:endParaRPr b="0" lang="en-US" sz="3600" spc="-1" strike="noStrike">
              <a:solidFill>
                <a:srgbClr val="000066"/>
              </a:solidFill>
              <a:latin typeface="Arial"/>
            </a:endParaRPr>
          </a:p>
          <a:p>
            <a:pPr marL="343080" indent="-343080">
              <a:spcBef>
                <a:spcPts val="9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Arial"/>
              </a:rPr>
              <a:t>Двусторонний</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Односторонняя передача информации</a:t>
            </a:r>
            <a:endParaRPr b="0" lang="en-US" sz="4400" spc="-1" strike="noStrike">
              <a:solidFill>
                <a:srgbClr val="4d4d4d"/>
              </a:solidFill>
              <a:latin typeface="Arial Black"/>
            </a:endParaRPr>
          </a:p>
        </p:txBody>
      </p:sp>
      <p:sp>
        <p:nvSpPr>
          <p:cNvPr id="7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При переходе дороги на регулируемом перекрестке вы (приемник информации), а светофор (источник информации). </a:t>
            </a: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А что является информационным каналом? </a:t>
            </a:r>
            <a:endParaRPr b="0" lang="en-US" sz="3200" spc="-1" strike="noStrike">
              <a:solidFill>
                <a:srgbClr val="000066"/>
              </a:solidFill>
              <a:latin typeface="Arial"/>
            </a:endParaRPr>
          </a:p>
        </p:txBody>
      </p:sp>
      <p:sp>
        <p:nvSpPr>
          <p:cNvPr id="703" name="AutoShape 4"/>
          <p:cNvSpPr/>
          <p:nvPr/>
        </p:nvSpPr>
        <p:spPr>
          <a:xfrm>
            <a:off x="3348000" y="5157720"/>
            <a:ext cx="936720" cy="647640"/>
          </a:xfrm>
          <a:custGeom>
            <a:avLst/>
            <a:gdLst>
              <a:gd name="textAreaLeft" fmla="*/ 41760 w 936720"/>
              <a:gd name="textAreaRight" fmla="*/ 894960 w 936720"/>
              <a:gd name="textAreaTop" fmla="*/ 41760 h 647640"/>
              <a:gd name="textAreaBottom" fmla="*/ 605880 h 647640"/>
            </a:gdLst>
            <a:ahLst/>
            <a:rect l="textAreaLeft" t="textAreaTop" r="textAreaRight" b="textAreaBottom"/>
            <a:pathLst>
              <a:path w="31236" h="21600">
                <a:moveTo>
                  <a:pt x="0" y="0"/>
                </a:moveTo>
                <a:lnTo>
                  <a:pt x="31236" y="0"/>
                </a:lnTo>
                <a:lnTo>
                  <a:pt x="31236" y="21600"/>
                </a:lnTo>
                <a:lnTo>
                  <a:pt x="0" y="21600"/>
                </a:lnTo>
                <a:close/>
              </a:path>
              <a:path fill="lightenLess" w="31236" h="21600">
                <a:moveTo>
                  <a:pt x="0" y="0"/>
                </a:moveTo>
                <a:lnTo>
                  <a:pt x="31236" y="0"/>
                </a:lnTo>
                <a:lnTo>
                  <a:pt x="29836" y="1400"/>
                </a:lnTo>
                <a:lnTo>
                  <a:pt x="1400" y="1400"/>
                </a:lnTo>
                <a:close/>
              </a:path>
              <a:path fill="darken" w="31236" h="21600">
                <a:moveTo>
                  <a:pt x="31236" y="0"/>
                </a:moveTo>
                <a:lnTo>
                  <a:pt x="31236" y="21600"/>
                </a:lnTo>
                <a:lnTo>
                  <a:pt x="29836" y="20200"/>
                </a:lnTo>
                <a:lnTo>
                  <a:pt x="29836" y="1400"/>
                </a:lnTo>
                <a:close/>
              </a:path>
              <a:path fill="darkenLess" w="31236" h="21600">
                <a:moveTo>
                  <a:pt x="31236" y="21600"/>
                </a:moveTo>
                <a:lnTo>
                  <a:pt x="0" y="21600"/>
                </a:lnTo>
                <a:lnTo>
                  <a:pt x="1400" y="20200"/>
                </a:lnTo>
                <a:lnTo>
                  <a:pt x="29836" y="20200"/>
                </a:lnTo>
                <a:close/>
              </a:path>
              <a:path fill="lighten" w="31236" h="21600">
                <a:moveTo>
                  <a:pt x="0" y="21600"/>
                </a:moveTo>
                <a:lnTo>
                  <a:pt x="0" y="0"/>
                </a:lnTo>
                <a:lnTo>
                  <a:pt x="1400" y="1400"/>
                </a:lnTo>
                <a:lnTo>
                  <a:pt x="1400" y="20200"/>
                </a:lnTo>
                <a:close/>
              </a:path>
              <a:path fill="darken" w="31236" h="21600">
                <a:moveTo>
                  <a:pt x="15618" y="14804"/>
                </a:moveTo>
                <a:arcTo wR="1471" hR="1471" stAng="16200000" swAng="-5400000"/>
                <a:arcTo wR="1471" hR="1471" stAng="10800000" swAng="-5400000"/>
                <a:arcTo wR="1471" hR="1471" stAng="5400000" swAng="-5400000"/>
                <a:arcTo wR="1471" hR="1471" stAng="0" swAng="-5400000"/>
                <a:close/>
              </a:path>
              <a:path fill="darken" w="31236" h="21600">
                <a:moveTo>
                  <a:pt x="16723" y="14281"/>
                </a:moveTo>
                <a:lnTo>
                  <a:pt x="16723" y="12323"/>
                </a:lnTo>
                <a:cubicBezTo>
                  <a:pt x="16723" y="11496"/>
                  <a:pt x="17054" y="10800"/>
                  <a:pt x="17655" y="10800"/>
                </a:cubicBezTo>
                <a:cubicBezTo>
                  <a:pt x="18786" y="10800"/>
                  <a:pt x="19683" y="9434"/>
                  <a:pt x="19683" y="7849"/>
                </a:cubicBezTo>
                <a:cubicBezTo>
                  <a:pt x="19683" y="5534"/>
                  <a:pt x="17829" y="3794"/>
                  <a:pt x="15618" y="3794"/>
                </a:cubicBezTo>
                <a:cubicBezTo>
                  <a:pt x="13407" y="3794"/>
                  <a:pt x="11736" y="5534"/>
                  <a:pt x="11736" y="7849"/>
                </a:cubicBezTo>
                <a:lnTo>
                  <a:pt x="13590" y="7849"/>
                </a:lnTo>
                <a:cubicBezTo>
                  <a:pt x="13590" y="6709"/>
                  <a:pt x="14513" y="5821"/>
                  <a:pt x="15618" y="5821"/>
                </a:cubicBezTo>
                <a:cubicBezTo>
                  <a:pt x="16723" y="5821"/>
                  <a:pt x="17655" y="6709"/>
                  <a:pt x="17655" y="7849"/>
                </a:cubicBezTo>
                <a:cubicBezTo>
                  <a:pt x="17655" y="8589"/>
                  <a:pt x="17185" y="9320"/>
                  <a:pt x="16723" y="9320"/>
                </a:cubicBezTo>
                <a:cubicBezTo>
                  <a:pt x="15618" y="9320"/>
                  <a:pt x="14513" y="10800"/>
                  <a:pt x="14513" y="12323"/>
                </a:cubicBezTo>
                <a:lnTo>
                  <a:pt x="14513"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Двусторонняя передача информации</a:t>
            </a:r>
            <a:endParaRPr b="0" lang="en-US" sz="4400" spc="-1" strike="noStrike">
              <a:solidFill>
                <a:srgbClr val="4d4d4d"/>
              </a:solidFill>
              <a:latin typeface="Arial Black"/>
            </a:endParaRPr>
          </a:p>
        </p:txBody>
      </p:sp>
      <p:sp>
        <p:nvSpPr>
          <p:cNvPr id="7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Играя в компьютерную игру, вы постоянно обмениваетесь информацией с компьютером, давая различные команды. Компьютер принимает и обрабатывает вашу информацию, а результат обработки отображает на экране монитора.</a:t>
            </a:r>
            <a:br>
              <a:rPr sz="2800"/>
            </a:br>
            <a:r>
              <a:rPr b="0" lang="ru-RU" sz="2800" spc="-1" strike="noStrike">
                <a:solidFill>
                  <a:srgbClr val="000066"/>
                </a:solidFill>
                <a:latin typeface="Arial"/>
              </a:rPr>
              <a:t>(Источником и приемником информации является и человек и компьютер).</a:t>
            </a:r>
            <a:endParaRPr b="0" lang="en-US" sz="2800" spc="-1" strike="noStrike">
              <a:solidFill>
                <a:srgbClr val="000066"/>
              </a:solidFill>
              <a:latin typeface="Arial"/>
            </a:endParaRPr>
          </a:p>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риведите пример двусторонней передачи информации? </a:t>
            </a:r>
            <a:endParaRPr b="0" lang="en-US" sz="2800" spc="-1" strike="noStrike">
              <a:solidFill>
                <a:srgbClr val="000066"/>
              </a:solidFill>
              <a:latin typeface="Arial"/>
            </a:endParaRPr>
          </a:p>
        </p:txBody>
      </p:sp>
      <p:sp>
        <p:nvSpPr>
          <p:cNvPr id="706" name="AutoShape 4"/>
          <p:cNvSpPr/>
          <p:nvPr/>
        </p:nvSpPr>
        <p:spPr>
          <a:xfrm>
            <a:off x="3780000" y="558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21589" y="14804"/>
                </a:moveTo>
                <a:arcTo wR="1471" hR="1471" stAng="16200000" swAng="-5400000"/>
                <a:arcTo wR="1471" hR="1471" stAng="10800000" swAng="-5400000"/>
                <a:arcTo wR="1471" hR="1471" stAng="5400000" swAng="-5400000"/>
                <a:arcTo wR="1471" hR="1471" stAng="0" swAng="-5400000"/>
                <a:close/>
              </a:path>
              <a:path fill="darken" w="43178" h="21600">
                <a:moveTo>
                  <a:pt x="22695" y="14281"/>
                </a:moveTo>
                <a:lnTo>
                  <a:pt x="22695" y="12323"/>
                </a:lnTo>
                <a:cubicBezTo>
                  <a:pt x="22695" y="11496"/>
                  <a:pt x="23025" y="10800"/>
                  <a:pt x="23626" y="10800"/>
                </a:cubicBezTo>
                <a:cubicBezTo>
                  <a:pt x="24757" y="10800"/>
                  <a:pt x="25654" y="9434"/>
                  <a:pt x="25654" y="7849"/>
                </a:cubicBezTo>
                <a:cubicBezTo>
                  <a:pt x="25654" y="5534"/>
                  <a:pt x="23800" y="3794"/>
                  <a:pt x="21589" y="3794"/>
                </a:cubicBezTo>
                <a:cubicBezTo>
                  <a:pt x="19378" y="3794"/>
                  <a:pt x="17707" y="5534"/>
                  <a:pt x="17707" y="7849"/>
                </a:cubicBezTo>
                <a:lnTo>
                  <a:pt x="19561" y="7849"/>
                </a:lnTo>
                <a:cubicBezTo>
                  <a:pt x="19561" y="6709"/>
                  <a:pt x="20484" y="5821"/>
                  <a:pt x="21589" y="5821"/>
                </a:cubicBezTo>
                <a:cubicBezTo>
                  <a:pt x="22695" y="5821"/>
                  <a:pt x="23626" y="6709"/>
                  <a:pt x="23626" y="7849"/>
                </a:cubicBezTo>
                <a:cubicBezTo>
                  <a:pt x="23626" y="8589"/>
                  <a:pt x="23156" y="9320"/>
                  <a:pt x="22695" y="9320"/>
                </a:cubicBezTo>
                <a:cubicBezTo>
                  <a:pt x="21589" y="9320"/>
                  <a:pt x="20484" y="10800"/>
                  <a:pt x="20484" y="12323"/>
                </a:cubicBezTo>
                <a:lnTo>
                  <a:pt x="20484"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1:56:22Z</dcterms:created>
  <dc:creator>Лопатины</dc:creator>
  <dc:description/>
  <dc:language>en-US</dc:language>
  <cp:lastModifiedBy>головной</cp:lastModifiedBy>
  <dcterms:modified xsi:type="dcterms:W3CDTF">2019-04-19T04:08:40Z</dcterms:modified>
  <cp:revision>58</cp:revision>
  <dc:subject/>
  <dc:title>Передача информации</dc:title>
</cp:coreProperties>
</file>