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A48-BA1F-4D6B-8E21-3A1E8F54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53A-3235-4F21-80AF-EB8AA8A3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A0F-3518-44DA-8337-216735E3A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728-516D-4E05-850E-CB1B5D2E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68B8-59F1-43E5-B0A0-F89C4DB0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F49E-4260-459C-8B6F-5B96138D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98C1-4698-469E-9D85-D40C45CE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374F-3C63-426E-B73F-D9447235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13B6-21D2-4269-8CDE-66F14264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BABD-1CDC-4CE9-BF7B-233BB014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8B33-4003-450D-B394-4C2D6974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2C1-C61B-4FFF-9753-031439D9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D0C9-94DD-4AB7-80B8-D53CED1E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5248-6FB5-432E-9739-7FBF5997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216B-874C-42C9-82CD-EA45C991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B46D-7A8A-4A5B-8371-2A9C69EE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B9BE-9247-4007-8AC0-256D8411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2746-098F-463F-A5B1-0046D056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F13-A30C-4437-818C-0B48B14B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6A7-8AB1-4158-9FBE-E2F66F10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4C3-42E0-4308-8046-886F8D31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9ED-8D08-4F5F-B552-B19B438A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4A5A-F098-45A6-9084-E76A3E9D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83B-C5B0-4F8C-85F8-F4716CDB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2662200" cy="6853320"/>
            <a:chOff x="0" y="0"/>
            <a:chExt cx="2662200" cy="6853320"/>
          </a:xfrm>
        </p:grpSpPr>
        <p:sp>
          <p:nvSpPr>
            <p:cNvPr id="1" name="Rectangle 2"/>
            <p:cNvSpPr/>
            <p:nvPr/>
          </p:nvSpPr>
          <p:spPr>
            <a:xfrm>
              <a:off x="1981080" y="0"/>
              <a:ext cx="681120" cy="6853320"/>
            </a:xfrm>
            <a:prstGeom prst="rect">
              <a:avLst/>
            </a:prstGeom>
            <a:gradFill rotWithShape="0">
              <a:gsLst>
                <a:gs pos="0">
                  <a:srgbClr val="73737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5160" cy="685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9612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7920" y="1600200"/>
            <a:ext cx="639612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8972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4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62A925-3DC2-4C81-8C49-0BB479B5981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099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81A361-18AA-4150-91EA-738D9156CB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6154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1371240"/>
            <a:ext cx="8423280" cy="289548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редметно- развивающая среда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начальной школе</a:t>
            </a:r>
            <a:endParaRPr b="1" i="1" lang="en-US" sz="5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обходимые зоны в кабинете начальных классов</a:t>
            </a:r>
            <a:endParaRPr b="1" i="1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85760" y="2016000"/>
            <a:ext cx="2000160" cy="135756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Учебн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60200" y="3755880"/>
            <a:ext cx="2071800" cy="150048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Информационн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616200" y="1976400"/>
            <a:ext cx="2000520" cy="111924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Зелён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00360" y="3527280"/>
            <a:ext cx="2000520" cy="120492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Игров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44920" y="5116680"/>
            <a:ext cx="2143080" cy="129204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Коррекционн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784920" y="1871640"/>
            <a:ext cx="2000160" cy="135720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Бытов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711840" y="3755880"/>
            <a:ext cx="2071800" cy="1428840"/>
          </a:xfrm>
          <a:prstGeom prst="rect">
            <a:avLst/>
          </a:prstGeom>
          <a:solidFill>
            <a:srgbClr val="ffffff"/>
          </a:solidFill>
          <a:ln w="55080">
            <a:solidFill>
              <a:srgbClr val="7d3c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Спортивно-оздоровительн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7200" y="37944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284c"/>
                </a:solidFill>
                <a:latin typeface="Arial"/>
              </a:rPr>
              <a:t>Роль образовательной развивающей среды может быть представлена с позиции ее функций: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1640" y="2376360"/>
            <a:ext cx="8280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60480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Воспитывающая функци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60480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Образовательно – развивающая функци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604800" indent="-60480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Times New Roman"/>
              <a:buAutoNum type="arabicPeriod"/>
              <a:tabLst>
                <a:tab algn="l" pos="604800"/>
                <a:tab algn="l" pos="709560"/>
                <a:tab algn="l" pos="1158840"/>
                <a:tab algn="l" pos="1608120"/>
                <a:tab algn="l" pos="2057400"/>
                <a:tab algn="l" pos="2506680"/>
                <a:tab algn="l" pos="2955960"/>
                <a:tab algn="l" pos="3405240"/>
                <a:tab algn="l" pos="3854520"/>
                <a:tab algn="l" pos="4303800"/>
                <a:tab algn="l" pos="4753080"/>
                <a:tab algn="l" pos="5202360"/>
                <a:tab algn="l" pos="5651640"/>
                <a:tab algn="l" pos="6100920"/>
                <a:tab algn="l" pos="6550200"/>
                <a:tab algn="l" pos="6999120"/>
                <a:tab algn="l" pos="7448400"/>
                <a:tab algn="l" pos="7897680"/>
                <a:tab algn="l" pos="8346960"/>
                <a:tab algn="l" pos="8796240"/>
                <a:tab algn="l" pos="9245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Организационная функция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576360" y="581040"/>
            <a:ext cx="7920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5680" algn="ctr"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284c"/>
                </a:solidFill>
                <a:latin typeface="Arial"/>
                <a:ea typeface="Lucida Sans Unicode"/>
              </a:rPr>
              <a:t>При проектировании среды необходимо опираться на следующие принци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861080" y="2982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0" y="1904400"/>
            <a:ext cx="9137520" cy="4718520"/>
            <a:chOff x="0" y="1904400"/>
            <a:chExt cx="9137520" cy="4718520"/>
          </a:xfrm>
        </p:grpSpPr>
        <p:cxnSp>
          <p:nvCxnSpPr>
            <p:cNvPr id="140" name="AutoShape 4"/>
            <p:cNvCxnSpPr>
              <a:stCxn id="141" idx="1"/>
              <a:endCxn id="142" idx="0"/>
            </p:cNvCxnSpPr>
            <p:nvPr/>
          </p:nvCxnSpPr>
          <p:spPr>
            <a:xfrm rot="10800000">
              <a:off x="3079080" y="1904400"/>
              <a:ext cx="633960" cy="219924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43" name="AutoShape 5"/>
            <p:cNvCxnSpPr>
              <a:stCxn id="144" idx="1"/>
              <a:endCxn id="142" idx="2"/>
            </p:cNvCxnSpPr>
            <p:nvPr/>
          </p:nvCxnSpPr>
          <p:spPr>
            <a:xfrm rot="10800000">
              <a:off x="3718800" y="4102920"/>
              <a:ext cx="637200" cy="1337400"/>
            </a:xfrm>
            <a:prstGeom prst="bentConnector3">
              <a:avLst>
                <a:gd name="adj1" fmla="val 49971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45" name="AutoShape 6"/>
            <p:cNvCxnSpPr>
              <a:stCxn id="146" idx="1"/>
              <a:endCxn id="142" idx="2"/>
            </p:cNvCxnSpPr>
            <p:nvPr/>
          </p:nvCxnSpPr>
          <p:spPr>
            <a:xfrm rot="10800000">
              <a:off x="3718800" y="4102920"/>
              <a:ext cx="637200" cy="523080"/>
            </a:xfrm>
            <a:prstGeom prst="bentConnector3">
              <a:avLst>
                <a:gd name="adj1" fmla="val 49971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sp>
          <p:nvSpPr>
            <p:cNvPr id="142" name="AutoShape 7"/>
            <p:cNvSpPr/>
            <p:nvPr/>
          </p:nvSpPr>
          <p:spPr>
            <a:xfrm>
              <a:off x="0" y="3584520"/>
              <a:ext cx="7437600" cy="51768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99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1. Принцип целесообразности и рациональност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8"/>
            <p:cNvSpPr/>
            <p:nvPr/>
          </p:nvSpPr>
          <p:spPr>
            <a:xfrm>
              <a:off x="4359240" y="4368960"/>
              <a:ext cx="4707000" cy="51732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5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Рациональность использования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575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пространства территории</a:t>
              </a:r>
              <a:r>
                <a:rPr b="1" lang="ru-RU" sz="23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9"/>
            <p:cNvSpPr/>
            <p:nvPr/>
          </p:nvSpPr>
          <p:spPr>
            <a:xfrm>
              <a:off x="4359240" y="5151600"/>
              <a:ext cx="3622680" cy="5792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5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Рациональное совмещ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45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з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10"/>
            <p:cNvSpPr/>
            <p:nvPr/>
          </p:nvSpPr>
          <p:spPr>
            <a:xfrm>
              <a:off x="4359240" y="5996160"/>
              <a:ext cx="4778280" cy="62676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5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Целесообраз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45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и рациональность предметног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476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наполнения каждой зоны</a:t>
              </a:r>
              <a:r>
                <a:rPr b="1" lang="ru-RU" sz="19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66480" y="1599840"/>
            <a:ext cx="8272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0040" indent="-428760">
              <a:lnSpc>
                <a:spcPct val="100000"/>
              </a:lnSpc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Возрастные и индивидуальные особенности детей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100000"/>
              </a:lnSpc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Особенности УМК или образовательных программ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500040" indent="-428760">
              <a:lnSpc>
                <a:spcPct val="100000"/>
              </a:lnSpc>
              <a:spcBef>
                <a:spcPts val="799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0040"/>
                <a:tab algn="l" pos="6048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</a:rPr>
              <a:t>Особенности географического расположения населенного пункта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03280" y="57636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3589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9342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99284c"/>
                </a:solidFill>
                <a:latin typeface="Arial"/>
              </a:rPr>
              <a:t>При этом важно учитывать: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"/>
          <p:cNvGrpSpPr/>
          <p:nvPr/>
        </p:nvGrpSpPr>
        <p:grpSpPr>
          <a:xfrm>
            <a:off x="503280" y="502560"/>
            <a:ext cx="8405640" cy="5587200"/>
            <a:chOff x="503280" y="502560"/>
            <a:chExt cx="8405640" cy="5587200"/>
          </a:xfrm>
        </p:grpSpPr>
        <p:cxnSp>
          <p:nvCxnSpPr>
            <p:cNvPr id="150" name="AutoShape 2"/>
            <p:cNvCxnSpPr>
              <a:stCxn id="151" idx="1"/>
              <a:endCxn id="152" idx="0"/>
            </p:cNvCxnSpPr>
            <p:nvPr/>
          </p:nvCxnSpPr>
          <p:spPr>
            <a:xfrm rot="10800000">
              <a:off x="2183760" y="502560"/>
              <a:ext cx="837360" cy="2539080"/>
            </a:xfrm>
            <a:prstGeom prst="bentConnector3">
              <a:avLst>
                <a:gd name="adj1" fmla="val 49978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53" name="AutoShape 3"/>
            <p:cNvCxnSpPr>
              <a:stCxn id="154" idx="1"/>
              <a:endCxn id="152" idx="2"/>
            </p:cNvCxnSpPr>
            <p:nvPr/>
          </p:nvCxnSpPr>
          <p:spPr>
            <a:xfrm rot="10800000">
              <a:off x="3023640" y="3037680"/>
              <a:ext cx="842040" cy="101844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sp>
          <p:nvSpPr>
            <p:cNvPr id="152" name="AutoShape 4"/>
            <p:cNvSpPr/>
            <p:nvPr/>
          </p:nvSpPr>
          <p:spPr>
            <a:xfrm>
              <a:off x="503280" y="2025720"/>
              <a:ext cx="5040360" cy="10112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524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2.Принцип доступност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524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r>
                <a:rPr b="1" lang="ru-RU" sz="21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и открытости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3867120" y="3551400"/>
              <a:ext cx="5041800" cy="10112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374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Предметный мир должен быть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374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представлен в открытом вид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6"/>
            <p:cNvSpPr/>
            <p:nvPr/>
          </p:nvSpPr>
          <p:spPr>
            <a:xfrm>
              <a:off x="3867120" y="5076720"/>
              <a:ext cx="5041800" cy="10130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00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Предметная среда должна быть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400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актуальной для данного возраст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 rot="10800000">
            <a:off x="2438280" y="-113040"/>
            <a:ext cx="6400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2"/>
          <p:cNvGrpSpPr/>
          <p:nvPr/>
        </p:nvGrpSpPr>
        <p:grpSpPr>
          <a:xfrm>
            <a:off x="576360" y="502560"/>
            <a:ext cx="8256600" cy="5587200"/>
            <a:chOff x="576360" y="502560"/>
            <a:chExt cx="8256600" cy="5587200"/>
          </a:xfrm>
        </p:grpSpPr>
        <p:cxnSp>
          <p:nvCxnSpPr>
            <p:cNvPr id="157" name="AutoShape 3"/>
            <p:cNvCxnSpPr>
              <a:stCxn id="158" idx="1"/>
              <a:endCxn id="159" idx="0"/>
            </p:cNvCxnSpPr>
            <p:nvPr/>
          </p:nvCxnSpPr>
          <p:spPr>
            <a:xfrm rot="10800000">
              <a:off x="2226600" y="502560"/>
              <a:ext cx="821520" cy="2539080"/>
            </a:xfrm>
            <a:prstGeom prst="bentConnector3">
              <a:avLst>
                <a:gd name="adj1" fmla="val 49978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60" name="AutoShape 4"/>
            <p:cNvCxnSpPr>
              <a:stCxn id="161" idx="1"/>
              <a:endCxn id="159" idx="2"/>
            </p:cNvCxnSpPr>
            <p:nvPr/>
          </p:nvCxnSpPr>
          <p:spPr>
            <a:xfrm rot="10800000">
              <a:off x="3052080" y="3037680"/>
              <a:ext cx="827640" cy="101844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sp>
          <p:nvSpPr>
            <p:cNvPr id="159" name="AutoShape 5"/>
            <p:cNvSpPr/>
            <p:nvPr/>
          </p:nvSpPr>
          <p:spPr>
            <a:xfrm>
              <a:off x="576360" y="2025720"/>
              <a:ext cx="4951440" cy="10112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60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3. Принцип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601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содеятель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3881520" y="3551400"/>
              <a:ext cx="4951440" cy="10112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99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Непосредственное участи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499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ребенка в создании сре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AutoShape 7"/>
            <p:cNvSpPr/>
            <p:nvPr/>
          </p:nvSpPr>
          <p:spPr>
            <a:xfrm>
              <a:off x="3881520" y="5076720"/>
              <a:ext cx="4951440" cy="10130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743040" indent="-281160" algn="ctr">
                <a:spcBef>
                  <a:spcPts val="499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От руководства учителем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743040" indent="-281160" algn="ctr">
                <a:spcBef>
                  <a:spcPts val="499"/>
                </a:spcBef>
                <a:tabLst>
                  <a:tab algn="l" pos="0"/>
                  <a:tab algn="l" pos="743040"/>
                  <a:tab algn="l" pos="1190520"/>
                  <a:tab algn="l" pos="1639800"/>
                  <a:tab algn="l" pos="2089080"/>
                  <a:tab algn="l" pos="2538360"/>
                  <a:tab algn="l" pos="2987640"/>
                  <a:tab algn="l" pos="3436920"/>
                  <a:tab algn="l" pos="3886200"/>
                  <a:tab algn="l" pos="4335480"/>
                  <a:tab algn="l" pos="4784760"/>
                  <a:tab algn="l" pos="5234040"/>
                  <a:tab algn="l" pos="5683320"/>
                  <a:tab algn="l" pos="6132600"/>
                  <a:tab algn="l" pos="6581880"/>
                  <a:tab algn="l" pos="7031160"/>
                  <a:tab algn="l" pos="7480440"/>
                  <a:tab algn="l" pos="7929720"/>
                  <a:tab algn="l" pos="8379000"/>
                  <a:tab algn="l" pos="8827920"/>
                  <a:tab algn="l" pos="9277200"/>
                  <a:tab algn="l" pos="972648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к самоорганиз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катерина</cp:lastModifiedBy>
  <dcterms:modified xsi:type="dcterms:W3CDTF">2019-04-19T02:15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