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302-A704-4F25-8D86-BB420765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962-22C3-458B-BE08-5CB0C8A7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B9D-F102-4C88-9C0F-C432E648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270-F94B-4FD3-A83A-81A1BD42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6E4A-2146-4B5B-8EB6-DB2D05E0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354B-1E86-4504-9E09-5DB50E4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4FBB-82D8-498E-89BB-E69A763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418-4EEC-4B49-B035-7C7E1A8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6AC-C6DB-4568-8B0B-6B19508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B5D8-F8F9-4DF4-9C56-A5DB790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AC6-90EE-4F9E-BFCE-52D842A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328-8B77-4E16-86DB-D505EBC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FB96-9A51-4259-8E94-12E6C34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55E8-1F0B-498C-B089-1137B62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473F-CF66-42D0-8655-550B3C71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A58-0E4C-4073-AC17-225A49C2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832C-1E84-4838-8B68-4BE71850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F68-7537-4F6F-814C-2484F54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9C3-E331-485F-979E-C8FFBFC7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A2D-4D77-4D1E-8E3A-E199D295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2BB-BC22-4C30-B039-D1282F1C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187-C2E2-4DE1-A47C-85B08F53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1B4-E0C7-4383-885E-EB3AEA0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535-110F-4D14-9C44-1E4911A8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2662200" cy="6853320"/>
            <a:chOff x="0" y="0"/>
            <a:chExt cx="2662200" cy="6853320"/>
          </a:xfrm>
        </p:grpSpPr>
        <p:sp>
          <p:nvSpPr>
            <p:cNvPr id="1" name="Rectangle 2"/>
            <p:cNvSpPr/>
            <p:nvPr/>
          </p:nvSpPr>
          <p:spPr>
            <a:xfrm>
              <a:off x="1981080" y="0"/>
              <a:ext cx="681120" cy="6853320"/>
            </a:xfrm>
            <a:prstGeom prst="rect">
              <a:avLst/>
            </a:prstGeom>
            <a:gradFill rotWithShape="0">
              <a:gsLst>
                <a:gs pos="0">
                  <a:srgbClr val="7373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5160" cy="68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3961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4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4E9B6F-88C5-4D75-9FED-A5FA1553D1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4AC13F-C51E-4663-8597-C38AB376CA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5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1371240"/>
            <a:ext cx="8423280" cy="289548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едметно- развивающая сред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начальной школе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ые зоны в кабинете начальных классов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85760" y="2016000"/>
            <a:ext cx="2000160" cy="135756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Учеб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0200" y="3755880"/>
            <a:ext cx="2071800" cy="15004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Информацион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616200" y="1976400"/>
            <a:ext cx="2000520" cy="11192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Зелё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00360" y="3527280"/>
            <a:ext cx="2000520" cy="12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Игр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44920" y="5116680"/>
            <a:ext cx="2143080" cy="12920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Коррекцион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784920" y="1871640"/>
            <a:ext cx="2000160" cy="135720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Быт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711840" y="3755880"/>
            <a:ext cx="2071800" cy="14288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Спортивно-оздоровитель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7200" y="37944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</a:rPr>
              <a:t>Роль образовательной развивающей среды может быть представлена с позиции ее функций: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2376360"/>
            <a:ext cx="8280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спитывающ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бразовательно – развивающ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рганизационн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76360" y="581040"/>
            <a:ext cx="792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56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  <a:ea typeface="Lucida Sans Unicode"/>
              </a:rPr>
              <a:t>При проектировании среды необходимо опираться на следующие принци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861080" y="2982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0" y="1904400"/>
            <a:ext cx="9137520" cy="4718520"/>
            <a:chOff x="0" y="1904400"/>
            <a:chExt cx="9137520" cy="4718520"/>
          </a:xfrm>
        </p:grpSpPr>
        <p:cxnSp>
          <p:nvCxnSpPr>
            <p:cNvPr id="140" name="AutoShape 4"/>
            <p:cNvCxnSpPr>
              <a:stCxn id="141" idx="1"/>
              <a:endCxn id="142" idx="0"/>
            </p:cNvCxnSpPr>
            <p:nvPr/>
          </p:nvCxnSpPr>
          <p:spPr>
            <a:xfrm rot="10800000">
              <a:off x="3079080" y="1904400"/>
              <a:ext cx="633960" cy="21992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43" name="AutoShape 5"/>
            <p:cNvCxnSpPr>
              <a:stCxn id="144" idx="1"/>
              <a:endCxn id="142" idx="2"/>
            </p:cNvCxnSpPr>
            <p:nvPr/>
          </p:nvCxnSpPr>
          <p:spPr>
            <a:xfrm rot="10800000">
              <a:off x="3718800" y="4102920"/>
              <a:ext cx="637200" cy="1337400"/>
            </a:xfrm>
            <a:prstGeom prst="bentConnector3">
              <a:avLst>
                <a:gd name="adj1" fmla="val 49971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45" name="AutoShape 6"/>
            <p:cNvCxnSpPr>
              <a:stCxn id="146" idx="1"/>
              <a:endCxn id="142" idx="2"/>
            </p:cNvCxnSpPr>
            <p:nvPr/>
          </p:nvCxnSpPr>
          <p:spPr>
            <a:xfrm rot="10800000">
              <a:off x="3718800" y="4102920"/>
              <a:ext cx="637200" cy="523080"/>
            </a:xfrm>
            <a:prstGeom prst="bentConnector3">
              <a:avLst>
                <a:gd name="adj1" fmla="val 49971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42" name="AutoShape 7"/>
            <p:cNvSpPr/>
            <p:nvPr/>
          </p:nvSpPr>
          <p:spPr>
            <a:xfrm>
              <a:off x="0" y="3584520"/>
              <a:ext cx="7437600" cy="517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. Принцип целесообразности и рациона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>
              <a:off x="4359240" y="4368960"/>
              <a:ext cx="4707000" cy="5173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циональность использования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575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остранства территории</a:t>
              </a:r>
              <a:r>
                <a:rPr b="1" lang="ru-RU" sz="23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>
              <a:off x="4359240" y="5151600"/>
              <a:ext cx="3622680" cy="579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циональное совмещ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з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4359240" y="5996160"/>
              <a:ext cx="4778280" cy="62676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Целесообраз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 рациональность предметн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76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наполнения каждой зоны</a:t>
              </a: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6480" y="1599840"/>
            <a:ext cx="8272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зрастные и индивидуальные особенности детей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собенности УМК или образовательных программ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собенности географического расположения населенного пункт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03280" y="57636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При этом важно учитывать: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503280" y="502560"/>
            <a:ext cx="8405640" cy="5587200"/>
            <a:chOff x="503280" y="502560"/>
            <a:chExt cx="8405640" cy="5587200"/>
          </a:xfrm>
        </p:grpSpPr>
        <p:cxnSp>
          <p:nvCxnSpPr>
            <p:cNvPr id="150" name="AutoShape 2"/>
            <p:cNvCxnSpPr>
              <a:stCxn id="151" idx="1"/>
              <a:endCxn id="152" idx="0"/>
            </p:cNvCxnSpPr>
            <p:nvPr/>
          </p:nvCxnSpPr>
          <p:spPr>
            <a:xfrm rot="10800000">
              <a:off x="2183760" y="502560"/>
              <a:ext cx="837360" cy="2539080"/>
            </a:xfrm>
            <a:prstGeom prst="bentConnector3">
              <a:avLst>
                <a:gd name="adj1" fmla="val 49978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53" name="AutoShape 3"/>
            <p:cNvCxnSpPr>
              <a:stCxn id="154" idx="1"/>
              <a:endCxn id="152" idx="2"/>
            </p:cNvCxnSpPr>
            <p:nvPr/>
          </p:nvCxnSpPr>
          <p:spPr>
            <a:xfrm rot="10800000">
              <a:off x="3023640" y="3037680"/>
              <a:ext cx="842040" cy="10184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52" name="AutoShape 4"/>
            <p:cNvSpPr/>
            <p:nvPr/>
          </p:nvSpPr>
          <p:spPr>
            <a:xfrm>
              <a:off x="503280" y="2025720"/>
              <a:ext cx="504036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52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.Принцип доступн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52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 открыт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3867120" y="3551400"/>
              <a:ext cx="504180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37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метный мир должен быть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37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ставлен в открытом вид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6"/>
            <p:cNvSpPr/>
            <p:nvPr/>
          </p:nvSpPr>
          <p:spPr>
            <a:xfrm>
              <a:off x="3867120" y="5076720"/>
              <a:ext cx="5041800" cy="10130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00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метная среда должна бы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00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актуальной для данного возраст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 rot="10800000">
            <a:off x="2438280" y="-113040"/>
            <a:ext cx="640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576360" y="502560"/>
            <a:ext cx="8256600" cy="5587200"/>
            <a:chOff x="576360" y="502560"/>
            <a:chExt cx="8256600" cy="5587200"/>
          </a:xfrm>
        </p:grpSpPr>
        <p:cxnSp>
          <p:nvCxnSpPr>
            <p:cNvPr id="157" name="AutoShape 3"/>
            <p:cNvCxnSpPr>
              <a:stCxn id="158" idx="1"/>
              <a:endCxn id="159" idx="0"/>
            </p:cNvCxnSpPr>
            <p:nvPr/>
          </p:nvCxnSpPr>
          <p:spPr>
            <a:xfrm rot="10800000">
              <a:off x="2226600" y="502560"/>
              <a:ext cx="821520" cy="2539080"/>
            </a:xfrm>
            <a:prstGeom prst="bentConnector3">
              <a:avLst>
                <a:gd name="adj1" fmla="val 49978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4"/>
            <p:cNvCxnSpPr>
              <a:stCxn id="161" idx="1"/>
              <a:endCxn id="159" idx="2"/>
            </p:cNvCxnSpPr>
            <p:nvPr/>
          </p:nvCxnSpPr>
          <p:spPr>
            <a:xfrm rot="10800000">
              <a:off x="3052080" y="3037680"/>
              <a:ext cx="827640" cy="10184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59" name="AutoShape 5"/>
            <p:cNvSpPr/>
            <p:nvPr/>
          </p:nvSpPr>
          <p:spPr>
            <a:xfrm>
              <a:off x="576360" y="2025720"/>
              <a:ext cx="495144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60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. Принцип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60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со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881520" y="3551400"/>
              <a:ext cx="495144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Непосредственное участ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ебенка в создании сре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3881520" y="5076720"/>
              <a:ext cx="4951440" cy="10130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От руководства учителе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к самоорганиз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катерина</cp:lastModifiedBy>
  <dcterms:modified xsi:type="dcterms:W3CDTF">2019-04-19T02:1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