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53B2-FE9D-45ED-B070-80BD3FA2D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FF54-E513-44E9-978D-57EE8474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241D-7A2F-4467-8B20-6DD24ECBA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FC39-0E57-4136-8D78-BCAE071B3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C740-9FC2-4D75-BE64-BABBCAB6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A8F4-E5D5-452B-8E4A-CE036A1F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EBC7-7FA8-4AE0-BF9C-262E1EDA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AD8D-1908-4DDF-99C6-ABC80612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90C5-9DA2-42EB-83CC-722FF868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8864-01EB-47DE-B3C9-B7061814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ADC1-18B8-42CA-B777-27361AEC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8038-75B2-4583-B50C-AACCD102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A2E7-89AA-4A9B-A203-16556126C6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густовский форум работников образования и представителей общественност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гельсского муниципального район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ратовской обла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7120" y="1928520"/>
            <a:ext cx="850104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работы «Эффективные методы и технологии поддержки обучающихся с повышенной познавательной активностью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одзаголовок 2"/>
          <p:cNvSpPr/>
          <p:nvPr/>
        </p:nvSpPr>
        <p:spPr>
          <a:xfrm>
            <a:off x="428760" y="3929040"/>
            <a:ext cx="850104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ова Елена Викторо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 МОУ «Гимназия № 8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вгуста 2018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ЕГЭ по математике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ьного уров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14200" y="1428840"/>
          <a:ext cx="8715600" cy="4572000"/>
        </p:xfrm>
        <a:graphic>
          <a:graphicData uri="http://schemas.openxmlformats.org/drawingml/2006/table">
            <a:tbl>
              <a:tblPr/>
              <a:tblGrid>
                <a:gridCol w="2000520"/>
                <a:gridCol w="1643040"/>
                <a:gridCol w="1500120"/>
                <a:gridCol w="1500120"/>
                <a:gridCol w="2071800"/>
              </a:tblGrid>
              <a:tr h="1602720">
                <a:tc>
                  <a:txBody>
                    <a:bodyPr lIns="52200" rIns="52200" tIns="684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г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684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 ЕГЭ (профильный уровень) по гимназ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684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 ЕГЭ (профильный уровень) по  ЭМ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68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68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280">
                <a:tc>
                  <a:txBody>
                    <a:bodyPr lIns="52200" rIns="52200" tIns="68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684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6,2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68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68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31,2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1600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отова Е.В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120">
                <a:tc>
                  <a:txBody>
                    <a:bodyPr lIns="52200" rIns="52200" tIns="68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684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4,4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68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68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26,4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1600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алева Л.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0">
                <a:tc>
                  <a:txBody>
                    <a:bodyPr lIns="52200" rIns="52200" tIns="68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684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68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68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1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68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алева Л.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4388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ая форма обучения с 2015 г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00040" y="478584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К «Планета знаний»,   УМК «Математика», «Геометрия»  авторского коллектива А.Г. Мерзляк и др. издательского центра «Вентана - Граф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1" descr="C:\Users\User\Desktop\Аагус конф 2017\9.jpg"/>
          <p:cNvPicPr/>
          <p:nvPr/>
        </p:nvPicPr>
        <p:blipFill>
          <a:blip r:embed="rId1"/>
          <a:stretch/>
        </p:blipFill>
        <p:spPr>
          <a:xfrm>
            <a:off x="2928960" y="1285920"/>
            <a:ext cx="322560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работы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28400" y="714240"/>
            <a:ext cx="825804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ворческие коллективы; кружки по интересам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групповые занятия по параллелям классов с сильными учащимися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анятия исследовательской деятельностью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РИЗ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ОУ 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нкурсы; марафоны; научно-практические конференци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частие в олимпиадах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трудничество с ВУЗами, центрами «Сириус» г. Сочи, «Детский университет» г. Саратов, технопарком «Спектр» г. Энгельс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спользование стимулирующих фактов для обучающихся (премия А. Сеножинского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584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рудничество с центром развития детской одаренности «Сириус» г. Соч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Елена\Pictures\Сириус\DSC_2038.JPG"/>
          <p:cNvPicPr/>
          <p:nvPr/>
        </p:nvPicPr>
        <p:blipFill>
          <a:blip r:embed="rId2"/>
          <a:stretch/>
        </p:blipFill>
        <p:spPr>
          <a:xfrm>
            <a:off x="1428840" y="1500120"/>
            <a:ext cx="608652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4200" y="713880"/>
            <a:ext cx="87156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нятия в лабораториях центра «Сириус» г. Соч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гнитивные исслед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Елена\Pictures\Сириус\DSC_1616.JPG"/>
          <p:cNvPicPr/>
          <p:nvPr/>
        </p:nvPicPr>
        <p:blipFill>
          <a:blip r:embed="rId1"/>
          <a:stretch/>
        </p:blipFill>
        <p:spPr>
          <a:xfrm>
            <a:off x="571680" y="2571840"/>
            <a:ext cx="4589280" cy="3071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5429160" y="2143080"/>
            <a:ext cx="31435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правляемый взглядом тан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3430800" cy="4214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4857840" y="1428840"/>
            <a:ext cx="334152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885816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потипирование,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делирование, робототех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1714680"/>
            <a:ext cx="2679840" cy="3571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Users\Елена\Pictures\Сириус\DSC_1782.JPG"/>
          <p:cNvPicPr/>
          <p:nvPr/>
        </p:nvPicPr>
        <p:blipFill>
          <a:blip r:embed="rId2"/>
          <a:stretch/>
        </p:blipFill>
        <p:spPr>
          <a:xfrm>
            <a:off x="2643120" y="1714680"/>
            <a:ext cx="3521160" cy="2357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3"/>
          <a:stretch/>
        </p:blipFill>
        <p:spPr>
          <a:xfrm>
            <a:off x="6229440" y="1714680"/>
            <a:ext cx="2914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няя инженерная профилиза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C:\Users\Елена\Pictures\Сириус\DSC_1850.JPG"/>
          <p:cNvPicPr/>
          <p:nvPr/>
        </p:nvPicPr>
        <p:blipFill>
          <a:blip r:embed="rId1"/>
          <a:stretch/>
        </p:blipFill>
        <p:spPr>
          <a:xfrm>
            <a:off x="1428840" y="1428840"/>
            <a:ext cx="658980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4009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 участия гимназистов во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м этапе  по математ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14200" y="1500120"/>
          <a:ext cx="8786880" cy="4476960"/>
        </p:xfrm>
        <a:graphic>
          <a:graphicData uri="http://schemas.openxmlformats.org/drawingml/2006/table">
            <a:tbl>
              <a:tblPr/>
              <a:tblGrid>
                <a:gridCol w="2000520"/>
                <a:gridCol w="2798640"/>
                <a:gridCol w="2344680"/>
                <a:gridCol w="1643040"/>
              </a:tblGrid>
              <a:tr h="1061280">
                <a:tc>
                  <a:txBody>
                    <a:bodyPr lIns="68760" rIns="68760" tIns="900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ый год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00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победителей и призёров (гимназия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00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ее число  победителей и призёров по ЭМ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00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цен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8320">
                <a:tc>
                  <a:txBody>
                    <a:bodyPr lIns="68760" rIns="68760" tIns="900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5  -  2016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00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00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00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40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7960">
                <a:tc>
                  <a:txBody>
                    <a:bodyPr lIns="68760" rIns="68760" tIns="900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6  -  201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00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00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00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44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400">
                <a:tc>
                  <a:txBody>
                    <a:bodyPr lIns="68760" rIns="68760" tIns="900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8 -     20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00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00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00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ОГЭ по алгебре и геометр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2840" y="1557360"/>
          <a:ext cx="8993160" cy="4389480"/>
        </p:xfrm>
        <a:graphic>
          <a:graphicData uri="http://schemas.openxmlformats.org/drawingml/2006/table">
            <a:tbl>
              <a:tblPr/>
              <a:tblGrid>
                <a:gridCol w="928800"/>
                <a:gridCol w="1243080"/>
                <a:gridCol w="1133280"/>
                <a:gridCol w="1152720"/>
                <a:gridCol w="971280"/>
                <a:gridCol w="1116000"/>
                <a:gridCol w="1079640"/>
                <a:gridCol w="1368360"/>
              </a:tblGrid>
              <a:tr h="1963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ый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ний балл ОГЭ  по математике / оценочный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гимназ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ний балл ОГЭ  по математике  (ЭМ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ний балл ОГЭ по алгебре / оценочный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гимназия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ний балл ОГЭ по алгебр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ЭМР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ний балл ОГЭ по  геометр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гимназия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ний балл ОГЭ по  геометр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ЭМР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6-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2 / 4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,9 /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4,7 / 4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,5 / 3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7,5 / 4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,4 / 3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вотова Е.В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 /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/3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/4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/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пчук Н.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16T10:38:42Z</dcterms:created>
  <dc:creator>Елена</dc:creator>
  <dc:description/>
  <dc:language>en-US</dc:language>
  <cp:lastModifiedBy>Елена</cp:lastModifiedBy>
  <dcterms:modified xsi:type="dcterms:W3CDTF">2019-04-19T18:13:18Z</dcterms:modified>
  <cp:revision>70</cp:revision>
  <dc:subject/>
  <dc:title>Слайд 1</dc:title>
</cp:coreProperties>
</file>