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79C-284C-4641-8E16-4344606A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DC4-D767-4594-8827-E501C2DF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4CA-EBF3-4EDC-90A7-889844FD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9ED-0502-4CFF-B848-03577676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1FB-F8A7-4C61-9238-113DCBEC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D4E-4C41-4603-B441-9F771B6C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505-0DBE-4916-B993-68000C0C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79A-5C1F-4330-9621-9FEFE914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D01C-87D7-4D68-87CF-E2C026CB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0ED-F859-42D9-BCA7-3736C44C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545-0AA0-4FBF-9F4B-97220C5A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8D9-BDE8-4A93-BFBA-C412A416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622A-F9FE-4527-AAB5-3322E9B84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643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густовский форум работников образования и представителей обществен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гельсского муниципального район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то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1928520"/>
            <a:ext cx="8501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работы «Эффективные методы и технологии поддержки обучающихся с повышенной познавательной активность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428760" y="3929040"/>
            <a:ext cx="850104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ова Елена Викто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МОУ «Гимназия № 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августа 201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ЕГЭ по математик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ого уров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14200" y="1428840"/>
          <a:ext cx="8715600" cy="4572000"/>
        </p:xfrm>
        <a:graphic>
          <a:graphicData uri="http://schemas.openxmlformats.org/drawingml/2006/table">
            <a:tbl>
              <a:tblPr/>
              <a:tblGrid>
                <a:gridCol w="2000520"/>
                <a:gridCol w="1643040"/>
                <a:gridCol w="1500120"/>
                <a:gridCol w="1500120"/>
                <a:gridCol w="2071800"/>
              </a:tblGrid>
              <a:tr h="1602720">
                <a:tc>
                  <a:txBody>
                    <a:bodyPr lIns="52200" rIns="52200" tIns="684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ЕГЭ (профильный уровень) по гимназ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ЕГЭ (профильный уровень) по  ЭМ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6,2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31,2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1600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ова Е.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4,4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26,4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21600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лева Л.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1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200" rIns="52200" tIns="684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лева Л.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4388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форма обучения с 2015 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0040" y="4785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Планета знаний»,   УМК «Математика», «Геометрия»  авторского коллектива А.Г. Мерзляк и др. издательского центра «Вентана - Граф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" descr="C:\Users\User\Desktop\Аагус конф 2017\9.jpg"/>
          <p:cNvPicPr/>
          <p:nvPr/>
        </p:nvPicPr>
        <p:blipFill>
          <a:blip r:embed="rId1"/>
          <a:stretch/>
        </p:blipFill>
        <p:spPr>
          <a:xfrm>
            <a:off x="2928960" y="1285920"/>
            <a:ext cx="32256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работы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400" y="714240"/>
            <a:ext cx="825804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ворческие коллективы; кружки по интереса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рупповые занятия по параллелям классов с сильными учащимис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нятия исследовательской деятельностью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РИЗ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ОУ 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нкурсы; марафоны; научно-практические конференц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астие в олимпиада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трудничество с ВУЗами, центрами «Сириус» г. Сочи, «Детский университет» г. Саратов, технопарком «Спектр» г. Энгельс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стимулирующих фактов для обучающихся (премия А. Сеножинского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58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с центром развития детской одаренности «Сириус» г. Соч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Елена\Pictures\Сириус\DSC_2038.JPG"/>
          <p:cNvPicPr/>
          <p:nvPr/>
        </p:nvPicPr>
        <p:blipFill>
          <a:blip r:embed="rId2"/>
          <a:stretch/>
        </p:blipFill>
        <p:spPr>
          <a:xfrm>
            <a:off x="1428840" y="1500120"/>
            <a:ext cx="60865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713880"/>
            <a:ext cx="8715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нятия в лабораториях центра «Сириус» г. Соч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гнитивные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Елена\Pictures\Сириус\DSC_1616.JPG"/>
          <p:cNvPicPr/>
          <p:nvPr/>
        </p:nvPicPr>
        <p:blipFill>
          <a:blip r:embed="rId1"/>
          <a:stretch/>
        </p:blipFill>
        <p:spPr>
          <a:xfrm>
            <a:off x="571680" y="2571840"/>
            <a:ext cx="4589280" cy="307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429160" y="2143080"/>
            <a:ext cx="3143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вляемый взглядом тан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3430800" cy="421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3415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85816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потипирование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делирование, робототех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714680"/>
            <a:ext cx="2679840" cy="3571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Елена\Pictures\Сириус\DSC_1782.JPG"/>
          <p:cNvPicPr/>
          <p:nvPr/>
        </p:nvPicPr>
        <p:blipFill>
          <a:blip r:embed="rId2"/>
          <a:stretch/>
        </p:blipFill>
        <p:spPr>
          <a:xfrm>
            <a:off x="2643120" y="1714680"/>
            <a:ext cx="3521160" cy="235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6229440" y="1714680"/>
            <a:ext cx="291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яя инженерная профилиз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Users\Елена\Pictures\Сириус\DSC_1850.JPG"/>
          <p:cNvPicPr/>
          <p:nvPr/>
        </p:nvPicPr>
        <p:blipFill>
          <a:blip r:embed="rId1"/>
          <a:stretch/>
        </p:blipFill>
        <p:spPr>
          <a:xfrm>
            <a:off x="1428840" y="1428840"/>
            <a:ext cx="65898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 участия гимназистов в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м этапе  по матема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4200" y="1500120"/>
          <a:ext cx="8786880" cy="4476960"/>
        </p:xfrm>
        <a:graphic>
          <a:graphicData uri="http://schemas.openxmlformats.org/drawingml/2006/table">
            <a:tbl>
              <a:tblPr/>
              <a:tblGrid>
                <a:gridCol w="2000520"/>
                <a:gridCol w="2798640"/>
                <a:gridCol w="2344680"/>
                <a:gridCol w="1643040"/>
              </a:tblGrid>
              <a:tr h="1061280"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й го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обедителей и призёров (гимнази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е число  победителей и призёров по ЭМ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н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 -  2016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0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6  -  201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4%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400"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8 -     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ОГЭ по алгебре и геометр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2840" y="1557360"/>
          <a:ext cx="8993160" cy="4389480"/>
        </p:xfrm>
        <a:graphic>
          <a:graphicData uri="http://schemas.openxmlformats.org/drawingml/2006/table">
            <a:tbl>
              <a:tblPr/>
              <a:tblGrid>
                <a:gridCol w="928800"/>
                <a:gridCol w="1243080"/>
                <a:gridCol w="1133280"/>
                <a:gridCol w="1152720"/>
                <a:gridCol w="971280"/>
                <a:gridCol w="1116000"/>
                <a:gridCol w="1079640"/>
                <a:gridCol w="1368360"/>
              </a:tblGrid>
              <a:tr h="196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 по математике / оценоч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гимназ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00000"/>
                          <a:tab algn="l" pos="1800360"/>
                          <a:tab algn="l" pos="2700360"/>
                          <a:tab algn="l" pos="3600360"/>
                          <a:tab algn="l" pos="4500720"/>
                          <a:tab algn="l" pos="5400720"/>
                          <a:tab algn="l" pos="6300720"/>
                          <a:tab algn="l" pos="7201080"/>
                          <a:tab algn="l" pos="8101080"/>
                          <a:tab algn="l" pos="9001080"/>
                          <a:tab algn="l" pos="9901080"/>
                          <a:tab algn="l" pos="108014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 по математике  (ЭМ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по алгебре / оценоч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гимназия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по алгебр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ЭМ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по  геометр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гимназ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ий балл ОГЭ по  геометр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ЭМ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6-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2 / 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9 /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,7 / 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5 / 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,5 / 4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4 / 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вотова Е.В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 /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/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/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/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пчук Н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6T10:38:42Z</dcterms:created>
  <dc:creator>Елена</dc:creator>
  <dc:description/>
  <dc:language>en-US</dc:language>
  <cp:lastModifiedBy>Елена</cp:lastModifiedBy>
  <dcterms:modified xsi:type="dcterms:W3CDTF">2019-04-19T18:13:18Z</dcterms:modified>
  <cp:revision>70</cp:revision>
  <dc:subject/>
  <dc:title>Слайд 1</dc:title>
</cp:coreProperties>
</file>