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A65-ABB7-4528-85B8-99E3277A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A73-0F30-42D6-BC86-98C0DFAC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C94-E3F3-4902-A526-151880BD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C8A-2720-4D63-8A4A-7D9EC289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6D0D-ABA3-47F2-8463-43E4D0DD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3AE3-D1B0-4BE7-BB91-93C7BD2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A49D-667E-4280-B214-0BE0423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96E9-9206-4332-95E1-87FE7FC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7C26-E9BE-4531-AC21-62500BF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DE5-61AC-4384-9ADB-A94336B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569D-4484-4695-92A2-96EEC6C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0B0-0029-40AC-AD1E-E46B19E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8AD-B25C-4F1C-B1D9-8D340F14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9B22-92D0-4AF9-9E72-7315761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F05A-6D89-4BA2-9671-088AD16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B17-33B2-4497-BC65-982B05EC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96A-AB28-4E2A-B5E1-C35CC3D2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BC26-0471-4418-83D5-4A4A5F19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FE91-1D22-4862-B43E-CC799F61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C4F9-CB8B-4118-BCE4-0307589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B2D2-D25A-4B40-8B37-EB7F9467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4225-22E6-4171-967A-40D37695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1AC-7060-4003-91F1-3587271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5626-8144-4E98-9626-60C6897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7E70-2EBE-4EF2-9F67-43FE68C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6C5A-5D86-48AB-84AC-6A61F47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A4DB-469E-491E-BC9F-9381281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FDF7-254A-4106-B0E4-CCC6E451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3909-FB9E-46B5-ADC0-6FB00870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2247-3B01-49F3-A743-FBB0DC57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D829-1861-4D19-A2DF-54301205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DF69-02D4-4177-8D82-551BAD3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DC1C-8FEB-4916-B07D-2B27CE6E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00E-8EEE-4AA7-A4FA-06600AA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DA02-6C85-4B93-ADC0-D1E779D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F831-E7E0-4602-8E80-062E726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8DD2-05C3-484E-819E-BE318F6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3D5D-D197-463E-903A-8463654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7172-EA2D-4335-B202-7EAFAD4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3081-CE46-4D08-80C3-CB799E7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633B-FC4C-47A8-935C-DE98279C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08BC-4973-4901-A4E2-1442E45D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FD05-5289-4277-9C4E-FEFA721E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B9B-0477-4E8C-A2AF-9419FDD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C90-CE28-4218-9954-F6668833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B6E-5DB6-4276-AA49-C55C10F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03E-46E7-458A-9964-AE45BF5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DD1-41FF-4B9F-95D6-435338A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601B-1762-4AE2-A02D-04158F75740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326-3633-4EFA-B795-9963525269CB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0B02-0DF5-4004-AA87-32604BB922BD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357-1DD7-4FD2-97A6-43F7D7B6F0AB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600200" y="457200"/>
            <a:ext cx="655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684360" y="1346040"/>
            <a:ext cx="7559640" cy="453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0000f2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0000f2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876560" y="45813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116000" y="47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403280" y="436572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c7aa"/>
                </a:solidFill>
                <a:latin typeface="Tahom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1906560" y="189000"/>
            <a:ext cx="633744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116000" y="1484280"/>
            <a:ext cx="6804000" cy="11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c9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5075280" y="5877000"/>
            <a:ext cx="406872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c9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25400" y="260280"/>
            <a:ext cx="7375680" cy="1085760"/>
          </a:xfrm>
          <a:prstGeom prst="rect">
            <a:avLst/>
          </a:prstGeom>
          <a:solidFill>
            <a:srgbClr val="687dd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«Каменский городской округ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2031840" y="26449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РРУПЦИОННЫЕ СТАНДАРТЫ ПОВЕДЕНИЯ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50920" y="115920"/>
          <a:ext cx="8640720" cy="45115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УЖДЕНИЕ КОТОРЫХ С ПРЕДСТАВИТЕЛЯМИ ОРГАНИЗАЦИЙ И ГРАЖДАНАМИ, ЧЬЯ ВЫГОДА ЗАВИСИТ ОТ РЕШЕНИЙ И ДЕЙСТВИЙ РУКОВОДИТЕЛЕЙ И РАБОТНИКО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ВОСПРИНИМАТЬСЯ КАК ПРОСЬБА О ДАЧЕ ВЗЯ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кий уровень заработной платы и нехватка денежных средств на реализацию тех или иных нуж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ние приобрести то или иное имущество, получить ту или иную услугу, отправиться в туристическую поездк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сутствие работы у родственников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ходимость поступления детей в образовательное учреждени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  <p:pic>
        <p:nvPicPr>
          <p:cNvPr id="241" name="Picture 17" descr="http://alapaevskoe.ru/uploads/6973.jpeg"/>
          <p:cNvPicPr/>
          <p:nvPr/>
        </p:nvPicPr>
        <p:blipFill>
          <a:blip r:embed="rId1"/>
          <a:stretch/>
        </p:blipFill>
        <p:spPr>
          <a:xfrm>
            <a:off x="7093080" y="4724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1"/>
          <p:cNvSpPr/>
          <p:nvPr/>
        </p:nvSpPr>
        <p:spPr>
          <a:xfrm>
            <a:off x="2843280" y="2997360"/>
            <a:ext cx="2952720" cy="914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униципальный служащ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3679920" y="2637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яз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00120" y="393372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имеет пра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Скругленный прямоугольник 5"/>
          <p:cNvSpPr/>
          <p:nvPr/>
        </p:nvSpPr>
        <p:spPr>
          <a:xfrm>
            <a:off x="395280" y="4869000"/>
            <a:ext cx="2305080" cy="156204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аствовать на платной основе в управлении коммерческими организац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Скругленный прямоугольник 6"/>
          <p:cNvSpPr/>
          <p:nvPr/>
        </p:nvSpPr>
        <p:spPr>
          <a:xfrm>
            <a:off x="3132000" y="4869000"/>
            <a:ext cx="1873440" cy="1490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существлять предпринимательскую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Скругленный прямоугольник 7"/>
          <p:cNvSpPr/>
          <p:nvPr/>
        </p:nvSpPr>
        <p:spPr>
          <a:xfrm>
            <a:off x="5580000" y="4869000"/>
            <a:ext cx="1368360" cy="14191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19120"/>
              <a:gd name="textAreaBottom" fmla="*/ 1352520 h 14191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лучать подар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8"/>
          <p:cNvSpPr/>
          <p:nvPr/>
        </p:nvSpPr>
        <p:spPr>
          <a:xfrm>
            <a:off x="7451640" y="4221000"/>
            <a:ext cx="1584360" cy="19227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922760"/>
              <a:gd name="textAreaBottom" fmla="*/ 1845720 h 192276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Иметь счета в иностранных банках и иностранные финансовые инструмен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Скругленный прямоугольник 9"/>
          <p:cNvSpPr/>
          <p:nvPr/>
        </p:nvSpPr>
        <p:spPr>
          <a:xfrm>
            <a:off x="395280" y="115920"/>
            <a:ext cx="1873080" cy="20178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017800"/>
              <a:gd name="textAreaBottom" fmla="*/ 1926360 h 2017800"/>
            </a:gdLst>
            <a:ahLst/>
            <a:rect l="textAreaLeft" t="textAreaTop" r="textAreaRight" b="textAreaBottom"/>
            <a:pathLst>
              <a:path w="21600" h="23269">
                <a:moveTo>
                  <a:pt x="3600" y="0"/>
                </a:moveTo>
                <a:arcTo wR="3600" hR="3600" stAng="16200000" swAng="-5400000"/>
                <a:lnTo>
                  <a:pt x="0" y="19669"/>
                </a:lnTo>
                <a:arcTo wR="3600" hR="3600" stAng="10800000" swAng="-5400000"/>
                <a:lnTo>
                  <a:pt x="18000" y="232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редставлять сведения о доходах, расходах имуществе, обязательствах имущественного характер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Скругленный прямоугольник 10"/>
          <p:cNvSpPr/>
          <p:nvPr/>
        </p:nvSpPr>
        <p:spPr>
          <a:xfrm>
            <a:off x="2556000" y="333360"/>
            <a:ext cx="1584360" cy="141768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регулировать конфликты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4356000" y="333360"/>
            <a:ext cx="2016360" cy="151128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ередавать ценные бумаги в доверительное управл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6659640" y="333360"/>
            <a:ext cx="2016000" cy="244800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28">
                <a:moveTo>
                  <a:pt x="3600" y="0"/>
                </a:moveTo>
                <a:arcTo wR="3600" hR="3600" stAng="16200000" swAng="-5400000"/>
                <a:lnTo>
                  <a:pt x="0" y="22628"/>
                </a:lnTo>
                <a:arcTo wR="3600" hR="3600" stAng="10800000" swAng="-5400000"/>
                <a:lnTo>
                  <a:pt x="18000" y="26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ередавать подарки, полученные в связи с протокольными мероприятиями, служебными командировк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395280" y="2492280"/>
            <a:ext cx="1995480" cy="172872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редварительно уведомлять работодателя  о намерении выполнять иную оплачиваемую работу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" name="Прямая со стрелкой 18"/>
          <p:cNvCxnSpPr/>
          <p:nvPr/>
        </p:nvCxnSpPr>
        <p:spPr>
          <a:xfrm flipH="1" flipV="1">
            <a:off x="3563640" y="1844280"/>
            <a:ext cx="288000" cy="721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 flipV="1">
            <a:off x="4571640" y="1915560"/>
            <a:ext cx="361080" cy="64980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6" name="Прямая со стрелкой 22"/>
          <p:cNvCxnSpPr/>
          <p:nvPr/>
        </p:nvCxnSpPr>
        <p:spPr>
          <a:xfrm flipH="1" flipV="1">
            <a:off x="2339640" y="2059920"/>
            <a:ext cx="1224720" cy="648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7" name="Прямая со стрелкой 26"/>
          <p:cNvCxnSpPr/>
          <p:nvPr/>
        </p:nvCxnSpPr>
        <p:spPr>
          <a:xfrm flipV="1">
            <a:off x="4859280" y="2565000"/>
            <a:ext cx="1658160" cy="21672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8" name="Прямая со стрелкой 28"/>
          <p:cNvCxnSpPr/>
          <p:nvPr/>
        </p:nvCxnSpPr>
        <p:spPr>
          <a:xfrm flipH="1">
            <a:off x="2555640" y="2852280"/>
            <a:ext cx="1008720" cy="7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9" name="Прямая со стрелкой 38"/>
          <p:cNvCxnSpPr/>
          <p:nvPr/>
        </p:nvCxnSpPr>
        <p:spPr>
          <a:xfrm>
            <a:off x="5003640" y="4365360"/>
            <a:ext cx="937440" cy="43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0" name="Прямая со стрелкой 42"/>
          <p:cNvCxnSpPr>
            <a:stCxn id="244" idx="3"/>
          </p:cNvCxnSpPr>
          <p:nvPr/>
        </p:nvCxnSpPr>
        <p:spPr>
          <a:xfrm>
            <a:off x="5205240" y="4118040"/>
            <a:ext cx="2175840" cy="31968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1" name="Прямая со стрелкой 44"/>
          <p:cNvCxnSpPr/>
          <p:nvPr/>
        </p:nvCxnSpPr>
        <p:spPr>
          <a:xfrm flipH="1">
            <a:off x="3924000" y="4292640"/>
            <a:ext cx="72000" cy="505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2" name="Прямая со стрелкой 46"/>
          <p:cNvCxnSpPr/>
          <p:nvPr/>
        </p:nvCxnSpPr>
        <p:spPr>
          <a:xfrm flipH="1">
            <a:off x="2770920" y="4292280"/>
            <a:ext cx="577080" cy="43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sp>
        <p:nvSpPr>
          <p:cNvPr id="263" name="Скругленный прямоугольник 47"/>
          <p:cNvSpPr/>
          <p:nvPr/>
        </p:nvSpPr>
        <p:spPr>
          <a:xfrm>
            <a:off x="6012000" y="2924280"/>
            <a:ext cx="2881080" cy="10587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Уведомлять работодателя, органы  прокуратуры, др. гос. органы о склонении к совершению коррупционных правонаруше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4" name="Прямая со стрелкой 49"/>
          <p:cNvCxnSpPr/>
          <p:nvPr/>
        </p:nvCxnSpPr>
        <p:spPr>
          <a:xfrm>
            <a:off x="4716000" y="2852640"/>
            <a:ext cx="1296360" cy="145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684360" y="62064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ый служащий обязан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орядке, утвержденном 23.10.2017 года  постановлением Главы Каменского городского округа № 14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ать разрешение представителя нанимателя (работодател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на безвозмездной основе в управлении некоммерческой организацией в качестве единоличного исполнительного органа или вхождение в состав его коллегиального органа управл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 этом, данное участие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е должно приводить к конфликту интересов или возможности возникновения конфликта интересов у муниципального служаще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684360" y="549360"/>
            <a:ext cx="77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Думы Каменского городского окру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9.06.2014 года  N 2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 порядок сообщения отдельными категориями ли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лучении подар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протокольными мероприятиями, служебными командировками и другими официальными мероприятиями, участие в которых связано с исполнением ими служебных (должностных) обязанностей, сдачи и оценки подарка, реализации (выкупа) и зачисления средств, вырученных от его реал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538200" y="404640"/>
            <a:ext cx="77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исциплинарная ответственность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Скругленный прямоугольник 2"/>
          <p:cNvSpPr/>
          <p:nvPr/>
        </p:nvSpPr>
        <p:spPr>
          <a:xfrm>
            <a:off x="539640" y="1125360"/>
            <a:ext cx="3240360" cy="309564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соблюдение ограничений и запретов, требований о предотвращении или об урегулировании конфликта интере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исполнение обязанностей, установленных в целях противодействия коррупци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539640" y="4941720"/>
            <a:ext cx="3095640" cy="1346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Замеч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ыгов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Увольнение по соответствующим осно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Скругленный прямоугольник 4"/>
          <p:cNvSpPr/>
          <p:nvPr/>
        </p:nvSpPr>
        <p:spPr>
          <a:xfrm>
            <a:off x="4284720" y="1125360"/>
            <a:ext cx="4319640" cy="30243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принятие муниципальным  служащим, являющимся стороной конфликта интересов, мер по предотвращению и (или) урегулированию конфликта интере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представление либо представление заведомо недостоверных или неполных сведений о доходах, расходах об имуществе и обязательствах имущественного характе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Стрелка вниз 5"/>
          <p:cNvSpPr/>
          <p:nvPr/>
        </p:nvSpPr>
        <p:spPr>
          <a:xfrm>
            <a:off x="2050920" y="429264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5219640" y="5013360"/>
            <a:ext cx="2665440" cy="11523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вольнение в связи с утратой дове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Стрелка вниз 7"/>
          <p:cNvSpPr/>
          <p:nvPr/>
        </p:nvSpPr>
        <p:spPr>
          <a:xfrm>
            <a:off x="6516720" y="4221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920" y="115920"/>
          <a:ext cx="8640720" cy="53341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ЛУЧАЕ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ЛИ ВЫМОГАТЕЛЬСТВА ВЗЯТКИ Вы долж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ести себя крайне осторожно, вежливо, не допуская опрометчивых высказываний, которые могли бы трактоваться взяткодателем (взятковымогателем) либо как готовность, либо как категорический отказ принять (дать) взятк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тельно выслушать и точно запомнить предложенные Вам условия (размеры сумм, наименование товаров и характер услуг, сроки и способы передачи взятки, форма коммерческого подкупа,  последовательность решения вопросов)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стараться перенести вопрос о времени и месте передачи взятки до следующей беседы и предложить хорошо знакомое Вам место для следующей встреч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берите инициативу в разговоре на себя, больше «работайте на прием», позволяйте потенциальному взяткополучателю (взяткодателю) «выговориться», сообщить Вам как можно больше информации;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 наличии у Вас диктофона постараться записать (скрытно) предложение о взятке или ее вымогательств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066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ведомить письменно непосредственного руководителя о факте предложения или вымогания взятки с подробным изложением обстоятельств происшедшего собы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55680" y="244440"/>
            <a:ext cx="6523200" cy="10908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324000" y="1413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стая взя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324000" y="2421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значитель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324000" y="3429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круп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324000" y="4437000"/>
            <a:ext cx="2952720" cy="79236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особо круп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324000" y="551664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альное наказ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Стрелка вправо 7"/>
          <p:cNvSpPr/>
          <p:nvPr/>
        </p:nvSpPr>
        <p:spPr>
          <a:xfrm>
            <a:off x="3348000" y="126828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до 25 тыс. руб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10 до 5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Стрелка вправо 8"/>
          <p:cNvSpPr/>
          <p:nvPr/>
        </p:nvSpPr>
        <p:spPr>
          <a:xfrm>
            <a:off x="3348000" y="2276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от 25 до 150 тыс. руб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30 до 6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Стрелка вправо 9"/>
          <p:cNvSpPr/>
          <p:nvPr/>
        </p:nvSpPr>
        <p:spPr>
          <a:xfrm>
            <a:off x="3348000" y="3284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от 150 тыс. рублей до 1 млн. руб. штраф – от 70 до 9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Стрелка вправо 10"/>
          <p:cNvSpPr/>
          <p:nvPr/>
        </p:nvSpPr>
        <p:spPr>
          <a:xfrm>
            <a:off x="3348000" y="4292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свыше 1 млн. руб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80 до 10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Стрелка вправо 11"/>
          <p:cNvSpPr/>
          <p:nvPr/>
        </p:nvSpPr>
        <p:spPr>
          <a:xfrm>
            <a:off x="3348000" y="5445000"/>
            <a:ext cx="4608720" cy="107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Лишение свободы от 8 до 15 лет плюс штраф в размере 7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3" descr="1282727207_3"/>
          <p:cNvPicPr/>
          <p:nvPr/>
        </p:nvPicPr>
        <p:blipFill>
          <a:blip r:embed="rId2"/>
          <a:stretch/>
        </p:blipFill>
        <p:spPr>
          <a:xfrm>
            <a:off x="395280" y="0"/>
            <a:ext cx="1440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1255680" y="244440"/>
            <a:ext cx="6523200" cy="10908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"/>
          <p:cNvSpPr/>
          <p:nvPr/>
        </p:nvSpPr>
        <p:spPr>
          <a:xfrm>
            <a:off x="324000" y="1773360"/>
            <a:ext cx="2952720" cy="1295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Штра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324000" y="3429000"/>
            <a:ext cx="2952720" cy="115236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шение своб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Стрелка вправо 4"/>
          <p:cNvSpPr/>
          <p:nvPr/>
        </p:nvSpPr>
        <p:spPr>
          <a:xfrm>
            <a:off x="3348000" y="1700280"/>
            <a:ext cx="4392720" cy="1441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инимум – от 5 до 3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ум – до 9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Стрелка вправо 5"/>
          <p:cNvSpPr/>
          <p:nvPr/>
        </p:nvSpPr>
        <p:spPr>
          <a:xfrm>
            <a:off x="3348000" y="3284640"/>
            <a:ext cx="4392720" cy="1439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инимум – до 2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ум от 8 до 15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3" descr="1282727207_3"/>
          <p:cNvPicPr/>
          <p:nvPr/>
        </p:nvPicPr>
        <p:blipFill>
          <a:blip r:embed="rId2"/>
          <a:stretch/>
        </p:blipFill>
        <p:spPr>
          <a:xfrm>
            <a:off x="324000" y="4724280"/>
            <a:ext cx="2087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1395360" y="96840"/>
            <a:ext cx="6523200" cy="10922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2"/>
          <p:cNvSpPr/>
          <p:nvPr/>
        </p:nvSpPr>
        <p:spPr>
          <a:xfrm>
            <a:off x="468360" y="1413000"/>
            <a:ext cx="2951280" cy="1079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Штра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68360" y="3141720"/>
            <a:ext cx="2951280" cy="1079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шение своб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Стрелка вправо 4"/>
          <p:cNvSpPr/>
          <p:nvPr/>
        </p:nvSpPr>
        <p:spPr>
          <a:xfrm>
            <a:off x="3564000" y="1413000"/>
            <a:ext cx="338436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т 20 до 4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Стрелка вправо 5"/>
          <p:cNvSpPr/>
          <p:nvPr/>
        </p:nvSpPr>
        <p:spPr>
          <a:xfrm>
            <a:off x="3564000" y="3068640"/>
            <a:ext cx="338436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о 12 лет плюс штраф до 7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" name="Picture 24" descr="http://stockfresh.com/files/k/kirill_m/m/50/3599825_stock-photo-devil-bribing-businessman-with-gold-coins.jpg"/>
          <p:cNvPicPr/>
          <p:nvPr/>
        </p:nvPicPr>
        <p:blipFill>
          <a:blip r:embed="rId2"/>
          <a:stretch/>
        </p:blipFill>
        <p:spPr>
          <a:xfrm>
            <a:off x="468360" y="4508640"/>
            <a:ext cx="21430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36800" y="146160"/>
            <a:ext cx="6619680" cy="1189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1619280" y="8942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дачи антикоррупционной полит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854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коренной перелом общественного сознания и формирование жесткого непринятия коррупц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планомерное повышение правовой культуры населе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постоянная адресная профилактика работы во всех органах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достижение максимальной прозрачности процедур предоставления государственных услуг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539640" y="4869000"/>
            <a:ext cx="72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воритиз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из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циониз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биз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2652120" y="43657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РРУП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4608360" cy="32241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5"/>
          <p:cNvSpPr/>
          <p:nvPr/>
        </p:nvSpPr>
        <p:spPr>
          <a:xfrm>
            <a:off x="5292720" y="2565360"/>
            <a:ext cx="33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Пути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250920" y="189000"/>
            <a:ext cx="85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ой гражданин, который хотел бы стать муниципальным или госслужащим, должен понимать, что вступление в должность связано с жесткими антикоррупционными требованиями, с определенными ограничениями, которые человек обязан строго соблюдать. Мы исходим из того, что человек берет на себя эти обязанности добровольно.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539640" y="189000"/>
          <a:ext cx="8137800" cy="647208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АЯ  ПРАВОВАЯ  Б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25.12.2008 № 273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противодействии коррупци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вердловской области от 20.02.2009 № 2-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противодействии коррупции в Свердловской област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03.12.2012 N 230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 контроле за соответствием расходов лиц, замещающих государственные должности, и иных лиц их доходам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17.07.2009 N 172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 антикоррупционной экспертизе нормативных правовых актов и проектов нормативных правовых акто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едеральный закон от 02.03.2007 N 25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 муниципальной службе в Российской Федераци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кон Свердловской области от 29.10.2007 N 136-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 особенностях муниципальной службы в Свердловской област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ый кодекс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395280" y="260280"/>
            <a:ext cx="83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ые правовые акты Главы Камен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ы на сайте муниципального образования «Каменский городской округ» в разделе «Противодействие коррупции», подразделе «Нормативно правовые и иные акты в сфере противодействия коррупц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79280" y="189000"/>
          <a:ext cx="8280360" cy="439236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15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икоррупционные стандарты  п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го служащ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317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антикоррупционного поведения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совокупность законодательно установленных правил, выраженных в виде запретов, ограничений, требований, следование которым предполагает формирование устойчивого антикоррупционного повед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е поведения муниципального служащего 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должностных обязанностей в соответствии с должностной инструкцией. Отклонение при осуществлении своих полномочий от положений должностной инструкции может способствовать совершению коррупционных правонарушений, а также являться признаком коррупционного повед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  <p:pic>
        <p:nvPicPr>
          <p:cNvPr id="235" name="Picture 2635" descr=""/>
          <p:cNvPicPr/>
          <p:nvPr/>
        </p:nvPicPr>
        <p:blipFill>
          <a:blip r:embed="rId1"/>
          <a:stretch/>
        </p:blipFill>
        <p:spPr>
          <a:xfrm>
            <a:off x="7164360" y="5506920"/>
            <a:ext cx="11923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468360" y="549360"/>
          <a:ext cx="7993080" cy="56689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муниципального служащего должно быть корректным, не связанным с проявлением высокомерия, грубости, неуважительного отношения к человеку, не допускающим оскорблений, угроз в его адр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униципального служащего должна быть хорошая репутация (лояльность, взаимодействие, взаимная поддержка в отношениях с коллегами, конструктивное сотрудничеств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жебном поведении муниципальный служащий должен воздерживаться от курения во время служебных совещаний, бесед, иного служебного общения с граждан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 муниципального служащего при исполнении им должностных обязанностей в зависимости от условий службы и формата служебного мероприятия должен соответствовать общепринятому деловому стилю, который отличают официальность, сдержанность, традиционность и аккурат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95280" y="260280"/>
          <a:ext cx="7921800" cy="5507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МИНЫ И ОПРЕД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671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упция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798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икт интере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итуация, при которой личная заинтересованность (прямая или косвенная) руководителя или работника (представителя организации) влияет или может повлиять на надлежащее исполнение им должностных (трудовых) обязанностей и при которой возникает или может возникнуть противоречие между личной заинтересованностью руководителя или работника (представителя организации) и правами и законными интересами организации, способное привести к причинению вреда правам и законным интересам, имуществу и (или) деловой репутации организации, руководителем или работником (представителем организации) которой он являе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671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ая заинтересова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интересованность, связанная с возможностью получения работником (представителем организации) при исполнении должностных обязанностей доходов в виде денег, ценностей, иного имущества или услуг имущественного характера, иных имущественных прав для себя или для третьих ли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95280" y="333360"/>
          <a:ext cx="8352000" cy="451476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МИНЫ И ОПРЕД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2158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ка 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должностным лицом лично или через посредника денег, ценных бумаг, иного имущества либо в виде незаконных оказания ему услуг имущественного характера, предоставления иных имущественных прав за совершение действий (бездействие) в пользу взяткодателя или представляемых им лиц, если такие действия (бездействие) входят в служебные полномочия должностного лица либо если оно в силу должностного положения может способствовать таким действиям (бездействию), а равно за общее покровительство или попустительство по служб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ды имущественного характера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, оказываемые безвозмездно, но в обычной жизни подлежащие оплате, например, предоставление туристических путевок, ремонт квартиры, строительство дачи; а также занижение стоимости передаваемого имущества, приватизируемых объектов, уменьшение арендных платеже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67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</a:tbl>
          </a:graphicData>
        </a:graphic>
      </p:graphicFrame>
      <p:pic>
        <p:nvPicPr>
          <p:cNvPr id="239" name="Picture 15" descr="http://hotmax.com.ua/assets/images/stories/oplata/vstrecha_dvuh_biznesmenov.jpg"/>
          <p:cNvPicPr/>
          <p:nvPr/>
        </p:nvPicPr>
        <p:blipFill>
          <a:blip r:embed="rId1"/>
          <a:stretch/>
        </p:blipFill>
        <p:spPr>
          <a:xfrm>
            <a:off x="6959520" y="5218200"/>
            <a:ext cx="21844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3:48:08Z</dcterms:created>
  <dc:creator>gulmira</dc:creator>
  <dc:description/>
  <dc:language>en-US</dc:language>
  <cp:lastModifiedBy>User</cp:lastModifiedBy>
  <dcterms:modified xsi:type="dcterms:W3CDTF">2019-04-19T00:48:32Z</dcterms:modified>
  <cp:revision>842</cp:revision>
  <dc:subject/>
  <dc:title>Презентация PowerPoint</dc:title>
</cp:coreProperties>
</file>