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2EB-A8A2-40BD-9438-C77E51B7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51C-5F98-4017-AFF5-05F9057A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2583-240C-41B5-8A32-2BF60E9C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A0B-2AE5-4C2E-AD2F-96D19D9E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874-3294-4490-A0E7-F8B0ADC9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F633-8276-4701-A564-9B5BBBC3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6E5A-C33D-431B-85BA-37ECA922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CD83-ED43-41AF-8C98-6C5DFBD0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DB09-552E-407E-9E12-0FDAF95E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0610-A2B2-4E7B-A0B2-80F403EB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0D41-B3D5-4CD1-B0D3-BA0FD2C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E8E-D678-4514-A409-1A65A2FD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5EB-B616-46CD-9291-6D0E0FBB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903F-3088-4FCF-B5DF-F9AB841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5664-A71B-45AC-ABF6-63630BB8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8418-EB59-47D0-ACC3-E42ED4BA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73BF-171F-4CA3-92B6-C8C9CD7E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B07C-6954-4F7E-B206-01E1762C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703B-B0F5-4016-ABEB-D2C48660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D26E-734E-4DAC-AD83-C21A3E3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0083-1DDF-41B0-AD82-AF73CB0C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4384F-F90B-4A42-BEA5-C048A38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AB7-4294-45F6-AF5F-AEA5E8EA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9F81-27AD-4C00-913D-71E5B5B1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1F16-B0A3-4D14-AF58-4F79B2E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E5D08-00BD-497F-AAF7-41178902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A22D-68AD-4CB5-869B-750B0036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F698-ADDF-45B9-A978-D176AD3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42B5-EC4F-4139-951F-82B52B0E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CD43-00D5-41BD-8F49-E93234E2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64EE-593D-4C8B-A36E-51E3B21C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D497D-A178-4FFD-9793-CF9DC702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57B7-2E46-49BF-9CB2-90B4E335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0F1-8072-4618-8D44-2CBE1B02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67570-D9C7-4A31-960B-4AC55E7F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CB71-7E81-439C-ABD3-68B691FA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73F6F-2A4E-44BF-A369-A2B3C839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E1575-6931-444D-9B4D-5042A941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15889-16EA-473A-BCC9-E61D307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0EE2-662B-4CFB-8288-BD02E8DA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A393-46D3-4565-A1B2-0FE476E1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4880-D2A2-43B1-99A3-AEF06C24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81845-E2C3-4984-9B49-961E34E9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595-7777-486C-BAC7-78C7FE9A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E5F-FCB1-4207-B83B-F302FB09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325-A013-4AD4-9652-3F7BE40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72D-AAEB-4316-AEB4-D2AA3C9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D5B-9809-4B64-91C5-F4055B32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BA89-DC10-481F-94AC-823A9A76AC71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63E-82D3-4FAC-8E0C-21F309544F8B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1F21-B0BF-4CF1-A032-960CF23E4021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B6B4-574F-4D31-B58B-E78376F92DBA}" type="slidenum">
              <a:rPr b="1" lang="ru-RU" sz="1200" spc="-1" strike="noStrike">
                <a:solidFill>
                  <a:srgbClr val="7f7f7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600200" y="457200"/>
            <a:ext cx="6553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684360" y="1346040"/>
            <a:ext cx="7559640" cy="453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solidFill>
                  <a:srgbClr val="0000f2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solidFill>
                <a:srgbClr val="0000f2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876560" y="45813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116000" y="47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403280" y="436572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c7aa"/>
                </a:solidFill>
                <a:latin typeface="Tahom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1906560" y="189000"/>
            <a:ext cx="633744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116000" y="1484280"/>
            <a:ext cx="6804000" cy="11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c9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5075280" y="5877000"/>
            <a:ext cx="406872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c9f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725400" y="260280"/>
            <a:ext cx="7375680" cy="1085760"/>
          </a:xfrm>
          <a:prstGeom prst="rect">
            <a:avLst/>
          </a:prstGeom>
          <a:solidFill>
            <a:srgbClr val="687dd0"/>
          </a:solidFill>
          <a:ln w="255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«Каменский городской округ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2031840" y="264492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РРУПЦИОННЫЕ СТАНДАРТЫ ПОВЕДЕНИЯ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50920" y="115920"/>
          <a:ext cx="8640720" cy="45115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СУЖДЕНИЕ КОТОРЫХ С ПРЕДСТАВИТЕЛЯМИ ОРГАНИЗАЦИЙ И ГРАЖДАНАМИ, ЧЬЯ ВЫГОДА ЗАВИСИТ ОТ РЕШЕНИЙ И ДЕЙСТВИЙ РУКОВОДИТЕЛЕЙ И РАБОТНИКО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ЖЕТ ВОСПРИНИМАТЬСЯ КАК ПРОСЬБА О ДАЧЕ ВЗЯ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кий уровень заработной платы и нехватка денежных средств на реализацию тех или иных нужд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ние приобрести то или иное имущество, получить ту или иную услугу, отправиться в туристическую поездку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сутствие работы у родственников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ходимость поступления детей в образовательное учреждени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  <p:pic>
        <p:nvPicPr>
          <p:cNvPr id="241" name="Picture 17" descr="http://alapaevskoe.ru/uploads/6973.jpeg"/>
          <p:cNvPicPr/>
          <p:nvPr/>
        </p:nvPicPr>
        <p:blipFill>
          <a:blip r:embed="rId1"/>
          <a:stretch/>
        </p:blipFill>
        <p:spPr>
          <a:xfrm>
            <a:off x="7093080" y="4724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Скругленный прямоугольник 1"/>
          <p:cNvSpPr/>
          <p:nvPr/>
        </p:nvSpPr>
        <p:spPr>
          <a:xfrm>
            <a:off x="2843280" y="2997360"/>
            <a:ext cx="2952720" cy="914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униципальный служащ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3679920" y="2637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яза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00120" y="393372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имеет пра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Скругленный прямоугольник 5"/>
          <p:cNvSpPr/>
          <p:nvPr/>
        </p:nvSpPr>
        <p:spPr>
          <a:xfrm>
            <a:off x="395280" y="4869000"/>
            <a:ext cx="2305080" cy="156204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аствовать на платной основе в управлении коммерческими организация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Скругленный прямоугольник 6"/>
          <p:cNvSpPr/>
          <p:nvPr/>
        </p:nvSpPr>
        <p:spPr>
          <a:xfrm>
            <a:off x="3132000" y="4869000"/>
            <a:ext cx="1873440" cy="1490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существлять предпринимательскую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Скругленный прямоугольник 7"/>
          <p:cNvSpPr/>
          <p:nvPr/>
        </p:nvSpPr>
        <p:spPr>
          <a:xfrm>
            <a:off x="5580000" y="4869000"/>
            <a:ext cx="1368360" cy="141912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419120"/>
              <a:gd name="textAreaBottom" fmla="*/ 1352520 h 14191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олучать подар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Скругленный прямоугольник 8"/>
          <p:cNvSpPr/>
          <p:nvPr/>
        </p:nvSpPr>
        <p:spPr>
          <a:xfrm>
            <a:off x="7451640" y="4221000"/>
            <a:ext cx="1584360" cy="19227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1922760"/>
              <a:gd name="textAreaBottom" fmla="*/ 1845720 h 1922760"/>
            </a:gdLst>
            <a:ahLst/>
            <a:rect l="textAreaLeft" t="textAreaTop" r="textAreaRight" b="textAreaBottom"/>
            <a:pathLst>
              <a:path w="21600" h="26212">
                <a:moveTo>
                  <a:pt x="3600" y="0"/>
                </a:moveTo>
                <a:arcTo wR="3600" hR="3600" stAng="16200000" swAng="-5400000"/>
                <a:lnTo>
                  <a:pt x="0" y="22612"/>
                </a:lnTo>
                <a:arcTo wR="3600" hR="3600" stAng="10800000" swAng="-5400000"/>
                <a:lnTo>
                  <a:pt x="18000" y="262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Иметь счета в иностранных банках и иностранные финансовые инструмен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Скругленный прямоугольник 9"/>
          <p:cNvSpPr/>
          <p:nvPr/>
        </p:nvSpPr>
        <p:spPr>
          <a:xfrm>
            <a:off x="395280" y="115920"/>
            <a:ext cx="1873080" cy="20178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017800"/>
              <a:gd name="textAreaBottom" fmla="*/ 1926360 h 2017800"/>
            </a:gdLst>
            <a:ahLst/>
            <a:rect l="textAreaLeft" t="textAreaTop" r="textAreaRight" b="textAreaBottom"/>
            <a:pathLst>
              <a:path w="21600" h="23269">
                <a:moveTo>
                  <a:pt x="3600" y="0"/>
                </a:moveTo>
                <a:arcTo wR="3600" hR="3600" stAng="16200000" swAng="-5400000"/>
                <a:lnTo>
                  <a:pt x="0" y="19669"/>
                </a:lnTo>
                <a:arcTo wR="3600" hR="3600" stAng="10800000" swAng="-5400000"/>
                <a:lnTo>
                  <a:pt x="18000" y="232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редставлять сведения о доходах, расходах имуществе, обязательствах имущественного характер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Скругленный прямоугольник 10"/>
          <p:cNvSpPr/>
          <p:nvPr/>
        </p:nvSpPr>
        <p:spPr>
          <a:xfrm>
            <a:off x="2556000" y="333360"/>
            <a:ext cx="1584360" cy="141768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регулировать конфликты интере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4356000" y="333360"/>
            <a:ext cx="2016360" cy="151128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ередавать ценные бумаги в доверительное управл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6659640" y="333360"/>
            <a:ext cx="2016000" cy="2448000"/>
          </a:xfrm>
          <a:custGeom>
            <a:avLst/>
            <a:gdLst>
              <a:gd name="textAreaLeft" fmla="*/ 98280 w 2016000"/>
              <a:gd name="textAreaRight" fmla="*/ 1917720 w 2016000"/>
              <a:gd name="textAreaTop" fmla="*/ 98280 h 2448000"/>
              <a:gd name="textAreaBottom" fmla="*/ 2349720 h 2448000"/>
            </a:gdLst>
            <a:ahLst/>
            <a:rect l="textAreaLeft" t="textAreaTop" r="textAreaRight" b="textAreaBottom"/>
            <a:pathLst>
              <a:path w="21600" h="26228">
                <a:moveTo>
                  <a:pt x="3600" y="0"/>
                </a:moveTo>
                <a:arcTo wR="3600" hR="3600" stAng="16200000" swAng="-5400000"/>
                <a:lnTo>
                  <a:pt x="0" y="22628"/>
                </a:lnTo>
                <a:arcTo wR="3600" hR="3600" stAng="10800000" swAng="-5400000"/>
                <a:lnTo>
                  <a:pt x="18000" y="26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ередавать подарки, полученные в связи с протокольными мероприятиями, служебными командировк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395280" y="2492280"/>
            <a:ext cx="1995480" cy="172872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редварительно уведомлять работодателя  о намерении выполнять иную оплачиваемую работу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4" name="Прямая со стрелкой 18"/>
          <p:cNvCxnSpPr/>
          <p:nvPr/>
        </p:nvCxnSpPr>
        <p:spPr>
          <a:xfrm flipH="1" flipV="1">
            <a:off x="3563640" y="1844280"/>
            <a:ext cx="288000" cy="721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5" name="Прямая со стрелкой 20"/>
          <p:cNvCxnSpPr/>
          <p:nvPr/>
        </p:nvCxnSpPr>
        <p:spPr>
          <a:xfrm flipV="1">
            <a:off x="4571640" y="1915560"/>
            <a:ext cx="361080" cy="64980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6" name="Прямая со стрелкой 22"/>
          <p:cNvCxnSpPr/>
          <p:nvPr/>
        </p:nvCxnSpPr>
        <p:spPr>
          <a:xfrm flipH="1" flipV="1">
            <a:off x="2339640" y="2059920"/>
            <a:ext cx="1224720" cy="648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7" name="Прямая со стрелкой 26"/>
          <p:cNvCxnSpPr/>
          <p:nvPr/>
        </p:nvCxnSpPr>
        <p:spPr>
          <a:xfrm flipV="1">
            <a:off x="4859280" y="2565000"/>
            <a:ext cx="1658160" cy="21672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8" name="Прямая со стрелкой 28"/>
          <p:cNvCxnSpPr/>
          <p:nvPr/>
        </p:nvCxnSpPr>
        <p:spPr>
          <a:xfrm flipH="1">
            <a:off x="2555640" y="2852280"/>
            <a:ext cx="1008720" cy="7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59" name="Прямая со стрелкой 38"/>
          <p:cNvCxnSpPr/>
          <p:nvPr/>
        </p:nvCxnSpPr>
        <p:spPr>
          <a:xfrm>
            <a:off x="5003640" y="4365360"/>
            <a:ext cx="937440" cy="43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0" name="Прямая со стрелкой 42"/>
          <p:cNvCxnSpPr>
            <a:stCxn id="244" idx="3"/>
          </p:cNvCxnSpPr>
          <p:nvPr/>
        </p:nvCxnSpPr>
        <p:spPr>
          <a:xfrm>
            <a:off x="5205240" y="4118040"/>
            <a:ext cx="2175840" cy="31968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1" name="Прямая со стрелкой 44"/>
          <p:cNvCxnSpPr/>
          <p:nvPr/>
        </p:nvCxnSpPr>
        <p:spPr>
          <a:xfrm flipH="1">
            <a:off x="3924000" y="4292640"/>
            <a:ext cx="72000" cy="505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cxnSp>
        <p:nvCxnSpPr>
          <p:cNvPr id="262" name="Прямая со стрелкой 46"/>
          <p:cNvCxnSpPr/>
          <p:nvPr/>
        </p:nvCxnSpPr>
        <p:spPr>
          <a:xfrm flipH="1">
            <a:off x="2770920" y="4292280"/>
            <a:ext cx="577080" cy="43236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  <p:sp>
        <p:nvSpPr>
          <p:cNvPr id="263" name="Скругленный прямоугольник 47"/>
          <p:cNvSpPr/>
          <p:nvPr/>
        </p:nvSpPr>
        <p:spPr>
          <a:xfrm>
            <a:off x="6012000" y="2924280"/>
            <a:ext cx="2881080" cy="10587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Уведомлять работодателя, органы  прокуратуры, др. гос. органы о склонении к совершению коррупционных правонаруше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64" name="Прямая со стрелкой 49"/>
          <p:cNvCxnSpPr/>
          <p:nvPr/>
        </p:nvCxnSpPr>
        <p:spPr>
          <a:xfrm>
            <a:off x="4716000" y="2852640"/>
            <a:ext cx="1296360" cy="145440"/>
          </a:xfrm>
          <a:prstGeom prst="straightConnector1">
            <a:avLst/>
          </a:prstGeom>
          <a:ln w="9360">
            <a:solidFill>
              <a:srgbClr val="687dd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684360" y="62064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ый служащий обязан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орядке, утвержденном 23.10.2017 года  постановлением Главы Каменского городского округа № 145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учать разрешение представителя нанимателя (работодател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частие на безвозмездной основе в управлении некоммерческой организацией в качестве единоличного исполнительного органа или вхождение в состав его коллегиального органа управл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и этом, данное участие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е должно приводить к конфликту интересов или возможности возникновения конфликта интересов у муниципального служащег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684360" y="549360"/>
            <a:ext cx="77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Думы Каменского городского окру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9.06.2014 года  N 2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 порядок сообщения отдельными категориями ли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лучении подар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протокольными мероприятиями, служебными командировками и другими официальными мероприятиями, участие в которых связано с исполнением ими служебных (должностных) обязанностей, сдачи и оценки подарка, реализации (выкупа) и зачисления средств, вырученных от его реал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538200" y="404640"/>
            <a:ext cx="77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исциплинарная ответственность муниципальных служащ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Скругленный прямоугольник 2"/>
          <p:cNvSpPr/>
          <p:nvPr/>
        </p:nvSpPr>
        <p:spPr>
          <a:xfrm>
            <a:off x="539640" y="1125360"/>
            <a:ext cx="3240360" cy="309564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соблюдение ограничений и запретов, требований о предотвращении или об урегулировании конфликта интере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исполнение обязанностей, установленных в целях противодействия коррупци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Скругленный прямоугольник 3"/>
          <p:cNvSpPr/>
          <p:nvPr/>
        </p:nvSpPr>
        <p:spPr>
          <a:xfrm>
            <a:off x="539640" y="4941720"/>
            <a:ext cx="3095640" cy="134640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Замеч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ыгов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Увольнение по соответствующим основания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Скругленный прямоугольник 4"/>
          <p:cNvSpPr/>
          <p:nvPr/>
        </p:nvSpPr>
        <p:spPr>
          <a:xfrm>
            <a:off x="4284720" y="1125360"/>
            <a:ext cx="4319640" cy="30243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принятие муниципальным  служащим, являющимся стороной конфликта интересов, мер по предотвращению и (или) урегулированию конфликта интере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Непредставление либо представление заведомо недостоверных или неполных сведений о доходах, расходах об имуществе и обязательствах имущественного характе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Стрелка вниз 5"/>
          <p:cNvSpPr/>
          <p:nvPr/>
        </p:nvSpPr>
        <p:spPr>
          <a:xfrm>
            <a:off x="2050920" y="429264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Скругленный прямоугольник 6"/>
          <p:cNvSpPr/>
          <p:nvPr/>
        </p:nvSpPr>
        <p:spPr>
          <a:xfrm>
            <a:off x="5219640" y="5013360"/>
            <a:ext cx="2665440" cy="1152360"/>
          </a:xfrm>
          <a:prstGeom prst="roundRect">
            <a:avLst>
              <a:gd name="adj" fmla="val 1666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вольнение в связи с утратой довер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Стрелка вниз 7"/>
          <p:cNvSpPr/>
          <p:nvPr/>
        </p:nvSpPr>
        <p:spPr>
          <a:xfrm>
            <a:off x="6516720" y="4221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50920" y="115920"/>
          <a:ext cx="8640720" cy="53341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ЛУЧАЕ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ЛИ ВЫМОГАТЕЛЬСТВА ВЗЯТКИ Вы долж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ести себя крайне осторожно, вежливо, не допуская опрометчивых высказываний, которые могли бы трактоваться взяткодателем (взятковымогателем) либо как готовность, либо как категорический отказ принять (дать) взятку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тельно выслушать и точно запомнить предложенные Вам условия (размеры сумм, наименование товаров и характер услуг, сроки и способы передачи взятки, форма коммерческого подкупа,  последовательность решения вопросов)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стараться перенести вопрос о времени и месте передачи взятки до следующей беседы и предложить хорошо знакомое Вам место для следующей встреч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 берите инициативу в разговоре на себя, больше «работайте на прием», позволяйте потенциальному взяткополучателю (взяткодателю) «выговориться», сообщить Вам как можно больше информации;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 наличии у Вас диктофона постараться записать (скрытно) предложение о взятке или ее вымогательств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066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ведомить письменно непосредственного руководителя о факте предложения или вымогания взятки с подробным изложением обстоятельств происшедшего собы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1255680" y="244440"/>
            <a:ext cx="6523200" cy="10908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324000" y="1413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остая взят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Прямоугольник 3"/>
          <p:cNvSpPr/>
          <p:nvPr/>
        </p:nvSpPr>
        <p:spPr>
          <a:xfrm>
            <a:off x="324000" y="2421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значитель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Прямоугольник 4"/>
          <p:cNvSpPr/>
          <p:nvPr/>
        </p:nvSpPr>
        <p:spPr>
          <a:xfrm>
            <a:off x="324000" y="342900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круп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324000" y="4437000"/>
            <a:ext cx="2952720" cy="79236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 особо крупном разм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324000" y="5516640"/>
            <a:ext cx="2952720" cy="79200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альное наказа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Стрелка вправо 7"/>
          <p:cNvSpPr/>
          <p:nvPr/>
        </p:nvSpPr>
        <p:spPr>
          <a:xfrm>
            <a:off x="3348000" y="126828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до 25 тыс. руб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10 до 5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Стрелка вправо 8"/>
          <p:cNvSpPr/>
          <p:nvPr/>
        </p:nvSpPr>
        <p:spPr>
          <a:xfrm>
            <a:off x="3348000" y="2276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от 25 до 150 тыс. руб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30 до 6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Стрелка вправо 9"/>
          <p:cNvSpPr/>
          <p:nvPr/>
        </p:nvSpPr>
        <p:spPr>
          <a:xfrm>
            <a:off x="3348000" y="3284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от 150 тыс. рублей до 1 млн. руб. штраф – от 70 до 90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Стрелка вправо 10"/>
          <p:cNvSpPr/>
          <p:nvPr/>
        </p:nvSpPr>
        <p:spPr>
          <a:xfrm>
            <a:off x="3348000" y="4292640"/>
            <a:ext cx="4608720" cy="10810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Размер – свыше 1 млн. руб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Штраф – от 80 до 10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Стрелка вправо 11"/>
          <p:cNvSpPr/>
          <p:nvPr/>
        </p:nvSpPr>
        <p:spPr>
          <a:xfrm>
            <a:off x="3348000" y="5445000"/>
            <a:ext cx="4608720" cy="1079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Лишение свободы от 8 до 15 лет плюс штраф в размере 70 сумм взят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3" descr="1282727207_3"/>
          <p:cNvPicPr/>
          <p:nvPr/>
        </p:nvPicPr>
        <p:blipFill>
          <a:blip r:embed="rId2"/>
          <a:stretch/>
        </p:blipFill>
        <p:spPr>
          <a:xfrm>
            <a:off x="395280" y="0"/>
            <a:ext cx="14400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1255680" y="244440"/>
            <a:ext cx="6523200" cy="10908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"/>
          <p:cNvSpPr/>
          <p:nvPr/>
        </p:nvSpPr>
        <p:spPr>
          <a:xfrm>
            <a:off x="324000" y="1773360"/>
            <a:ext cx="2952720" cy="1295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Штра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Прямоугольник 3"/>
          <p:cNvSpPr/>
          <p:nvPr/>
        </p:nvSpPr>
        <p:spPr>
          <a:xfrm>
            <a:off x="324000" y="3429000"/>
            <a:ext cx="2952720" cy="115236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шение своб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Стрелка вправо 4"/>
          <p:cNvSpPr/>
          <p:nvPr/>
        </p:nvSpPr>
        <p:spPr>
          <a:xfrm>
            <a:off x="3348000" y="1700280"/>
            <a:ext cx="4392720" cy="1441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инимум – от 5 до 3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ум – до 9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Стрелка вправо 5"/>
          <p:cNvSpPr/>
          <p:nvPr/>
        </p:nvSpPr>
        <p:spPr>
          <a:xfrm>
            <a:off x="3348000" y="3284640"/>
            <a:ext cx="4392720" cy="1439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инимум – до 2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аксимум от 8 до 15 л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3" descr="1282727207_3"/>
          <p:cNvPicPr/>
          <p:nvPr/>
        </p:nvPicPr>
        <p:blipFill>
          <a:blip r:embed="rId2"/>
          <a:stretch/>
        </p:blipFill>
        <p:spPr>
          <a:xfrm>
            <a:off x="324000" y="4724280"/>
            <a:ext cx="2087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Заголовок 1" descr=""/>
          <p:cNvPicPr/>
          <p:nvPr/>
        </p:nvPicPr>
        <p:blipFill>
          <a:blip r:embed="rId1"/>
          <a:stretch/>
        </p:blipFill>
        <p:spPr>
          <a:xfrm>
            <a:off x="1395360" y="96840"/>
            <a:ext cx="6523200" cy="109224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2"/>
          <p:cNvSpPr/>
          <p:nvPr/>
        </p:nvSpPr>
        <p:spPr>
          <a:xfrm>
            <a:off x="468360" y="1413000"/>
            <a:ext cx="2951280" cy="1079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Штра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468360" y="3141720"/>
            <a:ext cx="2951280" cy="1079280"/>
          </a:xfrm>
          <a:prstGeom prst="rect">
            <a:avLst/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шение своб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Стрелка вправо 4"/>
          <p:cNvSpPr/>
          <p:nvPr/>
        </p:nvSpPr>
        <p:spPr>
          <a:xfrm>
            <a:off x="3564000" y="1413000"/>
            <a:ext cx="338436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От 20 до 4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Стрелка вправо 5"/>
          <p:cNvSpPr/>
          <p:nvPr/>
        </p:nvSpPr>
        <p:spPr>
          <a:xfrm>
            <a:off x="3564000" y="3068640"/>
            <a:ext cx="3384360" cy="1224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87dd0"/>
          </a:solidFill>
          <a:ln w="15840">
            <a:solidFill>
              <a:srgbClr val="2a37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о 12 лет плюс штраф до 70 сумм взят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" name="Picture 24" descr="http://stockfresh.com/files/k/kirill_m/m/50/3599825_stock-photo-devil-bribing-businessman-with-gold-coins.jpg"/>
          <p:cNvPicPr/>
          <p:nvPr/>
        </p:nvPicPr>
        <p:blipFill>
          <a:blip r:embed="rId2"/>
          <a:stretch/>
        </p:blipFill>
        <p:spPr>
          <a:xfrm>
            <a:off x="468360" y="4508640"/>
            <a:ext cx="214308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036800" y="146160"/>
            <a:ext cx="6619680" cy="1189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1619280" y="89424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Задачи антикоррупционной полит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854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коренной перелом общественного сознания и формирование жесткого непринятия коррупц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планомерное повышение правовой культуры населен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постоянная адресная профилактика работы во всех органах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- достижение максимальной прозрачности процедур предоставления государственных услуг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539640" y="4869000"/>
            <a:ext cx="720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воритиз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из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ционизм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ббиз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2652120" y="43657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КОРРУП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4608360" cy="32241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5"/>
          <p:cNvSpPr/>
          <p:nvPr/>
        </p:nvSpPr>
        <p:spPr>
          <a:xfrm>
            <a:off x="5292720" y="2565360"/>
            <a:ext cx="33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Путин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250920" y="189000"/>
            <a:ext cx="85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ой гражданин, который хотел бы стать муниципальным или госслужащим, должен понимать, что вступление в должность связано с жесткими антикоррупционными требованиями, с определенными ограничениями, которые человек обязан строго соблюдать. Мы исходим из того, что человек берет на себя эти обязанности добровольно.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539640" y="189000"/>
          <a:ext cx="8137800" cy="6472080"/>
        </p:xfrm>
        <a:graphic>
          <a:graphicData uri="http://schemas.openxmlformats.org/drawingml/2006/table">
            <a:tbl>
              <a:tblPr/>
              <a:tblGrid>
                <a:gridCol w="813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АЯ  ПРАВОВАЯ  Б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25.12.2008 № 273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противодействии коррупци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Свердловской области от 20.02.2009 № 2-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противодействии коррупции в Свердловской област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03.12.2012 N 230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 контроле за соответствием расходов лиц, замещающих государственные должности, и иных лиц их доходам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ый закон от 17.07.2009 N 172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 антикоррупционной экспертизе нормативных правовых актов и проектов нормативных правовых акто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едеральный закон от 02.03.2007 N 25-Ф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 муниципальной службе в Российской Федераци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кон Свердловской области от 29.10.2007 N 136-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Об особенностях муниципальной службы в Свердловской област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ый кодекс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395280" y="260280"/>
            <a:ext cx="839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ые правовые акты Главы Камен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ы на сайте муниципального образования «Каменский городской округ» в разделе «Противодействие коррупции», подразделе «Нормативно правовые и иные акты в сфере противодействия коррупци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79280" y="189000"/>
          <a:ext cx="8280360" cy="439236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15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икоррупционные стандарты  п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ниципального служащ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317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 антикоррупционного поведения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совокупность законодательно установленных правил, выраженных в виде запретов, ограничений, требований, следование которым предполагает формирование устойчивого антикоррупционного повед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снове поведения муниципального служащего 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должностных обязанностей в соответствии с должностной инструкцией. Отклонение при осуществлении своих полномочий от положений должностной инструкции может способствовать совершению коррупционных правонарушений, а также являться признаком коррупционного повед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  <p:pic>
        <p:nvPicPr>
          <p:cNvPr id="235" name="Picture 2635" descr=""/>
          <p:cNvPicPr/>
          <p:nvPr/>
        </p:nvPicPr>
        <p:blipFill>
          <a:blip r:embed="rId1"/>
          <a:stretch/>
        </p:blipFill>
        <p:spPr>
          <a:xfrm>
            <a:off x="7164360" y="5506920"/>
            <a:ext cx="11923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468360" y="549360"/>
          <a:ext cx="7993080" cy="566892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дение муниципального служащего должно быть корректным, не связанным с проявлением высокомерия, грубости, неуважительного отношения к человеку, не допускающим оскорблений, угроз в его адр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униципального служащего должна быть хорошая репутация (лояльность, взаимодействие, взаимная поддержка в отношениях с коллегами, конструктивное сотрудничество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жебном поведении муниципальный служащий должен воздерживаться от курения во время служебных совещаний, бесед, иного служебного общения с граждан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 муниципального служащего при исполнении им должностных обязанностей в зависимости от условий службы и формата служебного мероприятия должен соответствовать общепринятому деловому стилю, который отличают официальность, сдержанность, традиционность и аккурат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95280" y="260280"/>
          <a:ext cx="7921800" cy="550728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МИНЫ И ОПРЕД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16718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упция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лоупотребление служебным положением, дача взятки, получение взятки, злоупотребление полномочиям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, иных имущественных прав для себя или для третьих лиц либо незаконное предоставление такой выгоды указанному лицу другими физическими лиц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798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икт интерес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ситуация, при которой личная заинтересованность (прямая или косвенная) руководителя или работника (представителя организации) влияет или может повлиять на надлежащее исполнение им должностных (трудовых) обязанностей и при которой возникает или может возникнуть противоречие между личной заинтересованностью руководителя или работника (представителя организации) и правами и законными интересами организации, способное привести к причинению вреда правам и законным интересам, имуществу и (или) деловой репутации организации, руководителем или работником (представителем организации) которой он являетс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1671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ая заинтересованнос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интересованность, связанная с возможностью получения работником (представителем организации) при исполнении должностных обязанностей доходов в виде денег, ценностей, иного имущества или услуг имущественного характера, иных имущественных прав для себя или для третьих ли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395280" y="333360"/>
          <a:ext cx="8352000" cy="4514760"/>
        </p:xfrm>
        <a:graphic>
          <a:graphicData uri="http://schemas.openxmlformats.org/drawingml/2006/table">
            <a:tbl>
              <a:tblPr/>
              <a:tblGrid>
                <a:gridCol w="83520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МИНЫ И ОПРЕД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87dd0"/>
                    </a:solidFill>
                  </a:tcPr>
                </a:tc>
              </a:tr>
              <a:tr h="2158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ка 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должностным лицом лично или через посредника денег, ценных бумаг, иного имущества либо в виде незаконных оказания ему услуг имущественного характера, предоставления иных имущественных прав за совершение действий (бездействие) в пользу взяткодателя или представляемых им лиц, если такие действия (бездействие) входят в служебные полномочия должностного лица либо если оно в силу должностного положения может способствовать таким действиям (бездействию), а равно за общее покровительство или попустительство по служб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годы имущественного характера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, оказываемые безвозмездно, но в обычной жизни подлежащие оплате, например, предоставление туристических путевок, ремонт квартиры, строительство дачи; а также занижение стоимости передаваемого имущества, приватизируемых объектов, уменьшение арендных платеже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7"/>
                    </a:solidFill>
                  </a:tcPr>
                </a:tc>
              </a:tr>
              <a:tr h="678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7ee"/>
                    </a:solidFill>
                  </a:tcPr>
                </a:tc>
              </a:tr>
            </a:tbl>
          </a:graphicData>
        </a:graphic>
      </p:graphicFrame>
      <p:pic>
        <p:nvPicPr>
          <p:cNvPr id="239" name="Picture 15" descr="http://hotmax.com.ua/assets/images/stories/oplata/vstrecha_dvuh_biznesmenov.jpg"/>
          <p:cNvPicPr/>
          <p:nvPr/>
        </p:nvPicPr>
        <p:blipFill>
          <a:blip r:embed="rId1"/>
          <a:stretch/>
        </p:blipFill>
        <p:spPr>
          <a:xfrm>
            <a:off x="6959520" y="5218200"/>
            <a:ext cx="21844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3:48:08Z</dcterms:created>
  <dc:creator>gulmira</dc:creator>
  <dc:description/>
  <dc:language>en-US</dc:language>
  <cp:lastModifiedBy>User</cp:lastModifiedBy>
  <dcterms:modified xsi:type="dcterms:W3CDTF">2019-04-19T00:48:32Z</dcterms:modified>
  <cp:revision>842</cp:revision>
  <dc:subject/>
  <dc:title>Презентация PowerPoint</dc:title>
</cp:coreProperties>
</file>