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14F-4EF3-4D99-A9EC-283D7557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F99-6FC3-45D9-B6E9-51F940A7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1DE-66D2-4E9B-8628-E4A1F720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C79-0699-40BF-B271-2A5E83D8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0890-EE1F-4200-82E9-C7045128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70C-F3A8-49AD-8FE2-CDA2ECB3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9060-CB98-4C2A-AEA3-078E2D9A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5685-F066-48B9-AD2B-8096DBF1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FDD-EF01-4EE2-AA3F-A275A0F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3B1E-F004-4097-A630-10DD1B81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9F42-BB59-4E8F-BF7A-59BBDF5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0CF-04AA-48A8-B2CF-A68B17F6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F9BC-093E-4F8B-8975-2B864E4B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868-8830-47CC-BEAE-0F410AE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48C4-8FF0-4DD7-A382-12881766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C3F6-9D90-4F7F-9DB3-A3F3F423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294E-CCA1-4863-A2A9-526E513B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30C3-ED73-4F60-B360-B01D4A24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E4792-E1B9-48E5-ACA8-2B89A4DF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E14A-1F7B-4189-BCE9-ABFB3281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EBB9-2BF4-406A-B1B6-EB7411A1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3C20-48A5-4AF1-96B1-47EA8460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A57-C342-484F-93FF-A371D3C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45FF-C8CA-4A6A-98C6-5B3A62AD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0928-14BE-4B4E-898B-84751303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F34D-3E28-4567-9865-1EB811C8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6BC8-20EC-4F7C-BE76-77AF104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E323-47E4-4BF1-BB8A-05EB7EE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F897-717B-4EDF-8CD9-78C3FE09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C63D-DDB9-4677-856E-B198785E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42FB-A106-41BF-861A-9D86A949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D415-8F81-4CAF-A36A-D32A59E9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11BC-D96B-4B45-BEC5-123F542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08A-C6A9-4A61-8662-E99F93C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1081-F19B-47D3-8B15-5F54167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49638-B679-4890-BED1-E0701D9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46F9-A8BD-42D2-B008-850A35F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0F8DE-026C-457F-8952-79D474D5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9576-49BA-4CFF-8B43-3D64132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9D03-9522-4296-8ACB-0AC4DAA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1EAC0-EB44-483B-8A75-AA457915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A790-D4C7-4E1C-85C7-4D90FD0A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A2C53-C938-4170-899F-3573719C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E6AEF-3158-4F1D-A2BF-1EBC9A3C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D2F-462A-4E72-8762-1BFF99F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99FEB-E74D-4B50-95AD-4FBBC48D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5A45-CEE3-4614-A009-0F6ACD3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9B1F-B7C5-4D3A-8727-E82447A1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30DE-7820-4370-9F23-A3FCF014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9ECB6-29EF-46FB-9163-1C05B9A1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2F69-99C3-4283-83DC-B3E4F3E3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D8F9-CBE8-474D-96E8-F68262E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B9F6-DA38-4E39-BEA7-25FA862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E360-24FB-432A-B720-CA8D6A6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1FBFC-795B-4541-90EB-9F18D6B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34F-5489-4852-8B97-19B02447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44A2-8EF1-4EA8-8B3F-D61B929A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43AA5-A8D1-4A22-83D0-4EDD8CB2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0899F-EF71-45A2-B5FA-C1785FE7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87EB-9A2B-48A9-A2EF-0B031B71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C149-5EC0-42F7-9E94-E932F7A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ADAC8-F6A5-4F2C-A4C9-2C169F1F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72C3-E571-4271-9770-78007C84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FD9A-3A99-45B6-8581-8B266590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C0F52-0A08-4BA0-9184-46C3F55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ECC0-F9C1-4A99-BCD1-A4976F7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D7D-1C65-481C-8400-25789E4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E7178-14BE-42CA-BC9E-67B045C5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0A04-AA01-481A-BBD0-7C7F1E6A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DDED-0109-445A-94E2-0950E7DF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FFE17-DB05-4A76-BD39-5B5A1B76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89669-3E53-4D66-AD2F-39427045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E84E6-6BC3-4BD4-9E7C-E30A7149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91097-B6C0-4B3E-9566-FF99391A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6BE38-1D57-4BED-8994-7C3ACF6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9E4E2-7C1C-425D-A448-5C40342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2AF15-B703-4EAC-8CF9-DB781E4C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285-5BA5-4A49-8398-B845AF9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69785-CEDE-487B-97FB-987E427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A71BA-8220-4EDE-997B-67B52B6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9FF2-B4DF-4046-A0C1-E8446E6E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867A-4DAE-42CC-A6EC-0A7A8DA9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9D4D0-B481-4F09-A276-4EDCF05E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B12-B37B-4EFF-8153-46CCAC3B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2FD-1BE1-4417-9AA1-726D625BE2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19E2-061A-462B-976E-EBF2670823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9687-3150-4D27-A8F3-2DCF2E8B8D1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C1F-2CBB-4021-9F35-5BF40A1690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1494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F8CF-5434-4770-93C1-D4A16637425D}" type="slidenum">
              <a:rPr b="0" lang="ru-RU" sz="1000" spc="-1" strike="noStrike">
                <a:solidFill>
                  <a:srgbClr val="51494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B25-5AF1-4B90-B650-6ED7D41795C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82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aca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dbfbe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0E6-18D3-4898-A447-0747F8D4E5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1847880"/>
            <a:ext cx="7564680" cy="2017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2411280" y="557280"/>
            <a:ext cx="6048360" cy="58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Чудо-цвет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7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ка (120х240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2 составные фигуры-вкладыши в форме цветка (фанера, цветная пленка). Один цветок состоит из десяти равных частей («лепестков»), второй – из четырех неравных частей («лепесток», «двудолька», «трехдолька» и «четырехдолька»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Альбом фигур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Долька, Малыш Гео и тайна «Чудо-цветика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состава числа в пределах 10, соотношения целого и части (дробей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составлять целое из частей по схематичному рисунку и собственному замыслу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анализировать, сравнива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составляет в игровом поле или на столе цветки - «двудольки», «трехдольки», «четырехдольки», «пятидольки» и так до десяти. По схемам в альбоме складывает забавные фигурки (лошадок, бабочек, лягушек, черепах и многое другое). И, конечно, придумывает сам и составляет предметные силуэты и сюжетные картин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4" descr="Чудо-цветик"/>
          <p:cNvPicPr/>
          <p:nvPr/>
        </p:nvPicPr>
        <p:blipFill>
          <a:blip r:embed="rId1"/>
          <a:stretch/>
        </p:blipFill>
        <p:spPr>
          <a:xfrm>
            <a:off x="684360" y="2637000"/>
            <a:ext cx="1582560" cy="359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3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755640" y="359280"/>
            <a:ext cx="7921800" cy="60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Коврограф "Ларч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2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Коврограф - полотно из ковролина (1х1 м), разлинованное на кл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Забавные цифры» - картонные карточки с изображениями цифр от 0 до 9 в виде животны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Забавные буквы» - картонные карточки с изображениями 10 гласных букв русского алфавита в виде шутов-акробат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Буквы, цифры» - 90 карточек из прозрачной пленки с изображениями гласных букв (красного цвета), согласных букв (синего и зеленого цвета), мягкого знака (зеленого цвета), твердого знака (синего цвета), цифр и арифметических знаков (желтого цвет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Кармашки» - набор из 5 кармашков (75х75 мм, ковролин, ПВХ) для закрепления картинок и карточек на коврограф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Цветные квадраты» - 10 квадратов из цветного ковролина (7 цветов радуги, белый, серый, черный) размером 75х75 м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Разноцветные веревочки» - 5 прилипающих к коврографу веревочек разного цвета длиной по 1 м кажда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«Разноцветные липучки» - 25 цветных кружков, прилипающих к коврографу; 10 зажимов для фиксации на коврографе картинок и карточе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ческое пособие «Ларчик», в котором описаны игровые мини-ситуации с использованием предложенных пособ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, речевое развитие, экологическое образование, знакомство с предметным миром и многое друго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врик прикрепляется к стене, пособия располагаются на нем и далее организовываются игры по методическому пособию или придумываются самостоятельно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539640" y="819000"/>
            <a:ext cx="820764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епестки (эталоны цвета - элит)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2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8 «лепестков» (фанера, цветная пленка красного, оранжевого, желтого, зеленого, голубого, синего, фиолетового и белого цветов) с держателями и липучк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Подложка (140х300 мм, ковролин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счета, пространственного расположения и его смыслового отражения в реч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я считать, отсчитывать нужное количество, определять порядковый номер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воображ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прикрепляют «лепестки» к коврографу в виде цветка с одним, двумя, тремя и т.д. лепестками. Составляют различные ряды, складывают фигурки по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Лепестки (эталоны цвета - элит)"/>
          <p:cNvPicPr/>
          <p:nvPr/>
        </p:nvPicPr>
        <p:blipFill>
          <a:blip r:embed="rId1"/>
          <a:stretch/>
        </p:blipFill>
        <p:spPr>
          <a:xfrm>
            <a:off x="6300720" y="4221000"/>
            <a:ext cx="194652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Шнур-затейник"/>
          <p:cNvPicPr/>
          <p:nvPr/>
        </p:nvPicPr>
        <p:blipFill>
          <a:blip r:embed="rId1"/>
          <a:stretch/>
        </p:blipFill>
        <p:spPr>
          <a:xfrm>
            <a:off x="6875640" y="4149720"/>
            <a:ext cx="1584000" cy="21114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"/>
          <p:cNvSpPr/>
          <p:nvPr/>
        </p:nvSpPr>
        <p:spPr>
          <a:xfrm>
            <a:off x="503280" y="396720"/>
            <a:ext cx="817236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Шнур-затейн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7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Поле (240х130 мм, фанера, цветная пленка) с тремя рядами отверстий и закрепленными в них металлическими кнопк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3 цветных шнур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Схемы узоров, цифр и сл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Филимон Коттерфильд, знаменитый факир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ориентироваться на плоскости (верхний, средний, нижний ряд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вышивать различные узоры по схеме и графическому диктанту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моторного образа цифры, буквы, составление слов и их написани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мышл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странственное воображение, творческие способности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игра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продевает шнурок через блочку, обкручивает его вокруг блочки и таким образом «вышивает» по схеме или словесному диктанту узоры, цифры, буквы, слова, различные предметные силуэт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539640" y="3600"/>
            <a:ext cx="8352000" cy="69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огоформочки 3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2-4 год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гровое поле (210х297 мм, фанера, белая пленка, шелкографи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Фигуры-вкладыши (фанера, белая пленка, шелкография): 3 эталонные (круг, треугольник, квадрат) и 6 составных фигур; подвижная линейка, части эталонных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названий и структуры геометрических фигур, пространственных отношений (верх, низ, лево, право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нимание, память, воображ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ставление предметных силуэтов из часте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- умение сравнивать, анализировать, синтезирова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в увлекательных играх «Вершки-корешки», «Перекрестки» и «Мозаика» конструирует из частей эталонных фигур предметные силуэты («грибки», «качели», «бантики» и многое другое) на игровом поле при помощи линейки, на столе, по словесному диктан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Логоформочки 5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5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овое поле (237х318 мм, фанера, белая пленка, шелкографи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Фигуры-вкладыши (фанера, белая пленка, шелкография): 5 эталонных (круг, треугольник, квадрат, прямоугольник, овал) и 20 составных фигур; подвижная линейка, части эталонных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в увлекательных играх конструирует из частей эталонных фигур предметные силуэты («грибки», «качели», «бантики» и многое другое) при помощи линейки на игровом поле, на столе, по словесному диктанту. Предлагаемые игры: «Вершки-корешки», «Перекрестки», «Мозаика», «Логомозаика», «Крестики-нолики», «Чудесный логомешочек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-4568760" y="1000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Чудесный круг Головоломка"/>
          <p:cNvPicPr/>
          <p:nvPr/>
        </p:nvPicPr>
        <p:blipFill>
          <a:blip r:embed="rId1"/>
          <a:stretch/>
        </p:blipFill>
        <p:spPr>
          <a:xfrm>
            <a:off x="684360" y="4292640"/>
            <a:ext cx="1869840" cy="1871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Три кольца Головоломка"/>
          <p:cNvPicPr/>
          <p:nvPr/>
        </p:nvPicPr>
        <p:blipFill>
          <a:blip r:embed="rId2"/>
          <a:stretch/>
        </p:blipFill>
        <p:spPr>
          <a:xfrm>
            <a:off x="2657520" y="4292640"/>
            <a:ext cx="1782720" cy="1871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-5332680" y="-3144960"/>
            <a:ext cx="19809720" cy="26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Чудесный круг Головолом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ка разработана профессором Института детства РГПУ им. А.И.Герцена Михайловой З.А.; автор игры-головоломки кандидат психол. наук Борисенкова Е.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активизирует работу мозг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тимулирует взаимодействие правого и левого полушари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пособствует гармонизации психоэмоционального состояния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стимулирует развитие мышления, воображения, внимания, усидчивости, зрительно-моторной координации, интеллектуальных эмоций, мелкой мотор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гры разработаны различные схемы изображений. В качестве образцов используются изображения реальных предметов, силуэтное изображение которых можно воссоздать из набора геометрических фигур той или иной форм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: фане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 круга: 10 с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раст: от 4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55640" y="501840"/>
            <a:ext cx="81360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Три кольца Головолом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-головоломка рекомендована Михайловой З.А., профессором кафедры дошкольной педагогики Института детства РГПУ им. А.И.Герцен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гры разработаны различные схемы изображений. В качестве образцов используются изображения реальных предметов, силуэтное изображение которых можно воссоздать из набора геометрических фигур той или иной форм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: фанер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 одного круга: 8 с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раст: от 4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-4462560" y="1003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50920" y="433800"/>
            <a:ext cx="84978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ГЕОКОН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АТЕМАТИЧЕСКИЙ ПЛАНШЕТ; МОЗАИКА С РЕЗИНКАМИ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-конструктор "Геоконт" - это путь в Мир Геометрии. Луч, отрезок, квадрат, угол - все это легко запоминается в игре с волшебными Серебряными Гвоздиками и Паутинками Паука Юк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Игра представляет собой фанерный планшет с пластмассовыми гвоздиками, расположенными особым образом, и набором цветных резино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 предназначена для развития пространственного и ассоциативного мышления, воображения, умения действовать по заданному образцу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лагодаря данной игре у ребенка появляется возможность конструировать и рисовать с помощью игрового поля с "волшебными гвоздиками" и резино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Кроме того Геометрик дает сильнейший толчок фантазии, предоставляя огромный простор для самостоятельного "рисования"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игре приложены 16 страниц заданий (более 80), которые ребенок может выполнять вполне самостоятельн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 развив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азличение цветов радуг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своение названий и структуры геометрических фигур, их размера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строить симметричные, несимметричные фигуры, узоры, ориентироваться в пространстве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конструировать фигуры по схеме, картинке, словесному алгоритму и собственному замыслу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нимание, память, элементы логического мышлен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ображение, творческие способно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пальцевую и кистев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 игр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 размещается на столе. Ребенок натягивает резинки на гвоздики и создает предметные силуэты, геометрические фигуры, узоры, цифры, буквы по образцу, словесному алгоритму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3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-4381560" y="80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11280" y="439200"/>
            <a:ext cx="5905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конт Малыш + сказка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т, состоящий из игры "Геоконт" и сказки «Малыш Гео, Ворон Метр и Я, дядя Слава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позволяет познакомить ребенка с Малышом Гео и другими героями Фиолетового леса, которые с помощью "Геоконта" открывают мир геометрических и образных превращений, разноцветных приключений. Взрослые читают сказку детям, а они по ходу сюжета складывают фигуры на «Геоконте», отвечают на вопрос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конт Великан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ный вариант игры "Геоконт-Малыш". Рекомендуется для проведения групповых занят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7" descr="Геоконт Малыш + сказка"/>
          <p:cNvPicPr/>
          <p:nvPr/>
        </p:nvPicPr>
        <p:blipFill>
          <a:blip r:embed="rId1"/>
          <a:stretch/>
        </p:blipFill>
        <p:spPr>
          <a:xfrm>
            <a:off x="5148360" y="3573360"/>
            <a:ext cx="3449520" cy="2691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-4292640" y="7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11280" y="464040"/>
            <a:ext cx="7777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вадрат Воскобовича 2-х цветный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я «Квадрат» по линиям сгиба в разных направлениях, ребенок конструирует геометрические и предметные фигуры по схеме или собственному замыслу. Вариантов сложения - 1000000. Рекомендуемый возраст 2-5 ле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На квадратную основу из ткани (140х140 мм) на некотором расстоянии друг от друга наклеены треугольники из плотного картона. Одна сторона «Квадрата» - красного цвета, другая – зеленого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Цветные пооперационные схемы сложения 19 фигур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звива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ориентироваться в форме и размере геометрических фигур, пространственных отношения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конструировать плоскостные и объемные фигуры, пользуясь схемой или собственным замыслом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имание, память, пространственное и логическое мышлени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ображение, творческие способност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лкую моторик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" descr="Квадрат Воскобовича 2-х цветный"/>
          <p:cNvPicPr/>
          <p:nvPr/>
        </p:nvPicPr>
        <p:blipFill>
          <a:blip r:embed="rId1"/>
          <a:stretch/>
        </p:blipFill>
        <p:spPr>
          <a:xfrm>
            <a:off x="6372360" y="4076640"/>
            <a:ext cx="2163600" cy="2163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-4476600" y="11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84360" y="681120"/>
            <a:ext cx="554328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Квадрат Воскобовича 4-хцветный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5-9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На квадратную основу из ткани (140х140 мм) на некотором расстоянии друг от друга наклеены треугольники из плотного картона. Одна сторона «Квадрата» - зеленого и желтого цвета, другая – синего и красного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Цветные рисунки 18 сложенных фигур в книжечке «Квадратные забавы» (100х95 мм, цветная печать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ориентироваться в форме и размере геометрических фигур, пространственных отношениях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конструировать плоскостные и объемные фигуры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пространственное и логическое мышление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«Игровой квадрат» - головоломка. Ребенку или взрослому придется подумать, чтобы получить, на первый взгляд, легкую фигурку. Для этого нужно складывать «Квадрат» по линиям сгиба в разных направлениях, до получения нарисованных в книжке «Квадратные забавы» фигу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Picture 7" descr="Квадрат Воскобовича 4-хцветный"/>
          <p:cNvPicPr/>
          <p:nvPr/>
        </p:nvPicPr>
        <p:blipFill>
          <a:blip r:embed="rId1"/>
          <a:stretch/>
        </p:blipFill>
        <p:spPr>
          <a:xfrm>
            <a:off x="6084720" y="3860640"/>
            <a:ext cx="2332080" cy="231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555480" y="531360"/>
            <a:ext cx="79948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Прозрачный квадрат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– 3-9 ле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0 квадратных пластинок из прозрачной пленки ПВХ (62х62 мм) На каждую пластинку нанесено изображение одной геометрической фигуры - квадрата, прямоугольника, треугольника, прямоугольной трапеции, пятиугольника или шестиугольн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Схемы сложения фигу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Методика-сказка «Подарок хранителя озера Айс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названий и структуры геометрических фигур, их размер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составлять геометрические фигуры из частей, понимание соотношения целого и ча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умение конструировать предметные силуэты путем наложения или приложения пласти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воображение, умение анализировать, сравнивать, творческие способности, речь,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накладывает пластинки друга на друга, совмещает закрашенные части и составляет из них геометрические фигуры или предметные силуэты. Предметные силуэты можно получить и путем приложения геометрических фигур на пластинках друг к друг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«Прозрачным квадратом» можно играть индивидуально и вместе с друзья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4" descr="Прозрачный квадрат"/>
          <p:cNvPicPr/>
          <p:nvPr/>
        </p:nvPicPr>
        <p:blipFill>
          <a:blip r:embed="rId1"/>
          <a:stretch/>
        </p:blipFill>
        <p:spPr>
          <a:xfrm>
            <a:off x="6948360" y="4869000"/>
            <a:ext cx="151308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-4591080" y="723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-393372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31880" y="2383920"/>
            <a:ext cx="799128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"Счетовозик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ый возраст 3-7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гровое поле (280х200 мм, фанера, шелкография) в форме паровозика. На поле закреплены кнопки тремя рядами (1-й – цифры первого десятка, 2-й – цифра 0 и арифметические знаки, 3-й – цифры второго десятка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Шнур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• Инстру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освоение порядкового и количественного счет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оотнесение цифры и количества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равнение чисел первого и второго десятка, состав чисел второго десятк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ожение чисел, решение простейших арифметических задач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имание, память, элементы логического мышления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продевает шнурок сквозь отверстия, обкручивает его вокруг кнопки и таким образом выделяет нужные цифры, знаки, решает задач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7" descr="Счетовозик"/>
          <p:cNvPicPr/>
          <p:nvPr/>
        </p:nvPicPr>
        <p:blipFill>
          <a:blip r:embed="rId1"/>
          <a:stretch/>
        </p:blipFill>
        <p:spPr>
          <a:xfrm>
            <a:off x="5796000" y="692280"/>
            <a:ext cx="2448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Чудо-крестики 1"/>
          <p:cNvPicPr/>
          <p:nvPr/>
        </p:nvPicPr>
        <p:blipFill>
          <a:blip r:embed="rId1"/>
          <a:stretch/>
        </p:blipFill>
        <p:spPr>
          <a:xfrm>
            <a:off x="6732720" y="4705200"/>
            <a:ext cx="1711080" cy="15987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-4602240" y="-480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611280" y="569880"/>
            <a:ext cx="8243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удо-крестики 1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й возраст 2-4 г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Рамка (147х208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7 фигур-вкладышей. 4 - в форме крестиков (фанера, пленка красного, синего, зеленого, желтого цветов): 1 целая и 3 составные (из двух, трех, четырех частей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– это геометрические фигуры: треугольник, квадрат и другие многоугольники. 3 фигуры-вкладыши – это круг и две его половин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звива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нсорные способности (различение цветов радуги, геометрических фигур, их размера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«читать» схемы, сравнивать и составлять целое из частей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лкую моторику ру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кладывает «крестики» из частей в рамке, на столе в виде «башни» («крестики» накладываются друг на друга), «дорожки» («крестики» прикладываются друг к другу). И конструирует фигурки по схемам из альбома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539640" y="115920"/>
            <a:ext cx="8209080" cy="65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Чудо-крестики 2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уемый возраст 4-6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Рамка (210х297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7 фигур-вкладышей в форме крестиков (фанера, пленка красного, синего, зеленого, желтого, оранжевого, голубого, фиолетового цветов): 1 целая и 6 составных (из двух, трех, четырех, пяти, шести, семи частей). Части – это геометрические фигуры: квадраты, треугольники, прямоугольники, трапеция, другие многоугольники и круг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то развив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сенсорные способности (различение цветов радуги, геометрических фигур, их размера)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«читать» схемы, сравнивать и составлять целое из частей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нимание, память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воображение, творческие способности;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лкую моторику рук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умение определять количество предметов и порядковый номе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енок складывает «крестики» из частей в рамке, на столе в виде «башни» («крестики» накладываются друг на друга), «дорожки» («крестики» прикладываются друг к другу). И самое интересное – конструирует фигурки по схемам из альбома и собственному за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"Чудо-крестики 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омендуемый возраст 5-7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Рамка (210х297 мм, фанера, цветная пленк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7 фигур-вкладышей в форме крестиков (фанера, пленка розового, малинового, салатного, бирюзового, светло-голубого, лимонного, лилового цветов): 1 целая и 6 составных (из четырех, пяти, шести, семи частей). Части – это геометрические фигуры: прямоугольники, треугольники, параллелограмм, другие многоугольники и круг, составленный их двух половин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• Альбом фигурок (50 фигу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9:15:41Z</dcterms:created>
  <dc:creator>User</dc:creator>
  <dc:description/>
  <dc:language>en-US</dc:language>
  <cp:lastModifiedBy>Premium</cp:lastModifiedBy>
  <dcterms:modified xsi:type="dcterms:W3CDTF">2019-04-19T17:07:22Z</dcterms:modified>
  <cp:revision>6</cp:revision>
  <dc:subject/>
  <dc:title>Слайд 1</dc:title>
</cp:coreProperties>
</file>