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978-CC8D-43E1-87EB-D4B1E6FF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E48-A7CB-4D46-BA4C-2FC5C755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343-6CA7-429A-88D2-F6075830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AFB-5FE1-4FE7-99FB-F792FB4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4A7D-E2E3-4E2D-A799-0FF819CD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5ECA-1867-498D-96C9-74055B74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683E-BE38-4570-BC7F-AA506AC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F9C5-EBF0-4805-9336-5A9833A2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276A-FD13-4CEE-AC4D-560A351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35B-F4D4-45A7-9E97-086DAD8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85D-C779-4C23-9D2A-8C1F4E3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657-7287-4780-8EA6-D7C65BB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355A-266E-4981-AE12-D6613F6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2D91-811A-40A6-80EB-A617B32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9DFE-B294-4DAB-8E5F-D526DDB2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9C17-5998-4EFE-B833-D268D7F0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D5C0-DEE1-4966-BB92-A311BCB1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5878-3EF4-48E7-83AC-C65A4678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8811-2AFF-4819-8B24-8788F5C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F382-1CDF-4BE3-8AC8-8B8BB51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4CF5-9BFF-48A8-B039-9D536F8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133E-E8B1-4FE1-AC16-7FD58390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837-0FE0-426A-8C7A-22513F50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C0DB-3235-46FF-9BF3-E30E8DBE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491D-A86D-4EA7-AE2C-D92751A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3300-6EEF-4A76-A993-791D5B8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F4AE-7E4F-46B4-A417-9F09A25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6858-BAE7-4999-9372-8D4DEFD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2CA3-4D73-4618-84F8-FA116C71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B29C-AEB6-4A81-AC9C-B3128112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9A58-F4B4-4D22-A1CD-C9E389B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4DEC-6887-41AE-A74B-94E7C83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D8C9-F438-484B-A610-48FB995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589-2271-464C-8AF4-ED30949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4E6E-B005-4007-B544-943C70A2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9F5C-5F63-4C3D-BD2C-1B4922D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25F4-7D13-428E-A906-D8ABDBE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1673-5BA3-4AAD-8299-F9C62EF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7F23-2A16-42C7-9C1D-7F02666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88E3-F1FB-4048-99B2-912896A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C7C7-76D9-441A-9CF5-43188EB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E388-0507-456A-BF0A-5395EC0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4513-7711-499C-AAA5-9ADAA6C3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F440-ACBF-4E51-98E6-56A6285B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CEA-8A7E-417A-8AFC-C59423A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BAF70-A34B-4824-8EDF-CF24568D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6083-6D64-4CF5-A94B-14DFC5A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2F2F-E8BD-478F-9C11-42288EE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AB86-773E-4D8C-88FC-CF64287F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51E4-68FD-4C7D-9D70-1B07B00C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BB8C-ECC2-4ACA-92D5-D0FFA3A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0658-4B5E-4CC3-A590-62CB75D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B972-E992-4554-B01F-5E1FB9F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194B-99B9-4D37-A7CD-35F58419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D268F-6F44-4745-BE38-FB77552B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569-F79D-457A-9EE7-83C1B6D6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AE39-0FB6-45E1-A6C5-0054B2C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DEEC-76FE-4332-9EEC-40E8DBC3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626B-392C-49E3-8A9E-5D0F381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42FF6-DCF6-494F-A43D-7208150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2150-73CD-408E-AC04-529E9F0B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AA46-B977-42DA-ACBC-BA2FE16A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2C52-A34A-4374-94D0-8F81FDB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863E-D26E-4A7A-A9B1-AA87ED3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467D-0DAC-4603-BC36-36F9B03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87E8-9AF3-4E7C-8E06-73AF48A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EDF-04C8-412B-9917-C67C112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FD3C-CEE3-4345-B7DB-7A88F61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D3C4-4FA6-4191-AEB1-EE3BBBB9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FCDE-7050-47EB-B12A-193314BA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49E5F-D315-4CB0-8584-B0896136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9DD2-D5C6-4AB4-85A2-532BCB5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151B-4B22-4600-9FFC-57430A7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C456-46D5-4193-8F9E-590BA05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B6E72-E00F-439F-A407-7F47BE6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6B55-29CE-4E5A-A0D1-572BBF3D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D694-CBD4-4572-9CBF-DA4F27D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664-8247-4B9E-95F3-1A16D1A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165A2-73F9-4F27-ABDB-4007AA3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9C40-F5BC-4FD7-B053-46864DA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58198-D5E4-4837-AA54-1E4B70D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1F36-161E-4A80-A436-D7099DF6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65B1-1C71-4A5F-ABA2-1C0ADA69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677-159A-4A80-BB40-37572DC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8BE-D30B-4823-9AE3-396FC290F1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5E2-F6D5-45B6-990B-18FC9AB8FD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4CA9-E1AE-4ABB-8BE6-85632FA110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BE77-F514-4668-8CC0-6DBA262851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A1E-7CCF-4275-82FC-36688BEBA7AC}" type="slidenum">
              <a:rPr b="0" lang="ru-RU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D135-6DC2-43B6-AC49-0F42ADAB2E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B16-24FB-4080-9D54-E96D3F6356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847880"/>
            <a:ext cx="756468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2411280" y="557280"/>
            <a:ext cx="60483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Чудо-цвет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7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ка (120х240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2 составные фигуры-вкладыши в форме цветка (фанера, цветная пленка). Один цветок состоит из десяти равных частей («лепестков»), второй – из четырех неравных частей («лепесток», «двудолька», «трехдолька» и «четырехдолька»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Альбом фигур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Долька, Малыш Гео и тайна «Чудо-цветик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состава числа в пределах 10, соотношения целого и части (дробей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составлять целое из частей по схематичному рисунку и собственному замыслу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анализировать, сравнива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составляет в игровом поле или на столе цветки - «двудольки», «трехдольки», «четырехдольки», «пятидольки» и так до десяти. По схемам в альбоме складывает забавные фигурки (лошадок, бабочек, лягушек, черепах и многое другое). И, конечно, придумывает сам и составляет предметные силуэты и сюжетные картин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4" descr="Чудо-цветик"/>
          <p:cNvPicPr/>
          <p:nvPr/>
        </p:nvPicPr>
        <p:blipFill>
          <a:blip r:embed="rId1"/>
          <a:stretch/>
        </p:blipFill>
        <p:spPr>
          <a:xfrm>
            <a:off x="684360" y="2637000"/>
            <a:ext cx="1582560" cy="359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755640" y="359280"/>
            <a:ext cx="79218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Коврограф "Ларч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2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Коврограф - полотно из ковролина (1х1 м), разлинованное на кл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Забавные цифры» - картонные карточки с изображениями цифр от 0 до 9 в виде животн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Забавные буквы» - картонные карточки с изображениями 10 гласных букв русского алфавита в виде шутов-акробат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Буквы, цифры» - 90 карточек из прозрачной пленки с изображениями гласных букв (красного цвета), согласных букв (синего и зеленого цвета), мягкого знака (зеленого цвета), твердого знака (синего цвета), цифр и арифметических знаков (желтого цвет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Кармашки» - набор из 5 кармашков (75х75 мм, ковролин, ПВХ) для закрепления картинок и карточек на коврограф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Цветные квадраты» - 10 квадратов из цветного ковролина (7 цветов радуги, белый, серый, черный) размером 75х75 м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Разноцветные веревочки» - 5 прилипающих к коврографу веревочек разного цвета длиной по 1 м кажда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Разноцветные липучки» - 25 цветных кружков, прилипающих к коврографу; 10 зажимов для фиксации на коврографе картинок и карточе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ческое пособие «Ларчик», в котором описаны игровые мини-ситуации с использованием предложенных пособ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, речевое развитие, экологическое образование, знакомство с предметным миром и многое друго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врик прикрепляется к стене, пособия располагаются на нем и далее организовываются игры по методическому пособию или придумываются самостоятель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539640" y="819000"/>
            <a:ext cx="82076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епестки (эталоны цвета - элит)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2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8 «лепестков» (фанера, цветная пленка красного, оранжевого, желтого, зеленого, голубого, синего, фиолетового и белого цветов) с держателями и липучк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Подложка (140х300 мм, ковролин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счета, пространственного расположения и его смыслового отражения в реч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я считать, отсчитывать нужное количество, определять порядковый номер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воображ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прикрепляют «лепестки» к коврографу в виде цветка с одним, двумя, тремя и т.д. лепестками. Составляют различные ряды, складывают фигурки по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Лепестки (эталоны цвета - элит)"/>
          <p:cNvPicPr/>
          <p:nvPr/>
        </p:nvPicPr>
        <p:blipFill>
          <a:blip r:embed="rId1"/>
          <a:stretch/>
        </p:blipFill>
        <p:spPr>
          <a:xfrm>
            <a:off x="6300720" y="4221000"/>
            <a:ext cx="19465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Шнур-затейник"/>
          <p:cNvPicPr/>
          <p:nvPr/>
        </p:nvPicPr>
        <p:blipFill>
          <a:blip r:embed="rId1"/>
          <a:stretch/>
        </p:blipFill>
        <p:spPr>
          <a:xfrm>
            <a:off x="6875640" y="4149720"/>
            <a:ext cx="1584000" cy="21114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503280" y="396720"/>
            <a:ext cx="817236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Шнур-затейн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7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Поле (240х130 мм, фанера, цветная пленка) с тремя рядами отверстий и закрепленными в них металлическими кнопк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3 цветных шнур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Схемы узоров, цифр и сл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Филимон Коттерфильд, знаменитый факир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ориентироваться на плоскости (верхний, средний, нижний ряд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вышивать различные узоры по схеме и графическому диктанту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моторного образа цифры, буквы, составление слов и их написа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мышл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странственное воображение, творческие способ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игр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продевает шнурок через блочку, обкручивает его вокруг блочки и таким образом «вышивает» по схеме или словесному диктанту узоры, цифры, буквы, слова, различные предметные силуэт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539640" y="3600"/>
            <a:ext cx="8352000" cy="69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огоформочки 3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2-4 го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гровое поле (210х297 мм, фанера, белая пленка, шелкографи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Фигуры-вкладыши (фанера, белая пленка, шелкография): 3 эталонные (круг, треугольник, квадрат) и 6 составных фигур; подвижная линейка, части эталонных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названий и структуры геометрических фигур, пространственных отношений (верх, низ, лево, право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ние, память, воображ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ставление предметных силуэтов из часте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- умение сравнивать, анализировать, синтезирова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в увлекательных играх «Вершки-корешки», «Перекрестки» и «Мозаика» конструирует из частей эталонных фигур предметные силуэты («грибки», «качели», «бантики» и многое другое) на игровом поле при помощи линейки, на столе, по словесному диктан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огоформочки 5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5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ое поле (237х318 мм, фанера, белая пленка, шелкографи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Фигуры-вкладыши (фанера, белая пленка, шелкография): 5 эталонных (круг, треугольник, квадрат, прямоугольник, овал) и 20 составных фигур; подвижная линейка, части эталонных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в увлекательных играх конструирует из частей эталонных фигур предметные силуэты («грибки», «качели», «бантики» и многое другое) при помощи линейки на игровом поле, на столе, по словесному диктанту. Предлагаемые игры: «Вершки-корешки», «Перекрестки», «Мозаика», «Логомозаика», «Крестики-нолики», «Чудесный логомешочек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-4568760" y="1000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Чудесный круг Головоломка"/>
          <p:cNvPicPr/>
          <p:nvPr/>
        </p:nvPicPr>
        <p:blipFill>
          <a:blip r:embed="rId1"/>
          <a:stretch/>
        </p:blipFill>
        <p:spPr>
          <a:xfrm>
            <a:off x="684360" y="4292640"/>
            <a:ext cx="1869840" cy="1871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Три кольца Головоломка"/>
          <p:cNvPicPr/>
          <p:nvPr/>
        </p:nvPicPr>
        <p:blipFill>
          <a:blip r:embed="rId2"/>
          <a:stretch/>
        </p:blipFill>
        <p:spPr>
          <a:xfrm>
            <a:off x="2657520" y="429264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-5332680" y="-3144960"/>
            <a:ext cx="1980972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Чудесный круг Головолом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ка разработана профессором Института детства РГПУ им. А.И.Герцена Михайловой З.А.; автор игры-головоломки кандидат психол. наук Борисенкова Е.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активизирует работу мозг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тимулирует взаимодействие правого и левого полушар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пособствует гармонизации психоэмоционального состоя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тимулирует развитие мышления, воображения, внимания, усидчивости, зрительно-моторной координации, интеллектуальных эмоций, мелкой мотор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гры разработаны различные схемы изображений. В качестве образцов используются изображения реальных предметов, силуэтное изображение которых можно воссоздать из набора геометрических фигур той или иной форм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: фане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 круга: 10 с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раст: от 4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55640" y="501840"/>
            <a:ext cx="81360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Три кольца Головолом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-головоломка рекомендована Михайловой З.А., профессором кафедры дошкольной педагогики Института детства РГПУ им. А.И.Герце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гры разработаны различные схемы изображений. В качестве образцов используются изображения реальных предметов, силуэтное изображение которых можно воссоздать из набора геометрических фигур той или иной форм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: фане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 одного круга: 8 с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раст: от 4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-4462560" y="1003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50920" y="433800"/>
            <a:ext cx="8497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ГЕОКОН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АТЕМАТИЧЕСКИЙ ПЛАНШЕТ; МОЗАИКА С РЕЗИНКАМИ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-конструктор "Геоконт" - это путь в Мир Геометрии. Луч, отрезок, квадрат, угол - все это легко запоминается в игре с волшебными Серебряными Гвоздиками и Паутинками Паука Юк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Игра представляет собой фанерный планшет с пластмассовыми гвоздиками, расположенными особым образом, и набором цветных резино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 предназначена для развития пространственного и ассоциативного мышления, воображения, умения действовать по заданному образц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лагодаря данной игре у ребенка появляется возможность конструировать и рисовать с помощью игрового поля с "волшебными гвоздиками" и резино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Кроме того Геометрик дает сильнейший толчок фантазии, предоставляя огромный простор для самостоятельного "рисования"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игре приложены 16 страниц заданий (более 80), которые ребенок может выполнять вполне самостоятельн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 развив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зличение цветов радуг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своение названий и структуры геометрических фигур, их размера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строить симметричные, несимметричные фигуры, узоры, ориентироваться в пространстве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конструировать фигуры по схеме, картинке, словесному алгоритму и собственному замыслу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нимание, память, элементы логического мышлен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ображение, творческие способно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альцевую и кистев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игр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 размещается на столе. Ребенок натягивает резинки на гвоздики и создает предметные силуэты, геометрические фигуры, узоры, цифры, буквы по образцу, словесному алгоритму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-4381560" y="8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11280" y="439200"/>
            <a:ext cx="5905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конт Малыш + сказ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, состоящий из игры "Геоконт" и сказки «Малыш Гео, Ворон Метр и Я, дядя Слава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позволяет познакомить ребенка с Малышом Гео и другими героями Фиолетового леса, которые с помощью "Геоконта" открывают мир геометрических и образных превращений, разноцветных приключений. Взрослые читают сказку детям, а они по ходу сюжета складывают фигуры на «Геоконте», отвечают на вопрос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конт Великан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ный вариант игры "Геоконт-Малыш". Рекомендуется для проведения групповых занят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7" descr="Геоконт Малыш + сказка"/>
          <p:cNvPicPr/>
          <p:nvPr/>
        </p:nvPicPr>
        <p:blipFill>
          <a:blip r:embed="rId1"/>
          <a:stretch/>
        </p:blipFill>
        <p:spPr>
          <a:xfrm>
            <a:off x="5148360" y="3573360"/>
            <a:ext cx="34495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-4292640" y="7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11280" y="464040"/>
            <a:ext cx="777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вадрат Воскобовича 2-х цветный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я «Квадрат» по линиям сгиба в разных направлениях, ребенок конструирует геометрические и предметные фигуры по схеме или собственному замыслу. Вариантов сложения - 1000000. Рекомендуемый возраст 2-5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а квадратную основу из ткани (140х140 мм) на некотором расстоянии друг от друга наклеены треугольники из плотного картона. Одна сторона «Квадрата» - красного цвета, другая – зеленого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Цветные пооперационные схемы сложения 19 фигур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звива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ориентироваться в форме и размере геометрических фигур, пространственных отношения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конструировать плоскостные и объемные фигуры, пользуясь схемой или собственным замысло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имание, память, пространственное и логическое мышле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ображение, творческие способност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лкую моторик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" descr="Квадрат Воскобовича 2-х цветный"/>
          <p:cNvPicPr/>
          <p:nvPr/>
        </p:nvPicPr>
        <p:blipFill>
          <a:blip r:embed="rId1"/>
          <a:stretch/>
        </p:blipFill>
        <p:spPr>
          <a:xfrm>
            <a:off x="6372360" y="4076640"/>
            <a:ext cx="2163600" cy="2163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-4476600" y="11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4360" y="681120"/>
            <a:ext cx="554328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Квадрат Воскобовича 4-хцветный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5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На квадратную основу из ткани (140х140 мм) на некотором расстоянии друг от друга наклеены треугольники из плотного картона. Одна сторона «Квадрата» - зеленого и желтого цвета, другая – синего и красног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Цветные рисунки 18 сложенных фигур в книжечке «Квадратные забавы» (100х95 мм, цветная печать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ориентироваться в форме и размере геометрических фигур, пространственных отношениях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конструировать плоскостные и объемные фигур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пространственное и логическое мышл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«Игровой квадрат» - головоломка. Ребенку или взрослому придется подумать, чтобы получить, на первый взгляд, легкую фигурку. Для этого нужно складывать «Квадрат» по линиям сгиба в разных направлениях, до получения нарисованных в книжке «Квадратные забавы» фигу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7" descr="Квадрат Воскобовича 4-хцветный"/>
          <p:cNvPicPr/>
          <p:nvPr/>
        </p:nvPicPr>
        <p:blipFill>
          <a:blip r:embed="rId1"/>
          <a:stretch/>
        </p:blipFill>
        <p:spPr>
          <a:xfrm>
            <a:off x="6084720" y="3860640"/>
            <a:ext cx="233208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555480" y="531360"/>
            <a:ext cx="79948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Прозрачный квадрат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9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 квадратных пластинок из прозрачной пленки ПВХ (62х62 мм) На каждую пластинку нанесено изображение одной геометрической фигуры - квадрата, прямоугольника, треугольника, прямоугольной трапеции, пятиугольника или шестиуголь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Схемы сложения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Подарок хранителя озера Айс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названий и структуры геометрических фигур, их размер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составлять геометрические фигуры из частей, понимание соотношения целого и ча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конструировать предметные силуэты путем наложения или приложения пласти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воображение, умение анализировать, сравнивать, творческие способности, речь,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накладывает пластинки друга на друга, совмещает закрашенные части и составляет из них геометрические фигуры или предметные силуэты. Предметные силуэты можно получить и путем приложения геометрических фигур на пластинках друг к друг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«Прозрачным квадратом» можно играть индивидуально и вместе с друзья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4" descr="Прозрачный квадрат"/>
          <p:cNvPicPr/>
          <p:nvPr/>
        </p:nvPicPr>
        <p:blipFill>
          <a:blip r:embed="rId1"/>
          <a:stretch/>
        </p:blipFill>
        <p:spPr>
          <a:xfrm>
            <a:off x="6948360" y="4869000"/>
            <a:ext cx="151308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-4591080" y="723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-393372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31880" y="2383920"/>
            <a:ext cx="799128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Счетовоз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3-7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гровое поле (280х200 мм, фанера, шелкография) в форме паровозика. На поле закреплены кнопки тремя рядами (1-й – цифры первого десятка, 2-й – цифра 0 и арифметические знаки, 3-й – цифры второго десятка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Шнур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порядкового и количественного счет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отнесение цифры и количеств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равнение чисел первого и второго десятка, состав чисел второго десятк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жение чисел, решение простейших арифметических задач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элементы логического мышления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продевает шнурок сквозь отверстия, обкручивает его вокруг кнопки и таким образом выделяет нужные цифры, знаки, решает задач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Счетовозик"/>
          <p:cNvPicPr/>
          <p:nvPr/>
        </p:nvPicPr>
        <p:blipFill>
          <a:blip r:embed="rId1"/>
          <a:stretch/>
        </p:blipFill>
        <p:spPr>
          <a:xfrm>
            <a:off x="5796000" y="692280"/>
            <a:ext cx="2448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Чудо-крестики 1"/>
          <p:cNvPicPr/>
          <p:nvPr/>
        </p:nvPicPr>
        <p:blipFill>
          <a:blip r:embed="rId1"/>
          <a:stretch/>
        </p:blipFill>
        <p:spPr>
          <a:xfrm>
            <a:off x="6732720" y="4705200"/>
            <a:ext cx="1711080" cy="15987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-4602240" y="-480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611280" y="569880"/>
            <a:ext cx="8243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удо-крестики 1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й возраст 2-4 г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амка (147х208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7 фигур-вкладышей. 4 - в форме крестиков (фанера, пленка красного, синего, зеленого, желтого цветов): 1 целая и 3 составные (из двух, трех, четырех частей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– это геометрические фигуры: треугольник, квадрат и другие многоугольники. 3 фигуры-вкладыши – это круг и две его половин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зв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нсорные способности (различение цветов радуги, геометрических фигур, их размера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«читать» схемы, сравнивать и составлять целое из частей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кладывает «крестики» из частей в рамке, на столе в виде «башни» («крестики» накладываются друг на друга), «дорожки» («крестики» прикладываются друг к другу). И конструирует фигурки по схемам из альбома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539640" y="115920"/>
            <a:ext cx="8209080" cy="65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Чудо-крестики 2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уемый возраст 4-6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Рамка (210х297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7 фигур-вкладышей в форме крестиков (фанера, пленка красного, синего, зеленого, желтого, оранжевого, голубого, фиолетового цветов): 1 целая и 6 составных (из двух, трех, четырех, пяти, шести, семи частей). Части – это геометрические фигуры: квадраты, треугольники, прямоугольники, трапеция, другие многоугольники и кру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енсорные способности (различение цветов радуги, геометрических фигур, их размера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«читать» схемы, сравнивать и составлять целое из частей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лкую моторику рук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определять количество предметов и порядковый номе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енок складывает «крестики» из частей в рамке, на столе в виде «башни» («крестики» накладываются друг на друга), «дорожки» («крестики» прикладываются друг к другу). И самое интересное – конструирует фигурки по схемам из альбома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Чудо-крестики 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уемый возраст 5-7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Рамка (210х297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7 фигур-вкладышей в форме крестиков (фанера, пленка розового, малинового, салатного, бирюзового, светло-голубого, лимонного, лилового цветов): 1 целая и 6 составных (из четырех, пяти, шести, семи частей). Части – это геометрические фигуры: прямоугольники, треугольники, параллелограмм, другие многоугольники и круг, составленный их двух полови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9:15:41Z</dcterms:created>
  <dc:creator>User</dc:creator>
  <dc:description/>
  <dc:language>en-US</dc:language>
  <cp:lastModifiedBy>Premium</cp:lastModifiedBy>
  <dcterms:modified xsi:type="dcterms:W3CDTF">2019-04-19T17:07:22Z</dcterms:modified>
  <cp:revision>6</cp:revision>
  <dc:subject/>
  <dc:title>Слайд 1</dc:title>
</cp:coreProperties>
</file>