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C09-787B-4FB2-80B6-FF5BAC74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2E0-91AB-46F6-B203-66F497B6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7FE4D-FF51-47E7-87C8-52838CDD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2CB4C-662B-4766-90D6-776337C5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E70E9-8D8A-4F88-B737-F5BC6CFC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A7AEB-DA95-412B-99DC-18AEC544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A3A82-18D5-40FE-AC21-D7617880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6B34E-CC2D-4EE8-8AAC-F12490B6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954B8-A96E-428A-8EDE-DC722A1E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CF2F2-0CD9-4C4F-8F3D-AA64A1A4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61E6E-A88D-427A-9D54-2436A1FB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E984-FD82-4113-AFED-A7FC41F3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1E7-3414-4729-A57B-A98E876A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2F47-D9DD-4059-906A-9317ACBF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B661-4C03-45B0-9DB5-0A33C648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0897-CAA1-421A-B6CB-54FE9473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38CF-A48F-420F-9F81-81B25060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0640-A1B2-4F85-AAC6-DE25E310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8DE2-92C9-481A-AEE9-E3AD96F6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19E0-A5EB-46E3-8EC1-7EB2B489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1B0-815D-4592-BA5B-B7EA956B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E9EF-C196-413D-A7CA-F29FF75E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EE4D-1DB0-4ACD-AE2A-E5895987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6BD6-FA9F-407A-98D2-6553873F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790E-7E89-4159-B171-09EBB844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0946-3913-44D3-9ECE-EBFDEBD8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19634-A285-48EE-871B-7A9F89AD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AB189-B5E8-491E-8B31-DA21B91E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BFB25-8956-4311-9B26-E429F433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00AF2-8DD6-49DF-9463-666FA05A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24CC8-5CC8-4230-90BC-FF5148D7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12EE-2726-4F09-8A0A-D98C31EF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A1DC1-9976-4C93-ACCC-885791D9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40F4F-2275-46A1-80AA-33BD497B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1A8D7-F005-4400-AFD9-6A1E6D04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B7077-B0D1-4094-9A90-BF6219FA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340F3-8293-4C9F-8406-067BF375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AE464-4A92-41C1-99EB-A0269225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C470B-6C7C-4B76-88C7-92A6978E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C45A5-490D-4A18-A601-976A6A26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2C922-DE71-45D2-9104-1600C149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BD25D-B23D-4482-925F-4A4488AF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A4F6-767D-468F-BFD3-434EC6EC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0EFD9-D1DA-4E62-B2DB-E5F945FD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06059-C66F-4BA2-8CE3-46175FD7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24583-2F40-42E4-8A61-BB28AACC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2913F-3ABF-47FF-AABC-93706657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9C9A1-A77B-4DB6-A91D-24720BD2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AE244-7804-4605-877D-5965B672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565DF-DDF9-480A-A0E9-9C98A29D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7AC0F-4CA0-443D-88A7-6184CF2E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BAD54-22E9-4AEC-B896-82CCBA2B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71C30-7309-4F42-87C7-8C0E211E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0EA2-8263-47AA-8EA2-93E0A060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D0DC6-4B00-44D1-9C66-F894E5ED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BE051-FC89-44DF-B9FF-8CBFB416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B6B7A-BA53-4CB7-9F51-F784555D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389B5-71AA-45B5-8E24-14D3D613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59BB3-E149-4206-986E-B99FD5C5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A190F-A476-41C7-99BF-08608ED8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DA4DF-8F12-4511-84FA-95BA4BC5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54F57-D340-4039-BF72-0D8D51AF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602EA-6662-4FE2-80AB-0C5CC820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79A80-FFF4-40D5-AFD1-ED77E7C4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74A5-5580-408C-A0CF-9CB0CB33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6C7A9-DE54-41BC-89C7-EAF909BD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312E5-66ED-41A0-AE94-6807FB55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2BD4B-1377-4815-9425-57911BE4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E7C48-AE8B-45F1-AC79-74ED1F29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2CB8B-7155-46B6-9A58-7E2DAD17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68109-ED2B-48EB-9B6D-ED29F9E1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9DCE6-1D91-4060-9F11-AC95E555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98B76-827D-4C94-B202-DEA01F37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483EF-6FB3-424D-87E0-E2C80CE0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DA589-9D44-4C47-ADCB-1B12CC8E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737-00A5-450E-A330-6E05A203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5BA0E-62EA-462D-AAA3-772016E2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76C03-4F7A-44CE-8190-9FBEBFB6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D3C19-5DA7-4861-887E-12E3B518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D699E-3BB1-495B-8FB0-D1EF43ED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C5C69-5382-4791-BF8D-52A9F9E3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7A144-3940-4795-9CDE-87E00991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F3CDA-210D-4093-A43C-B079B87E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0FF49-40C0-4C68-B9A9-96A6339A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46561-5761-4159-A6B3-E34674E2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E900C-8F7A-4CC0-A279-BBEB3C9D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C24D-0906-4559-8D91-EAE2B2BD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782C4-3F63-4BD0-A4B2-7ED91B68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0F3C4-EC8E-4911-A93A-3C3DB6C5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D8F99-6918-4707-8851-054BF8EA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C879E-8234-48CC-BE29-AA33DB39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9FC48-EC1A-4B48-B039-6573B1A2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E6757-8712-4F22-B50D-6EB1B50D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71448-4B43-4876-8DE8-81862F68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38111-55C9-47AF-BCB7-4CD59BDB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631A4-850A-4A34-B227-488216EE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5F44C-FD75-4878-BE53-10E60BED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E3C-BD6C-4540-8B1A-22006889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579E6-9A4D-491A-86D7-4296CBAE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65CD3-B123-430E-9DB1-ABAB2B74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3113E-E1D3-4FD3-8834-20A7D278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31334-450B-4614-A9EE-BBAF94C2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D6359-3606-4277-9531-B97A86A8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7100E-ADE7-4F5D-90F9-D50880E4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E2F83-ADC0-4B37-A4C2-9514E377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0C6CC-1E62-436A-802A-0B18C45C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E1B44-2211-40E7-82F1-399B6CA3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4F281-8EB2-47C7-BD29-4F413FE7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B4BA-E824-4CA7-9310-CCFB5BAD4F8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7B70-9FBA-4269-BD51-EE4EE79805D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100C-8112-49E5-A0F6-D5C7D3CA155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75A0-0DFF-4EE4-A046-0B5AE2E8EC9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750A-DFCA-4C04-8D1F-8A5BD1F4978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0004-F828-4DA6-8434-C307C4CA283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0F7A-0DAD-47DD-971C-B45368E4A8B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681A-AEFE-4B46-9314-73418E3B84C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2FEF-EDED-416E-A0EB-E774D14811D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1"/>
          <p:cNvSpPr/>
          <p:nvPr/>
        </p:nvSpPr>
        <p:spPr>
          <a:xfrm>
            <a:off x="250920" y="404640"/>
            <a:ext cx="871380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Franklin Gothic Book"/>
              </a:rPr>
              <a:t>Тема урока: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Franklin Gothic Boo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Franklin Gothic Book"/>
              </a:rPr>
              <a:t>Мягкий знак 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Franklin Gothic Book"/>
              </a:rPr>
              <a:t>на конце существительных после шипящих.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рямоугольник 3"/>
          <p:cNvSpPr/>
          <p:nvPr/>
        </p:nvSpPr>
        <p:spPr>
          <a:xfrm>
            <a:off x="539640" y="549360"/>
            <a:ext cx="8496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щ, ключ, лещ, мелочь, луч, дичь, ложь, глушь, уж.</a:t>
            </a:r>
            <a:endParaRPr b="0" lang="en-US" sz="8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Прямоугольник 1"/>
          <p:cNvSpPr/>
          <p:nvPr/>
        </p:nvSpPr>
        <p:spPr>
          <a:xfrm>
            <a:off x="611280" y="692280"/>
            <a:ext cx="8137440" cy="47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Ответы: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  <a:ea typeface="Calibri"/>
              </a:rPr>
              <a:t>1-а,    2-а,    3-а, </a:t>
            </a:r>
            <a:endParaRPr b="0" lang="en-US" sz="9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  <a:ea typeface="Calibri"/>
              </a:rPr>
              <a:t>4-а,    5-а.</a:t>
            </a:r>
            <a:endParaRPr b="0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1"/>
          <p:cNvSpPr/>
          <p:nvPr/>
        </p:nvSpPr>
        <p:spPr>
          <a:xfrm>
            <a:off x="539640" y="333360"/>
            <a:ext cx="8425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нать, как писать,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ть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нский род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надо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ягкий знак употреблять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гда мы пишем рожь,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ь, печь, сушь и молодёжь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од мужской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ова –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ту знака никакого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гда пиши: калач,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, малыш, гараж и грач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Прямоугольник 2" descr=""/>
          <p:cNvPicPr/>
          <p:nvPr/>
        </p:nvPicPr>
        <p:blipFill>
          <a:blip r:embed="rId1"/>
          <a:stretch/>
        </p:blipFill>
        <p:spPr>
          <a:xfrm>
            <a:off x="1920960" y="122400"/>
            <a:ext cx="5443560" cy="615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1"/>
          <p:cNvSpPr/>
          <p:nvPr/>
        </p:nvSpPr>
        <p:spPr>
          <a:xfrm>
            <a:off x="519120" y="765000"/>
            <a:ext cx="86425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ределите падеж имён существительных по вопросу и предлогу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л (по чему?) по дорожке - …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грамма (от кого?) от друга - …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лся (с кем?) с мальчиком - …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л (о чём?) о погоде - … 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1"/>
          <p:cNvSpPr/>
          <p:nvPr/>
        </p:nvSpPr>
        <p:spPr>
          <a:xfrm>
            <a:off x="324000" y="476280"/>
            <a:ext cx="842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r>
              <a:rPr b="1" lang="ru-RU" sz="7200" spc="-1" strike="noStrike">
                <a:solidFill>
                  <a:srgbClr val="1b06ba"/>
                </a:solidFill>
                <a:latin typeface="Times New Roman"/>
                <a:ea typeface="Times New Roman"/>
              </a:rPr>
              <a:t>Хорошую речь хорошо и  слушать.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7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ченье – луч света, 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 неученье – тьма. 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"/>
          <p:cNvSpPr/>
          <p:nvPr/>
        </p:nvSpPr>
        <p:spPr>
          <a:xfrm>
            <a:off x="250920" y="260280"/>
            <a:ext cx="85690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ма -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казатель мягкости согласного 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ье -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азделительный 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рямоугольник 1"/>
          <p:cNvSpPr/>
          <p:nvPr/>
        </p:nvSpPr>
        <p:spPr>
          <a:xfrm>
            <a:off x="331920" y="836640"/>
            <a:ext cx="856908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ма – ночь 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койствие – тишь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– молодежь 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– помощь 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1"/>
          <p:cNvSpPr/>
          <p:nvPr/>
        </p:nvSpPr>
        <p:spPr>
          <a:xfrm>
            <a:off x="1705680" y="620640"/>
            <a:ext cx="55818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БЛЕМА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Прямоугольник 2"/>
          <p:cNvSpPr/>
          <p:nvPr/>
        </p:nvSpPr>
        <p:spPr>
          <a:xfrm>
            <a:off x="665280" y="1989000"/>
            <a:ext cx="684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Надо выяснить, почему в существительных, оканчивающихся на шипящий в единственном  числе пишется мягкий знак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Прямоугольник 3"/>
          <p:cNvSpPr/>
          <p:nvPr/>
        </p:nvSpPr>
        <p:spPr>
          <a:xfrm>
            <a:off x="7102440" y="1265400"/>
            <a:ext cx="17686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0" spc="-1" strike="noStrike">
                <a:solidFill>
                  <a:srgbClr val="ff0000"/>
                </a:solidFill>
                <a:latin typeface="Times New Roman"/>
                <a:ea typeface="Calibri"/>
              </a:rPr>
              <a:t>?</a:t>
            </a:r>
            <a:endParaRPr b="0" lang="en-US" sz="25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324000" y="189000"/>
            <a:ext cx="849600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Franklin Gothic Medium"/>
                <a:ea typeface="Calibri"/>
              </a:rPr>
              <a:t>Цель урока: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Мы должны узнать, почему в существительных после шипящих в одних случаях пишется </a:t>
            </a:r>
            <a:r>
              <a:rPr b="1" lang="ru-RU" sz="6600" spc="-1" strike="noStrike">
                <a:solidFill>
                  <a:srgbClr val="ff0000"/>
                </a:solidFill>
                <a:latin typeface="Franklin Gothic Medium"/>
                <a:ea typeface="Calibri"/>
              </a:rPr>
              <a:t>ь</a:t>
            </a:r>
            <a:r>
              <a:rPr b="0" lang="ru-RU" sz="54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знак, 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а в других не пишется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1"/>
          <p:cNvSpPr/>
          <p:nvPr/>
        </p:nvSpPr>
        <p:spPr>
          <a:xfrm>
            <a:off x="324000" y="549360"/>
            <a:ext cx="85690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</a:t>
            </a:r>
            <a:r>
              <a:rPr b="1" lang="ru-RU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к после шипящего –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. р.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</a:t>
            </a:r>
            <a:r>
              <a:rPr b="1" lang="ru-RU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ка после шипящего –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. р.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рямоугольник 1"/>
          <p:cNvSpPr/>
          <p:nvPr/>
        </p:nvSpPr>
        <p:spPr>
          <a:xfrm>
            <a:off x="401760" y="476280"/>
            <a:ext cx="842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ый товарищ..?  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мая доч..</a:t>
            </a:r>
            <a:r>
              <a:rPr b="1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?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ый неуч..?  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кая дрож..</a:t>
            </a:r>
            <a:r>
              <a:rPr b="1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?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ая чуш..</a:t>
            </a:r>
            <a:r>
              <a:rPr b="1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?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7:05:25Z</dcterms:created>
  <dc:creator>Мама</dc:creator>
  <dc:description/>
  <dc:language>en-US</dc:language>
  <cp:lastModifiedBy>Оленька</cp:lastModifiedBy>
  <dcterms:modified xsi:type="dcterms:W3CDTF">2011-12-23T09:24:20Z</dcterms:modified>
  <cp:revision>19</cp:revision>
  <dc:subject/>
  <dc:title>Презентация PowerPoint</dc:title>
</cp:coreProperties>
</file>