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A65-1111-4E02-8026-7E092399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B246-4587-4D6B-9E23-7DEB7115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CB5B2-9FF8-4E51-9715-BA0FBA06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4F343-1CD8-4E38-9752-E5570B32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28367-7A11-4DF9-9D8B-ACEF3303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BB9C1-C94F-4532-80CE-30D56C31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FDAB7-897B-4958-B0BF-98AC6140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F20C9-669A-4AD1-A251-21E06305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5B30C-31DC-4F78-83B7-71AEAAE2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94015-7D0D-4641-9E1C-BFD6271C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B3719-5CA2-4837-8415-A362855B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02E4-4302-48DB-BA07-76813999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1AA-9275-42CF-B415-D8709CA4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1B7E-5C83-499C-B942-49485510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8FCB-D10C-444D-A057-845E6B11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6ABD-8C8D-4249-B1A7-49C28BB7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2D90-14EA-41B3-B1E6-45D07B1F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2E85-D00A-4952-B9EC-5C69C161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DE65-29B5-44CF-B03E-F609C8E4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D6C0-7633-4436-81EF-07AD31D1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10C-ABD3-482A-94FB-2AD1583A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1717-9A44-48D1-A0DF-A2CB8987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A7C5-3040-4E10-984E-771A92FD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A79D-D096-460A-8C96-3009B991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6B90-9653-496A-BD8B-8C9A8BBE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B2A8-6E5C-4141-8418-EFAE364D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33087-9C8B-44DC-A04E-C76E9E27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25352-F4F6-426D-BF9F-D9681880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527F4-3822-4A8E-ADDE-26F25DAD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3D82C-B986-42A9-8353-E53F5273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9FF0A-8F04-4E55-8442-D421F654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5B49-5630-491A-8104-B9E2EB1F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F4FFE-5650-4E44-AB12-8A2A34FC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9DCC6-AA67-461A-940F-50CB3F29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07C19-6B28-4A4E-BA4D-F1E3D5E5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B261A-3644-41FB-9AF7-E3F62F58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599AE-04D8-429F-9CE0-FA417F2C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D6D77-319B-492B-A036-E3E6411A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33CEE-A71F-4657-AEA1-1814ACAD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49382-9E8F-47B3-899F-2E78ED24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4C056-4EF0-48F8-B867-10CD5068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DF917-A1CE-4BF9-B766-82E9F1C0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83FD-D8E1-476D-AF13-0FECD7A3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8F804-21D2-4946-90C0-CB2F8086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3A830-1090-4D1F-B1A6-1A02F7BB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4F2A7-BC9E-4625-A277-CA8B5FD2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72B31-0B1C-4443-8374-93FDE00F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58AAE-11ED-4ACB-8F9C-EC3D6A39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7CBA8-9912-4853-9CCE-F8606BA2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D617C-5D08-40B9-979C-6F298280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E302F-3DD5-469A-860F-4D90ECFB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4E31B-E4C7-44A7-9984-37AA77BE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18E50-4284-497E-8F09-83F43F38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0931-C925-45D1-B2EF-D7365C99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E70D9-7254-47D0-A6A7-B288F57E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12BF3-67C5-473A-AAD2-00EBB03E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78694-B6A3-4FA9-83F2-A9F0EA75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A5FC1-75D9-4441-BAFA-A7F96A4A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01DBC-A648-4B18-892F-6B01C131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0BF54-C009-4E9F-B07F-D5F21C48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2577A-B36B-4667-BF2B-15A4617D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2CD2D-18F1-4F58-9607-B76E3788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D7922-E9ED-40E6-9CA2-7BCA29D6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857C9-7F5F-4B36-B6E1-22EFEE3A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E29D-EAF1-42FB-9E59-79290BFA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ED403-B894-414A-B757-0105DE02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18FAB-5349-438E-A25F-2CD6AE72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DA6D5-3D0D-4A1B-91BD-3FA5B233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B9C46-83C8-4808-BCFD-6403280C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498AC-3208-4633-B68B-9E1B647E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80FA7-E884-4AA3-8C55-819B8DCE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7F6A3-E6A5-4770-9441-8BE05F4D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33659-1ABD-404E-A4D9-C3376CBF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F7D51-68C6-418E-A7EA-BB64A6F0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DB76A-BF76-4E63-9955-B9984D02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440-4A98-4E9D-AF0E-271277CC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F5209-34B8-4487-A66F-A6345A5F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B55EB-E0EF-4006-8D04-C3DA3E98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8FD72-51C5-4E71-9977-9A9D1AAE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EC519-B581-4BAC-BD2A-B57F5B56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DC0CC-DFAD-459A-8708-394EC34B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061B4-C877-460B-BAD6-56BC05ED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3310D-88CC-4EBB-AA75-BD65B9A9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49666-D521-453A-B1DA-528B3B86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29915-AC4A-490F-B332-A18E5FB6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6692E-B3F4-43D8-A0F7-223E900E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60E-E17E-43C6-9A8A-2A973FF4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489B0-5F04-4D6C-8C3F-CB0B0F7B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BB90D-5BE3-4271-AFA8-886AC2DF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6FC1D-D687-4B54-939E-2A9D47B5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76FAA-8876-4A5D-A0E8-C58C81C5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75F5D-5C40-465E-B2A3-38806185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08800-703E-45C3-84C9-169B1140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5167D-06D9-485D-BEC1-3EAA6099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8B378-E5AC-4765-9A05-675E3023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6242F-9EF6-4ABD-B909-BC2505D6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AEF1B-74F3-48FF-B2C2-BDE3BFD4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BE45-076B-4E93-B49B-2A5D50FC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3B7BE-6A7F-4403-BD92-4AA7C25A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7C0DC-E746-4401-872D-EA9181B2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40DCA-3D30-4559-A27C-304DAA6C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0F800-70AD-4205-84F6-28705A46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1765F-0A0B-41FA-98A0-3C57AACF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C4F51-4E49-4387-BC2D-2554FB8C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3D980-91BA-4661-86DB-51085E24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84AE1-0744-47CB-AD42-ACE22BFD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4E57D-E968-4B9C-BE72-B9289773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6EB24-FEC8-44CA-8724-AC295710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82D8-4BB1-4F0F-9800-923DCDB80FA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1971-4A2C-40D1-A972-5238A2FF58E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3716-017D-4EAD-A687-61DC02A09CF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DE6A-3DCD-4DF1-8558-5748B42CB35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C817-014E-4248-A73E-8353D63AAFC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75F6-FC9C-4144-B2CA-03B010D163A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4BC0-2038-4A87-AEF4-B43B810CEF3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040D-BA56-4545-8613-50A088E3E1C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545C-0670-467B-948C-C1CD65F3153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1"/>
          <p:cNvSpPr/>
          <p:nvPr/>
        </p:nvSpPr>
        <p:spPr>
          <a:xfrm>
            <a:off x="250920" y="404640"/>
            <a:ext cx="871380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Franklin Gothic Book"/>
              </a:rPr>
              <a:t>Тема урока: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Franklin Gothic Boo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Franklin Gothic Book"/>
              </a:rPr>
              <a:t>Мягкий знак 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Franklin Gothic Book"/>
              </a:rPr>
              <a:t>на конце существительных после шипящих.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Прямоугольник 3"/>
          <p:cNvSpPr/>
          <p:nvPr/>
        </p:nvSpPr>
        <p:spPr>
          <a:xfrm>
            <a:off x="539640" y="549360"/>
            <a:ext cx="8496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щ, ключ, лещ, мелочь, луч, дичь, ложь, глушь, уж.</a:t>
            </a:r>
            <a:endParaRPr b="0" lang="en-US" sz="8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Прямоугольник 1"/>
          <p:cNvSpPr/>
          <p:nvPr/>
        </p:nvSpPr>
        <p:spPr>
          <a:xfrm>
            <a:off x="611280" y="692280"/>
            <a:ext cx="8137440" cy="47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Ответы: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  <a:ea typeface="Calibri"/>
              </a:rPr>
              <a:t>1-а,    2-а,    3-а, </a:t>
            </a:r>
            <a:endParaRPr b="0" lang="en-US" sz="9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  <a:ea typeface="Calibri"/>
              </a:rPr>
              <a:t>4-а,    5-а.</a:t>
            </a:r>
            <a:endParaRPr b="0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1"/>
          <p:cNvSpPr/>
          <p:nvPr/>
        </p:nvSpPr>
        <p:spPr>
          <a:xfrm>
            <a:off x="539640" y="333360"/>
            <a:ext cx="8425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нать, как писать,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ть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нский род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надо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ягкий знак употреблять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гда мы пишем рожь,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ь, печь, сушь и молодёжь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од мужской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ова –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ту знака никакого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гда пиши: калач,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, малыш, гараж и грач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Прямоугольник 2" descr=""/>
          <p:cNvPicPr/>
          <p:nvPr/>
        </p:nvPicPr>
        <p:blipFill>
          <a:blip r:embed="rId1"/>
          <a:stretch/>
        </p:blipFill>
        <p:spPr>
          <a:xfrm>
            <a:off x="1920960" y="122400"/>
            <a:ext cx="5443560" cy="615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1"/>
          <p:cNvSpPr/>
          <p:nvPr/>
        </p:nvSpPr>
        <p:spPr>
          <a:xfrm>
            <a:off x="519120" y="765000"/>
            <a:ext cx="86425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ределите падеж имён существительных по вопросу и предлогу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л (по чему?) по дорожке - …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грамма (от кого?) от друга - …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лся (с кем?) с мальчиком - …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л (о чём?) о погоде - … 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1"/>
          <p:cNvSpPr/>
          <p:nvPr/>
        </p:nvSpPr>
        <p:spPr>
          <a:xfrm>
            <a:off x="324000" y="476280"/>
            <a:ext cx="842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r>
              <a:rPr b="1" lang="ru-RU" sz="7200" spc="-1" strike="noStrike">
                <a:solidFill>
                  <a:srgbClr val="1b06ba"/>
                </a:solidFill>
                <a:latin typeface="Times New Roman"/>
                <a:ea typeface="Times New Roman"/>
              </a:rPr>
              <a:t>Хорошую речь хорошо и  слушать.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7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ченье – луч света, 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3920"/>
                <a:tab algn="l" pos="447840"/>
                <a:tab algn="l" pos="671400"/>
                <a:tab algn="l" pos="895320"/>
                <a:tab algn="l" pos="1119240"/>
                <a:tab algn="l" pos="1343160"/>
                <a:tab algn="l" pos="1566720"/>
                <a:tab algn="l" pos="1790640"/>
                <a:tab algn="l" pos="2014560"/>
                <a:tab algn="l" pos="2238480"/>
                <a:tab algn="l" pos="2462040"/>
                <a:tab algn="l" pos="2685960"/>
                <a:tab algn="l" pos="2909880"/>
                <a:tab algn="l" pos="3133800"/>
                <a:tab algn="l" pos="3357720"/>
                <a:tab algn="l" pos="3581280"/>
                <a:tab algn="l" pos="3805200"/>
                <a:tab algn="l" pos="4029120"/>
                <a:tab algn="l" pos="4253040"/>
                <a:tab algn="l" pos="44766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 неученье – тьма. 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"/>
          <p:cNvSpPr/>
          <p:nvPr/>
        </p:nvSpPr>
        <p:spPr>
          <a:xfrm>
            <a:off x="250920" y="260280"/>
            <a:ext cx="85690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ма -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казатель мягкости согласного 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ье -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азделительный 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Прямоугольник 1"/>
          <p:cNvSpPr/>
          <p:nvPr/>
        </p:nvSpPr>
        <p:spPr>
          <a:xfrm>
            <a:off x="331920" y="836640"/>
            <a:ext cx="856908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ма – ночь 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койствие – тишь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– молодежь 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– помощь 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1"/>
          <p:cNvSpPr/>
          <p:nvPr/>
        </p:nvSpPr>
        <p:spPr>
          <a:xfrm>
            <a:off x="1705680" y="620640"/>
            <a:ext cx="55818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БЛЕМА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Прямоугольник 2"/>
          <p:cNvSpPr/>
          <p:nvPr/>
        </p:nvSpPr>
        <p:spPr>
          <a:xfrm>
            <a:off x="665280" y="1989000"/>
            <a:ext cx="684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Надо выяснить, почему в существительных, оканчивающихся на шипящий в единственном  числе пишется мягкий знак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Прямоугольник 3"/>
          <p:cNvSpPr/>
          <p:nvPr/>
        </p:nvSpPr>
        <p:spPr>
          <a:xfrm>
            <a:off x="7102440" y="1265400"/>
            <a:ext cx="17686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0" spc="-1" strike="noStrike">
                <a:solidFill>
                  <a:srgbClr val="ff0000"/>
                </a:solidFill>
                <a:latin typeface="Times New Roman"/>
                <a:ea typeface="Calibri"/>
              </a:rPr>
              <a:t>?</a:t>
            </a:r>
            <a:endParaRPr b="0" lang="en-US" sz="25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324000" y="189000"/>
            <a:ext cx="849600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Franklin Gothic Medium"/>
                <a:ea typeface="Calibri"/>
              </a:rPr>
              <a:t>Цель урока: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Мы должны узнать, почему в существительных после шипящих в одних случаях пишется </a:t>
            </a:r>
            <a:r>
              <a:rPr b="1" lang="ru-RU" sz="6600" spc="-1" strike="noStrike">
                <a:solidFill>
                  <a:srgbClr val="ff0000"/>
                </a:solidFill>
                <a:latin typeface="Franklin Gothic Medium"/>
                <a:ea typeface="Calibri"/>
              </a:rPr>
              <a:t>ь</a:t>
            </a:r>
            <a:r>
              <a:rPr b="0" lang="ru-RU" sz="54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 знак, 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Franklin Gothic Medium"/>
                <a:ea typeface="Calibri"/>
              </a:rPr>
              <a:t>а в других не пишется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оугольник 1"/>
          <p:cNvSpPr/>
          <p:nvPr/>
        </p:nvSpPr>
        <p:spPr>
          <a:xfrm>
            <a:off x="324000" y="549360"/>
            <a:ext cx="85690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</a:t>
            </a:r>
            <a:r>
              <a:rPr b="1" lang="ru-RU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к после шипящего –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. р.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</a:t>
            </a:r>
            <a:r>
              <a:rPr b="1" lang="ru-RU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ь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ка после шипящего –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. р.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Прямоугольник 1"/>
          <p:cNvSpPr/>
          <p:nvPr/>
        </p:nvSpPr>
        <p:spPr>
          <a:xfrm>
            <a:off x="401760" y="476280"/>
            <a:ext cx="842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ый товарищ..?  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мая доч..</a:t>
            </a:r>
            <a:r>
              <a:rPr b="1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?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ый неуч..?  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кая дрож..</a:t>
            </a:r>
            <a:r>
              <a:rPr b="1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?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ая чуш..</a:t>
            </a:r>
            <a:r>
              <a:rPr b="1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?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7:05:25Z</dcterms:created>
  <dc:creator>Мама</dc:creator>
  <dc:description/>
  <dc:language>en-US</dc:language>
  <cp:lastModifiedBy>Оленька</cp:lastModifiedBy>
  <dcterms:modified xsi:type="dcterms:W3CDTF">2011-12-23T09:24:20Z</dcterms:modified>
  <cp:revision>19</cp:revision>
  <dc:subject/>
  <dc:title>Презентация PowerPoint</dc:title>
</cp:coreProperties>
</file>