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0D9-7ECB-4ADF-B683-684F774E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016-8FF8-4449-BFBF-511ECF13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2A5-B36C-4694-A5A4-47EC606D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25D-5FD2-4FBF-9F69-6A04B97B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7B4-72FC-4B1A-A69F-5371256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FC7-64FA-4194-8915-68226146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D8B-2EE5-4977-930D-EEB8605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D49-6617-42C0-A4AD-4690E49E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6CB-2FC8-48E7-ACA1-3E42DE35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6CB-0B48-42EA-A764-7734041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591-FCDE-400B-BAEC-1244248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723-04BE-44FA-8EBE-4462BE82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546-EE7C-4B80-8649-6705EE8CC2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значит написать изложение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958680" y="1928880"/>
            <a:ext cx="76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умать собственный текст на заданную т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сказать текст близко к исходн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ej5iykcgc4wc4888gooo0408gws.600.jpg"/>
          <p:cNvPicPr/>
          <p:nvPr/>
        </p:nvPicPr>
        <p:blipFill>
          <a:blip r:embed="rId1"/>
          <a:stretch/>
        </p:blipFill>
        <p:spPr>
          <a:xfrm>
            <a:off x="2714760" y="4143240"/>
            <a:ext cx="30146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 Долгая и славная история кош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0_88c98_3ecfba41_XL.jpg"/>
          <p:cNvPicPr/>
          <p:nvPr/>
        </p:nvPicPr>
        <p:blipFill>
          <a:blip r:embed="rId1"/>
          <a:stretch/>
        </p:blipFill>
        <p:spPr>
          <a:xfrm>
            <a:off x="642960" y="135720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1700409_large_6a3a0b770ea5a67437a45b728e7f1fdc_XL.jpg"/>
          <p:cNvPicPr/>
          <p:nvPr/>
        </p:nvPicPr>
        <p:blipFill>
          <a:blip r:embed="rId2"/>
          <a:stretch/>
        </p:blipFill>
        <p:spPr>
          <a:xfrm>
            <a:off x="3929040" y="121428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ouse-mouse-big.jpg"/>
          <p:cNvPicPr/>
          <p:nvPr/>
        </p:nvPicPr>
        <p:blipFill>
          <a:blip r:embed="rId3"/>
          <a:stretch/>
        </p:blipFill>
        <p:spPr>
          <a:xfrm>
            <a:off x="6429240" y="3571920"/>
            <a:ext cx="243684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8385089a24e1.jpg"/>
          <p:cNvPicPr/>
          <p:nvPr/>
        </p:nvPicPr>
        <p:blipFill>
          <a:blip r:embed="rId4"/>
          <a:stretch/>
        </p:blipFill>
        <p:spPr>
          <a:xfrm>
            <a:off x="4000680" y="4286160"/>
            <a:ext cx="2778120" cy="1857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357120" y="550080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б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ернохранилищ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шки в Древнем Егип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i (3).jpg"/>
          <p:cNvPicPr/>
          <p:nvPr/>
        </p:nvPicPr>
        <p:blipFill>
          <a:blip r:embed="rId1"/>
          <a:stretch/>
        </p:blipFill>
        <p:spPr>
          <a:xfrm>
            <a:off x="928800" y="1643040"/>
            <a:ext cx="2857320" cy="2976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bastet.gif"/>
          <p:cNvPicPr/>
          <p:nvPr/>
        </p:nvPicPr>
        <p:blipFill>
          <a:blip r:embed="rId2"/>
          <a:stretch/>
        </p:blipFill>
        <p:spPr>
          <a:xfrm>
            <a:off x="4357800" y="1357200"/>
            <a:ext cx="2060640" cy="3643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mumia.gif"/>
          <p:cNvPicPr/>
          <p:nvPr/>
        </p:nvPicPr>
        <p:blipFill>
          <a:blip r:embed="rId3"/>
          <a:stretch/>
        </p:blipFill>
        <p:spPr>
          <a:xfrm>
            <a:off x="6929280" y="1500120"/>
            <a:ext cx="1033560" cy="371160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090880" y="55008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ященные   живот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 кошки похожи друг на друга, хотя люди вывели много разных п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се кошки - замечательные охот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Долгая и славная история кош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539640" y="4419720"/>
            <a:ext cx="1878120" cy="1706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2556000" y="440676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3"/>
          <a:stretch/>
        </p:blipFill>
        <p:spPr>
          <a:xfrm>
            <a:off x="5016600" y="4419720"/>
            <a:ext cx="1042920" cy="17254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"/>
          <p:cNvPicPr/>
          <p:nvPr/>
        </p:nvPicPr>
        <p:blipFill>
          <a:blip r:embed="rId4"/>
          <a:stretch/>
        </p:blipFill>
        <p:spPr>
          <a:xfrm>
            <a:off x="6226200" y="4425840"/>
            <a:ext cx="25066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итай текст своего изло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илось ли у тебя пересказать авторский текст близко к исходно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 свою рабо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 меня всё получило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не было сложно выполн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1908000" y="38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"/>
          <p:cNvPicPr/>
          <p:nvPr/>
        </p:nvPicPr>
        <p:blipFill>
          <a:blip r:embed="rId2"/>
          <a:stretch/>
        </p:blipFill>
        <p:spPr>
          <a:xfrm>
            <a:off x="1908000" y="4994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1602601-d23dff26af8914d6.jpg"/>
          <p:cNvPicPr/>
          <p:nvPr/>
        </p:nvPicPr>
        <p:blipFill>
          <a:blip r:embed="rId1"/>
          <a:stretch/>
        </p:blipFill>
        <p:spPr>
          <a:xfrm>
            <a:off x="1428840" y="1571760"/>
            <a:ext cx="614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Кош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434880" y="438156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2411280" y="4356000"/>
            <a:ext cx="2324160" cy="1735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tretch/>
        </p:blipFill>
        <p:spPr>
          <a:xfrm>
            <a:off x="4838760" y="4375080"/>
            <a:ext cx="104436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4"/>
          <a:stretch/>
        </p:blipFill>
        <p:spPr>
          <a:xfrm>
            <a:off x="5987880" y="4383000"/>
            <a:ext cx="2503800" cy="1712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190800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nsportal.ru/nachalnaya-shkola/russkii-yazyk/2019/01/10/izlozhenie-kosh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пределите основную мыс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кошек гордый харак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ши и крысы съедали запасы осеннего урожая в зернохранилищ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и вывели много разных пород домашних ко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домашней кошки долгая и славная истор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шки – замечательные охот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338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рский тек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ложение Та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кошк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олов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ш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мыс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домашней кошки долгая и славная ист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ство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84360" y="1417680"/>
            <a:ext cx="80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Все кошки похожи друг на друга, хотя люди вывели много разных п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сибирская.jpg"/>
          <p:cNvPicPr/>
          <p:nvPr/>
        </p:nvPicPr>
        <p:blipFill>
          <a:blip r:embed="rId1"/>
          <a:stretch/>
        </p:blipFill>
        <p:spPr>
          <a:xfrm>
            <a:off x="684360" y="2565360"/>
            <a:ext cx="4000320" cy="3648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943880" y="3933720"/>
            <a:ext cx="29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бир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ангорская.jpg"/>
          <p:cNvPicPr/>
          <p:nvPr/>
        </p:nvPicPr>
        <p:blipFill>
          <a:blip r:embed="rId1"/>
          <a:stretch/>
        </p:blipFill>
        <p:spPr>
          <a:xfrm>
            <a:off x="1403280" y="692280"/>
            <a:ext cx="6096240" cy="4552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975040" y="52452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нгор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сиамская.jpg"/>
          <p:cNvPicPr/>
          <p:nvPr/>
        </p:nvPicPr>
        <p:blipFill>
          <a:blip r:embed="rId1"/>
          <a:stretch/>
        </p:blipFill>
        <p:spPr>
          <a:xfrm>
            <a:off x="1187280" y="476280"/>
            <a:ext cx="3597480" cy="5945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589000" y="2997360"/>
            <a:ext cx="26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амск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короткохвостая.jpg"/>
          <p:cNvPicPr/>
          <p:nvPr/>
        </p:nvPicPr>
        <p:blipFill>
          <a:blip r:embed="rId1"/>
          <a:stretch/>
        </p:blipFill>
        <p:spPr>
          <a:xfrm>
            <a:off x="1403280" y="650880"/>
            <a:ext cx="6167520" cy="4219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352960" y="5084640"/>
            <a:ext cx="426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роткохвост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691920"/>
            <a:ext cx="7686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е кошки - замечательные охот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0_6fe65_d83a091f_XL.jpg"/>
          <p:cNvPicPr/>
          <p:nvPr/>
        </p:nvPicPr>
        <p:blipFill>
          <a:blip r:embed="rId1"/>
          <a:stretch/>
        </p:blipFill>
        <p:spPr>
          <a:xfrm>
            <a:off x="826920" y="2125800"/>
            <a:ext cx="3279960" cy="3065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282191156.jpg"/>
          <p:cNvPicPr/>
          <p:nvPr/>
        </p:nvPicPr>
        <p:blipFill>
          <a:blip r:embed="rId2"/>
          <a:stretch/>
        </p:blipFill>
        <p:spPr>
          <a:xfrm>
            <a:off x="4427640" y="2103480"/>
            <a:ext cx="4097160" cy="30654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826920" y="5423040"/>
            <a:ext cx="75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овко хватает, затаивается, мгновенно прыг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4:06:26Z</dcterms:created>
  <dc:creator>User</dc:creator>
  <dc:description/>
  <dc:language>en-US</dc:language>
  <cp:lastModifiedBy>Владимир</cp:lastModifiedBy>
  <dcterms:modified xsi:type="dcterms:W3CDTF">2019-04-19T15:43:14Z</dcterms:modified>
  <cp:revision>36</cp:revision>
  <dc:subject/>
  <dc:title>Изложение</dc:title>
</cp:coreProperties>
</file>