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0.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08502-2582-4A45-A42F-4593CEC5B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5A15F-78C1-4EB3-B114-A624779D2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6DF10-2AD5-4AD6-9913-77FAD4CA6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7C92D-4AD2-4F0A-A03A-76D825DAA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016346-4D13-4ACD-A8CD-EBFCB09160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115E4-37A2-4C49-A57E-4D790BB83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152AD-E159-41B6-BC0E-A29351454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6A4065-CD34-4680-926E-98322B48A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C0E36-EAE3-4A98-B4B9-C7CA393C0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A8A44-47B9-4D0F-8243-B8972FC13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CAF91-3B3B-4483-9BAD-14638ED3A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A041B-D699-4671-81D7-C83151CC4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50770-C95A-41C5-9159-8D866B3CE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B2149-EEDA-4B8A-AB19-CF7EE639A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675F6-8645-4761-9149-854FA0FB6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7A2D2D-FB2D-4267-A7B6-8DE14F27AF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DC9FEC-7F7B-44B5-BFFB-11DE546430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C32198-CBDE-4716-913E-3A8F189DA2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6B9D45-7BA5-4B95-B087-27AA802E83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461C79-CDDA-4FEB-9BFC-731C567C2B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84C443-5DA8-4EC6-8127-439EDCAF85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D9647E-1311-4617-A790-FFFF4C4623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09681-17A3-45A0-B058-62F6D23BF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F98713-D712-4C8D-B708-758F5D7CC0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F95D2C-BB59-4B9D-91D2-8DFA94234E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51D8A2-7EA4-460C-8E9D-EC1C5B16D4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60AD72-CE5A-43BB-8955-238EE6A94F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224D61-148C-45DA-9911-BB08F47834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BE378C-9548-4CF7-9D8B-1A9509708E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DA4AA0-80EC-49D5-A3F3-8B55CF6821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35E31E-60AE-4598-B6C8-6F41FB42A8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DA0304-9DF7-4001-9265-ED05539D76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2F5701-AFF1-4F4B-B27A-9017832493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9ADCC-867C-4508-943C-A0C9C6EBA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458E9F-F126-44DC-926A-5DF6D4356F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A51027-9251-431A-8AE8-77F10B66B6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C63234-B28F-4142-AD65-5AE47E4C66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6EC5C9-03F4-4A0D-AC44-8A2CB8AE68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245F2D-16C4-4E72-AEF5-51890F88C1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6B9653-639F-468A-B1C5-5AB3577019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8CBE7D-556C-4AA9-94B2-A8BB5FF8F4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D480F6-2F12-45BF-A12E-997114C144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5D6179-3E53-4814-8B9B-5882E88596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6ED033-AAE8-4A29-8E74-9193C6F797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548D8-0DFE-46F5-9DC1-13E48CFA6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372083-5D7E-4580-8BA3-4A932B4B8B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4CF285-A2E9-4E63-A5B0-9CF1EB190B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EBF1BB-5E0F-4819-BAA0-88F321982B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52A4DB-1D6D-40BE-873D-8B6D0C680D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EBD523-60AE-477B-9064-94BE32B78B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F5DBAA-01CC-412A-AA7D-6F43CC9154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87D3E4-788E-41DD-82E1-73C3507E59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F205E6-CE12-4A78-AA9C-FC80558CA6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D179A9-4EE3-448C-AE35-F472DC3F52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A8756B-3831-41F7-8E3E-BA3F3E23BC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4401B-858A-4734-A8A5-063781BCF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B40397-8C68-4EF3-9D20-4C8A5C8EE8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823392-382B-48C5-BADF-2EB8BD2C31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0CBB51-B0AC-445F-8A3E-3F900949BD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5771AE-CF23-4058-9A55-007645C8FD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904CD2-307A-467A-8112-6C6E9DCE9D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388A15-58C2-493C-81B4-CDB9966255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233DE2-3A77-400F-9453-4B89DC4AFE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2DFA03-13F6-4EDD-BA9B-C20A86168A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3B2A7B-B0EC-405A-91C9-DF85895D79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9D159C-5E3A-47FB-B2C2-7A93BF340B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78980-0F84-4F04-A434-D8D79E5B2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F83941-D50C-43FD-8A3E-AE6FC738D2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B16343-DBBD-4CC0-945E-DEEFE689AE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D5B423-A360-46C0-AD4A-B97FCF6DAA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C5FF6F-EAD3-4012-A6AF-6373222AD8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5E3795-4F97-4C81-848F-384AD05E38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7D3E84-25EF-4588-9B34-E8B187E315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84AB30-8B5D-4F75-B7E3-C53814F880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DC473D-4008-4793-A614-A033056FBC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0D5411-A65C-4AC6-A7FA-11EE3704C9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7B0859-3A22-443E-BD79-F783DB7A60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62336-40F5-449A-92CD-8D0DA7BFF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993433-B251-41C6-AF54-941CC2146F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E395E8-E528-48DC-B256-4D5C68EA84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E1C5BF-DFAD-41C9-B770-BADAC125D1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E98FCD-20E9-4207-B28D-57708C0A36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12E885-1E99-4219-922D-FAF89A196D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7979F6-949D-431D-8530-6E574E9489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8F6421-CF6E-41E8-9F72-C4577AF032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822D43-6D42-48E3-99DC-944DA165A3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EA974D-4020-4CF6-B311-001DA5F93E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218C02-C904-4A2E-AAED-D75E50AE29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637D6-A198-47E1-B124-C342991B2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E06CBE-1E0F-49A9-86AD-45A8021EAE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687363-6EBA-4149-B739-59BAC05F81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07EABD-1F83-4985-A85D-EF7D1BFC8F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29D6C8-03A0-4E69-B2E6-D3A3D47D2D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3FF804-130E-4D6A-AE87-8EF3D2DE49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E7998A-F9D7-4BFF-9071-5C7FC18461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F22C01-96EE-4896-A9E0-CC357B54610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BD78-2D3F-42C2-ABCD-AA385A18210C}"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Группа 15"/>
          <p:cNvGrpSpPr/>
          <p:nvPr/>
        </p:nvGrpSpPr>
        <p:grpSpPr>
          <a:xfrm>
            <a:off x="-3240" y="4952880"/>
            <a:ext cx="9147240" cy="1911600"/>
            <a:chOff x="-3240" y="4952880"/>
            <a:chExt cx="9147240" cy="1911600"/>
          </a:xfrm>
        </p:grpSpPr>
        <p:sp>
          <p:nvSpPr>
            <p:cNvPr id="49" name="Полилиния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олилиния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Полилиния 19"/>
            <p:cNvGrpSpPr/>
            <p:nvPr/>
          </p:nvGrpSpPr>
          <p:grpSpPr>
            <a:xfrm>
              <a:off x="2520" y="4992120"/>
              <a:ext cx="9141480" cy="1872360"/>
              <a:chOff x="2520" y="4992120"/>
              <a:chExt cx="9141480" cy="1872360"/>
            </a:xfrm>
          </p:grpSpPr>
          <p:pic>
            <p:nvPicPr>
              <p:cNvPr id="52" name="Полилиния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Прямая соединительная линия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3CE05-CF21-4D4A-A05F-731132F9D3C4}" type="slidenum">
              <a:rPr b="0" lang="ru-RU"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D6FA7-4A89-4EFC-95BC-73D487FD6A22}"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Прямоугольный треугольник 13"/>
          <p:cNvGrpSpPr/>
          <p:nvPr/>
        </p:nvGrpSpPr>
        <p:grpSpPr>
          <a:xfrm>
            <a:off x="-12600" y="5784840"/>
            <a:ext cx="3414600" cy="1092240"/>
            <a:chOff x="-12600" y="5784840"/>
            <a:chExt cx="3414600" cy="1092240"/>
          </a:xfrm>
        </p:grpSpPr>
        <p:pic>
          <p:nvPicPr>
            <p:cNvPr id="148"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70C45-DCBB-4B93-89F5-12B567F46775}"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2F4E-D885-45CC-9B48-E002127FA191}"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Прямоугольный треугольник 13"/>
          <p:cNvGrpSpPr/>
          <p:nvPr/>
        </p:nvGrpSpPr>
        <p:grpSpPr>
          <a:xfrm>
            <a:off x="-12600" y="5784840"/>
            <a:ext cx="3414600" cy="1092240"/>
            <a:chOff x="-12600" y="5784840"/>
            <a:chExt cx="3414600" cy="1092240"/>
          </a:xfrm>
        </p:grpSpPr>
        <p:pic>
          <p:nvPicPr>
            <p:cNvPr id="236"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3F4DE-3AC4-4C87-8513-52841C1E422F}"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67302-3849-4117-82E9-6B37F7F8582E}"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Полилиния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Прямоугольный треугольник 16"/>
          <p:cNvGrpSpPr/>
          <p:nvPr/>
        </p:nvGrpSpPr>
        <p:grpSpPr>
          <a:xfrm>
            <a:off x="-12600" y="5784840"/>
            <a:ext cx="3414600" cy="1092240"/>
            <a:chOff x="-12600" y="5784840"/>
            <a:chExt cx="3414600" cy="1092240"/>
          </a:xfrm>
        </p:grpSpPr>
        <p:pic>
          <p:nvPicPr>
            <p:cNvPr id="324" name="Прямоугольный треугольник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Прямая соединительная линия 18" descr=""/>
          <p:cNvPicPr/>
          <p:nvPr/>
        </p:nvPicPr>
        <p:blipFill>
          <a:blip r:embed="rId4"/>
          <a:stretch/>
        </p:blipFill>
        <p:spPr>
          <a:xfrm>
            <a:off x="-19080" y="5772240"/>
            <a:ext cx="3421080" cy="1109520"/>
          </a:xfrm>
          <a:prstGeom prst="rect">
            <a:avLst/>
          </a:prstGeom>
          <a:ln w="0">
            <a:noFill/>
          </a:ln>
        </p:spPr>
      </p:pic>
      <p:sp>
        <p:nvSpPr>
          <p:cNvPr id="327"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94BEF-EC89-4258-B13A-54A0DABDC967}" type="slidenum">
              <a:rPr b="0" lang="ru-RU"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Заголовок 1" descr=""/>
          <p:cNvPicPr/>
          <p:nvPr/>
        </p:nvPicPr>
        <p:blipFill>
          <a:blip r:embed="rId1"/>
          <a:stretch/>
        </p:blipFill>
        <p:spPr>
          <a:xfrm>
            <a:off x="682560" y="725400"/>
            <a:ext cx="8212320" cy="28656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464646"/>
                </a:solidFill>
                <a:latin typeface="Lucida Sans Unicode"/>
              </a:rPr>
              <a:t>Кл.рук: Иринцеева С.Ф.</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Цель:</a:t>
            </a:r>
            <a:r>
              <a:rPr b="0" lang="ru-RU" sz="2700" spc="-1" strike="noStrike">
                <a:solidFill>
                  <a:srgbClr val="000000"/>
                </a:solidFill>
                <a:latin typeface="Lucida Sans Unicode"/>
              </a:rPr>
              <a:t> </a:t>
            </a:r>
            <a:r>
              <a:rPr b="0" i="1" lang="ru-RU" sz="2700" spc="-1" strike="noStrike">
                <a:solidFill>
                  <a:srgbClr val="000000"/>
                </a:solidFill>
                <a:latin typeface="Lucida Sans Unicode"/>
              </a:rPr>
              <a:t>дать рекомендации родителям, что делать, если ваш ребенок перестал слушаться; развивать культуру общения; формировать привычку жить по нормам социального общения.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Lucida Sans Unicode"/>
              </a:rPr>
              <a:t>1. Непослушание вызвано борьбой за внимание.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Lucida Sans Unicode"/>
              </a:rPr>
              <a:t>2. Непослушание является борьбой за самоутверждение против чрезмерной родительской опеки.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Lucida Sans Unicode"/>
              </a:rPr>
              <a:t>3. Желание отомстить. Мне плохо, пусть и вам тоже будет плохо!</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Lucida Sans Unicode"/>
              </a:rPr>
              <a:t>4. Потеря веры в собственный успех.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Lucida Sans Unicode"/>
              </a:rPr>
              <a:t>5. Появление  нового члена семьи.</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Lucida Sans Unicode"/>
              </a:rPr>
              <a:t>6. Смена места жительства.</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Lucida Sans Unicode"/>
              </a:rPr>
              <a:t>7. Вседозволенность.</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75" name="Заголовок 1" descr=""/>
          <p:cNvPicPr/>
          <p:nvPr/>
        </p:nvPicPr>
        <p:blipFill>
          <a:blip r:embed="rId1"/>
          <a:stretch/>
        </p:blipFill>
        <p:spPr>
          <a:xfrm>
            <a:off x="225360" y="-158760"/>
            <a:ext cx="8467920" cy="15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Вывод: </a:t>
            </a:r>
            <a:r>
              <a:rPr b="0" i="1" lang="ru-RU" sz="2700" spc="-1" strike="noStrike">
                <a:solidFill>
                  <a:srgbClr val="000000"/>
                </a:solidFill>
                <a:latin typeface="Lucida Sans Unicode"/>
              </a:rPr>
              <a:t>Родителям уменьшить свою включенность в дела ребенка. Для ребенка очень важно накапливать опыт собственных решений и даже неудач. Больше всего поможет избавиться от лишнего давления и диктата понимание, что упрямство и своеволие ребенка - лишь раздражающая вас форма мольбы: "Позвольте же мне жить своим умом".</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Заголовок 1" descr=""/>
          <p:cNvPicPr/>
          <p:nvPr/>
        </p:nvPicPr>
        <p:blipFill>
          <a:blip r:embed="rId1"/>
          <a:stretch/>
        </p:blipFill>
        <p:spPr>
          <a:xfrm>
            <a:off x="268200" y="-304920"/>
            <a:ext cx="8425080" cy="173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Вывод:</a:t>
            </a:r>
            <a:r>
              <a:rPr b="0" lang="ru-RU" sz="2700" spc="-1" strike="noStrike">
                <a:solidFill>
                  <a:srgbClr val="000000"/>
                </a:solidFill>
                <a:latin typeface="Lucida Sans Unicode"/>
              </a:rPr>
              <a:t> </a:t>
            </a:r>
            <a:r>
              <a:rPr b="0" i="1" lang="ru-RU" sz="2700" spc="-1" strike="noStrike">
                <a:solidFill>
                  <a:srgbClr val="000000"/>
                </a:solidFill>
                <a:latin typeface="Lucida Sans Unicode"/>
              </a:rPr>
              <a:t>Если идет борьба за внимание, нужно оказывать ребенку это положительное внимание. Придумать какие-нибудь совместные занятия - игры, прогулки.</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9" name="Заголовок 1" descr=""/>
          <p:cNvPicPr/>
          <p:nvPr/>
        </p:nvPicPr>
        <p:blipFill>
          <a:blip r:embed="rId1"/>
          <a:stretch/>
        </p:blipFill>
        <p:spPr>
          <a:xfrm>
            <a:off x="225360" y="-158760"/>
            <a:ext cx="8467920" cy="15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Вывод: </a:t>
            </a:r>
            <a:r>
              <a:rPr b="1" i="1" lang="ru-RU" sz="2500" spc="-1" strike="noStrike">
                <a:solidFill>
                  <a:srgbClr val="000000"/>
                </a:solidFill>
                <a:latin typeface="Times New Roman"/>
                <a:ea typeface="Times New Roman"/>
              </a:rPr>
              <a:t>Нужно перестать требовать "полагающегося" поведения, свести к минимуму свои ожидания и претензии. Наверняка ребенок что-то может, у него есть к чему-то способности. Найдите доступный для него уровень задач и начните движение вперед. Помогайте, вместе ищите выход из тупика. При этом ребенка нельзя критиковать! Ищите любой повод, чтобы его похвалить, отмечайте любой, даже самый маленький успех. Постарайтесь подстраховывать его, избавлять от крупных провалов. Необходимо поговорить с учителями и сделать их своими союзниками. Вы увидите: первые же успехи окрылят ребенка.</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1" name="Заголовок 1" descr=""/>
          <p:cNvPicPr/>
          <p:nvPr/>
        </p:nvPicPr>
        <p:blipFill>
          <a:blip r:embed="rId1"/>
          <a:stretch/>
        </p:blipFill>
        <p:spPr>
          <a:xfrm>
            <a:off x="225360" y="-158760"/>
            <a:ext cx="8467920" cy="158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Lucida Sans Unicode"/>
              </a:rPr>
              <a:t>Быть терпеливыми. Это самая большая добродетель, какая может быть у родителей.</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Lucida Sans Unicode"/>
              </a:rPr>
              <a:t>Уметь объяснять ребенку, ПОЧЕМУ его поведение неправильно, но при этом избегать занудства, быть предельно краткими.</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Lucida Sans Unicode"/>
              </a:rPr>
              <a:t>Уметь отвлечь, предложить ребенку что-нибудь более привлекательное, чем то, что ему сейчас хочется.</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Lucida Sans Unicode"/>
              </a:rPr>
              <a:t>Не торопиться с наказаниями.</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Lucida Sans Unicode"/>
              </a:rPr>
              <a:t>Уметь выражать благодарность ребенку за те хорошие поступки, которые он совершает.</a:t>
            </a:r>
            <a:endParaRPr b="0" lang="en-US" sz="2500" spc="-1" strike="noStrike">
              <a:solidFill>
                <a:srgbClr val="000000"/>
              </a:solidFill>
              <a:latin typeface="Lucida Sans Unicode"/>
            </a:endParaRPr>
          </a:p>
        </p:txBody>
      </p:sp>
      <p:pic>
        <p:nvPicPr>
          <p:cNvPr id="383" name="Заголовок 1" descr=""/>
          <p:cNvPicPr/>
          <p:nvPr/>
        </p:nvPicPr>
        <p:blipFill>
          <a:blip r:embed="rId1"/>
          <a:stretch/>
        </p:blipFill>
        <p:spPr>
          <a:xfrm>
            <a:off x="195120" y="268200"/>
            <a:ext cx="858384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02:03:34Z</dcterms:created>
  <dc:creator>Admin</dc:creator>
  <dc:description/>
  <dc:language>en-US</dc:language>
  <cp:lastModifiedBy>Пользователь</cp:lastModifiedBy>
  <dcterms:modified xsi:type="dcterms:W3CDTF">2019-04-19T09:41:32Z</dcterms:modified>
  <cp:revision>3</cp:revision>
  <dc:subject/>
  <dc:title>«Ваш ребенок перестал слушаться вас. Что делать?» </dc:title>
</cp:coreProperties>
</file>