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51696-CADA-4245-A561-85EDE4C7F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4E56F-52BE-4FDD-9AF3-E6C2102D8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7C007-EBF2-45DB-A922-20A9BA51D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0F741-8BA5-479F-9F22-838B5AC9A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ABBEA-7F6E-4F74-BF29-998EE776B6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69161-719A-4E40-BD30-3D5D632B7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0876B-DF55-4226-8DF2-9A3D22F0C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BA583-5762-4116-B8C4-A2A3629A3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FC25C-E2D7-4E64-82C6-EF33E5112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0EDD6-AE23-4161-A976-DEEE67ACF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8225D-0A79-4A91-8534-445F0D851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FF1A2-95FC-4839-A71D-0E23FB8BB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25BF0-9671-4CB3-8AC0-85795C597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9F2EF-0629-49E6-8640-E0DA47850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DA334-B720-46CF-938B-4C5CE44E6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267AA-4F0F-4C56-80F7-48CF50924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E8B0B-B2AB-49B5-802A-2921DD5EF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BCFFBB-C0E5-4ACF-BFDC-E2EEBBAF57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28EFA-A7F1-417F-BFF0-FEE28C40C1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627869-B1F7-432B-9797-3FD9CBAFC1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3FD66C-DCF4-459F-BF71-E3065E559F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AD426D-09BB-4A94-AA69-02C24804A4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7675C-3437-48F0-99F5-661B0EEBC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B6ED0C-CC5F-4665-BC3D-822C18F10C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9BE56-734A-4795-A8C0-72E0259A09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762D96-9756-4871-AD5F-5084A51A37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10C558-2C89-45CC-A8B3-BEFD50BC8B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E48DB4-CFB0-4FA2-8BC2-2587735A2F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080C28-0AB0-4202-B4C8-784029F63C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D77395-DD41-45FB-A49C-9BD0E5CA09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516738-05DB-4F0E-A725-2F1996B053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D582B6-7A5E-41B9-A2AB-3B4CF96C18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A11260-6FD5-4723-B2B0-4FBE261C46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DFC60-53AA-4C8E-A669-234230DFB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B57E1A-B4A7-402B-8270-1B96DB966C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4A6B9C-C407-46F9-B168-CC5FE47085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0E3480-BE53-437B-9A82-31737AD513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D320E2-0F1E-4918-BED9-A2CDD830C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31251-E8A8-46D8-9472-5C9E479B45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3C17E8-F2A2-4CC6-B863-227640136D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A68140-8794-459C-AB98-3A98E433C9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F6D291-71A9-486E-BB8C-E11CD018AD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8055EF-7377-468E-AE1F-F51594F6EB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A185EC-6F66-4860-B53F-F8DB19B5B7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CE7ED-5052-45E7-94D1-EDB7FEEB9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4799DE-82DF-45EF-9001-383B5D299A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388038-FEE8-4276-98A3-A09C8DC6C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FDCA4C-210F-4B6F-B7FA-8BD114948E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C34027-790E-4DE0-9C4C-6AAD4505CC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AA4146-F4E4-4DB4-AB47-D3405B9F11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7FBB91-A68D-492F-BCD3-BB3FA099C4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579EDA-CBDA-4EF7-B520-18B5526F84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B3FC36-335D-4D37-8113-FEF5823671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789E5B-5A71-4A23-A8D1-2CB2FF310C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31F44E-4EF6-4D35-B34E-BC43D20067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734F8-8BE1-4410-B299-F58DB4ACD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AF59F4-9E80-4806-A501-EBF9F329C1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09156C-870C-42F1-AAD5-AA6F06BD2B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443650-F2A2-4842-AADA-51E181B374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5B6F2F-B6F7-4B05-8DD3-7CFFE07A65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6A21C2-D4EA-4833-80E8-2579A74DE1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94FE4C-07D1-45FB-8677-79B2AAE8A6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3603C3-2B6A-4E6E-B57E-2EF4CE480C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08DF5C-EF55-4E7E-9B31-031B878564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93BFF4-8300-45A9-BE26-564F36CCCB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21B9F7-AAA2-423B-A611-8AE3F3A7DD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B71DC-C24C-453E-9D01-0EBB37083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E766DE-40E2-4776-B470-C66065DE2E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9F25A3-A9E6-4C12-9E84-63083CF4D0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88F87A-C771-4439-8010-03CC225CF9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567D9E-6E05-45FE-A7F8-CBDDE2DCC0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53C133-1DC3-444D-BBF3-A69FC97A95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A0957E-48F1-40E7-A119-DCE7296C1A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EE630F-1AE7-4DDF-A091-5D5A2BAD69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38AF08-E852-4624-8BD8-F155EEE06F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A65253-A289-4970-AF3D-CD1039299F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54981E-144D-49C6-A1DA-9B56379E54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005CE-CAB4-46EF-A7B6-7D0FDECFB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0493E1-C7C6-45A9-AE3A-29A02C612F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081EA4-28A3-418E-8F68-674CA38C10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CB8B9E-4284-46E3-A869-278D57B739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58D2C3-14D9-4962-BBC8-8771BF4F28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32B400-3FCD-4A7C-BE54-639532CFD0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AD6100-BD9B-46DA-9131-3E5E9DEB09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7A24D4-5C4F-44F3-8903-5F2F978BD5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5559EF-486F-4BDE-8DD9-3C0D3B2E61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44BA67-CB95-4F4A-B7D1-CCC6A7B284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7684F3-5DA3-49F2-A6CA-1867F6CFA6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7F071-28C4-45EB-8883-306AF6E92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AD2D7D-18E4-42B0-8AF8-AC83C82B98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B3695A-7EC7-4244-8D1E-B1399980D5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0C9495-1553-4D8D-81EB-7A0B6ED4DB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EC1377-D5A9-4C11-BF01-30363640CE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6F4850-A639-4F7A-97E0-8CACAB3037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4489A3-A28B-4105-8018-FB54998985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829A1A-9C27-41DA-877D-5488DEDBA89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E246-3823-4CEA-9DDB-67EDE27E271A}"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олилиния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AEA9-200A-438A-A225-4A1DD265ED78}" type="slidenum">
              <a:rPr b="0" lang="ru-R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2574-521F-4B72-A8BF-90EA5188BC20}"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D15F-68F8-47E8-8895-CCFC139785E3}"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6D68-EEDC-47B0-80B9-C9B9AC69187E}"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Полилиния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D638-8A72-4605-9795-53E6C001FB79}"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8416-80B0-4C55-8478-A8F16AC4B975}"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Полилиния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E00C-069A-4865-A65E-1C61786F9A05}" type="slidenum">
              <a:rPr b="0" lang="ru-R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Заголовок 1" descr=""/>
          <p:cNvPicPr/>
          <p:nvPr/>
        </p:nvPicPr>
        <p:blipFill>
          <a:blip r:embed="rId1"/>
          <a:stretch/>
        </p:blipFill>
        <p:spPr>
          <a:xfrm>
            <a:off x="682560" y="725400"/>
            <a:ext cx="8212320" cy="28656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464646"/>
                </a:solidFill>
                <a:latin typeface="Lucida Sans Unicode"/>
              </a:rPr>
              <a:t>Кл.рук: Иринцеева С.Ф.</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Цель:</a:t>
            </a:r>
            <a:r>
              <a:rPr b="0" lang="ru-RU" sz="2700" spc="-1" strike="noStrike">
                <a:solidFill>
                  <a:srgbClr val="000000"/>
                </a:solidFill>
                <a:latin typeface="Lucida Sans Unicode"/>
              </a:rPr>
              <a:t> </a:t>
            </a:r>
            <a:r>
              <a:rPr b="0" i="1" lang="ru-RU" sz="2700" spc="-1" strike="noStrike">
                <a:solidFill>
                  <a:srgbClr val="000000"/>
                </a:solidFill>
                <a:latin typeface="Lucida Sans Unicode"/>
              </a:rPr>
              <a:t>дать рекомендации родителям, что делать, если ваш ребенок перестал слушаться; развивать культуру общения; формировать привычку жить по нормам социального общения.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1. Непослушание вызвано борьбой за внимание.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2. Непослушание является борьбой за самоутверждение против чрезмерной родительской опеки.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3. Желание отомстить. Мне плохо, пусть и вам тоже будет плохо!</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4. Потеря веры в собственный успех.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5. Появление  нового члена семьи.</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6. Смена места жительства.</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7. Вседозволенность.</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75" name="Заголовок 1" descr=""/>
          <p:cNvPicPr/>
          <p:nvPr/>
        </p:nvPicPr>
        <p:blipFill>
          <a:blip r:embed="rId1"/>
          <a:stretch/>
        </p:blipFill>
        <p:spPr>
          <a:xfrm>
            <a:off x="225360" y="-158760"/>
            <a:ext cx="8467920" cy="15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Вывод: </a:t>
            </a:r>
            <a:r>
              <a:rPr b="0" i="1" lang="ru-RU" sz="2700" spc="-1" strike="noStrike">
                <a:solidFill>
                  <a:srgbClr val="000000"/>
                </a:solidFill>
                <a:latin typeface="Lucida Sans Unicode"/>
              </a:rPr>
              <a:t>Родителям уменьшить свою включенность в дела ребенка. Для ребенка очень важно накапливать опыт собственных решений и даже неудач. Больше всего поможет избавиться от лишнего давления и диктата понимание, что упрямство и своеволие ребенка - лишь раздражающая вас форма мольбы: "Позвольте же мне жить своим умом".</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Заголовок 1" descr=""/>
          <p:cNvPicPr/>
          <p:nvPr/>
        </p:nvPicPr>
        <p:blipFill>
          <a:blip r:embed="rId1"/>
          <a:stretch/>
        </p:blipFill>
        <p:spPr>
          <a:xfrm>
            <a:off x="268200" y="-304920"/>
            <a:ext cx="8425080" cy="173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Вывод:</a:t>
            </a:r>
            <a:r>
              <a:rPr b="0" lang="ru-RU" sz="2700" spc="-1" strike="noStrike">
                <a:solidFill>
                  <a:srgbClr val="000000"/>
                </a:solidFill>
                <a:latin typeface="Lucida Sans Unicode"/>
              </a:rPr>
              <a:t> </a:t>
            </a:r>
            <a:r>
              <a:rPr b="0" i="1" lang="ru-RU" sz="2700" spc="-1" strike="noStrike">
                <a:solidFill>
                  <a:srgbClr val="000000"/>
                </a:solidFill>
                <a:latin typeface="Lucida Sans Unicode"/>
              </a:rPr>
              <a:t>Если идет борьба за внимание, нужно оказывать ребенку это положительное внимание. Придумать какие-нибудь совместные занятия - игры, прогулки.</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Заголовок 1" descr=""/>
          <p:cNvPicPr/>
          <p:nvPr/>
        </p:nvPicPr>
        <p:blipFill>
          <a:blip r:embed="rId1"/>
          <a:stretch/>
        </p:blipFill>
        <p:spPr>
          <a:xfrm>
            <a:off x="225360" y="-158760"/>
            <a:ext cx="8467920" cy="15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Вывод: </a:t>
            </a:r>
            <a:r>
              <a:rPr b="1" i="1" lang="ru-RU" sz="2500" spc="-1" strike="noStrike">
                <a:solidFill>
                  <a:srgbClr val="000000"/>
                </a:solidFill>
                <a:latin typeface="Times New Roman"/>
                <a:ea typeface="Times New Roman"/>
              </a:rPr>
              <a:t>Нужно перестать требовать "полагающегося" поведения, свести к минимуму свои ожидания и претензии. Наверняка ребенок что-то может, у него есть к чему-то способности. Найдите доступный для него уровень задач и начните движение вперед. Помогайте, вместе ищите выход из тупика. При этом ребенка нельзя критиковать! Ищите любой повод, чтобы его похвалить, отмечайте любой, даже самый маленький успех. Постарайтесь подстраховывать его, избавлять от крупных провалов. Необходимо поговорить с учителями и сделать их своими союзниками. Вы увидите: первые же успехи окрылят ребенка.</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1" name="Заголовок 1" descr=""/>
          <p:cNvPicPr/>
          <p:nvPr/>
        </p:nvPicPr>
        <p:blipFill>
          <a:blip r:embed="rId1"/>
          <a:stretch/>
        </p:blipFill>
        <p:spPr>
          <a:xfrm>
            <a:off x="225360" y="-158760"/>
            <a:ext cx="8467920" cy="15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Быть терпеливыми. Это самая большая добродетель, какая может быть у родителей.</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Уметь объяснять ребенку, ПОЧЕМУ его поведение неправильно, но при этом избегать занудства, быть предельно краткими.</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Уметь отвлечь, предложить ребенку что-нибудь более привлекательное, чем то, что ему сейчас хочется.</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Не торопиться с наказаниями.</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500" spc="-1" strike="noStrike">
                <a:solidFill>
                  <a:srgbClr val="000000"/>
                </a:solidFill>
                <a:latin typeface="Lucida Sans Unicode"/>
              </a:rPr>
              <a:t>Уметь выражать благодарность ребенку за те хорошие поступки, которые он совершает.</a:t>
            </a:r>
            <a:endParaRPr b="0" lang="en-US" sz="2500" spc="-1" strike="noStrike">
              <a:solidFill>
                <a:srgbClr val="000000"/>
              </a:solidFill>
              <a:latin typeface="Lucida Sans Unicode"/>
            </a:endParaRPr>
          </a:p>
        </p:txBody>
      </p:sp>
      <p:pic>
        <p:nvPicPr>
          <p:cNvPr id="383" name="Заголовок 1" descr=""/>
          <p:cNvPicPr/>
          <p:nvPr/>
        </p:nvPicPr>
        <p:blipFill>
          <a:blip r:embed="rId1"/>
          <a:stretch/>
        </p:blipFill>
        <p:spPr>
          <a:xfrm>
            <a:off x="195120" y="268200"/>
            <a:ext cx="858384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02:03:34Z</dcterms:created>
  <dc:creator>Admin</dc:creator>
  <dc:description/>
  <dc:language>en-US</dc:language>
  <cp:lastModifiedBy>Пользователь</cp:lastModifiedBy>
  <dcterms:modified xsi:type="dcterms:W3CDTF">2019-04-19T09:41:32Z</dcterms:modified>
  <cp:revision>3</cp:revision>
  <dc:subject/>
  <dc:title>«Ваш ребенок перестал слушаться вас. Что делать?» </dc:title>
</cp:coreProperties>
</file>