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410-E56E-4BE2-A6B2-29F5A954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15B-FED6-4933-9348-9D93A84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43B-14EF-47FE-A37A-348875AF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4F8-0628-4319-8B90-AE36CEB8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5CB-313D-4859-8A82-349290ED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087-C287-4923-A718-89EFE111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0A6-7DA7-443C-97AE-7640FE7A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A7D-97A0-4D05-80A3-DDF8C8E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7CE-8D94-4A97-97C6-974B82BD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B82-34A4-47FB-926E-C04D006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2EA-B678-4022-9E76-F85F9B50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B7D-1F90-4463-8DA5-E05AAB16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8420-4190-4694-B4BC-AE0A61C4C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12 апреля - День Космонавтики!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5143320"/>
            <a:ext cx="64008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зентацию выполнили ученики 8 «Б» МОУ СОШ № 3 г. Ершова Саратовской области: Цоколо Александр, Решетников Ярослав, Захарченко Ан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уководитель: Громадюк Т.Н., Макарова Е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преля весь мир отмечает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авиации и космонавтик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памятную дату, посвященную первому полету человека в космос. Это особенный день — день триумфа науки и всех тех, кто сегодня трудится в космической отрас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428760" y="1857240"/>
            <a:ext cx="80769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аздник — День космонавтики — в нашей стране он был установлен Указом Президиума Верховного Совета СССР от 9 апреля 1962 года, а международный статус получил в 1968 году на конференции Международной авиационн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1285920" y="1571760"/>
            <a:ext cx="65008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 апреля в честь праздника в разных странах проходят всевозможные мероприятия — выставки, конференции, научно-просветительские и образовательные лекции и семинары, показы фильмов и многое другое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ÐÐ°ÑÑÐ¸Ð½ÐºÐ¸ Ð¿Ð¾ Ð·Ð°Ð¿ÑÐ¾ÑÑ Ð´ÐµÐ½Ñ ÐºÐ¾ÑÐ¼Ð¾Ð½Ð°Ð²ÑÐ¸ÐºÐ¸ Ð² ÐºÐ°Ð·Ð°ÑÑÑÐ°Ð½Ðµ"/>
          <p:cNvPicPr/>
          <p:nvPr/>
        </p:nvPicPr>
        <p:blipFill>
          <a:blip r:embed="rId1"/>
          <a:stretch/>
        </p:blipFill>
        <p:spPr>
          <a:xfrm>
            <a:off x="1000080" y="2143080"/>
            <a:ext cx="66819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нгельсе Саратовской области отпраздновали День космонавтики. Гагаринское поле посетили первая женщина-космонавт Валентина Терешкова и председатель Госдумы Вячеслав Володин. Они возложили цветы к памятнику Юрия Гагар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ÐÐ°ÑÑÐ¸Ð½ÐºÐ¸ Ð¿Ð¾ Ð·Ð°Ð¿ÑÐ¾ÑÑ Ð´ÐµÐ½Ñ ÐºÐ¾ÑÐ¼Ð¾Ð½Ð°Ð²ÑÐ¸ÐºÐ¸ Ð² ÑÐ½Ð³ÐµÐ»ÑÑÐµ"/>
          <p:cNvPicPr/>
          <p:nvPr/>
        </p:nvPicPr>
        <p:blipFill>
          <a:blip r:embed="rId1"/>
          <a:stretch/>
        </p:blipFill>
        <p:spPr>
          <a:xfrm>
            <a:off x="785880" y="207180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.04.2019г.Волонтеры нашего класса провели спортивно-развлекательное мероприятие, приуроченное ко Дню космонавтики на базе Ершовского реабилитационного цен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pp.userapi.com/c854220/v854220937/213d5/WgDjUsZbUK0.jpg"/>
          <p:cNvPicPr/>
          <p:nvPr/>
        </p:nvPicPr>
        <p:blipFill>
          <a:blip r:embed="rId1"/>
          <a:stretch/>
        </p:blipFill>
        <p:spPr>
          <a:xfrm>
            <a:off x="1643040" y="1643040"/>
            <a:ext cx="57866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3-14 апреля 2019 г. Ученики нашего класса Гудкова Анна, Полинчук Лилия и Цоколо Александр выезжали в г. Пугачев на межрайонные соревнования по плаванию, посвященные Дню космонав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pp.userapi.com/c854228/v854228967/24320/WiBUjYxuLC8.jpg"/>
          <p:cNvPicPr/>
          <p:nvPr/>
        </p:nvPicPr>
        <p:blipFill>
          <a:blip r:embed="rId1"/>
          <a:stretch/>
        </p:blipFill>
        <p:spPr>
          <a:xfrm>
            <a:off x="214200" y="17859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s://pp.userapi.com/c855032/v855032328/1c102/Wcgy9F75HV8.jpg"/>
          <p:cNvPicPr/>
          <p:nvPr/>
        </p:nvPicPr>
        <p:blipFill>
          <a:blip r:embed="rId2"/>
          <a:stretch/>
        </p:blipFill>
        <p:spPr>
          <a:xfrm>
            <a:off x="4286160" y="1849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0T13:33:52Z</dcterms:created>
  <dc:creator>Татьяна</dc:creator>
  <dc:description/>
  <dc:language>en-US</dc:language>
  <cp:lastModifiedBy>Татьяна</cp:lastModifiedBy>
  <dcterms:modified xsi:type="dcterms:W3CDTF">2019-04-20T13:51:26Z</dcterms:modified>
  <cp:revision>2</cp:revision>
  <dc:subject/>
  <dc:title>«12 апреля - День Космонавтики!"</dc:title>
</cp:coreProperties>
</file>