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DC2-D6CF-43E7-BF3D-FFBB272B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AC2-909D-4E22-AB91-B79FE102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4DD-6344-48A6-8228-D60D652E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45E-765C-4715-80D2-24E1D7BE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A0F-7126-4236-BE85-A61B13D5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3B0-AF28-4DEC-B64E-080017DF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7DB-1298-4FD3-83B5-81E54526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124-D256-409C-A48D-7FEDFE6D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1F5-719C-4BA7-B938-F55E3BF9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131-23BF-4BD9-BA40-AC845A33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346-1377-465C-8CC4-EBB1E683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DD4-B06D-48C1-83A9-F7949611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4524-93AD-4D97-9E12-1E8A2FBCEC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12 апреля - День Космонавтики!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143320"/>
            <a:ext cx="64008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зентацию выполнили ученики 8 «Б» МОУ СОШ № 3 г. Ершова Саратовской области: Цоколо Александр, Решетников Ярослав, Захарченко Ан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итель: Громадюк Т.Н., Макарова Е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 апреля весь мир отмечает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нь авиации и космонавти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памятную дату, посвященную первому полету человека в космос. Это особенный день — день триумфа науки и всех тех, кто сегодня трудится в космической отрас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ÐÐ°ÑÑÐ¸Ð½ÐºÐ¸ Ð¿Ð¾ Ð·Ð°Ð¿ÑÐ¾ÑÑ Ð´ÐµÐ½Ñ ÐºÐ¾ÑÐ¼Ð¾Ð½Ð°Ð²ÑÐ¸ÐºÐ¸"/>
          <p:cNvPicPr/>
          <p:nvPr/>
        </p:nvPicPr>
        <p:blipFill>
          <a:blip r:embed="rId1"/>
          <a:stretch/>
        </p:blipFill>
        <p:spPr>
          <a:xfrm>
            <a:off x="428760" y="1857240"/>
            <a:ext cx="80769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аздник — День космонавтики — в нашей стране он был установлен Указом Президиума Верховного Совета СССР от 9 апреля 1962 года, а международный статус получил в 1968 году на конференции Международной авиационн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ÐÐ°ÑÑÐ¸Ð½ÐºÐ¸ Ð¿Ð¾ Ð·Ð°Ð¿ÑÐ¾ÑÑ Ð´ÐµÐ½Ñ ÐºÐ¾ÑÐ¼Ð¾Ð½Ð°Ð²ÑÐ¸ÐºÐ¸"/>
          <p:cNvPicPr/>
          <p:nvPr/>
        </p:nvPicPr>
        <p:blipFill>
          <a:blip r:embed="rId1"/>
          <a:stretch/>
        </p:blipFill>
        <p:spPr>
          <a:xfrm>
            <a:off x="1285920" y="1571760"/>
            <a:ext cx="650088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 апреля в честь праздника в разных странах проходят всевозможные мероприятия — выставки, конференции, научно-просветительские и образовательные лекции и семинары, показы фильмов и многое друго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ÐÐ°ÑÑÐ¸Ð½ÐºÐ¸ Ð¿Ð¾ Ð·Ð°Ð¿ÑÐ¾ÑÑ Ð´ÐµÐ½Ñ ÐºÐ¾ÑÐ¼Ð¾Ð½Ð°Ð²ÑÐ¸ÐºÐ¸ Ð² ÐºÐ°Ð·Ð°ÑÑÑÐ°Ð½Ðµ"/>
          <p:cNvPicPr/>
          <p:nvPr/>
        </p:nvPicPr>
        <p:blipFill>
          <a:blip r:embed="rId1"/>
          <a:stretch/>
        </p:blipFill>
        <p:spPr>
          <a:xfrm>
            <a:off x="1000080" y="2143080"/>
            <a:ext cx="6681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нгельсе Саратовской области отпраздновали День космонавтики. Гагаринское поле посетили первая женщина-космонавт Валентина Терешкова и председатель Госдумы Вячеслав Володин. Они возложили цветы к памятнику Юрия Гагар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ÐÐ°ÑÑÐ¸Ð½ÐºÐ¸ Ð¿Ð¾ Ð·Ð°Ð¿ÑÐ¾ÑÑ Ð´ÐµÐ½Ñ ÐºÐ¾ÑÐ¼Ð¾Ð½Ð°Ð²ÑÐ¸ÐºÐ¸ Ð² ÑÐ½Ð³ÐµÐ»ÑÑÐµ"/>
          <p:cNvPicPr/>
          <p:nvPr/>
        </p:nvPicPr>
        <p:blipFill>
          <a:blip r:embed="rId1"/>
          <a:stretch/>
        </p:blipFill>
        <p:spPr>
          <a:xfrm>
            <a:off x="785880" y="207180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04.2019г.Волонтеры нашего класса провели спортивно-развлекательное мероприятие, приуроченное ко Дню космонавтики на базе Ершовского реабилитационного цен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s://pp.userapi.com/c854220/v854220937/213d5/WgDjUsZbUK0.jpg"/>
          <p:cNvPicPr/>
          <p:nvPr/>
        </p:nvPicPr>
        <p:blipFill>
          <a:blip r:embed="rId1"/>
          <a:stretch/>
        </p:blipFill>
        <p:spPr>
          <a:xfrm>
            <a:off x="1643040" y="1643040"/>
            <a:ext cx="57866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3-14 апреля 2019 г. Ученики нашего класса Гудкова Анна, Полинчук Лилия и Цоколо Александр выезжали в г. Пугачев на межрайонные соревнования по плаванию, посвященные Дню космонав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pp.userapi.com/c854228/v854228967/24320/WiBUjYxuLC8.jpg"/>
          <p:cNvPicPr/>
          <p:nvPr/>
        </p:nvPicPr>
        <p:blipFill>
          <a:blip r:embed="rId1"/>
          <a:stretch/>
        </p:blipFill>
        <p:spPr>
          <a:xfrm>
            <a:off x="214200" y="17859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s://pp.userapi.com/c855032/v855032328/1c102/Wcgy9F75HV8.jpg"/>
          <p:cNvPicPr/>
          <p:nvPr/>
        </p:nvPicPr>
        <p:blipFill>
          <a:blip r:embed="rId2"/>
          <a:stretch/>
        </p:blipFill>
        <p:spPr>
          <a:xfrm>
            <a:off x="4286160" y="18493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0T13:33:52Z</dcterms:created>
  <dc:creator>Татьяна</dc:creator>
  <dc:description/>
  <dc:language>en-US</dc:language>
  <cp:lastModifiedBy>Татьяна</cp:lastModifiedBy>
  <dcterms:modified xsi:type="dcterms:W3CDTF">2019-04-20T13:51:26Z</dcterms:modified>
  <cp:revision>2</cp:revision>
  <dc:subject/>
  <dc:title>«12 апреля - День Космонавтики!"</dc:title>
</cp:coreProperties>
</file>