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DC4C-BFD6-4018-9B54-133890966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54C6-7A92-4308-B4DF-70E7887E2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29B7-907D-4BDA-9FD0-629B2E145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3E35-16F2-4B77-B03F-83F96265C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A0E7-B888-4473-9094-34DC6934B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EB57-7B58-4406-8A8C-E28686E0A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FB5B-A2BD-4FDF-8477-067D3FDC2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AF52-A0F5-4937-8E5B-48B2E3990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8CE4-28AC-4E67-9DA1-D0174792F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7789-EB5D-4429-8B14-70FBF4A54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65B3-CD2F-4B0E-AD40-2634FF59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FD6B-EB23-4F1F-8070-F3A6272A2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C7F8B-6B4A-4002-9D63-9B24B3D6E8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ень космонавтики в Росси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85920" y="4600080"/>
            <a:ext cx="6400800" cy="22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полнил ученик 8 Б класса МОУ СОШ № 3 г. Ершова Саратовской области Горбунов Александ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уководитель: Громадюк Т.Н., Макарова Е.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ÐÐµÐ½Ñ ÐºÐ¾ÑÐ¼Ð¾Ð½Ð°Ð²ÑÐ¸ÐºÐ¸ Ð² Ð Ð¾ÑÑÐ¸Ð¸"/>
          <p:cNvPicPr/>
          <p:nvPr/>
        </p:nvPicPr>
        <p:blipFill>
          <a:blip r:embed="rId1"/>
          <a:stretch/>
        </p:blipFill>
        <p:spPr>
          <a:xfrm>
            <a:off x="2500200" y="1428840"/>
            <a:ext cx="3882960" cy="26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1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месте с депутатом Госдумы, Героем Советского Союза, первой женщиной-космонавтом Валентиной Терешковой Володин и другие члены делегации возложили цветы к памятнику Юрию Гагарин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2"/>
          <p:cNvSpPr/>
          <p:nvPr/>
        </p:nvSpPr>
        <p:spPr>
          <a:xfrm>
            <a:off x="0" y="55008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"Для меня большая честь быть в День космонавтики среди вас, на месте приземления Гагарина. Приятно, что сюда приходят взрослые и дети, чтобы отдать дань памяти первому космонавту", –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казала Терешков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Ð¤Ð¾ÑÐ¾: Ð¿ÑÐµÑÑ-ÑÐ»ÑÐ¶Ð±Ð°"/>
          <p:cNvPicPr/>
          <p:nvPr/>
        </p:nvPicPr>
        <p:blipFill>
          <a:blip r:embed="rId1"/>
          <a:stretch/>
        </p:blipFill>
        <p:spPr>
          <a:xfrm>
            <a:off x="928800" y="1071720"/>
            <a:ext cx="654840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казом Президиума Верховного Совета СССР от 9 апреля 1962 года в честь первого полета человека в космос был утвержден День космонавтики - праздник, отмечаемый и почитаемый и сегодня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ÐÐ°ÑÑÐ¸Ð½ÐºÐ¸ Ð¿Ð¾ Ð·Ð°Ð¿ÑÐ¾ÑÑ Ð´ÐµÐ½Ñ ÐºÐ¾ÑÐ¼Ð¾Ð½Ð°Ð²ÑÐ¸ÐºÐ¸"/>
          <p:cNvPicPr/>
          <p:nvPr/>
        </p:nvPicPr>
        <p:blipFill>
          <a:blip r:embed="rId1"/>
          <a:stretch/>
        </p:blipFill>
        <p:spPr>
          <a:xfrm>
            <a:off x="1214280" y="2000160"/>
            <a:ext cx="66200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1"/>
          <p:cNvSpPr/>
          <p:nvPr/>
        </p:nvSpPr>
        <p:spPr>
          <a:xfrm>
            <a:off x="0" y="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воение космического пространства всегда будоражило умы ученых и испытателей. И вот 12 апреля 1961 года корабль-спутник «Восток» был выведен в открытый космос впервые с человеком на борту. Пилотом корабля стал советский летчик-космонавт Юрий Гагарин, превратившийся после этого в символ покорения космоса и ставший одним из самых известных людей XX века. Знаменательным пуском руководили Сергей Королев, Леонид Воскресенский и Анатолий Кириллов. Старт корабля прошел успешно, и после отделения последней ступени ракеты-носителя «Восток» совершил свободный полет вокруг нашей планет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1357200" y="2714760"/>
            <a:ext cx="581040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0" y="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лет земного шара занял 108 минут, после чего корабль приземлился в запланированном месте в 10 часов 55 минут по московскому времени близ деревни Смеловка в Саратовской обла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785880" y="1714680"/>
            <a:ext cx="729288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0" y="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ак Юрий Гагарин проложил дорогу в космос сотням человек (на 2018 год насчитывается 565 человек, совершивших космический полет, а в сумме космонавты провели за пределами нашей планет свыше 10 000 дней)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ÐÐ°ÑÑÐ¸Ð½ÐºÐ¸ Ð¿Ð¾ Ð·Ð°Ð¿ÑÐ¾ÑÑ Ð³Ð°Ð³Ð°ÑÐ¸Ð½Ð° Ð²ÑÑÑÐµÑÐ°ÑÑ Ð² Ð¼Ð¾ÑÐºÐ²Ðµ"/>
          <p:cNvPicPr/>
          <p:nvPr/>
        </p:nvPicPr>
        <p:blipFill>
          <a:blip r:embed="rId1"/>
          <a:stretch/>
        </p:blipFill>
        <p:spPr>
          <a:xfrm>
            <a:off x="1214280" y="2286000"/>
            <a:ext cx="629460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зже космонавт Герман Титов предложил учредить День космонавтики как в Советском Союзе, так и во всем мире. В ноябре 1968 года на Генеральной конференции Международной авиационной федерации приняли решение утвердить 12 апреля как Всемирный день авиации и космонавтики. А 7 апреля 2011 года на специальном пленарном заседании Генеральной Ассамблеи ООН была принята резолюция, которой 12 апреля провозглашалось Международным днем полета человека в космос.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ÐÐ°ÑÑÐ¸Ð½ÐºÐ¸ Ð¿Ð¾ Ð·Ð°Ð¿ÑÐ¾ÑÑ Ð³Ð°Ð³Ð°ÑÐ¸Ð½Ð° Ð²ÑÑÑÐµÑÐ°ÑÑ Ð² Ð¼Ð¾ÑÐºÐ²Ðµ"/>
          <p:cNvPicPr/>
          <p:nvPr/>
        </p:nvPicPr>
        <p:blipFill>
          <a:blip r:embed="rId1"/>
          <a:stretch/>
        </p:blipFill>
        <p:spPr>
          <a:xfrm>
            <a:off x="1214280" y="2071800"/>
            <a:ext cx="6500880" cy="43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огда будущий космонавт должен был быть опытным военным летчиком, состоять в партии, иметь рост не выше 170 см и быть не старше 30 лет, иметь отменное здоровье и физическую подготовку, равную мастеру спорта. Но и сейчас попасть в отряд космонавтов, конечно, непросто, вас ждет жесткий отбор в несколько этап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ÐÐ°ÑÑÐ¸Ð½ÐºÐ¸ Ð¿Ð¾ Ð·Ð°Ð¿ÑÐ¾ÑÑ Ð³Ð°Ð³Ð°ÑÐ¸Ð½Ð° Ð²ÑÑÑÐµÑÐ°ÑÑ Ð² Ð¼Ð¾ÑÐºÐ²Ðµ"/>
          <p:cNvPicPr/>
          <p:nvPr/>
        </p:nvPicPr>
        <p:blipFill>
          <a:blip r:embed="rId1"/>
          <a:stretch/>
        </p:blipFill>
        <p:spPr>
          <a:xfrm>
            <a:off x="1071720" y="1500120"/>
            <a:ext cx="6786360" cy="49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ÐÐ°ÑÑÐ¸Ð½ÐºÐ¸ Ð¿Ð¾ Ð·Ð°Ð¿ÑÐ¾ÑÑ Ð³Ð°Ð³Ð°ÑÐ¸Ð½ Ð² ÑÐ°ÑÐ°ÑÐ¾Ð²Ðµ"/>
          <p:cNvPicPr/>
          <p:nvPr/>
        </p:nvPicPr>
        <p:blipFill>
          <a:blip r:embed="rId1"/>
          <a:stretch/>
        </p:blipFill>
        <p:spPr>
          <a:xfrm>
            <a:off x="357120" y="2000160"/>
            <a:ext cx="8001000" cy="447696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2"/>
          <p:cNvSpPr/>
          <p:nvPr/>
        </p:nvSpPr>
        <p:spPr>
          <a:xfrm>
            <a:off x="0" y="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Саратовской области прошли торжественные мероприятия, посвященные первому полету человека в космос. Именно здесь приземлился Юрий Гагарин, здесь он учился, и здесь его память особенно чтут. Это отметил спикер Госдумы Вячеслав Володи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ÐÐ°ÑÑÐ¸Ð½ÐºÐ¸ Ð¿Ð¾ Ð·Ð°Ð¿ÑÐ¾ÑÑ Ð³Ð°Ð³Ð°ÑÐ¸Ð½ Ð² ÑÐ°ÑÐ°ÑÐ¾Ð²Ðµ"/>
          <p:cNvPicPr/>
          <p:nvPr/>
        </p:nvPicPr>
        <p:blipFill>
          <a:blip r:embed="rId1"/>
          <a:stretch/>
        </p:blipFill>
        <p:spPr>
          <a:xfrm>
            <a:off x="1643040" y="2357280"/>
            <a:ext cx="5394240" cy="404496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2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"В такой же замечательный день 58 лет назад человек открыл космическую эру. Этим космонавтом был Юрий Гагарин. Гагарин считал Саратов своей родиной, он выбрал наш город, чтобы получить здесь образование, и это обязывает нас быть лучшими, самыми эффективными", –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дчеркнул Володин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20T14:31:52Z</dcterms:created>
  <dc:creator>Татьяна</dc:creator>
  <dc:description/>
  <dc:language>en-US</dc:language>
  <cp:lastModifiedBy>Татьяна</cp:lastModifiedBy>
  <dcterms:modified xsi:type="dcterms:W3CDTF">2019-04-20T14:48:56Z</dcterms:modified>
  <cp:revision>2</cp:revision>
  <dc:subject/>
  <dc:title>День космонавтики в России</dc:title>
</cp:coreProperties>
</file>