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915-83FD-4E25-9EE1-1F4F2E49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130-AE81-48F3-A373-7F0E2F1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689-D5E9-41CA-B555-5A12DDEE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A7F-5C7F-4480-93AA-20F1333F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D91-D6E8-4621-9630-B202BC4C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1D5-ECC1-4849-B744-64639C3C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802-218E-4009-BF58-10BB6F2B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9DA-0273-47D1-A9A9-DBE71A49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E47-2FEC-4B8A-BD23-AF944B15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DCD-49B4-426B-B530-E70821C4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81F-0DB3-42B8-88A8-337316C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BBC-190E-413E-A482-49EEFE3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983-C863-4891-B780-9A090C6B7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ь космонавтики в Рос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600080"/>
            <a:ext cx="64008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 ученик 8 Б класса МОУ СОШ № 3 г. Ершова Саратовской области Горбунов Александ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: Громадюк Т.Н., Макарова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ÐÐµÐ½Ñ ÐºÐ¾ÑÐ¼Ð¾Ð½Ð°Ð²ÑÐ¸ÐºÐ¸ Ð² Ð Ð¾ÑÑÐ¸Ð¸"/>
          <p:cNvPicPr/>
          <p:nvPr/>
        </p:nvPicPr>
        <p:blipFill>
          <a:blip r:embed="rId1"/>
          <a:stretch/>
        </p:blipFill>
        <p:spPr>
          <a:xfrm>
            <a:off x="2500200" y="1428840"/>
            <a:ext cx="38829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месте с депутатом Госдумы, Героем Советского Союза, первой женщиной-космонавтом Валентиной Терешковой Володин и другие члены делегации возложили цветы к памятнику Юрию Гагар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0" y="5500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"Для меня большая честь быть в День космонавтики среди вас, на месте приземления Гагарина. Приятно, что сюда приходят взрослые и дети, чтобы отдать дань памяти первому космонавту", –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ла Тереш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Ð¤Ð¾ÑÐ¾: Ð¿ÑÐµÑÑ-ÑÐ»ÑÐ¶Ð±Ð°"/>
          <p:cNvPicPr/>
          <p:nvPr/>
        </p:nvPicPr>
        <p:blipFill>
          <a:blip r:embed="rId1"/>
          <a:stretch/>
        </p:blipFill>
        <p:spPr>
          <a:xfrm>
            <a:off x="928800" y="1071720"/>
            <a:ext cx="6548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ом Президиума Верховного Совета СССР от 9 апреля 1962 года в честь первого полета человека в космос был утвержден День космонавтики - праздник, отмечаемый и почитаемый и сегодня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ÐÐ°ÑÑÐ¸Ð½ÐºÐ¸ Ð¿Ð¾ Ð·Ð°Ð¿ÑÐ¾ÑÑ Ð´ÐµÐ½Ñ ÐºÐ¾ÑÐ¼Ð¾Ð½Ð°Ð²ÑÐ¸ÐºÐ¸"/>
          <p:cNvPicPr/>
          <p:nvPr/>
        </p:nvPicPr>
        <p:blipFill>
          <a:blip r:embed="rId1"/>
          <a:stretch/>
        </p:blipFill>
        <p:spPr>
          <a:xfrm>
            <a:off x="1214280" y="2000160"/>
            <a:ext cx="6620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воение космического пространства всегда будоражило умы ученых и испытателей. И вот 12 апреля 1961 года корабль-спутник «Восток» был выведен в открытый космос впервые с человеком на борту. Пилотом корабля стал советский летчик-космонавт Юрий Гагарин, превратившийся после этого в символ покорения космоса и ставший одним из самых известных людей XX века. Знаменательным пуском руководили Сергей Королев, Леонид Воскресенский и Анатолий Кириллов. Старт корабля прошел успешно, и после отделения последней ступени ракеты-носителя «Восток» совершил свободный полет вокруг нашей плане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357200" y="2714760"/>
            <a:ext cx="58104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ет земного шара занял 108 минут, после чего корабль приземлился в запланированном месте в 10 часов 55 минут по московскому времени близ деревни Смеловка в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785880" y="1714680"/>
            <a:ext cx="72928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Юрий Гагарин проложил дорогу в космос сотням человек (на 2018 год насчитывается 565 человек, совершивших космический полет, а в сумме космонавты провели за пределами нашей планет свыше 10 000 дней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ÐÐ°ÑÑÐ¸Ð½ÐºÐ¸ Ð¿Ð¾ Ð·Ð°Ð¿ÑÐ¾ÑÑ Ð³Ð°Ð³Ð°ÑÐ¸Ð½Ð° Ð²ÑÑÑÐµÑÐ°ÑÑ Ð² Ð¼Ð¾ÑÐºÐ²Ðµ"/>
          <p:cNvPicPr/>
          <p:nvPr/>
        </p:nvPicPr>
        <p:blipFill>
          <a:blip r:embed="rId1"/>
          <a:stretch/>
        </p:blipFill>
        <p:spPr>
          <a:xfrm>
            <a:off x="1214280" y="2286000"/>
            <a:ext cx="62946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же космонавт Герман Титов предложил учредить День космонавтики как в Советском Союзе, так и во всем мире. В ноябре 1968 года на Генеральной конференции Международной авиационной федерации приняли решение утвердить 12 апреля как Всемирный день авиации и космонавтики. А 7 апреля 2011 года на специальном пленарном заседании Генеральной Ассамблеи ООН была принята резолюция, которой 12 апреля провозглашалось Международным днем полета человека в космос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ÐÐ°ÑÑÐ¸Ð½ÐºÐ¸ Ð¿Ð¾ Ð·Ð°Ð¿ÑÐ¾ÑÑ Ð³Ð°Ð³Ð°ÑÐ¸Ð½Ð° Ð²ÑÑÑÐµÑÐ°ÑÑ Ð² Ð¼Ð¾ÑÐºÐ²Ðµ"/>
          <p:cNvPicPr/>
          <p:nvPr/>
        </p:nvPicPr>
        <p:blipFill>
          <a:blip r:embed="rId1"/>
          <a:stretch/>
        </p:blipFill>
        <p:spPr>
          <a:xfrm>
            <a:off x="1214280" y="2071800"/>
            <a:ext cx="65008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гда будущий космонавт должен был быть опытным военным летчиком, состоять в партии, иметь рост не выше 170 см и быть не старше 30 лет, иметь отменное здоровье и физическую подготовку, равную мастеру спорта. Но и сейчас попасть в отряд космонавтов, конечно, непросто, вас ждет жесткий отбор в несколько этап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ÐÐ°ÑÑÐ¸Ð½ÐºÐ¸ Ð¿Ð¾ Ð·Ð°Ð¿ÑÐ¾ÑÑ Ð³Ð°Ð³Ð°ÑÐ¸Ð½Ð° Ð²ÑÑÑÐµÑÐ°ÑÑ Ð² Ð¼Ð¾ÑÐºÐ²Ðµ"/>
          <p:cNvPicPr/>
          <p:nvPr/>
        </p:nvPicPr>
        <p:blipFill>
          <a:blip r:embed="rId1"/>
          <a:stretch/>
        </p:blipFill>
        <p:spPr>
          <a:xfrm>
            <a:off x="1071720" y="1500120"/>
            <a:ext cx="67863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ÐÐ°ÑÑÐ¸Ð½ÐºÐ¸ Ð¿Ð¾ Ð·Ð°Ð¿ÑÐ¾ÑÑ Ð³Ð°Ð³Ð°ÑÐ¸Ð½ Ð² ÑÐ°ÑÐ°ÑÐ¾Ð²Ðµ"/>
          <p:cNvPicPr/>
          <p:nvPr/>
        </p:nvPicPr>
        <p:blipFill>
          <a:blip r:embed="rId1"/>
          <a:stretch/>
        </p:blipFill>
        <p:spPr>
          <a:xfrm>
            <a:off x="357120" y="2000160"/>
            <a:ext cx="8001000" cy="4476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аратовской области прошли торжественные мероприятия, посвященные первому полету человека в космос. Именно здесь приземлился Юрий Гагарин, здесь он учился, и здесь его память особенно чтут. Это отметил спикер Госдумы Вячеслав Волод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Ð³Ð°Ð³Ð°ÑÐ¸Ð½ Ð² ÑÐ°ÑÐ°ÑÐ¾Ð²Ðµ"/>
          <p:cNvPicPr/>
          <p:nvPr/>
        </p:nvPicPr>
        <p:blipFill>
          <a:blip r:embed="rId1"/>
          <a:stretch/>
        </p:blipFill>
        <p:spPr>
          <a:xfrm>
            <a:off x="1643040" y="2357280"/>
            <a:ext cx="5394240" cy="4044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"В такой же замечательный день 58 лет назад человек открыл космическую эру. Этим космонавтом был Юрий Гагарин. Гагарин считал Саратов своей родиной, он выбрал наш город, чтобы получить здесь образование, и это обязывает нас быть лучшими, самыми эффективными", –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черкнул Волод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0T14:31:52Z</dcterms:created>
  <dc:creator>Татьяна</dc:creator>
  <dc:description/>
  <dc:language>en-US</dc:language>
  <cp:lastModifiedBy>Татьяна</cp:lastModifiedBy>
  <dcterms:modified xsi:type="dcterms:W3CDTF">2019-04-20T14:48:56Z</dcterms:modified>
  <cp:revision>2</cp:revision>
  <dc:subject/>
  <dc:title>День космонавтики в России</dc:title>
</cp:coreProperties>
</file>