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27611-FF44-41B6-A299-7990782FB6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1CDAE-2BCE-42DC-B1F2-93AAA88C4C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DBE33-14D2-4486-9D1E-B6C92BDCF6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0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22160" y="3689280"/>
            <a:ext cx="7770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E23D-BFFD-4651-BEAC-85CE3983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22160" y="3689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4120" y="3689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372D-39E0-484C-8D80-C4177A9F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9800" y="2906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2906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22160" y="3689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9800" y="3689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689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590F-0344-4FFE-A5EA-1D23971A4E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22160" y="2906280"/>
            <a:ext cx="77709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ADF5-C6A1-4C75-BC9F-8DC50B6C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09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3738-E54F-4251-B9F9-225FB50D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0CAAE-D479-4CF3-80F3-A3C77749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99E19-E32A-44EB-BC8A-7B9FEF6F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0960" cy="630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F0FEC-C0EB-41B7-9BB4-131147B2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22160" y="3689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EAA61-623F-4962-B7C2-7581B8BA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4120" y="3689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FD8B-D4AC-4606-A16D-558BA745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22160" y="3689280"/>
            <a:ext cx="7770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7109-0D57-4D8A-A57D-81244A3A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285840" y="285840"/>
            <a:ext cx="8572320" cy="6357960"/>
          </a:xfrm>
          <a:custGeom>
            <a:avLst/>
            <a:gdLst>
              <a:gd name="textAreaLeft" fmla="*/ 0 w 8572320"/>
              <a:gd name="textAreaRight" fmla="*/ 8572680 w 8572320"/>
              <a:gd name="textAreaTop" fmla="*/ 0 h 6357960"/>
              <a:gd name="textAreaBottom" fmla="*/ 6358320 h 6357960"/>
            </a:gdLst>
            <a:ahLst/>
            <a:rect l="textAreaLeft" t="textAreaTop" r="textAreaRight" b="textAreaBottom"/>
            <a:pathLst>
              <a:path w="8572500" h="6357938">
                <a:moveTo>
                  <a:pt x="0" y="17081"/>
                </a:moveTo>
                <a:lnTo>
                  <a:pt x="17081" y="17081"/>
                </a:lnTo>
                <a:lnTo>
                  <a:pt x="180" y="90"/>
                </a:lnTo>
                <a:lnTo>
                  <a:pt x="6732" y="0"/>
                </a:lnTo>
                <a:lnTo>
                  <a:pt x="17081" y="17081"/>
                </a:lnTo>
                <a:lnTo>
                  <a:pt x="270" y="90"/>
                </a:lnTo>
                <a:lnTo>
                  <a:pt x="23813" y="580"/>
                </a:lnTo>
                <a:lnTo>
                  <a:pt x="17081" y="17081"/>
                </a:lnTo>
                <a:lnTo>
                  <a:pt x="0" y="17081"/>
                </a:lnTo>
                <a:close/>
              </a:path>
            </a:pathLst>
          </a:custGeom>
          <a:gradFill rotWithShape="0">
            <a:gsLst>
              <a:gs pos="0">
                <a:srgbClr val="5e9eff">
                  <a:alpha val="37254"/>
                </a:srgbClr>
              </a:gs>
              <a:gs pos="100000">
                <a:srgbClr val="85c2ff"/>
              </a:gs>
            </a:gsLst>
            <a:lin ang="5400000"/>
          </a:gradFill>
          <a:ln w="5724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357120" y="514368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22160" y="2906280"/>
            <a:ext cx="77709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0000"/>
          </a:bodyPr>
          <a:p>
            <a:pPr marL="10260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1B27B-4CFE-4CDC-81AA-7EB759B86A4C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МЫ В КОСМОС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тель МСБДОУ № 2 «Звёздочка» город Саки Шевкопляс В.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240" y="-9360"/>
            <a:ext cx="914076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Дата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4764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Дата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YUrij_Gagarin_-_Rech_pered_startom_i_sam_start_(xMusic.name)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1392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80" y="3240"/>
            <a:ext cx="913752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15840" y="6480"/>
            <a:ext cx="915984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8T05:07:57Z</dcterms:created>
  <dc:creator>Lenovo</dc:creator>
  <dc:description/>
  <cp:keywords/>
  <dc:language>en-US</dc:language>
  <cp:lastModifiedBy>User</cp:lastModifiedBy>
  <dcterms:modified xsi:type="dcterms:W3CDTF">2019-04-20T16:50:39Z</dcterms:modified>
  <cp:revision>14</cp:revision>
  <dc:subject/>
  <dc:title>Космическ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</vt:r8>
  </property>
</Properties>
</file>