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A0076-5316-4F9E-B93F-187BF1A531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6CAAB-BFA4-4DB0-A7EA-A00AE2CBF1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BAE31-974C-429A-8412-6B21FE7476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0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22160" y="3689280"/>
            <a:ext cx="7770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BFB18-9002-4E1C-BB0A-19BC2635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4120" y="2906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22160" y="3689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4120" y="3689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5CF4C-26D5-41CE-B042-92DA14E6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25020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8000"/>
          </a:bodyPr>
          <a:p>
            <a:pPr marL="2674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9800" y="2906280"/>
            <a:ext cx="25020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8000"/>
          </a:bodyPr>
          <a:p>
            <a:pPr marL="2674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2906280"/>
            <a:ext cx="25020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8000"/>
          </a:bodyPr>
          <a:p>
            <a:pPr marL="2674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22160" y="3689280"/>
            <a:ext cx="25020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8000"/>
          </a:bodyPr>
          <a:p>
            <a:pPr marL="2674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9800" y="3689280"/>
            <a:ext cx="25020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8000"/>
          </a:bodyPr>
          <a:p>
            <a:pPr marL="2674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689280"/>
            <a:ext cx="25020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8000"/>
          </a:bodyPr>
          <a:p>
            <a:pPr marL="2674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870AC-28F4-480F-ABEC-1C03F8C742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22160" y="2906280"/>
            <a:ext cx="777096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C7398-3850-4B1F-9CB9-B087DE03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09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527CD-F224-481F-95FE-D29896A8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379188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4120" y="2906280"/>
            <a:ext cx="379188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2AD6F-838E-4D42-AFDB-3BEC4851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2FCF3-0C1F-47C8-A264-18418CD8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0960" cy="630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593B5-D965-4A19-80BF-CF29AFD5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4120" y="2906280"/>
            <a:ext cx="379188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22160" y="3689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D5C93-41FF-4E49-BA6F-1CA16DD9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379188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4120" y="2906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4120" y="3689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9A0D9-85B8-4359-9F06-8E4DA8C0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4120" y="2906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22160" y="3689280"/>
            <a:ext cx="7770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1FCDF-127B-42EE-8874-6CA1A806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285840" y="285840"/>
            <a:ext cx="8572320" cy="6357960"/>
          </a:xfrm>
          <a:custGeom>
            <a:avLst/>
            <a:gdLst>
              <a:gd name="textAreaLeft" fmla="*/ 0 w 8572320"/>
              <a:gd name="textAreaRight" fmla="*/ 8572680 w 8572320"/>
              <a:gd name="textAreaTop" fmla="*/ 0 h 6357960"/>
              <a:gd name="textAreaBottom" fmla="*/ 6358320 h 6357960"/>
            </a:gdLst>
            <a:ahLst/>
            <a:rect l="textAreaLeft" t="textAreaTop" r="textAreaRight" b="textAreaBottom"/>
            <a:pathLst>
              <a:path w="8572500" h="6357938">
                <a:moveTo>
                  <a:pt x="0" y="17081"/>
                </a:moveTo>
                <a:lnTo>
                  <a:pt x="17081" y="17081"/>
                </a:lnTo>
                <a:lnTo>
                  <a:pt x="180" y="90"/>
                </a:lnTo>
                <a:lnTo>
                  <a:pt x="6732" y="0"/>
                </a:lnTo>
                <a:lnTo>
                  <a:pt x="17081" y="17081"/>
                </a:lnTo>
                <a:lnTo>
                  <a:pt x="270" y="90"/>
                </a:lnTo>
                <a:lnTo>
                  <a:pt x="23813" y="580"/>
                </a:lnTo>
                <a:lnTo>
                  <a:pt x="17081" y="17081"/>
                </a:lnTo>
                <a:lnTo>
                  <a:pt x="0" y="17081"/>
                </a:lnTo>
                <a:close/>
              </a:path>
            </a:pathLst>
          </a:custGeom>
          <a:gradFill rotWithShape="0">
            <a:gsLst>
              <a:gs pos="0">
                <a:srgbClr val="5e9eff">
                  <a:alpha val="37254"/>
                </a:srgbClr>
              </a:gs>
              <a:gs pos="100000">
                <a:srgbClr val="85c2ff"/>
              </a:gs>
            </a:gsLst>
            <a:lin ang="5400000"/>
          </a:gradFill>
          <a:ln w="57240">
            <a:solidFill>
              <a:srgbClr val="00b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357120" y="5143680"/>
            <a:ext cx="1428840" cy="142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22160" y="2906280"/>
            <a:ext cx="77709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30000"/>
          </a:bodyPr>
          <a:p>
            <a:pPr marL="102600" indent="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2600" indent="-1026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2600" indent="-1026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2600" indent="-1026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02600" indent="-1026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02600" indent="-1026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02600" indent="-1026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0E9D3-1D2E-4457-A147-DC32FAA890F4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722160" y="290664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МЫ В КОСМОС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атель МСБДОУ № 2 «Звёздочка» город Саки Шевкопляс В.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240" y="-9360"/>
            <a:ext cx="914076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Дата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14436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144360"/>
            <a:ext cx="914400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144360"/>
            <a:ext cx="914400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47640" y="0"/>
            <a:ext cx="597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Дата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YUrij_Gagarin_-_Rech_pered_startom_i_sam_start_(xMusic.name).mp3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1392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480" y="3240"/>
            <a:ext cx="913752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-15840" y="6480"/>
            <a:ext cx="915984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8T05:07:57Z</dcterms:created>
  <dc:creator>Lenovo</dc:creator>
  <dc:description/>
  <cp:keywords/>
  <dc:language>en-US</dc:language>
  <cp:lastModifiedBy>User</cp:lastModifiedBy>
  <dcterms:modified xsi:type="dcterms:W3CDTF">2019-04-20T16:50:39Z</dcterms:modified>
  <cp:revision>14</cp:revision>
  <dc:subject/>
  <dc:title>Космическ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3</vt:r8>
  </property>
</Properties>
</file>