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9DDA7-16E4-4FFE-99F7-00AE5E72C1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DBDE-48E1-421A-86A4-3F550AE393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F935-0E5D-44E8-A26F-B6DFEAB35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1650-72FF-487A-B809-4466D4D5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AAA7-970F-49D2-A197-A2A59336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980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216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980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737C-33EF-4C26-9E80-5F30350F1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0DFC-59E8-485C-8D02-49F3B39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59D1-D7D3-4BA7-9EB2-216304F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621F-AEAA-45FD-99AA-AC5CF574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E009-0FD3-4298-9CA5-2D702A11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0960" cy="63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7244-AD77-44DF-86DC-7807A995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29C9-315B-406B-98D6-5CC4CDC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3CC6-38A8-4CF7-AE6F-A3502651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A105-8D96-4764-A811-3E23EAF3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85840" y="285840"/>
            <a:ext cx="8572320" cy="6357960"/>
          </a:xfrm>
          <a:custGeom>
            <a:avLst/>
            <a:gdLst>
              <a:gd name="textAreaLeft" fmla="*/ 0 w 8572320"/>
              <a:gd name="textAreaRight" fmla="*/ 8572680 w 8572320"/>
              <a:gd name="textAreaTop" fmla="*/ 0 h 6357960"/>
              <a:gd name="textAreaBottom" fmla="*/ 6358320 h 6357960"/>
            </a:gdLst>
            <a:ahLst/>
            <a:rect l="textAreaLeft" t="textAreaTop" r="textAreaRight" b="textAreaBottom"/>
            <a:pathLst>
              <a:path w="8572500" h="6357938">
                <a:moveTo>
                  <a:pt x="0" y="17081"/>
                </a:moveTo>
                <a:lnTo>
                  <a:pt x="17081" y="17081"/>
                </a:lnTo>
                <a:lnTo>
                  <a:pt x="180" y="90"/>
                </a:lnTo>
                <a:lnTo>
                  <a:pt x="6732" y="0"/>
                </a:lnTo>
                <a:lnTo>
                  <a:pt x="17081" y="17081"/>
                </a:lnTo>
                <a:lnTo>
                  <a:pt x="270" y="90"/>
                </a:lnTo>
                <a:lnTo>
                  <a:pt x="23813" y="580"/>
                </a:lnTo>
                <a:lnTo>
                  <a:pt x="17081" y="17081"/>
                </a:lnTo>
                <a:lnTo>
                  <a:pt x="0" y="17081"/>
                </a:lnTo>
                <a:close/>
              </a:path>
            </a:pathLst>
          </a:cu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85c2ff"/>
              </a:gs>
            </a:gsLst>
            <a:lin ang="5400000"/>
          </a:gradFill>
          <a:ln w="5724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57120" y="514368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0000"/>
          </a:bodyPr>
          <a:p>
            <a:pPr marL="1026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4F065-5F7F-490C-8498-7652BADAB09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Ы В КОСМОС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 МСБДОУ № 2 «Звёздочка» город Саки Шевкопляс В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87280" y="0"/>
            <a:ext cx="64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5796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436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99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5:07:57Z</dcterms:created>
  <dc:creator>Lenovo</dc:creator>
  <dc:description/>
  <cp:keywords/>
  <dc:language>en-US</dc:language>
  <cp:lastModifiedBy>User</cp:lastModifiedBy>
  <dcterms:modified xsi:type="dcterms:W3CDTF">2019-04-20T16:55:58Z</dcterms:modified>
  <cp:revision>13</cp:revision>
  <dc:subject/>
  <dc:title>Космическ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</vt:r8>
  </property>
</Properties>
</file>