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582C3-5059-4ECA-BA04-7506DDF7B2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61C5-C1C9-481F-889A-AA2762E773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4E31-4A2D-4BD9-8955-C944C80EC8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842C-E16C-4B1F-B713-4057CAC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F16D-5639-44F9-84AD-3EA5A461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980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2906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216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980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89280"/>
            <a:ext cx="25020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8000"/>
          </a:bodyPr>
          <a:p>
            <a:pPr marL="2674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104F-7518-4609-86CF-0B04DA7F4C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B8DE-6915-43BD-ACD6-C1E2C8B8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62E5-7EEF-44B6-ADBF-C87789F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E58D-E6D8-4059-A62A-B2DB25BB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063D-0CF3-468F-B68E-BF0230D8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0960" cy="630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35DC-F99B-49A4-8697-7BB57750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32A70-6D29-4CDD-AA3D-8A41E42C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4120" y="3689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83A1-7206-45D2-A026-3F650AD5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4120" y="2906280"/>
            <a:ext cx="379188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2160" y="3689280"/>
            <a:ext cx="777096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3702-99A6-4A97-8698-27644BF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285840" y="285840"/>
            <a:ext cx="8572320" cy="6357960"/>
          </a:xfrm>
          <a:custGeom>
            <a:avLst/>
            <a:gdLst>
              <a:gd name="textAreaLeft" fmla="*/ 0 w 8572320"/>
              <a:gd name="textAreaRight" fmla="*/ 8572680 w 8572320"/>
              <a:gd name="textAreaTop" fmla="*/ 0 h 6357960"/>
              <a:gd name="textAreaBottom" fmla="*/ 6358320 h 6357960"/>
            </a:gdLst>
            <a:ahLst/>
            <a:rect l="textAreaLeft" t="textAreaTop" r="textAreaRight" b="textAreaBottom"/>
            <a:pathLst>
              <a:path w="8572500" h="6357938">
                <a:moveTo>
                  <a:pt x="0" y="17081"/>
                </a:moveTo>
                <a:lnTo>
                  <a:pt x="17081" y="17081"/>
                </a:lnTo>
                <a:lnTo>
                  <a:pt x="180" y="90"/>
                </a:lnTo>
                <a:lnTo>
                  <a:pt x="6732" y="0"/>
                </a:lnTo>
                <a:lnTo>
                  <a:pt x="17081" y="17081"/>
                </a:lnTo>
                <a:lnTo>
                  <a:pt x="270" y="90"/>
                </a:lnTo>
                <a:lnTo>
                  <a:pt x="23813" y="580"/>
                </a:lnTo>
                <a:lnTo>
                  <a:pt x="17081" y="17081"/>
                </a:lnTo>
                <a:lnTo>
                  <a:pt x="0" y="17081"/>
                </a:lnTo>
                <a:close/>
              </a:path>
            </a:pathLst>
          </a:cu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85c2ff"/>
              </a:gs>
            </a:gsLst>
            <a:lin ang="5400000"/>
          </a:gradFill>
          <a:ln w="5724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357120" y="514368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0960" cy="13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22160" y="2906280"/>
            <a:ext cx="7770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30000"/>
          </a:bodyPr>
          <a:p>
            <a:pPr marL="102600" indent="0">
              <a:lnSpc>
                <a:spcPct val="10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02600" indent="-102600">
              <a:lnSpc>
                <a:spcPct val="10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5DE1C-2CE9-4B8B-AB08-876BD65C0116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722160" y="2906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МЫ В КОСМОС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ь МСБДОУ № 2 «Звёздочка» город Саки Шевкопляс В.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87280" y="0"/>
            <a:ext cx="64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5796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4436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9996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4764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Segoe UI"/>
              </a:rPr>
              <a:t>26.9.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8T05:07:57Z</dcterms:created>
  <dc:creator>Lenovo</dc:creator>
  <dc:description/>
  <cp:keywords/>
  <dc:language>en-US</dc:language>
  <cp:lastModifiedBy>User</cp:lastModifiedBy>
  <dcterms:modified xsi:type="dcterms:W3CDTF">2019-04-20T16:55:58Z</dcterms:modified>
  <cp:revision>13</cp:revision>
  <dc:subject/>
  <dc:title>Космическ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</vt:r8>
  </property>
</Properties>
</file>