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7824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EB685-FC40-46B9-AE64-D83386EE65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92C52-2F8F-4EC7-8176-8D449BF0C1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0713D-600F-4249-90A3-6000CC9540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E03A0-C080-4F11-ADD2-9E131ED1A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EA723-D3F5-4A40-BA2E-862CEAA8C4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CD61A-4713-4077-9A63-AB7DE5622C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D0E5-C972-40D2-9971-91D818946B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F144-AAB8-4311-B3AE-F13F044610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782B6-74DC-4D92-8FB5-2E48AE5589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18F81-EA68-42F3-997F-086FFCB85C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A7C5E-357C-4162-9A88-E70A31BE64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E9871-53E1-4046-958F-BEA0F6EED6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83142-5BA7-4254-AE17-822EBE8183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282F9-699F-4A9E-AC44-6B99C9FEC2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4A2B6-FABB-4D5C-A3C1-B7C35ABB02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EC55-36C7-4E71-9F23-75D682176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EA7D-DEE1-4D82-9F7F-DDCBD7B07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221C-8C92-4025-8CC6-8D35FC3DC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01E9-745E-45CF-815B-44FA5CADA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0ACE-E6E9-4B54-A9DF-5010C7268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348D-79BC-4716-B753-3E9434FF9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BBA3-53ED-48FC-ADF8-83BA4AC35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846E-DE87-41F3-AD05-99DA0C70C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18F0-26F9-4404-ACC0-7185510A2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9FEB-5BF0-4AD2-AA88-49BAF1302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078E-2EBB-45E8-B347-82C9656E4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C8EE-9AC5-4152-835C-87322BBD9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9CE94-1C3A-4FAC-B7BC-3CB0078FCB7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523800"/>
            <a:ext cx="9069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1768320"/>
            <a:ext cx="90694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-142920"/>
            <a:ext cx="10079280" cy="770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00360" y="2735280"/>
            <a:ext cx="626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Нравственные идеал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2360" y="1152360"/>
            <a:ext cx="2447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42a00"/>
                </a:solidFill>
                <a:latin typeface="Franklin Gothic Book"/>
              </a:rPr>
              <a:t>Урок 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5640" y="5219640"/>
            <a:ext cx="266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a0000"/>
                </a:solidFill>
                <a:latin typeface="Impact"/>
              </a:rPr>
              <a:t>Мод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720" y="5219640"/>
            <a:ext cx="5234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"Основы светской этики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7120" y="473040"/>
            <a:ext cx="3963960" cy="651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41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53080" y="395280"/>
            <a:ext cx="460836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Из кантаты С.С. Прокофьего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«Александр Невский»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 , люди русск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На славный бой, на смертный б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 люди воль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нашу землю честную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Живым бойцам – почёт и чес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А мертвым слава – вечна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отчий дом, за рус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, люди русски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 Вставайте, люди русск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На славный бой, на смертный б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, люди воль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нашу землю честну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214200"/>
            <a:ext cx="10078920" cy="7773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14760" y="142920"/>
            <a:ext cx="5132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УССКИЕ БОГАТЫ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2520" y="792000"/>
            <a:ext cx="2860560" cy="19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60720" y="755640"/>
            <a:ext cx="172728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35640" y="809640"/>
            <a:ext cx="2737080" cy="2048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7640" y="2811600"/>
            <a:ext cx="6473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Широко ты, Русь, по лицу зем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красе царственной развернула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 тебя ли нет богатырских си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тарины святой, громких подвиг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. Никитин. Русь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03280" y="4932360"/>
            <a:ext cx="3128760" cy="2144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084560" y="4786200"/>
            <a:ext cx="1747800" cy="23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480000" y="4859280"/>
            <a:ext cx="3000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6556320" cy="6842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0000" y="1554120"/>
            <a:ext cx="792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2560" y="2467080"/>
            <a:ext cx="8496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Стр. 50-51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ветить на вопрос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1.Есть ли в легендах и мифах Древней Греции герой, равный по силе и своим подвигам русскому богатырю Илье Муромц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2.Назовите современных богатырей. Почему вы считаете, что он богатыр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3.Если мальчик в вашем окружении, которого можно назвать богатырем? Какими качествами он обл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00360" y="792000"/>
            <a:ext cx="6912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Домашня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56844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80" y="2035080"/>
            <a:ext cx="90709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936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56844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8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523800"/>
            <a:ext cx="9069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216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Сегодня на уро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6360" y="2303640"/>
            <a:ext cx="53672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542a00"/>
                </a:solidFill>
                <a:latin typeface="Franklin Gothic Book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Кого  можн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назвать богатырём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4248000"/>
            <a:ext cx="5257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Каковы правила   честного поедин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0640" cy="738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16720" y="1692360"/>
            <a:ext cx="3887640" cy="5111640"/>
          </a:xfrm>
          <a:prstGeom prst="rect">
            <a:avLst/>
          </a:prstGeom>
          <a:ln cap="sq" w="76320">
            <a:solidFill>
              <a:srgbClr val="8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47952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76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4360" y="4103640"/>
            <a:ext cx="3816360" cy="3036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23640" cy="770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73320" y="863640"/>
            <a:ext cx="758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авила работы в групп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560600"/>
            <a:ext cx="9577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5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аждый член группы заслуживает, чтобы его выслушали,  не перебив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640" y="2484360"/>
            <a:ext cx="7905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Следует говорить так, чтобы тебя понимал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760" y="2952720"/>
            <a:ext cx="8786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 Говорить нужно по твоему вопросу, избегая лишнег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3564000"/>
            <a:ext cx="89298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4. Если что-то не вполне ясно,  то спроси еще раз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7280" y="4456080"/>
            <a:ext cx="79930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ледите за временем и сигнала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47952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768320"/>
            <a:ext cx="90676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3280" y="434880"/>
            <a:ext cx="90662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1768320"/>
            <a:ext cx="9066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862920" cy="756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4200" y="523800"/>
            <a:ext cx="10009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ooden Ship Decorated"/>
              </a:rPr>
              <a:t>Золотое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ooden Ship Decorated"/>
              </a:rPr>
              <a:t>правило нравств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2262240"/>
            <a:ext cx="8453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Поступай по отношению к другим т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как ты хотел бы, что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поступали по отношению к т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4422600"/>
            <a:ext cx="9064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Не поступай по отношению к другим т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как ты не хотел б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чтобы поступали по отношению к т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3280" y="555480"/>
            <a:ext cx="90644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1768320"/>
            <a:ext cx="90644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200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63640" y="142920"/>
            <a:ext cx="7848720" cy="63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Правила честного поед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3280" y="1042920"/>
            <a:ext cx="4032360" cy="2754360"/>
          </a:xfrm>
          <a:prstGeom prst="rect">
            <a:avLst/>
          </a:prstGeom>
          <a:ln cap="sq" w="76320">
            <a:solidFill>
              <a:srgbClr val="8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040360" y="3527280"/>
            <a:ext cx="4392720" cy="2633760"/>
          </a:xfrm>
          <a:prstGeom prst="rect">
            <a:avLst/>
          </a:prstGeom>
          <a:ln cap="sq" w="76320">
            <a:solidFill>
              <a:srgbClr val="008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535640" y="1152360"/>
            <a:ext cx="5113080" cy="2757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Разреше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Franklin Gothic Book"/>
              </a:rPr>
              <a:t>Противники договаривались о месте и времени поеди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Franklin Gothic Book"/>
              </a:rPr>
              <a:t>2)  Если один противник был вооружён хуже другого, следовало его довооружить, чтобы биться на рав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76720"/>
            <a:ext cx="4103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Запрещен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42a00"/>
                </a:solidFill>
                <a:latin typeface="Franklin Gothic Book"/>
              </a:rPr>
              <a:t>3) Существовал запрет на использование хитростей и случайных преиму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42a00"/>
                </a:solidFill>
                <a:latin typeface="Franklin Gothic Book"/>
              </a:rPr>
              <a:t>4) Нельзя наносить удар в сп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00" y="6237360"/>
            <a:ext cx="9361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ажнейшая добродетель воинской дружины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ер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Это верность присяге, клятве, слову, данному товарищам по оруж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7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5:17:58Z</dcterms:created>
  <dc:creator/>
  <dc:description/>
  <dc:language>en-US</dc:language>
  <cp:lastModifiedBy>Люда</cp:lastModifiedBy>
  <dcterms:modified xsi:type="dcterms:W3CDTF">2019-03-26T12:39:50Z</dcterms:modified>
  <cp:revision>5</cp:revision>
  <dc:subject/>
  <dc:title>Слайд 1</dc:title>
</cp:coreProperties>
</file>