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052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396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78240" y="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670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051D4-26E0-4ACF-97BF-F1120A54C2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30451-2FD8-4CE4-B5F7-D9383D099A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02C4D-076D-4253-BBCB-B8DE41A4D2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2320" cy="3998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C8863-1CCC-43E6-87A9-F4391FD9B1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2320" cy="3998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5FE12-9442-48D0-83C6-DD5822AA3C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2320" cy="3998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E2384-5948-49F4-82D9-6E3FFBBB67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2320" cy="3998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E612F-B089-4142-BD21-C402E14B2F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2320" cy="39988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B75A4-36D5-4D24-A43A-67EAC3587B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17608-76F6-489B-B184-94B37D7FBA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D1216-C1C8-4466-B78A-FE87A6D98B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818DE-C560-4AEC-9648-B8BF5D6B76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9165B-D2FB-46B1-960F-BE8FEB9916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C4930-4234-48EC-886F-692CAF9DCA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655B7-6EA7-4EFF-8563-F880D7E85C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5560" cy="4002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278240" y="10155240"/>
            <a:ext cx="32702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B4945-A09C-48BF-907F-8D6168EAE0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2320" cy="3998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1C9D-0401-4763-9EEB-619E90366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1080"/>
            <a:ext cx="905652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DA3A-CF2A-42E6-9D51-C07423BCA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108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05108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3451-AB89-4B9C-A147-376D76F11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832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832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108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05108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051080"/>
            <a:ext cx="291600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CC4C-EA35-422B-B5F8-A7DF2106B0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6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BD7C-E87A-4B8F-9BD9-918016BB8C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6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6002-2367-46EC-AA42-AB6A1C9D9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0553-B51E-4650-B4B5-204A006DB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BBB5-B25B-4969-BB6C-23640532F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565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93FD-F719-4057-A219-0C051E8BD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108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34D1-845B-40C2-8A38-2991CC1A7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05108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5BCB-585F-436F-888B-452958B75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8320"/>
            <a:ext cx="44193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1080"/>
            <a:ext cx="905652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705C-AFAB-4C2C-B885-2DBCFE9A5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652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0328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3388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47A26-CFB6-4EB2-AB2B-987CCE4A275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3280" y="523800"/>
            <a:ext cx="90694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80" y="1768320"/>
            <a:ext cx="906948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0" y="-142920"/>
            <a:ext cx="10079280" cy="7702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800360" y="2735280"/>
            <a:ext cx="6264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Нравственные идеал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2360" y="1152360"/>
            <a:ext cx="24476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542a00"/>
                </a:solidFill>
                <a:latin typeface="Franklin Gothic Book"/>
              </a:rPr>
              <a:t>Урок 2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55640" y="5219640"/>
            <a:ext cx="266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9a0000"/>
                </a:solidFill>
                <a:latin typeface="Impact"/>
              </a:rPr>
              <a:t>Моду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0720" y="5219640"/>
            <a:ext cx="5234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"Основы светской этики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03280" y="301680"/>
            <a:ext cx="9061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41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03280" y="301680"/>
            <a:ext cx="9061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328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7120" y="473040"/>
            <a:ext cx="3963960" cy="6510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415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53080" y="395280"/>
            <a:ext cx="4608360" cy="62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Segoe UI"/>
              </a:rPr>
              <a:t>Из кантаты С.С. Прокофьего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Segoe UI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Segoe UI"/>
              </a:rPr>
              <a:t>«Александр Невский»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Вставайте , люди русски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На славный бой, на смертный бо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Вставайте люди вольны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За нашу землю честную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Живым бойцам – почёт и чес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А мертвым слава – вечна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За отчий дом, за русский кра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Вставайте, люди русские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 Вставайте, люди русски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На славный бой, на смертный бо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Вставайте, люди вольны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Segoe UI"/>
              </a:rPr>
              <a:t>За нашу землю честную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03280" y="301680"/>
            <a:ext cx="9061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328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214200"/>
            <a:ext cx="10078920" cy="7773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14760" y="142920"/>
            <a:ext cx="5132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РУССКИЕ БОГАТЫ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2520" y="792000"/>
            <a:ext cx="2860560" cy="19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960720" y="755640"/>
            <a:ext cx="1727280" cy="190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335640" y="809640"/>
            <a:ext cx="2737080" cy="2048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17640" y="2811600"/>
            <a:ext cx="6473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Широко ты, Русь, по лицу земл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 красе царственной развернулася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 тебя ли нет богатырских си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тарины святой, громких подвиг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И. Никитин. Русь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03280" y="4932360"/>
            <a:ext cx="3128760" cy="2144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084560" y="4786200"/>
            <a:ext cx="1747800" cy="2340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6480000" y="4859280"/>
            <a:ext cx="30006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03280" y="301680"/>
            <a:ext cx="9061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328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6556320" cy="6842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920000" y="1554120"/>
            <a:ext cx="79236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3280" y="301680"/>
            <a:ext cx="9061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328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82560" y="2467080"/>
            <a:ext cx="84963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Стр. 50-51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тветить на вопрос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1.Есть ли в легендах и мифах Древней Греции герой, равный по силе и своим подвигам русскому богатырю Илье Муромц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2.Назовите современных богатырей. Почему вы считаете, что он богатырь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3.Если мальчик в вашем окружении, которого можно назвать богатырем? Какими качествами он облад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00360" y="792000"/>
            <a:ext cx="6912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Impact"/>
              </a:rPr>
              <a:t>Домашняя раб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03280" y="568440"/>
            <a:ext cx="90709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80" y="2035080"/>
            <a:ext cx="90709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936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3280" y="568440"/>
            <a:ext cx="90709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3280" y="1768320"/>
            <a:ext cx="907092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41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03280" y="523800"/>
            <a:ext cx="90694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2160" y="792000"/>
            <a:ext cx="906948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1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Сегодня на уро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6360" y="2303640"/>
            <a:ext cx="536724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4080"/>
                <a:tab algn="l" pos="9423360"/>
                <a:tab algn="l" pos="987264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542a00"/>
                </a:solidFill>
                <a:latin typeface="Franklin Gothic Book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Кого  можн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8956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4080"/>
                <a:tab algn="l" pos="9423360"/>
                <a:tab algn="l" pos="987264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назвать богатырём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280" y="4248000"/>
            <a:ext cx="52578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Franklin Gothic Book"/>
              </a:rPr>
              <a:t>Каковы правила   честного поедин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80640" cy="738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616720" y="1692360"/>
            <a:ext cx="3887640" cy="5111640"/>
          </a:xfrm>
          <a:prstGeom prst="rect">
            <a:avLst/>
          </a:prstGeom>
          <a:ln cap="sq" w="76320">
            <a:solidFill>
              <a:srgbClr val="8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03280" y="47952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3280" y="1768320"/>
            <a:ext cx="906768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64360" y="4103640"/>
            <a:ext cx="3816360" cy="3036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23640" cy="770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73320" y="863640"/>
            <a:ext cx="7581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равила работы в групп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1560600"/>
            <a:ext cx="95774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57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аждый член группы заслуживает, чтобы его выслушали,  не перебив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1640" y="2484360"/>
            <a:ext cx="7905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. Следует говорить так, чтобы тебя понимали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760" y="2952720"/>
            <a:ext cx="8786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3. Говорить нужно по твоему вопросу, избегая лишнего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1640" y="3564000"/>
            <a:ext cx="89298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4. Если что-то не вполне ясно,  то спроси еще раз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7280" y="4456080"/>
            <a:ext cx="799308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ледите за временем и сигналам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03280" y="47952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3280" y="1768320"/>
            <a:ext cx="906768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03280" y="434880"/>
            <a:ext cx="90662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80" y="1768320"/>
            <a:ext cx="9066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" y="1440"/>
            <a:ext cx="9862920" cy="7560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4200" y="523800"/>
            <a:ext cx="100094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ooden Ship Decorated"/>
              </a:rPr>
              <a:t>Золотое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Wooden Ship Decorated"/>
              </a:rPr>
              <a:t>правило нравствен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0360" y="2262240"/>
            <a:ext cx="8453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c0908"/>
                </a:solidFill>
                <a:latin typeface="Monotype Corsiva"/>
              </a:rPr>
              <a:t>Поступай по отношению к другим та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c0908"/>
                </a:solidFill>
                <a:latin typeface="Monotype Corsiva"/>
              </a:rPr>
              <a:t>как ты хотел бы, чтоб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c0908"/>
                </a:solidFill>
                <a:latin typeface="Monotype Corsiva"/>
              </a:rPr>
              <a:t>поступали по отношению к теб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4422600"/>
            <a:ext cx="90648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c0908"/>
                </a:solidFill>
                <a:latin typeface="Monotype Corsiva"/>
              </a:rPr>
              <a:t>Не поступай по отношению к другим та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c0908"/>
                </a:solidFill>
                <a:latin typeface="Monotype Corsiva"/>
              </a:rPr>
              <a:t>как ты не хотел б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c0908"/>
                </a:solidFill>
                <a:latin typeface="Monotype Corsiva"/>
              </a:rPr>
              <a:t>чтобы поступали по отношению к теб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03280" y="555480"/>
            <a:ext cx="90644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3280" y="1768320"/>
            <a:ext cx="906444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2000" cy="75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63640" y="142920"/>
            <a:ext cx="7848720" cy="63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Franklin Gothic Book"/>
              </a:rPr>
              <a:t>Правила честного поеди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3280" y="1042920"/>
            <a:ext cx="4032360" cy="2754360"/>
          </a:xfrm>
          <a:prstGeom prst="rect">
            <a:avLst/>
          </a:prstGeom>
          <a:ln cap="sq" w="76320">
            <a:solidFill>
              <a:srgbClr val="8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040360" y="3527280"/>
            <a:ext cx="4392720" cy="2633760"/>
          </a:xfrm>
          <a:prstGeom prst="rect">
            <a:avLst/>
          </a:prstGeom>
          <a:ln cap="sq" w="76320">
            <a:solidFill>
              <a:srgbClr val="008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535640" y="1152360"/>
            <a:ext cx="5113080" cy="2757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85800" indent="-336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9220320"/>
                <a:tab algn="l" pos="96696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Разрешен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336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ranklin Gothic Book"/>
              <a:buAutoNum type="arabicParenR"/>
              <a:tabLst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9220320"/>
                <a:tab algn="l" pos="96696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Franklin Gothic Book"/>
              </a:rPr>
              <a:t>Противники договаривались о месте и времени поеди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336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9220320"/>
                <a:tab algn="l" pos="96696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Franklin Gothic Book"/>
              </a:rPr>
              <a:t>2)  Если один противник был вооружён хуже другого, следовало его довооружить, чтобы биться на рав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336600">
              <a:lnSpc>
                <a:spcPct val="100000"/>
              </a:lnSpc>
              <a:tabLst>
                <a:tab algn="l" pos="0"/>
                <a:tab algn="l" pos="685800"/>
                <a:tab algn="l" pos="1133640"/>
                <a:tab algn="l" pos="1582560"/>
                <a:tab algn="l" pos="2031840"/>
                <a:tab algn="l" pos="2481120"/>
                <a:tab algn="l" pos="2930400"/>
                <a:tab algn="l" pos="3379680"/>
                <a:tab algn="l" pos="3828960"/>
                <a:tab algn="l" pos="4278240"/>
                <a:tab algn="l" pos="4727520"/>
                <a:tab algn="l" pos="5176800"/>
                <a:tab algn="l" pos="5626080"/>
                <a:tab algn="l" pos="6075360"/>
                <a:tab algn="l" pos="6524640"/>
                <a:tab algn="l" pos="6973920"/>
                <a:tab algn="l" pos="7423200"/>
                <a:tab algn="l" pos="7872480"/>
                <a:tab algn="l" pos="8321760"/>
                <a:tab algn="l" pos="8771040"/>
                <a:tab algn="l" pos="9220320"/>
                <a:tab algn="l" pos="96696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3280" y="4176720"/>
            <a:ext cx="41036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Запрещено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42a00"/>
                </a:solidFill>
                <a:latin typeface="Franklin Gothic Book"/>
              </a:rPr>
              <a:t>3) Существовал запрет на использование хитростей и случайных преимуще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542a00"/>
                </a:solidFill>
                <a:latin typeface="Franklin Gothic Book"/>
              </a:rPr>
              <a:t>4) Нельзя наносить удар в спи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000" y="6237360"/>
            <a:ext cx="936144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ажнейшая добродетель воинской дружины –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вер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Это верность присяге, клятве, слову, данному товарищам по оруж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3280" y="301680"/>
            <a:ext cx="9061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3280" y="1768320"/>
            <a:ext cx="90615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70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5T15:17:58Z</dcterms:created>
  <dc:creator/>
  <dc:description/>
  <dc:language>en-US</dc:language>
  <cp:lastModifiedBy>Люда</cp:lastModifiedBy>
  <dcterms:modified xsi:type="dcterms:W3CDTF">2019-03-26T12:39:50Z</dcterms:modified>
  <cp:revision>5</cp:revision>
  <dc:subject/>
  <dc:title>Слайд 1</dc:title>
</cp:coreProperties>
</file>