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267-6081-4CAC-A1C6-7B4E775A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EA0-3F40-4969-AE1F-8580908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23A-2577-44FD-8E20-BC9D85E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4E0-8F21-4273-9D76-2AE13A4D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B6E2-A8A7-4DB7-B493-07781A76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7EBB-2CD7-4F6B-9407-A778E0E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1F17-71DD-4AB7-A128-0E79D81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22FF-2819-43BD-9BA2-6087F72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CD8D-61BE-4757-842F-4A16AA5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33E7-36BD-493A-93AC-E79D2C4B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2E14-4D49-49F9-992A-8F36E6B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358-ABF5-4BFF-9905-B17B0C67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AD1-7432-41A0-9087-FFC4D8E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47B-B22D-4049-B7EF-96CA77B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E3BC-1167-4326-86F0-56492AA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401C-1E10-46BD-9CAF-66045029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1C2-64DD-4A25-AF8E-7DBE0A44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56E-BF44-4A2E-9F6B-DC6C760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436-4F20-4869-BB5F-ABF4C4B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893-CE42-41CE-B505-EF02928C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F6F-20DC-4A7D-AF54-85524D3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B2B-E986-4C2E-9541-6C2FD97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3F5-3ABA-42BD-A37C-7DDD81A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881-CF2C-4538-A501-E68F90F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A93E-E055-4B42-B5BE-2078468233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24AB-1F2E-408F-9C70-DB7777BF5F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Консультация для родителей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уляционн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икова Н.Б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БДОУ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нинского   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Чищу зубы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ниж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верх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Третий комплекс (для шипящих звуков Ш, Ж, Ч, 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Грибок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си к нёбу широ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ой рот как можно шире, так, чтобы «ножка грибка» (уздечка языка), натяну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A018686"/>
          <p:cNvPicPr/>
          <p:nvPr/>
        </p:nvPicPr>
        <p:blipFill>
          <a:blip r:embed="rId1"/>
          <a:srcRect l="3485" t="10468" r="-196" b="10271"/>
          <a:stretch/>
        </p:blipFill>
        <p:spPr>
          <a:xfrm>
            <a:off x="3581280" y="0"/>
            <a:ext cx="269424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9EC35C84"/>
          <p:cNvPicPr/>
          <p:nvPr/>
        </p:nvPicPr>
        <p:blipFill>
          <a:blip r:embed="rId2"/>
          <a:stretch/>
        </p:blipFill>
        <p:spPr>
          <a:xfrm>
            <a:off x="4191120" y="3643200"/>
            <a:ext cx="4952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Дудоч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уни широ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ковые края языка максимально загн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й в получившуюся «дудоч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1D30E932"/>
          <p:cNvPicPr/>
          <p:nvPr/>
        </p:nvPicPr>
        <p:blipFill>
          <a:blip r:embed="rId1"/>
          <a:srcRect l="2080" t="14756" r="7090" b="9463"/>
          <a:stretch/>
        </p:blipFill>
        <p:spPr>
          <a:xfrm>
            <a:off x="4267080" y="0"/>
            <a:ext cx="45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5A215010"/>
          <p:cNvPicPr/>
          <p:nvPr/>
        </p:nvPicPr>
        <p:blipFill>
          <a:blip r:embed="rId2"/>
          <a:stretch/>
        </p:blipFill>
        <p:spPr>
          <a:xfrm>
            <a:off x="4419720" y="3200400"/>
            <a:ext cx="451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Четвёртый комплекс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для звуков Л, ЛЬ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Качели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ой рот, как при звуке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ними кончик языка за верхние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опусти язык за нижние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и 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3B1719D4"/>
          <p:cNvPicPr/>
          <p:nvPr/>
        </p:nvPicPr>
        <p:blipFill>
          <a:blip r:embed="rId1"/>
          <a:srcRect l="8268" t="19286" r="13940" b="4272"/>
          <a:stretch/>
        </p:blipFill>
        <p:spPr>
          <a:xfrm>
            <a:off x="4191120" y="2209680"/>
            <a:ext cx="4647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шад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ай медленно кончиком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и, чтобы нижняя челюсть и губы не двигались, а работал только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495680" y="3276720"/>
            <a:ext cx="2724120" cy="358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00880" y="0"/>
            <a:ext cx="35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ятый комплекс( для звуков Р, РЬ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важаемые родители! Только в совместной работе  можно добиться положительных результат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1532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ые упражнения необходимо повторять ежедневно, 2-3 р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нужно выполнять перед зерк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Чищу зубы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ниж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верх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Маляр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 кончиком языка, как кисточкой, по нёбу вперёд-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FABCAC9A"/>
          <p:cNvPicPr/>
          <p:nvPr/>
        </p:nvPicPr>
        <p:blipFill>
          <a:blip r:embed="rId1"/>
          <a:srcRect l="21582" t="14042" r="12003" b="6657"/>
          <a:stretch/>
        </p:blipFill>
        <p:spPr>
          <a:xfrm>
            <a:off x="2209680" y="3048120"/>
            <a:ext cx="3067200" cy="3467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C5EAFB8"/>
          <p:cNvPicPr/>
          <p:nvPr/>
        </p:nvPicPr>
        <p:blipFill>
          <a:blip r:embed="rId2"/>
          <a:srcRect l="18165" t="88" r="5203" b="1392"/>
          <a:stretch/>
        </p:blipFill>
        <p:spPr>
          <a:xfrm>
            <a:off x="5791320" y="152280"/>
            <a:ext cx="3154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Забей мяч в ворот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 поролоновый мяч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 перед футбольными воро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ивай гол плавн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забивай гол резкой, отрывист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й, сколько голов ты за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7CC57C0"/>
          <p:cNvPicPr/>
          <p:nvPr/>
        </p:nvPicPr>
        <p:blipFill>
          <a:blip r:embed="rId1"/>
          <a:stretch/>
        </p:blipFill>
        <p:spPr>
          <a:xfrm>
            <a:off x="4572000" y="2508120"/>
            <a:ext cx="45720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шад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ай медленно кончиком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и, чтобы нижняя челюсть и губы не двигались, а работал только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495680" y="3276720"/>
            <a:ext cx="27241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00880" y="0"/>
            <a:ext cx="35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Барабанщик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нись. Открой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чи кончиком языка за верхними зубами, отчётливо произнося твёрдый звук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й удары медленно, следи, чтобы нижняя челюсть не двиг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032BA60"/>
          <p:cNvPicPr/>
          <p:nvPr/>
        </p:nvPicPr>
        <p:blipFill>
          <a:blip r:embed="rId1"/>
          <a:srcRect l="13702" t="106" r="23973" b="8434"/>
          <a:stretch/>
        </p:blipFill>
        <p:spPr>
          <a:xfrm>
            <a:off x="6553080" y="152280"/>
            <a:ext cx="20480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8190EF6E"/>
          <p:cNvPicPr/>
          <p:nvPr/>
        </p:nvPicPr>
        <p:blipFill>
          <a:blip r:embed="rId2"/>
          <a:srcRect l="11615" t="20483" r="10078" b="1735"/>
          <a:stretch/>
        </p:blipFill>
        <p:spPr>
          <a:xfrm>
            <a:off x="4267080" y="3200400"/>
            <a:ext cx="26672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ервый комплекс упражнений для выработки основных движений и положений органов артикуляционного аппара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рживание губ в улыбке, передние верхние и нижние зубы обнаж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ягивание губ вперёд трубоч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ние положения губ в улыбке и трубоч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койное открывание и закрывание рта, губы в положении улы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широ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уз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широкого и уз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ъём языка за верхние зу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движений языка вверх и вн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следующих движений языка (при опущенном кончике):отодвигать его в глубь рта и приближать к передним нижним рез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торой комплекс (для свистящих звуков С, СЬ, З, ЗЬ, Ц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Забей мяч в ворот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 поролоновый мяч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 перед футбольными воро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ивай гол плавн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забивай гол резкой, отрывист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й, сколько голов ты за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77CC57C0"/>
          <p:cNvPicPr/>
          <p:nvPr/>
        </p:nvPicPr>
        <p:blipFill>
          <a:blip r:embed="rId1"/>
          <a:stretch/>
        </p:blipFill>
        <p:spPr>
          <a:xfrm>
            <a:off x="4572000" y="2508120"/>
            <a:ext cx="45720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паточ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 широкий язык на нижнюю гу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ержи его в таком по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6C5D009E"/>
          <p:cNvPicPr/>
          <p:nvPr/>
        </p:nvPicPr>
        <p:blipFill>
          <a:blip r:embed="rId1"/>
          <a:srcRect l="990" t="-3598" r="25457" b="7378"/>
          <a:stretch/>
        </p:blipFill>
        <p:spPr>
          <a:xfrm>
            <a:off x="3733920" y="0"/>
            <a:ext cx="2781360" cy="325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4A47965C"/>
          <p:cNvPicPr/>
          <p:nvPr/>
        </p:nvPicPr>
        <p:blipFill>
          <a:blip r:embed="rId2"/>
          <a:srcRect l="14117" t="3667" r="22410" b="10652"/>
          <a:stretch/>
        </p:blipFill>
        <p:spPr>
          <a:xfrm>
            <a:off x="5105520" y="28954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уем на снежинку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и снежинку перед гу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й из языка «лопаточ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ыхай плавно на снежинку с «лопаточ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, как красиво летит твоя снеж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5C3C50FC"/>
          <p:cNvPicPr/>
          <p:nvPr/>
        </p:nvPicPr>
        <p:blipFill>
          <a:blip r:embed="rId1"/>
          <a:srcRect l="18907" t="2312" r="8678" b="2535"/>
          <a:stretch/>
        </p:blipFill>
        <p:spPr>
          <a:xfrm>
            <a:off x="4648320" y="1523880"/>
            <a:ext cx="4038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4-20T19:12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