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20B-ECA4-4B3E-B05C-D48D6B85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886-805B-4A1B-99E7-41161DC7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AE1-A3FD-45D7-968E-29027B33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055-B3D8-45B0-9047-C09382C0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E1C1-BBF1-4338-8D75-9ADD078E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C238-A650-4ED0-9124-7FADE0F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A20D-8A69-4DF6-9923-A3B01FCB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D80A-817B-4169-AF70-836F81BC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429E-135D-42C5-90FE-E633E52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FD62-43F2-4B0F-ABB7-D11DC83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6142-40AD-46A2-86E3-4496A14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1C6-2629-463C-961F-2C9E0C0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3B8-596F-4C2A-A09A-A2CF0E2B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A6D0-78FD-4242-BA7B-886573A2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1B2C-683D-4388-BD12-331FBE70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A66F-07ED-4105-AC52-F2A125C3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1627-BA52-49FF-8566-81C43111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A1B-69FB-4DD7-9719-ED961254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FB0-40C8-4E11-BBE7-367DC070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1EC-2034-4FAA-A9A3-39F9FA39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6FA-BDE9-4FA6-9457-330F771F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890-2B8A-4F8A-AF2A-06EAB3D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92F-0CC0-4308-80C0-8141452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8E6-CAC8-4995-BE09-F0ACD1B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23D-D519-47B6-B371-BAA3BEB199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F20D-BD05-41E2-BD0D-6EE2A5AD58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Консультация для родителей</a:t>
            </a:r>
            <a:br>
              <a:rPr sz="5100"/>
            </a:b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35049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куляционная гимна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орникова Н.Б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БДОУ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ининского   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Чищу зубы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ниж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верх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Третий комплекс (для шипящих звуков Ш, Ж, Ч, Щ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Грибок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си к нёбу широ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ой рот как можно шире, так, чтобы «ножка грибка» (уздечка языка), натяну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A018686"/>
          <p:cNvPicPr/>
          <p:nvPr/>
        </p:nvPicPr>
        <p:blipFill>
          <a:blip r:embed="rId1"/>
          <a:srcRect l="3485" t="10468" r="-196" b="10271"/>
          <a:stretch/>
        </p:blipFill>
        <p:spPr>
          <a:xfrm>
            <a:off x="3581280" y="0"/>
            <a:ext cx="2694240" cy="2438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9EC35C84"/>
          <p:cNvPicPr/>
          <p:nvPr/>
        </p:nvPicPr>
        <p:blipFill>
          <a:blip r:embed="rId2"/>
          <a:stretch/>
        </p:blipFill>
        <p:spPr>
          <a:xfrm>
            <a:off x="4191120" y="3643200"/>
            <a:ext cx="49528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Дудоч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уни широкий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ковые края языка максимально загни ввер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й в получившуюся «дудоч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1D30E932"/>
          <p:cNvPicPr/>
          <p:nvPr/>
        </p:nvPicPr>
        <p:blipFill>
          <a:blip r:embed="rId1"/>
          <a:srcRect l="2080" t="14756" r="7090" b="9463"/>
          <a:stretch/>
        </p:blipFill>
        <p:spPr>
          <a:xfrm>
            <a:off x="4267080" y="0"/>
            <a:ext cx="45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5A215010"/>
          <p:cNvPicPr/>
          <p:nvPr/>
        </p:nvPicPr>
        <p:blipFill>
          <a:blip r:embed="rId2"/>
          <a:stretch/>
        </p:blipFill>
        <p:spPr>
          <a:xfrm>
            <a:off x="4419720" y="3200400"/>
            <a:ext cx="4513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Четвёртый комплекс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(для звуков Л, ЛЬ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Качели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ой рот, как при звуке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ними кончик языка за верхние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ем опусти язык за нижние зу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и 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3B1719D4"/>
          <p:cNvPicPr/>
          <p:nvPr/>
        </p:nvPicPr>
        <p:blipFill>
          <a:blip r:embed="rId1"/>
          <a:srcRect l="8268" t="19286" r="13940" b="4272"/>
          <a:stretch/>
        </p:blipFill>
        <p:spPr>
          <a:xfrm>
            <a:off x="4191120" y="2209680"/>
            <a:ext cx="4647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шад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ай медленно кончиком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и, чтобы нижняя челюсть и губы не двигались, а работал только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495680" y="3276720"/>
            <a:ext cx="2724120" cy="358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00880" y="0"/>
            <a:ext cx="35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ятый комплекс( для звуков Р, РЬ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важаемые родители! Только в совместной работе  можно добиться положительных результат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1532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ые упражнения необходимо повторять ежедневно, 2-3 раз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нужно выполнять перед зерк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Чищу зубы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ниж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исти кончиком языка верхние зубы, делая движения из стороны в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44BADB56"/>
          <p:cNvPicPr/>
          <p:nvPr/>
        </p:nvPicPr>
        <p:blipFill>
          <a:blip r:embed="rId1"/>
          <a:srcRect l="0" t="5405" r="11272" b="21621"/>
          <a:stretch/>
        </p:blipFill>
        <p:spPr>
          <a:xfrm>
            <a:off x="4876920" y="1447920"/>
            <a:ext cx="380988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Маляр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и кончиком языка, как кисточкой, по нёбу вперёд-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FABCAC9A"/>
          <p:cNvPicPr/>
          <p:nvPr/>
        </p:nvPicPr>
        <p:blipFill>
          <a:blip r:embed="rId1"/>
          <a:srcRect l="21582" t="14042" r="12003" b="6657"/>
          <a:stretch/>
        </p:blipFill>
        <p:spPr>
          <a:xfrm>
            <a:off x="2209680" y="3048120"/>
            <a:ext cx="3067200" cy="3467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C5EAFB8"/>
          <p:cNvPicPr/>
          <p:nvPr/>
        </p:nvPicPr>
        <p:blipFill>
          <a:blip r:embed="rId2"/>
          <a:srcRect l="18165" t="88" r="5203" b="1392"/>
          <a:stretch/>
        </p:blipFill>
        <p:spPr>
          <a:xfrm>
            <a:off x="5791320" y="152280"/>
            <a:ext cx="3154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Забей мяч в ворот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 поролоновый мяч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 перед футбольными воро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ивай гол плавн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забивай гол резкой, отрывист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й, сколько голов ты за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7CC57C0"/>
          <p:cNvPicPr/>
          <p:nvPr/>
        </p:nvPicPr>
        <p:blipFill>
          <a:blip r:embed="rId1"/>
          <a:stretch/>
        </p:blipFill>
        <p:spPr>
          <a:xfrm>
            <a:off x="4572000" y="2508120"/>
            <a:ext cx="45720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шад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окай медленно кончиком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и, чтобы нижняя челюсть и губы не двигались, а работал только яз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8190EF6E"/>
          <p:cNvPicPr/>
          <p:nvPr/>
        </p:nvPicPr>
        <p:blipFill>
          <a:blip r:embed="rId1"/>
          <a:srcRect l="11615" t="20483" r="10078" b="1735"/>
          <a:stretch/>
        </p:blipFill>
        <p:spPr>
          <a:xfrm>
            <a:off x="4495680" y="3276720"/>
            <a:ext cx="2724120" cy="358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E0E2FDAC"/>
          <p:cNvPicPr/>
          <p:nvPr/>
        </p:nvPicPr>
        <p:blipFill>
          <a:blip r:embed="rId2"/>
          <a:srcRect l="7797" t="88" r="5409" b="6564"/>
          <a:stretch/>
        </p:blipFill>
        <p:spPr>
          <a:xfrm>
            <a:off x="5600880" y="0"/>
            <a:ext cx="3543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Вкусное варен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гка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им кончиком языка слижи варенье с верхней губы, делая движения языком сверху в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EC256C6A"/>
          <p:cNvPicPr/>
          <p:nvPr/>
        </p:nvPicPr>
        <p:blipFill>
          <a:blip r:embed="rId1"/>
          <a:srcRect l="7740" t="10641" r="14000" b="23407"/>
          <a:stretch/>
        </p:blipFill>
        <p:spPr>
          <a:xfrm>
            <a:off x="6019920" y="0"/>
            <a:ext cx="312408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94F41008"/>
          <p:cNvPicPr/>
          <p:nvPr/>
        </p:nvPicPr>
        <p:blipFill>
          <a:blip r:embed="rId2"/>
          <a:srcRect l="10784" t="22875" r="6586" b="11130"/>
          <a:stretch/>
        </p:blipFill>
        <p:spPr>
          <a:xfrm>
            <a:off x="4114800" y="3200400"/>
            <a:ext cx="3505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Барабанщик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ыбнись. Открой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чи кончиком языка за верхними зубами, отчётливо произнося твёрдый звук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й удары медленно, следи, чтобы нижняя челюсть не двиг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032BA60"/>
          <p:cNvPicPr/>
          <p:nvPr/>
        </p:nvPicPr>
        <p:blipFill>
          <a:blip r:embed="rId1"/>
          <a:srcRect l="13702" t="106" r="23973" b="8434"/>
          <a:stretch/>
        </p:blipFill>
        <p:spPr>
          <a:xfrm>
            <a:off x="6553080" y="152280"/>
            <a:ext cx="2048040" cy="312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8190EF6E"/>
          <p:cNvPicPr/>
          <p:nvPr/>
        </p:nvPicPr>
        <p:blipFill>
          <a:blip r:embed="rId2"/>
          <a:srcRect l="11615" t="20483" r="10078" b="1735"/>
          <a:stretch/>
        </p:blipFill>
        <p:spPr>
          <a:xfrm>
            <a:off x="4267080" y="3200400"/>
            <a:ext cx="26672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ервый комплекс упражнений для выработки основных движений и положений органов артикуляционного аппара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ерживание губ в улыбке, передние верхние и нижние зубы обнаже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тягивание губ вперёд трубоч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редование положения губ в улыбке и трубоч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койное открывание и закрывание рта, губы в положении улы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широ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уз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широкого и уз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ъём языка за верхние зу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движений языка вверх и вни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дование следующих движений языка (при опущенном кончике):отодвигать его в глубь рта и приближать к передним нижним резц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Второй комплекс (для свистящих звуков С, СЬ, З, ЗЬ, Ц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Забей мяч в ворот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 поролоновый мяч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 перед футбольными воро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ивай гол плавн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забивай гол резкой, отрывистой струёй возд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читай, сколько голов ты заб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77CC57C0"/>
          <p:cNvPicPr/>
          <p:nvPr/>
        </p:nvPicPr>
        <p:blipFill>
          <a:blip r:embed="rId1"/>
          <a:stretch/>
        </p:blipFill>
        <p:spPr>
          <a:xfrm>
            <a:off x="4572000" y="2508120"/>
            <a:ext cx="457200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«Лопаточка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ыбнись. Приоткрой 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 широкий язык на нижнюю гу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ержи его в таком по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6C5D009E"/>
          <p:cNvPicPr/>
          <p:nvPr/>
        </p:nvPicPr>
        <p:blipFill>
          <a:blip r:embed="rId1"/>
          <a:srcRect l="990" t="-3598" r="25457" b="7378"/>
          <a:stretch/>
        </p:blipFill>
        <p:spPr>
          <a:xfrm>
            <a:off x="3733920" y="0"/>
            <a:ext cx="2781360" cy="3254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4A47965C"/>
          <p:cNvPicPr/>
          <p:nvPr/>
        </p:nvPicPr>
        <p:blipFill>
          <a:blip r:embed="rId2"/>
          <a:srcRect l="14117" t="3667" r="22410" b="10652"/>
          <a:stretch/>
        </p:blipFill>
        <p:spPr>
          <a:xfrm>
            <a:off x="5105520" y="2895480"/>
            <a:ext cx="361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уем на снежинку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и снежинку перед гу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й из языка «лопаточ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ыхай плавно на снежинку с «лопаточ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, как красиво летит твоя снежи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5C3C50FC"/>
          <p:cNvPicPr/>
          <p:nvPr/>
        </p:nvPicPr>
        <p:blipFill>
          <a:blip r:embed="rId1"/>
          <a:srcRect l="18907" t="2312" r="8678" b="2535"/>
          <a:stretch/>
        </p:blipFill>
        <p:spPr>
          <a:xfrm>
            <a:off x="4648320" y="1523880"/>
            <a:ext cx="40384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9-04-20T19:12:1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